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B042-28F5-4D21-8B60-DEC8E21E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3BE4-2A4A-4D43-846E-2DE02275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7706-56A8-4CB6-8B6F-09FF9EF9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1F3C-41C2-439A-BBEB-62D716B7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FCE4-4CBA-4C6A-BFC7-67DD1FD0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7A50-CAC0-49F5-93BF-976DB7E8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B2F0-23D7-452D-981B-E262CD87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9D44-ACCD-4B34-B0E2-49D8BC70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45FF-5AE8-4689-BAA9-80468D4A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97C9-05BE-4307-A367-3BBD572B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7E9A-6BEA-47B1-AE97-FC74924E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2236-23B8-4543-81F1-CCA2F8B0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5DA2-0D73-4641-B7AA-CC892B64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C7EE-6AD1-45FB-A2D4-34C4632E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0302-9AD8-49C5-8D07-D2889289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A2F6-0F85-49C2-A3A4-23BD292E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035B-5CDF-4CD5-A228-CDC100A7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B167-8B62-4D65-B3B2-73BF9EBA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401D-BDEA-4794-BA23-D350C4F3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51E0-F6ED-417A-AA06-7177C249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A586-676C-41C8-8ABD-C58CB1B1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8AE3-5E65-47D4-8172-73975980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491D-7D24-4406-BD52-5D88B102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D3EC-B142-450A-98BD-C9633611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501A-6D48-4575-A649-758FB44B48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2697-8507-41F8-83B7-11D6D57FCD4D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екторное кодирование графической информац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1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екторный способ кодирования – рисунок состоит из объектов – примитивов: отрезков,  прямоугольников, окружностей и т.д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аждая из фигур может быть математически описана: прямоугольники и треугольники – координатами своих вершин, круги – координатами центров и радиусам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исунки кодируются с помощью следующих команд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тановить  x, y  – установить в качестве текущей точку с координатами (x, 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ния к x1, y1 – нарисовать линию от текущей точки до точки с координатами (x, y), при этом точка (x1, y1) становится текущ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кружность  x, y &lt;радиус&gt; – нарисовать окружность с центром в точке (x, y) и радиусом &lt;радиус&gt;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ямоугольник x1, y1, x2, y2 – нарисовать прямоугольник, где (x1, y1) – координаты левого верхнего, а (x2, y2) – правого нижнего угла этого прямоугольни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Рисунок16"/>
          <p:cNvPicPr/>
          <p:nvPr/>
        </p:nvPicPr>
        <p:blipFill>
          <a:blip r:embed="rId1"/>
          <a:srcRect l="48336" t="0" r="0" b="54063"/>
          <a:stretch/>
        </p:blipFill>
        <p:spPr>
          <a:xfrm>
            <a:off x="0" y="0"/>
            <a:ext cx="937260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Рисунок16"/>
          <p:cNvPicPr/>
          <p:nvPr/>
        </p:nvPicPr>
        <p:blipFill>
          <a:blip r:embed="rId1"/>
          <a:srcRect l="49625" t="48299" r="0" b="9302"/>
          <a:stretch/>
        </p:blipFill>
        <p:spPr>
          <a:xfrm>
            <a:off x="0" y="457200"/>
            <a:ext cx="914400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рактическая работа №4. Нумерованные списки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Читать конспект, написать на листочке координаты точек какой-нибудь фигу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20:41:40Z</dcterms:created>
  <dc:creator>Sasha</dc:creator>
  <dc:description/>
  <dc:language>en-US</dc:language>
  <cp:lastModifiedBy>Нурисламова</cp:lastModifiedBy>
  <dcterms:modified xsi:type="dcterms:W3CDTF">2019-01-28T18:33:2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