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515D-CA91-44BB-BB0E-2D50280A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1A62-7278-47AD-A4EF-B8C1DF22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EE1D-2725-47E1-A54D-336C0B3D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377D-AC42-4AA8-B048-F16ECDE1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2955-A56A-4A84-91AB-E376D151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9981-0240-4086-BED9-A572314E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8D84-AC30-45BF-9C60-090D7B4E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1377-9C8C-4793-98BF-D8E3B48E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2C5C-16D1-427B-8D10-3E68A2C8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5FEB-F07F-48D7-ABC2-9330B27B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E04B-A5AE-4D41-9695-11537BD5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88D0-3B0C-448F-9DD7-0C7CB4EE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DCF0-0A04-4CE1-86F6-85A50E15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9328-C336-4391-8406-2106DC1B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C720-F2DE-4E88-99ED-8FFFD41F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0C77-6FBE-4FB1-8EA3-929DA565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A8C7-77B0-40E7-AA8A-0DA74E14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336E-1810-4F06-8FD1-D8080BDB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3E83-80FD-4B3F-9E43-079266A2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4FC1-42FF-4478-8725-4B990EF2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4D81-C375-4A4C-91F0-6FBACDF1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7150-1ED4-4D99-AACC-7856A1ED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579F-E158-4E4C-A8C6-C8B3C470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8453-DAFC-4FE5-95EC-FD35A00D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AC44-8009-483E-8889-3CF28233E1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D65E-F51C-4CB2-8FC8-461785315BD6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екторное кодирование графической информац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1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екторный способ кодирования – рисунок состоит из объектов – примитивов: отрезков,  прямоугольников, окружностей и т.д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аждая из фигур может быть математически описана: прямоугольники и треугольники – координатами своих вершин, круги – координатами центров и радиусам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исунки кодируются с помощью следующих команд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тановить  x, y  – установить в качестве текущей точку с координатами (x, 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ния к x1, y1 – нарисовать линию от текущей точки до точки с координатами (x, y), при этом точка (x1, y1) становится текущ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кружность  x, y &lt;радиус&gt; – нарисовать окружность с центром в точке (x, y) и радиусом &lt;радиус&gt;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ямоугольник x1, y1, x2, y2 – нарисовать прямоугольник, где (x1, y1) – координаты левого верхнего, а (x2, y2) – правого нижнего угла этого прямоугольни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Рисунок16"/>
          <p:cNvPicPr/>
          <p:nvPr/>
        </p:nvPicPr>
        <p:blipFill>
          <a:blip r:embed="rId1"/>
          <a:srcRect l="48336" t="0" r="0" b="54063"/>
          <a:stretch/>
        </p:blipFill>
        <p:spPr>
          <a:xfrm>
            <a:off x="0" y="0"/>
            <a:ext cx="937260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Рисунок16"/>
          <p:cNvPicPr/>
          <p:nvPr/>
        </p:nvPicPr>
        <p:blipFill>
          <a:blip r:embed="rId1"/>
          <a:srcRect l="49625" t="48299" r="0" b="9302"/>
          <a:stretch/>
        </p:blipFill>
        <p:spPr>
          <a:xfrm>
            <a:off x="0" y="457200"/>
            <a:ext cx="914400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рактическая работа №4. Нумерованные списки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Читать конспект, написать на листочке координаты точек какой-нибудь фигу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20:41:40Z</dcterms:created>
  <dc:creator>Sasha</dc:creator>
  <dc:description/>
  <dc:language>en-US</dc:language>
  <cp:lastModifiedBy>Нурисламова</cp:lastModifiedBy>
  <dcterms:modified xsi:type="dcterms:W3CDTF">2019-01-28T18:33:2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