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5DB-35EE-4A0B-AD37-12438AC0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ECA-447F-4ED5-84D7-3951ABCE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5F8-9AFA-4AD1-B63F-01E6931B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509-C214-41B7-AD4D-9A0DF55A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FEF-D9BC-420D-BCE4-D3E3C7B9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CCC-5919-4859-85BE-3EE50A19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2B5-C3EE-4ABE-BA45-53C5ADA5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1F8-8CA9-4CCE-AD54-9B9759C1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FE9-5000-428D-A3A3-5004DC0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C8F-395C-49F3-80E6-7DB2B4B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F28-5B0F-4FE5-A0E7-D3964E42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51E-1179-41CA-AF67-F8E06BB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5677-CB7D-4D99-BAC6-C70121F78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76360" y="692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еда по ПДД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4360" y="2857680"/>
            <a:ext cx="7920000" cy="26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Дорожные знаки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63640" y="6165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rcRect l="34490" t="7683" r="6445" b="34075"/>
          <a:stretch/>
        </p:blipFill>
        <p:spPr>
          <a:xfrm>
            <a:off x="3492360" y="1197000"/>
            <a:ext cx="5220000" cy="3914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9640" y="286380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земный пере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34490" t="7683" r="6445" b="33273"/>
          <a:stretch/>
        </p:blipFill>
        <p:spPr>
          <a:xfrm>
            <a:off x="380880" y="1125360"/>
            <a:ext cx="5651640" cy="4237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372360" y="3086280"/>
            <a:ext cx="216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327320" y="0"/>
            <a:ext cx="656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42966" t="7880" r="14962" b="33115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2624040" y="2909880"/>
            <a:ext cx="3895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ой нужен зна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659640" y="76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164360" y="321300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4360" y="33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rcRect l="34490" t="8658" r="6445" b="33273"/>
          <a:stretch/>
        </p:blipFill>
        <p:spPr>
          <a:xfrm>
            <a:off x="0" y="-73080"/>
            <a:ext cx="9468000" cy="6981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236000" y="1557360"/>
            <a:ext cx="190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орож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20:58Z</dcterms:created>
  <dc:creator>www.PHILka.RU</dc:creator>
  <dc:description/>
  <dc:language>en-US</dc:language>
  <cp:lastModifiedBy>User</cp:lastModifiedBy>
  <dcterms:modified xsi:type="dcterms:W3CDTF">2019-01-29T06:22:26Z</dcterms:modified>
  <cp:revision>12</cp:revision>
  <dc:subject/>
  <dc:title>Беседа по ПДД:</dc:title>
</cp:coreProperties>
</file>