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04BE-F6CD-401E-AD6D-77D05409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EC1-328E-476E-9959-C36E8669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9936-CF05-4F22-A2AC-D8D2633A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490-5F47-4D79-B068-969B7DA4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EF09-9AC1-4032-AE72-D7FD8998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784-4467-460C-B0AB-F1A3DFB8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9C3-E977-4F38-A6EF-0E2EBFBE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A35-2C84-4355-9901-2E5976A4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52A7-CA56-4581-9AAE-4CF6F68F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9B95-DBDD-4885-AE1F-0B6AE78F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31A5-6457-48DA-AB9C-FEDEBAEB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95B-3A83-4A34-8344-040C3B5A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4DAF-648C-41DA-99F2-EDAE16F3CB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476360" y="692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седа по ПДД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684360" y="2857680"/>
            <a:ext cx="7920000" cy="26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Дорожные знаки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763640" y="616572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rcRect l="34490" t="7683" r="6445" b="34075"/>
          <a:stretch/>
        </p:blipFill>
        <p:spPr>
          <a:xfrm>
            <a:off x="3492360" y="1197000"/>
            <a:ext cx="5220000" cy="3914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39640" y="2863800"/>
            <a:ext cx="20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земный перех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34490" t="7683" r="6445" b="33273"/>
          <a:stretch/>
        </p:blipFill>
        <p:spPr>
          <a:xfrm>
            <a:off x="380880" y="1125360"/>
            <a:ext cx="5651640" cy="42372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6372360" y="3086280"/>
            <a:ext cx="216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шеход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327320" y="0"/>
            <a:ext cx="656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914400" y="0"/>
            <a:ext cx="708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42966" t="7880" r="14962" b="33115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59" name="WordArt 5"/>
          <p:cNvSpPr txBox="1"/>
          <p:nvPr/>
        </p:nvSpPr>
        <p:spPr>
          <a:xfrm>
            <a:off x="2624040" y="2909880"/>
            <a:ext cx="3895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ой нужен знак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659640" y="76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7164360" y="3213000"/>
            <a:ext cx="17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шехо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684360" y="33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м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rcRect l="34490" t="8658" r="6445" b="33273"/>
          <a:stretch/>
        </p:blipFill>
        <p:spPr>
          <a:xfrm>
            <a:off x="0" y="-73080"/>
            <a:ext cx="9468000" cy="6981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236000" y="1557360"/>
            <a:ext cx="1908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орож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0:20:58Z</dcterms:created>
  <dc:creator>www.PHILka.RU</dc:creator>
  <dc:description/>
  <dc:language>en-US</dc:language>
  <cp:lastModifiedBy>User</cp:lastModifiedBy>
  <dcterms:modified xsi:type="dcterms:W3CDTF">2019-01-29T06:22:26Z</dcterms:modified>
  <cp:revision>12</cp:revision>
  <dc:subject/>
  <dc:title>Беседа по ПДД:</dc:title>
</cp:coreProperties>
</file>