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gif" ContentType="image/gif"/>
  <Override PartName="/ppt/media/image12.wmf" ContentType="image/x-wmf"/>
  <Override PartName="/ppt/media/image4.png" ContentType="image/png"/>
  <Override PartName="/ppt/media/image8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7.png" ContentType="image/png"/>
  <Override PartName="/ppt/media/image1.jpeg" ContentType="image/jpeg"/>
  <Override PartName="/ppt/media/image20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18.png" ContentType="image/png"/>
  <Override PartName="/ppt/media/image14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24B-61ED-4682-BEEF-C7D56CC1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11F-BB62-47BA-8FBD-55EAF0DB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E97-8958-4AF6-AA70-FC85F317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657-7220-4C5A-A0DE-A03EC203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855C5-9A9B-4A32-9021-AD0BC850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840B0-B1FE-473D-8563-C564EB4B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A90F5-4A64-4809-BF5E-E98EB2E5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2B947-E786-4B6D-9C86-489B9DA8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EF2A1-08A6-4E7E-B70D-4896EDC5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5A8FE-FB93-44A3-B578-03FC094B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56B8B-F0BC-4622-B56D-90597291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4AF-3E2E-475F-BB3B-822A97CF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17A42-0D5A-4921-9787-5A32F31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C72A8-579B-426C-B32F-6F1C5AF6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E8794-E870-479A-8710-82001D2A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7FE27-48D3-4631-908C-5E2D4959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7A681-7447-444C-ABBC-AE0159D0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E992-59E7-4830-9B9A-DB4F12EC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F223-2340-42F3-88DC-62BC432D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34A94-A998-40D4-B905-66CEA56F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18DF9-C150-4C30-95C8-EA539564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1F92-57EB-4B3E-A404-B6AEC99A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4DB-DAC1-486C-8B95-FC94A02D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3539-CE8A-4670-843C-31A36B21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64AB-1575-4989-8C80-5D184EF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DA3F-8F9C-4D97-899F-F0EE0D0C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0A35-56B2-42AE-8830-DB29A709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7F24-73FF-4F70-A9C6-D09D263E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7A22-E80E-4839-84BC-45305BF2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2FBA-F7C9-4539-97D1-9AD92F04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7876E-AD5F-4424-9E4D-D50C7FC3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89A22-F2BC-4BDF-96EB-27D4D665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598A2-DF14-479C-873A-B9AE5D86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7F5-8FAF-4B08-B059-0D5C39A8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A832C-4DBE-4021-8213-C80336A9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4D2BE4-F887-4C1A-8D40-377E761E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C7ABF-7DA2-4DF3-8E81-B2D5B22D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A458A1-9C45-4834-8C23-34A443B6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BA647-7578-4B55-9E51-B3AE9CA3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E4AD9-B858-4334-A155-CA36A894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CE967-4272-485B-9A3E-611F9414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AFF8D2-0F79-42BD-8AC5-2FAB29DC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A67BF-A467-479F-A205-137EB615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18E-F2C2-4BD0-AF5F-786C123C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A5D-BF52-4708-8773-2FA94C7F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BD2-84F2-4191-A876-404EF64A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486-7C4A-483E-B9CA-65023C55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4AA-3915-413C-842E-1C6AB4A7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4D67-CA41-4449-8FC4-B5D5230D894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2D51-7AD4-4A68-9267-D718BB3AA33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ECBF-09D4-44CD-B1A8-4FACA1E3597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DC74-DC92-4F96-A9BE-D7BDBB59491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slide" Target="slide25.xml"/><Relationship Id="rId7" Type="http://schemas.openxmlformats.org/officeDocument/2006/relationships/slide" Target="slide20.xml"/><Relationship Id="rId8" Type="http://schemas.openxmlformats.org/officeDocument/2006/relationships/slide" Target="slide11.xml"/><Relationship Id="rId9" Type="http://schemas.openxmlformats.org/officeDocument/2006/relationships/slide" Target="slide16.xml"/><Relationship Id="rId10" Type="http://schemas.openxmlformats.org/officeDocument/2006/relationships/slide" Target="slide21.xml"/><Relationship Id="rId11" Type="http://schemas.openxmlformats.org/officeDocument/2006/relationships/slide" Target="slide16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8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27.xml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tmp/home/.config/libreoffice/4/user/gallery/breeze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470480" y="5072040"/>
            <a:ext cx="4673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755640" y="2206800"/>
            <a:ext cx="7632720" cy="2304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826920" y="836640"/>
            <a:ext cx="756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971640" y="476280"/>
            <a:ext cx="41050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aramond"/>
              </a:rPr>
              <a:t>Ура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56" name="AutoShape 3">
            <a:hlinkClick r:id="rId3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MCj04404140000[1]"/>
          <p:cNvPicPr/>
          <p:nvPr/>
        </p:nvPicPr>
        <p:blipFill>
          <a:blip r:embed="rId4"/>
          <a:stretch/>
        </p:blipFill>
        <p:spPr>
          <a:xfrm>
            <a:off x="2987640" y="1557360"/>
            <a:ext cx="2736720" cy="360036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5"/>
          <p:cNvSpPr/>
          <p:nvPr/>
        </p:nvSpPr>
        <p:spPr>
          <a:xfrm>
            <a:off x="5076720" y="1087560"/>
            <a:ext cx="3097440" cy="1549440"/>
          </a:xfrm>
          <a:prstGeom prst="wedgeEllipseCallout">
            <a:avLst>
              <a:gd name="adj1" fmla="val -41902"/>
              <a:gd name="adj2" fmla="val 10202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4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24000" y="3141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aramond"/>
              </a:rPr>
              <a:t>Система счисления- это …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4500720" y="1916280"/>
            <a:ext cx="410364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окупность символов (цифр) и правил их использования для представления чисе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2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24000" y="31417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записывается римское число 1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5724360" y="1844640"/>
            <a:ext cx="208764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050920" y="260280"/>
            <a:ext cx="55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Разгадайте реб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5867280" y="544500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539640" y="1844640"/>
            <a:ext cx="7956360" cy="2881080"/>
            <a:chOff x="539640" y="1844640"/>
            <a:chExt cx="7956360" cy="2881080"/>
          </a:xfrm>
        </p:grpSpPr>
        <p:graphicFrame>
          <p:nvGraphicFramePr>
            <p:cNvPr id="272" name="Object 5"/>
            <p:cNvGraphicFramePr/>
            <p:nvPr/>
          </p:nvGraphicFramePr>
          <p:xfrm>
            <a:off x="539640" y="2072160"/>
            <a:ext cx="2210040" cy="265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2072160"/>
                      <a:ext cx="2210040" cy="265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Line 6"/>
            <p:cNvSpPr/>
            <p:nvPr/>
          </p:nvSpPr>
          <p:spPr>
            <a:xfrm flipH="1">
              <a:off x="2572920" y="2527920"/>
              <a:ext cx="707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WordArt 7"/>
            <p:cNvSpPr txBox="1"/>
            <p:nvPr/>
          </p:nvSpPr>
          <p:spPr>
            <a:xfrm>
              <a:off x="2838240" y="1844640"/>
              <a:ext cx="248400" cy="652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76" name="WordArt 8"/>
            <p:cNvSpPr txBox="1"/>
            <p:nvPr/>
          </p:nvSpPr>
          <p:spPr>
            <a:xfrm>
              <a:off x="3015000" y="2869920"/>
              <a:ext cx="264960" cy="91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aphicFrame>
          <p:nvGraphicFramePr>
            <p:cNvPr id="277" name="Object 9"/>
            <p:cNvGraphicFramePr/>
            <p:nvPr/>
          </p:nvGraphicFramePr>
          <p:xfrm>
            <a:off x="4164120" y="2869920"/>
            <a:ext cx="1414440" cy="1813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4120" y="2869920"/>
                      <a:ext cx="1414440" cy="181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9" name="WordArt 10"/>
            <p:cNvSpPr txBox="1"/>
            <p:nvPr/>
          </p:nvSpPr>
          <p:spPr>
            <a:xfrm>
              <a:off x="5578920" y="1844640"/>
              <a:ext cx="530280" cy="99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0" name="WordArt 11"/>
            <p:cNvSpPr txBox="1"/>
            <p:nvPr/>
          </p:nvSpPr>
          <p:spPr>
            <a:xfrm>
              <a:off x="6816600" y="1844640"/>
              <a:ext cx="618840" cy="91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81" name="WordArt 12"/>
            <p:cNvSpPr txBox="1"/>
            <p:nvPr/>
          </p:nvSpPr>
          <p:spPr>
            <a:xfrm>
              <a:off x="7612200" y="3211560"/>
              <a:ext cx="883800" cy="13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bcbcb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Times New Roman"/>
                </a:rPr>
                <a:t>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282" name="AutoShape 13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1225440" y="5229360"/>
            <a:ext cx="2087640" cy="57600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мя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24000" y="31417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нование Вавилонской системы счис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5724360" y="1844640"/>
            <a:ext cx="237672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previousslide"/>
          </p:cNvPr>
          <p:cNvSpPr/>
          <p:nvPr/>
        </p:nvSpPr>
        <p:spPr>
          <a:xfrm>
            <a:off x="1403280" y="1484280"/>
            <a:ext cx="6551640" cy="1600200"/>
          </a:xfrm>
          <a:custGeom>
            <a:avLst/>
            <a:gdLst>
              <a:gd name="textAreaLeft" fmla="*/ 103680 w 6551640"/>
              <a:gd name="textAreaRight" fmla="*/ 6447960 w 655164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88421" h="21600">
                <a:moveTo>
                  <a:pt x="0" y="0"/>
                </a:moveTo>
                <a:lnTo>
                  <a:pt x="88421" y="0"/>
                </a:lnTo>
                <a:lnTo>
                  <a:pt x="88421" y="21600"/>
                </a:lnTo>
                <a:lnTo>
                  <a:pt x="0" y="21600"/>
                </a:lnTo>
                <a:close/>
              </a:path>
              <a:path fill="lightenLess" w="88421" h="21600">
                <a:moveTo>
                  <a:pt x="0" y="0"/>
                </a:moveTo>
                <a:lnTo>
                  <a:pt x="88421" y="0"/>
                </a:lnTo>
                <a:lnTo>
                  <a:pt x="87021" y="1400"/>
                </a:lnTo>
                <a:lnTo>
                  <a:pt x="1400" y="1400"/>
                </a:lnTo>
                <a:close/>
              </a:path>
              <a:path fill="darken" w="88421" h="21600">
                <a:moveTo>
                  <a:pt x="88421" y="0"/>
                </a:moveTo>
                <a:lnTo>
                  <a:pt x="88421" y="21600"/>
                </a:lnTo>
                <a:lnTo>
                  <a:pt x="87021" y="20200"/>
                </a:lnTo>
                <a:lnTo>
                  <a:pt x="87021" y="1400"/>
                </a:lnTo>
                <a:close/>
              </a:path>
              <a:path fill="darkenLess" w="88421" h="21600">
                <a:moveTo>
                  <a:pt x="88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021" y="20200"/>
                </a:lnTo>
                <a:close/>
              </a:path>
              <a:path fill="lighten" w="88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50000">
                <a:srgbClr val="ffbb99"/>
              </a:gs>
              <a:gs pos="100000">
                <a:srgbClr val="ff9966"/>
              </a:gs>
            </a:gsLst>
            <a:lin ang="5400000"/>
          </a:gra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Comic Sans MS"/>
              </a:rPr>
              <a:t>Попробуй другую цифр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H="1">
            <a:off x="5638680" y="304920"/>
            <a:ext cx="3200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>
            <a:off x="2666880" y="533520"/>
            <a:ext cx="3276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8839080" y="609480"/>
            <a:ext cx="0" cy="28195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8534520" y="2971800"/>
            <a:ext cx="0" cy="28954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242588314_glamour119"/>
          <p:cNvPicPr/>
          <p:nvPr/>
        </p:nvPicPr>
        <p:blipFill>
          <a:blip r:embed="rId1"/>
          <a:stretch/>
        </p:blipFill>
        <p:spPr>
          <a:xfrm>
            <a:off x="3492360" y="3429000"/>
            <a:ext cx="2251080" cy="2736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2"/>
          <a:stretch/>
        </p:blipFill>
        <p:spPr>
          <a:xfrm>
            <a:off x="3924360" y="6093000"/>
            <a:ext cx="1011240" cy="57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24000" y="3141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де зародилась десятичная система счислени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5724360" y="1844640"/>
            <a:ext cx="237672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324000" y="314172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колько различных последовательностей длиной в 7 символов можно составить из цифр 0 и 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6"/>
          <p:cNvSpPr/>
          <p:nvPr/>
        </p:nvSpPr>
        <p:spPr>
          <a:xfrm>
            <a:off x="5724360" y="1844640"/>
            <a:ext cx="237672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24000" y="3141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 называлось на Руси число 1050 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5724360" y="1844640"/>
            <a:ext cx="237672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24000" y="3141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исло 3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в римской системе счисления имеет ви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5508720" y="1844640"/>
            <a:ext cx="259236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XV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рабатывать умения учащихся переводить числа в позиционных системах счислен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ить умение применять полученные знания на практике при переводе чисел в позиционных системах счислен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ать  мотивацию учащихся через использование нестандартных задани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ть над формированием умения оценивать свою работу и работу товарище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внимание, память, логическое мышле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24000" y="3141720"/>
            <a:ext cx="849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aramond"/>
              </a:rPr>
              <a:t>Назовите алфавит пятиричной системы счисл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6"/>
          <p:cNvSpPr/>
          <p:nvPr/>
        </p:nvSpPr>
        <p:spPr>
          <a:xfrm>
            <a:off x="5508720" y="1557360"/>
            <a:ext cx="2592360" cy="91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 1, 2, 3, 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24000" y="3141720"/>
            <a:ext cx="849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aramond"/>
              </a:rPr>
              <a:t>Какому числу в десятичной системе счисления соответствует число АА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16</a:t>
            </a: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6"/>
          <p:cNvSpPr/>
          <p:nvPr/>
        </p:nvSpPr>
        <p:spPr>
          <a:xfrm>
            <a:off x="5508720" y="2205000"/>
            <a:ext cx="259236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24000" y="3141720"/>
            <a:ext cx="8496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Как называется основное электронное устройство компьютера, его “мозг”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4572000" y="2205000"/>
            <a:ext cx="352908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322200" y="314172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При сложении двух единиц в двоичной системе получитс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4932360" y="2205000"/>
            <a:ext cx="230364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3141720"/>
            <a:ext cx="849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aramond"/>
              </a:rPr>
              <a:t>Назовите алфавит семиричной системы счисл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"/>
          <p:cNvSpPr/>
          <p:nvPr/>
        </p:nvSpPr>
        <p:spPr>
          <a:xfrm>
            <a:off x="4067280" y="2205000"/>
            <a:ext cx="403380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 1, 2, 3, 4, 5,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24000" y="31417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 представления чисел с помощью цифровых зна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6"/>
          <p:cNvSpPr/>
          <p:nvPr/>
        </p:nvSpPr>
        <p:spPr>
          <a:xfrm>
            <a:off x="3780000" y="2205000"/>
            <a:ext cx="417672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24000" y="314172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звании какой известной восточной сказки фигурирует число, начертание которого представляет собой запись числа в недесятичной системе счислен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4572000" y="2205000"/>
            <a:ext cx="302436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00 и 1 ноч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324000" y="314172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Как в 16-ричной системе счисления записывается число 13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4932360" y="2205000"/>
            <a:ext cx="208764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919080" y="259056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нулей в записи числа 46 в двоичной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28760" y="19440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Задание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 для самостоятельного выпол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1"/>
          <p:cNvSpPr/>
          <p:nvPr/>
        </p:nvSpPr>
        <p:spPr>
          <a:xfrm>
            <a:off x="2627280" y="4221000"/>
            <a:ext cx="3313080" cy="1152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539640" y="23760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единиц в двоичной записи числа 1025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1"/>
          <p:cNvSpPr/>
          <p:nvPr/>
        </p:nvSpPr>
        <p:spPr>
          <a:xfrm>
            <a:off x="868320" y="40464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Задани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для самостоятельного выпол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1979640" y="3860640"/>
            <a:ext cx="4464000" cy="15843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учаем: 10000000001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 В числе 2-е един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7" descr=""/>
          <p:cNvPicPr/>
          <p:nvPr/>
        </p:nvPicPr>
        <p:blipFill>
          <a:blip r:embed="rId1"/>
          <a:stretch/>
        </p:blipFill>
        <p:spPr>
          <a:xfrm>
            <a:off x="396720" y="328680"/>
            <a:ext cx="8229600" cy="1218960"/>
          </a:xfrm>
          <a:prstGeom prst="rect">
            <a:avLst/>
          </a:prstGeom>
          <a:ln w="0">
            <a:noFill/>
          </a:ln>
        </p:spPr>
      </p:pic>
      <p:pic>
        <p:nvPicPr>
          <p:cNvPr id="176" name="WordArt 18" descr=""/>
          <p:cNvPicPr/>
          <p:nvPr/>
        </p:nvPicPr>
        <p:blipFill>
          <a:blip r:embed="rId2"/>
          <a:stretch/>
        </p:blipFill>
        <p:spPr>
          <a:xfrm>
            <a:off x="237960" y="5211720"/>
            <a:ext cx="840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895320" y="199440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 некоторой системе счисления число 12 записывается в виде 110. Укажите основание системы счис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76200" y="4266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Задание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 для самостоятельного выпол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1"/>
          <p:cNvSpPr/>
          <p:nvPr/>
        </p:nvSpPr>
        <p:spPr>
          <a:xfrm>
            <a:off x="2971800" y="4581360"/>
            <a:ext cx="3166920" cy="11512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28760" y="1177920"/>
            <a:ext cx="778644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о А=9D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B=237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Какое из чисел C, записанных в двоичной системе, отвечает условию A&lt;C&lt;B?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10011010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10011110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10011111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11011110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28760" y="50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Задание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4 </a:t>
            </a: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для самостоятельного выпол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оугольник 1"/>
          <p:cNvSpPr/>
          <p:nvPr/>
        </p:nvSpPr>
        <p:spPr>
          <a:xfrm>
            <a:off x="971640" y="4532400"/>
            <a:ext cx="7027920" cy="12952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&lt;C&lt;B: 1001 1101</a:t>
            </a:r>
            <a:r>
              <a:rPr b="1" lang="pt-BR" sz="2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lt;1001 1110</a:t>
            </a:r>
            <a:r>
              <a:rPr b="1" lang="pt-BR" sz="2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lt;1001 1111</a:t>
            </a:r>
            <a:r>
              <a:rPr b="1" lang="pt-BR" sz="2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99640" y="1700280"/>
            <a:ext cx="67770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35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0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36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8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3А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6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00101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30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        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111001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64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8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9Е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6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25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0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210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3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        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72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8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56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0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01001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8В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6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232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5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      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12D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6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78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8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00011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541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0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24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5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   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26960" y="444600"/>
            <a:ext cx="8229600" cy="19144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1"/>
          <p:cNvSpPr/>
          <p:nvPr/>
        </p:nvSpPr>
        <p:spPr>
          <a:xfrm>
            <a:off x="1187280" y="4221000"/>
            <a:ext cx="6264360" cy="2160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 130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, 36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35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100101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3А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 210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25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64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111001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9Е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 101001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72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2325, 8В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156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 100011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124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788, 12D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541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24000" y="2276280"/>
            <a:ext cx="3960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85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?  11D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1111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?   1111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С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?   101001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5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?   125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1"/>
          <p:cNvSpPr/>
          <p:nvPr/>
        </p:nvSpPr>
        <p:spPr>
          <a:xfrm>
            <a:off x="4437000" y="2205000"/>
            <a:ext cx="3960720" cy="26640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73240" algn="ctr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  285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=  285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  63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 &lt;  585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   108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  &gt; 41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  85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=  85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42560" y="3141720"/>
            <a:ext cx="6777000" cy="26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05800" cy="28098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2"/>
          <p:cNvSpPr/>
          <p:nvPr/>
        </p:nvSpPr>
        <p:spPr>
          <a:xfrm>
            <a:off x="3011400" y="4213080"/>
            <a:ext cx="3095640" cy="9144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, 13,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1"/>
          <p:cNvSpPr/>
          <p:nvPr/>
        </p:nvSpPr>
        <p:spPr>
          <a:xfrm>
            <a:off x="1383840" y="28591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ИДЕЯ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20" descr="CRCTR632"/>
          <p:cNvPicPr/>
          <p:nvPr/>
        </p:nvPicPr>
        <p:blipFill>
          <a:blip r:embed="rId1"/>
          <a:stretch/>
        </p:blipFill>
        <p:spPr>
          <a:xfrm>
            <a:off x="395280" y="4325760"/>
            <a:ext cx="1920960" cy="2119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T_Borodina22"/>
          <p:cNvPicPr/>
          <p:nvPr/>
        </p:nvPicPr>
        <p:blipFill>
          <a:blip r:embed="rId2"/>
          <a:stretch/>
        </p:blipFill>
        <p:spPr>
          <a:xfrm>
            <a:off x="2316240" y="3043080"/>
            <a:ext cx="6408720" cy="349596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3"/>
          <a:stretch/>
        </p:blipFill>
        <p:spPr>
          <a:xfrm>
            <a:off x="500040" y="85392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382" name="Овальная выноска 5"/>
          <p:cNvSpPr/>
          <p:nvPr/>
        </p:nvSpPr>
        <p:spPr>
          <a:xfrm>
            <a:off x="833400" y="3225960"/>
            <a:ext cx="2170080" cy="1314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посееш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о и пожнешь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49400" y="1268280"/>
            <a:ext cx="75549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4"/>
          <p:cNvSpPr txBox="1"/>
          <p:nvPr/>
        </p:nvSpPr>
        <p:spPr>
          <a:xfrm>
            <a:off x="1116000" y="549360"/>
            <a:ext cx="68421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 урок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—  </a:t>
            </a: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Доволен ли ты тем, как прошел уро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  Было ли тебе интересно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Сумел ли ты получить новые знания, умени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Ты был активен на урок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Ты с удовольствием будешь выполнять домашнее задани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Ты сумел показать свои знани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Легко ли работать в групп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Что приобретаешь в совместной деятельнос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WordArt 4"/>
          <p:cNvSpPr txBox="1"/>
          <p:nvPr/>
        </p:nvSpPr>
        <p:spPr>
          <a:xfrm>
            <a:off x="1150920" y="2060640"/>
            <a:ext cx="705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940120" y="3933720"/>
            <a:ext cx="19209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68360" y="618840"/>
            <a:ext cx="5400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ЛЬКО ЛЕТ ДЕВОЧ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А. Старик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й было тысяча сто ле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а в сто первый класс ходил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ортфеле по сто книг носила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это правда, а не бред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, пыля десятком ног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а шагала по дорог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ней всегда бежал щенок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одним хвостом, зато стоноги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а ловила каждый зв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ими десятью ушами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есять загорелых рук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фель и поводок держал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есять темно-синих глаз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ли мир привычно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станет все совсем обычным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поймете наш рассказ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j0195384"/>
          <p:cNvPicPr/>
          <p:nvPr/>
        </p:nvPicPr>
        <p:blipFill>
          <a:blip r:embed="rId1"/>
          <a:stretch/>
        </p:blipFill>
        <p:spPr>
          <a:xfrm>
            <a:off x="5003640" y="2781360"/>
            <a:ext cx="35578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2" descr=""/>
          <p:cNvPicPr/>
          <p:nvPr/>
        </p:nvPicPr>
        <p:blipFill>
          <a:blip r:embed="rId1"/>
          <a:stretch/>
        </p:blipFill>
        <p:spPr>
          <a:xfrm>
            <a:off x="609480" y="341280"/>
            <a:ext cx="7705800" cy="1139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250920" y="1484280"/>
            <a:ext cx="14414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грмпроа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2124000" y="148428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50920" y="213372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едай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2124000" y="2133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айв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250920" y="2852640"/>
            <a:ext cx="14414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езр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2124000" y="285264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ауз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250920" y="3500280"/>
            <a:ext cx="14414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йф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124000" y="350028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250920" y="414972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ин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124000" y="4149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50920" y="486900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имноф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2124000" y="486900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кроф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250920" y="558972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ькаа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2124000" y="5589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к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075280" y="1484280"/>
            <a:ext cx="14414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свенти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6948360" y="148428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чес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075280" y="213372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тйждо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6948360" y="2133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ойст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5075280" y="2852640"/>
            <a:ext cx="14414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латми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6948360" y="285264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5075280" y="350028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аофпаар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6948360" y="350028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аппа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5075280" y="414972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крер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6948360" y="41641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да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5075280" y="4869000"/>
            <a:ext cx="172872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инофрами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6948360" y="486900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2"/>
          <p:cNvSpPr/>
          <p:nvPr/>
        </p:nvSpPr>
        <p:spPr>
          <a:xfrm>
            <a:off x="5075280" y="5589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еидоркоа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6948360" y="5589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д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6840" y="1413000"/>
            <a:ext cx="6202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ка о законах, методах и способах накопления, обработки и передачи информации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ованная последовательность действий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ойство ввода информации.         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байт в одном килобайте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ойство ввода в ЭВМ информации непосредственно с листа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мальная единица измерения кол-ва информации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й индикатор, указывающий позицию на экране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969840" y="262080"/>
            <a:ext cx="7094520" cy="1438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6588000" y="1989000"/>
            <a:ext cx="2160720" cy="287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588000" y="2924280"/>
            <a:ext cx="216072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горит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588000" y="3429000"/>
            <a:ext cx="216072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виатур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6588000" y="3789360"/>
            <a:ext cx="216072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6659640" y="4292640"/>
            <a:ext cx="216036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н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659640" y="4869000"/>
            <a:ext cx="216036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т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659640" y="5516640"/>
            <a:ext cx="216036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сор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971640" y="1557360"/>
          <a:ext cx="7151760" cy="5014800"/>
        </p:xfrm>
        <a:graphic>
          <a:graphicData uri="http://schemas.openxmlformats.org/drawingml/2006/table">
            <a:tbl>
              <a:tblPr/>
              <a:tblGrid>
                <a:gridCol w="1430280"/>
                <a:gridCol w="1430280"/>
                <a:gridCol w="1430280"/>
                <a:gridCol w="1430280"/>
                <a:gridCol w="1430640"/>
              </a:tblGrid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WordArt 43"/>
          <p:cNvSpPr txBox="1"/>
          <p:nvPr/>
        </p:nvSpPr>
        <p:spPr>
          <a:xfrm>
            <a:off x="1000080" y="314280"/>
            <a:ext cx="7128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частливый случай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Text Box 44">
            <a:hlinkClick r:id="rId1" action="ppaction://hlinksldjump"/>
          </p:cNvPr>
          <p:cNvSpPr/>
          <p:nvPr/>
        </p:nvSpPr>
        <p:spPr>
          <a:xfrm>
            <a:off x="1187280" y="170028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5508720" y="5661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4067280" y="37162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7"/>
          <p:cNvSpPr/>
          <p:nvPr/>
        </p:nvSpPr>
        <p:spPr>
          <a:xfrm>
            <a:off x="5508720" y="17002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8"/>
          <p:cNvSpPr/>
          <p:nvPr/>
        </p:nvSpPr>
        <p:spPr>
          <a:xfrm>
            <a:off x="1187280" y="357336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9"/>
          <p:cNvSpPr/>
          <p:nvPr/>
        </p:nvSpPr>
        <p:spPr>
          <a:xfrm>
            <a:off x="2627280" y="4653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7" action="ppaction://hlinksldjump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4140360" y="17002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8" action="ppaction://hlinksldjump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435640" y="3645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9" action="ppaction://hlinksldjump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1187280" y="573408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0" action="ppaction://hlinksldjump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3"/>
          <p:cNvSpPr/>
          <p:nvPr/>
        </p:nvSpPr>
        <p:spPr>
          <a:xfrm>
            <a:off x="6877080" y="17002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1" action="ppaction://hlinksldjump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2627280" y="3645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2" action="ppaction://hlinksldjump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5"/>
          <p:cNvSpPr/>
          <p:nvPr/>
        </p:nvSpPr>
        <p:spPr>
          <a:xfrm>
            <a:off x="2627280" y="17002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3" action="ppaction://hlinksldjump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6"/>
          <p:cNvSpPr/>
          <p:nvPr/>
        </p:nvSpPr>
        <p:spPr>
          <a:xfrm>
            <a:off x="4067280" y="57340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4" action="ppaction://hlinksldjump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1187280" y="263700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5" action="ppaction://hlinksldjump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8"/>
          <p:cNvSpPr/>
          <p:nvPr/>
        </p:nvSpPr>
        <p:spPr>
          <a:xfrm>
            <a:off x="6948360" y="364500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4067280" y="4653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7" action="ppaction://hlinksldjump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60"/>
          <p:cNvSpPr/>
          <p:nvPr/>
        </p:nvSpPr>
        <p:spPr>
          <a:xfrm>
            <a:off x="5508720" y="2637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61"/>
          <p:cNvSpPr/>
          <p:nvPr/>
        </p:nvSpPr>
        <p:spPr>
          <a:xfrm>
            <a:off x="2627280" y="2637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2"/>
          <p:cNvSpPr/>
          <p:nvPr/>
        </p:nvSpPr>
        <p:spPr>
          <a:xfrm>
            <a:off x="6948360" y="465300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4"/>
          <p:cNvSpPr/>
          <p:nvPr/>
        </p:nvSpPr>
        <p:spPr>
          <a:xfrm>
            <a:off x="1187280" y="465300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5"/>
          <p:cNvSpPr/>
          <p:nvPr/>
        </p:nvSpPr>
        <p:spPr>
          <a:xfrm>
            <a:off x="2627280" y="57340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66"/>
          <p:cNvSpPr/>
          <p:nvPr/>
        </p:nvSpPr>
        <p:spPr>
          <a:xfrm>
            <a:off x="4067280" y="2637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7"/>
          <p:cNvSpPr/>
          <p:nvPr/>
        </p:nvSpPr>
        <p:spPr>
          <a:xfrm>
            <a:off x="6877080" y="2637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68"/>
          <p:cNvSpPr/>
          <p:nvPr/>
        </p:nvSpPr>
        <p:spPr>
          <a:xfrm>
            <a:off x="6948360" y="566100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9"/>
          <p:cNvSpPr/>
          <p:nvPr/>
        </p:nvSpPr>
        <p:spPr>
          <a:xfrm>
            <a:off x="5508720" y="4653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70"/>
          <p:cNvSpPr/>
          <p:nvPr/>
        </p:nvSpPr>
        <p:spPr>
          <a:xfrm>
            <a:off x="1655640" y="907920"/>
            <a:ext cx="5546880" cy="648000"/>
          </a:xfrm>
          <a:custGeom>
            <a:avLst/>
            <a:gdLst>
              <a:gd name="textAreaLeft" fmla="*/ 41760 w 5546880"/>
              <a:gd name="textAreaRight" fmla="*/ 5505120 w 55468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84805" h="21600">
                <a:moveTo>
                  <a:pt x="0" y="0"/>
                </a:moveTo>
                <a:lnTo>
                  <a:pt x="184805" y="0"/>
                </a:lnTo>
                <a:lnTo>
                  <a:pt x="184805" y="21600"/>
                </a:lnTo>
                <a:lnTo>
                  <a:pt x="0" y="21600"/>
                </a:lnTo>
                <a:close/>
              </a:path>
              <a:path fill="lightenLess" w="184805" h="21600">
                <a:moveTo>
                  <a:pt x="0" y="0"/>
                </a:moveTo>
                <a:lnTo>
                  <a:pt x="184805" y="0"/>
                </a:lnTo>
                <a:lnTo>
                  <a:pt x="183405" y="1400"/>
                </a:lnTo>
                <a:lnTo>
                  <a:pt x="1400" y="1400"/>
                </a:lnTo>
                <a:close/>
              </a:path>
              <a:path fill="darken" w="184805" h="21600">
                <a:moveTo>
                  <a:pt x="184805" y="0"/>
                </a:moveTo>
                <a:lnTo>
                  <a:pt x="184805" y="21600"/>
                </a:lnTo>
                <a:lnTo>
                  <a:pt x="183405" y="20200"/>
                </a:lnTo>
                <a:lnTo>
                  <a:pt x="183405" y="1400"/>
                </a:lnTo>
                <a:close/>
              </a:path>
              <a:path fill="darkenLess" w="184805" h="21600">
                <a:moveTo>
                  <a:pt x="184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3405" y="20200"/>
                </a:lnTo>
                <a:close/>
              </a:path>
              <a:path fill="lighten" w="184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оверка усвоения изученного 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5-конечная звезда 1"/>
          <p:cNvSpPr/>
          <p:nvPr/>
        </p:nvSpPr>
        <p:spPr>
          <a:xfrm>
            <a:off x="8128080" y="6089760"/>
            <a:ext cx="836640" cy="652320"/>
          </a:xfrm>
          <a:custGeom>
            <a:avLst/>
            <a:gdLst/>
            <a:ahLst/>
            <a:rect l="l" t="t" r="r" b="b"/>
            <a:pathLst>
              <a:path w="836613" h="652463">
                <a:moveTo>
                  <a:pt x="1" y="249218"/>
                </a:moveTo>
                <a:lnTo>
                  <a:pt x="319559" y="249220"/>
                </a:lnTo>
                <a:lnTo>
                  <a:pt x="418307" y="0"/>
                </a:lnTo>
                <a:lnTo>
                  <a:pt x="517054" y="249220"/>
                </a:lnTo>
                <a:lnTo>
                  <a:pt x="836612" y="249218"/>
                </a:lnTo>
                <a:lnTo>
                  <a:pt x="578083" y="403243"/>
                </a:lnTo>
                <a:lnTo>
                  <a:pt x="676834" y="652461"/>
                </a:lnTo>
                <a:lnTo>
                  <a:pt x="418307" y="498434"/>
                </a:lnTo>
                <a:lnTo>
                  <a:pt x="159779" y="652461"/>
                </a:lnTo>
                <a:lnTo>
                  <a:pt x="258530" y="403243"/>
                </a:lnTo>
                <a:lnTo>
                  <a:pt x="1" y="249218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788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24000" y="3284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 виды систем счисления вы знает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47"/>
          <p:cNvPicPr/>
          <p:nvPr/>
        </p:nvPicPr>
        <p:blipFill>
          <a:blip r:embed="rId2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4859280" y="1628640"/>
            <a:ext cx="3816360" cy="1008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зиционные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позиционные 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j0286034"/>
          <p:cNvPicPr/>
          <p:nvPr/>
        </p:nvPicPr>
        <p:blipFill>
          <a:blip r:embed="rId1"/>
          <a:stretch/>
        </p:blipFill>
        <p:spPr>
          <a:xfrm>
            <a:off x="2843280" y="1484280"/>
            <a:ext cx="3168720" cy="30337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1692360" y="4581360"/>
            <a:ext cx="53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Переход ход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050920" y="333360"/>
            <a:ext cx="53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ВИРУС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8:45:38Z</dcterms:created>
  <dc:creator>Глуса</dc:creator>
  <dc:description/>
  <dc:language>en-US</dc:language>
  <cp:lastModifiedBy>User</cp:lastModifiedBy>
  <dcterms:modified xsi:type="dcterms:W3CDTF">2019-01-29T03:42:50Z</dcterms:modified>
  <cp:revision>176</cp:revision>
  <dc:subject/>
  <dc:title>Слайд 1</dc:title>
</cp:coreProperties>
</file>