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9.gif" ContentType="image/gif"/>
  <Override PartName="/ppt/media/image12.wmf" ContentType="image/x-wmf"/>
  <Override PartName="/ppt/media/image4.png" ContentType="image/png"/>
  <Override PartName="/ppt/media/image8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7.png" ContentType="image/png"/>
  <Override PartName="/ppt/media/image1.jpeg" ContentType="image/jpeg"/>
  <Override PartName="/ppt/media/image20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gif" ContentType="image/gif"/>
  <Override PartName="/ppt/media/image18.png" ContentType="image/png"/>
  <Override PartName="/ppt/media/image14.wmf" ContentType="image/x-wmf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0B26-FEBE-4D65-9CB2-79D60608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483D-BBB1-470C-989B-BEB5607D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C300-954D-4122-BE1D-F228C4D1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E5C-CA19-4E80-9FCC-C5B7F7AE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6E2CA-DCD7-485D-B914-948CED3D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54104-45A2-4360-B9D5-87E35FCA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A6BDF-AFD3-459F-9CF7-5857872C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A406B-4B2A-4EA4-A0A1-8A544679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55460-7207-44D1-B25A-55F2FACA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C1A70-A2F5-4106-B5CF-0158BF27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CDA56-1C6E-475D-A9EC-6C1AED68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D1B5-8FDA-4A12-9BF8-A30E1992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D5C1B-900F-40A4-9728-240E73B0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3EDE2-1468-4595-A6BB-9F596F6C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B70BD-D1A1-4141-8367-359F0A77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A6666-D713-473D-B51C-01ACDC64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72205-F90A-4DBD-B0AC-6334D253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51B08-2025-4B8A-B563-8E1A8290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796CE-8A80-47A8-B034-11D820F9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076DB-5D7E-4958-ADE2-EF7FE62E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6D3DA-8EBD-4856-A2B8-88F5F445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82C00-DF03-4D1D-B2BC-3A02D9AB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FDDE-51EE-45FB-AA30-C2968E90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D6530-5A37-4765-99FE-F1384AED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8C715-0065-4897-8911-FAFB87EA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B4F5F-C963-4605-A886-C025F968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6B600-E6DC-4D95-BEA6-8BB4A443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A2675-9E62-48FA-812F-69FB9DA0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2C1B4-831E-40B0-B8D2-00D7A47C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64F85-F677-408B-8DFA-7FF5D8C7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982024-2064-49E9-82AC-B8E222F3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366E13-023F-4ADC-AFC4-74F3C5AD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DF4C2E-CB8F-4884-B231-BA3B7290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53E6-EE21-4C43-A22A-8ED32283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7DF602-D8CD-42D5-BB5C-BCCCFAB2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6CFBD6-54A6-4ED4-AB57-54F44016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B019A8-11E9-45AC-A083-64483725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9A6DA0-50B9-4D8B-ADE1-446E9B6C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5B5C29-9ABD-470E-AA72-1BD67A24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998029-732C-4D9F-828E-A13196C8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A0531C-BCAD-4890-80A6-3A94E203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0C5498-5BA8-4B2A-9A05-30670182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84BE3D-519D-4A96-AAA2-6D36C320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26CC-2A88-4E85-AD9D-78A1BC84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A00A-F005-4F15-AD40-E5DD6E28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D174-3B99-49AC-A5B5-357CED53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3CB-FFDF-4EA5-8838-A097BB11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325E-C7AA-4D1A-8022-9603C580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1FFC-9457-4797-BC3D-5C8CB898A79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AF5A-5651-416D-AB8C-2A5BABE8C62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D260-F7F4-4E6A-A8B8-35BC9F1D825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C049-8570-4E7C-A6C5-D919CA44ACE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drumroll.wav" TargetMode="Externa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19.xml"/><Relationship Id="rId4" Type="http://schemas.openxmlformats.org/officeDocument/2006/relationships/slide" Target="slide12.xml"/><Relationship Id="rId5" Type="http://schemas.openxmlformats.org/officeDocument/2006/relationships/slide" Target="slide16.xml"/><Relationship Id="rId6" Type="http://schemas.openxmlformats.org/officeDocument/2006/relationships/slide" Target="slide25.xml"/><Relationship Id="rId7" Type="http://schemas.openxmlformats.org/officeDocument/2006/relationships/slide" Target="slide20.xml"/><Relationship Id="rId8" Type="http://schemas.openxmlformats.org/officeDocument/2006/relationships/slide" Target="slide11.xml"/><Relationship Id="rId9" Type="http://schemas.openxmlformats.org/officeDocument/2006/relationships/slide" Target="slide16.xml"/><Relationship Id="rId10" Type="http://schemas.openxmlformats.org/officeDocument/2006/relationships/slide" Target="slide21.xml"/><Relationship Id="rId11" Type="http://schemas.openxmlformats.org/officeDocument/2006/relationships/slide" Target="slide16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8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27.xml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file:///tmp/home/.config/libreoffice/4/user/gallery/breeze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470480" y="5072040"/>
            <a:ext cx="46735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755640" y="2206800"/>
            <a:ext cx="7632720" cy="2304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826920" y="836640"/>
            <a:ext cx="7560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2"/>
          <p:cNvSpPr txBox="1"/>
          <p:nvPr/>
        </p:nvSpPr>
        <p:spPr>
          <a:xfrm>
            <a:off x="971640" y="476280"/>
            <a:ext cx="410508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Garamond"/>
              </a:rPr>
              <a:t>Ура!!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256" name="AutoShape 3">
            <a:hlinkClick r:id="rId3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MCj04404140000[1]"/>
          <p:cNvPicPr/>
          <p:nvPr/>
        </p:nvPicPr>
        <p:blipFill>
          <a:blip r:embed="rId4"/>
          <a:stretch/>
        </p:blipFill>
        <p:spPr>
          <a:xfrm>
            <a:off x="2987640" y="1557360"/>
            <a:ext cx="2736720" cy="360036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5"/>
          <p:cNvSpPr/>
          <p:nvPr/>
        </p:nvSpPr>
        <p:spPr>
          <a:xfrm>
            <a:off x="5076720" y="1087560"/>
            <a:ext cx="3097440" cy="1549440"/>
          </a:xfrm>
          <a:prstGeom prst="wedgeEllipseCallout">
            <a:avLst>
              <a:gd name="adj1" fmla="val -41902"/>
              <a:gd name="adj2" fmla="val 10202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д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4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324000" y="314172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aramond"/>
              </a:rPr>
              <a:t>Система счисления- это …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4">
            <a:hlinkClick r:id="" action="ppaction://hlinkshowjump?jump=previousslide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1"/>
          <p:cNvSpPr/>
          <p:nvPr/>
        </p:nvSpPr>
        <p:spPr>
          <a:xfrm>
            <a:off x="4500720" y="1916280"/>
            <a:ext cx="4103640" cy="916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вокупность символов (цифр) и правил их использования для представления чисе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2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324000" y="314172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 записывается римское число 10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"/>
          <p:cNvSpPr/>
          <p:nvPr/>
        </p:nvSpPr>
        <p:spPr>
          <a:xfrm>
            <a:off x="5724360" y="1844640"/>
            <a:ext cx="2087640" cy="57636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2050920" y="260280"/>
            <a:ext cx="55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Разгадайте ребу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5867280" y="5445000"/>
            <a:ext cx="30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539640" y="1844640"/>
            <a:ext cx="7956360" cy="2881080"/>
            <a:chOff x="539640" y="1844640"/>
            <a:chExt cx="7956360" cy="2881080"/>
          </a:xfrm>
        </p:grpSpPr>
        <p:graphicFrame>
          <p:nvGraphicFramePr>
            <p:cNvPr id="272" name="Object 5"/>
            <p:cNvGraphicFramePr/>
            <p:nvPr/>
          </p:nvGraphicFramePr>
          <p:xfrm>
            <a:off x="539640" y="2072160"/>
            <a:ext cx="2210040" cy="265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3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9640" y="2072160"/>
                      <a:ext cx="2210040" cy="265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4" name="Line 6"/>
            <p:cNvSpPr/>
            <p:nvPr/>
          </p:nvSpPr>
          <p:spPr>
            <a:xfrm flipH="1">
              <a:off x="2572920" y="2527920"/>
              <a:ext cx="707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WordArt 7"/>
            <p:cNvSpPr txBox="1"/>
            <p:nvPr/>
          </p:nvSpPr>
          <p:spPr>
            <a:xfrm>
              <a:off x="2838240" y="1844640"/>
              <a:ext cx="248400" cy="652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76" name="WordArt 8"/>
            <p:cNvSpPr txBox="1"/>
            <p:nvPr/>
          </p:nvSpPr>
          <p:spPr>
            <a:xfrm>
              <a:off x="3015000" y="2869920"/>
              <a:ext cx="264960" cy="91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aphicFrame>
          <p:nvGraphicFramePr>
            <p:cNvPr id="277" name="Object 9"/>
            <p:cNvGraphicFramePr/>
            <p:nvPr/>
          </p:nvGraphicFramePr>
          <p:xfrm>
            <a:off x="4164120" y="2869920"/>
            <a:ext cx="1414440" cy="1813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64120" y="2869920"/>
                      <a:ext cx="1414440" cy="181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9" name="WordArt 10"/>
            <p:cNvSpPr txBox="1"/>
            <p:nvPr/>
          </p:nvSpPr>
          <p:spPr>
            <a:xfrm>
              <a:off x="5578920" y="1844640"/>
              <a:ext cx="530280" cy="99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ч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80" name="WordArt 11"/>
            <p:cNvSpPr txBox="1"/>
            <p:nvPr/>
          </p:nvSpPr>
          <p:spPr>
            <a:xfrm>
              <a:off x="6816600" y="1844640"/>
              <a:ext cx="618840" cy="91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81" name="WordArt 12"/>
            <p:cNvSpPr txBox="1"/>
            <p:nvPr/>
          </p:nvSpPr>
          <p:spPr>
            <a:xfrm>
              <a:off x="7612200" y="3211560"/>
              <a:ext cx="883800" cy="136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cbcbcb"/>
                      </a:gs>
                      <a:gs pos="100000">
                        <a:srgbClr val="eaeaea"/>
                      </a:gs>
                    </a:gsLst>
                    <a:lin ang="5400000"/>
                  </a:gradFill>
                  <a:latin typeface="Times New Roman"/>
                </a:rPr>
                <a:t>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</p:grpSp>
      <p:sp>
        <p:nvSpPr>
          <p:cNvPr id="282" name="AutoShape 13">
            <a:hlinkClick r:id="" action="ppaction://hlinkshowjump?jump=previousslide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1225440" y="5229360"/>
            <a:ext cx="2087640" cy="57600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мя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24000" y="314172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снование Вавилонской системы счисл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4">
            <a:hlinkClick r:id="" action="ppaction://hlinkshowjump?jump=previousslide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6"/>
          <p:cNvSpPr/>
          <p:nvPr/>
        </p:nvSpPr>
        <p:spPr>
          <a:xfrm>
            <a:off x="5724360" y="1844640"/>
            <a:ext cx="2376720" cy="57636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4">
            <a:hlinkClick r:id="" action="ppaction://hlinkshowjump?jump=previousslide"/>
          </p:cNvPr>
          <p:cNvSpPr/>
          <p:nvPr/>
        </p:nvSpPr>
        <p:spPr>
          <a:xfrm>
            <a:off x="1403280" y="1484280"/>
            <a:ext cx="6551640" cy="1600200"/>
          </a:xfrm>
          <a:custGeom>
            <a:avLst/>
            <a:gdLst>
              <a:gd name="textAreaLeft" fmla="*/ 103680 w 6551640"/>
              <a:gd name="textAreaRight" fmla="*/ 6447960 w 655164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88421" h="21600">
                <a:moveTo>
                  <a:pt x="0" y="0"/>
                </a:moveTo>
                <a:lnTo>
                  <a:pt x="88421" y="0"/>
                </a:lnTo>
                <a:lnTo>
                  <a:pt x="88421" y="21600"/>
                </a:lnTo>
                <a:lnTo>
                  <a:pt x="0" y="21600"/>
                </a:lnTo>
                <a:close/>
              </a:path>
              <a:path fill="lightenLess" w="88421" h="21600">
                <a:moveTo>
                  <a:pt x="0" y="0"/>
                </a:moveTo>
                <a:lnTo>
                  <a:pt x="88421" y="0"/>
                </a:lnTo>
                <a:lnTo>
                  <a:pt x="87021" y="1400"/>
                </a:lnTo>
                <a:lnTo>
                  <a:pt x="1400" y="1400"/>
                </a:lnTo>
                <a:close/>
              </a:path>
              <a:path fill="darken" w="88421" h="21600">
                <a:moveTo>
                  <a:pt x="88421" y="0"/>
                </a:moveTo>
                <a:lnTo>
                  <a:pt x="88421" y="21600"/>
                </a:lnTo>
                <a:lnTo>
                  <a:pt x="87021" y="20200"/>
                </a:lnTo>
                <a:lnTo>
                  <a:pt x="87021" y="1400"/>
                </a:lnTo>
                <a:close/>
              </a:path>
              <a:path fill="darkenLess" w="88421" h="21600">
                <a:moveTo>
                  <a:pt x="884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021" y="20200"/>
                </a:lnTo>
                <a:close/>
              </a:path>
              <a:path fill="lighten" w="884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9966"/>
              </a:gs>
              <a:gs pos="50000">
                <a:srgbClr val="ffbb99"/>
              </a:gs>
              <a:gs pos="100000">
                <a:srgbClr val="ff9966"/>
              </a:gs>
            </a:gsLst>
            <a:lin ang="5400000"/>
          </a:gra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Comic Sans MS"/>
              </a:rPr>
              <a:t>Попробуй другую цифр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H="1">
            <a:off x="5638680" y="304920"/>
            <a:ext cx="32004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>
            <a:off x="2666880" y="533520"/>
            <a:ext cx="327672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>
            <a:off x="8839080" y="609480"/>
            <a:ext cx="0" cy="28195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8534520" y="2971800"/>
            <a:ext cx="0" cy="289548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4" descr="1242588314_glamour119"/>
          <p:cNvPicPr/>
          <p:nvPr/>
        </p:nvPicPr>
        <p:blipFill>
          <a:blip r:embed="rId1"/>
          <a:stretch/>
        </p:blipFill>
        <p:spPr>
          <a:xfrm>
            <a:off x="3492360" y="3429000"/>
            <a:ext cx="2251080" cy="2736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"/>
          <p:cNvPicPr/>
          <p:nvPr/>
        </p:nvPicPr>
        <p:blipFill>
          <a:blip r:embed="rId2"/>
          <a:stretch/>
        </p:blipFill>
        <p:spPr>
          <a:xfrm>
            <a:off x="3924360" y="6093000"/>
            <a:ext cx="1011240" cy="57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24000" y="314172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де зародилась десятичная система счисления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4">
            <a:hlinkClick r:id="" action="ppaction://hlinkshowjump?jump=previousslide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6"/>
          <p:cNvSpPr/>
          <p:nvPr/>
        </p:nvSpPr>
        <p:spPr>
          <a:xfrm>
            <a:off x="5724360" y="1844640"/>
            <a:ext cx="2376720" cy="576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324000" y="3141720"/>
            <a:ext cx="849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колько различных последовательностей длиной в 7 символов можно составить из цифр 0 и 1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4">
            <a:hlinkClick r:id="" action="ppaction://hlinkshowjump?jump=previousslide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6"/>
          <p:cNvSpPr/>
          <p:nvPr/>
        </p:nvSpPr>
        <p:spPr>
          <a:xfrm>
            <a:off x="5724360" y="1844640"/>
            <a:ext cx="2376720" cy="57636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8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324000" y="314172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ак называлось на Руси число 1050 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4"/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6"/>
          <p:cNvSpPr/>
          <p:nvPr/>
        </p:nvSpPr>
        <p:spPr>
          <a:xfrm>
            <a:off x="5724360" y="1844640"/>
            <a:ext cx="2376720" cy="57636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од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324000" y="314172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Число 3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в римской системе счисления имеет ви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6"/>
          <p:cNvSpPr/>
          <p:nvPr/>
        </p:nvSpPr>
        <p:spPr>
          <a:xfrm>
            <a:off x="5508720" y="1844640"/>
            <a:ext cx="2592360" cy="57636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XXV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рабатывать умения учащихся переводить числа в позиционных системах счислени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репить умение применять полученные знания на практике при переводе чисел в позиционных системах счислени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ышать  мотивацию учащихся через использование нестандартных заданий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ть над формированием умения оценивать свою работу и работу товарищей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внимание, память, логическое мышлени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24000" y="3141720"/>
            <a:ext cx="849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aramond"/>
              </a:rPr>
              <a:t>Назовите алфавит пятиричной системы счисл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6"/>
          <p:cNvSpPr/>
          <p:nvPr/>
        </p:nvSpPr>
        <p:spPr>
          <a:xfrm>
            <a:off x="5508720" y="1557360"/>
            <a:ext cx="2592360" cy="917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, 1, 2, 3, 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24000" y="3141720"/>
            <a:ext cx="8496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aramond"/>
              </a:rPr>
              <a:t>Какому числу в десятичной системе счисления соответствует число АА</a:t>
            </a:r>
            <a:r>
              <a:rPr b="1" i="1" lang="ru-RU" sz="1400" spc="-1" strike="noStrike">
                <a:solidFill>
                  <a:srgbClr val="ffffff"/>
                </a:solidFill>
                <a:latin typeface="Garamond"/>
              </a:rPr>
              <a:t>16</a:t>
            </a: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4">
            <a:hlinkClick r:id="" action="ppaction://hlinkshowjump?jump=previousslide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6"/>
          <p:cNvSpPr/>
          <p:nvPr/>
        </p:nvSpPr>
        <p:spPr>
          <a:xfrm>
            <a:off x="5508720" y="2205000"/>
            <a:ext cx="2592360" cy="71928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6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324000" y="3141720"/>
            <a:ext cx="8496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Как называется основное электронное устройство компьютера, его “мозг”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4"/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6"/>
          <p:cNvSpPr/>
          <p:nvPr/>
        </p:nvSpPr>
        <p:spPr>
          <a:xfrm>
            <a:off x="4572000" y="2205000"/>
            <a:ext cx="3529080" cy="71928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ссо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322200" y="3141720"/>
            <a:ext cx="849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При сложении двух единиц в двоичной системе получится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4">
            <a:hlinkClick r:id="" action="ppaction://hlinkshowjump?jump=previousslide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4932360" y="2205000"/>
            <a:ext cx="2303640" cy="71928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3141720"/>
            <a:ext cx="849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Garamond"/>
              </a:rPr>
              <a:t>Назовите алфавит семиричной системы счисл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AutoShape 4">
            <a:hlinkClick r:id="" action="ppaction://hlinkshowjump?jump=previousslide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6"/>
          <p:cNvSpPr/>
          <p:nvPr/>
        </p:nvSpPr>
        <p:spPr>
          <a:xfrm>
            <a:off x="4067280" y="2205000"/>
            <a:ext cx="4033800" cy="71928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, 1, 2, 3, 4, 5,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324000" y="314172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 представления чисел с помощью цифровых зна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4">
            <a:hlinkClick r:id="" action="ppaction://hlinkshowjump?jump=previousslide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6"/>
          <p:cNvSpPr/>
          <p:nvPr/>
        </p:nvSpPr>
        <p:spPr>
          <a:xfrm>
            <a:off x="3780000" y="2205000"/>
            <a:ext cx="4176720" cy="71928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24000" y="3141720"/>
            <a:ext cx="849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названии какой известной восточной сказки фигурирует число, начертание которого представляет собой запись числа в недесятичной системе счисления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4">
            <a:hlinkClick r:id="" action="ppaction://hlinkshowjump?jump=previousslide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6"/>
          <p:cNvSpPr/>
          <p:nvPr/>
        </p:nvSpPr>
        <p:spPr>
          <a:xfrm>
            <a:off x="4572000" y="2205000"/>
            <a:ext cx="3024360" cy="71928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00 и 1 ноч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324000" y="3141720"/>
            <a:ext cx="849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Как в 16-ричной системе счисления записывается число 13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4">
            <a:hlinkClick r:id="" action="ppaction://hlinkshowjump?jump=previousslide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5" descr="47"/>
          <p:cNvPicPr/>
          <p:nvPr/>
        </p:nvPicPr>
        <p:blipFill>
          <a:blip r:embed="rId1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6"/>
          <p:cNvSpPr/>
          <p:nvPr/>
        </p:nvSpPr>
        <p:spPr>
          <a:xfrm>
            <a:off x="4932360" y="2205000"/>
            <a:ext cx="2087640" cy="71928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919080" y="259056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лько нулей в записи числа 46 в двоичной СС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28760" y="194400"/>
            <a:ext cx="835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Calibri"/>
                <a:ea typeface="Times New Roman"/>
              </a:rPr>
              <a:t>Задание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Times New Roman"/>
              </a:rPr>
              <a:t>1</a:t>
            </a:r>
            <a:r>
              <a:rPr b="1" lang="ru-RU" sz="3600" spc="-1" strike="noStrike">
                <a:solidFill>
                  <a:srgbClr val="215968"/>
                </a:solidFill>
                <a:latin typeface="Calibri"/>
                <a:ea typeface="Times New Roman"/>
              </a:rPr>
              <a:t> для самостоятельного выполн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оугольник 1"/>
          <p:cNvSpPr/>
          <p:nvPr/>
        </p:nvSpPr>
        <p:spPr>
          <a:xfrm>
            <a:off x="2627280" y="4221000"/>
            <a:ext cx="3313080" cy="11527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539640" y="237600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лько единиц в двоичной записи числа 1025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оугольник 1"/>
          <p:cNvSpPr/>
          <p:nvPr/>
        </p:nvSpPr>
        <p:spPr>
          <a:xfrm>
            <a:off x="868320" y="40464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Задание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</a:t>
            </a: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для самостоятельного выпол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Прямоугольник 2"/>
          <p:cNvSpPr/>
          <p:nvPr/>
        </p:nvSpPr>
        <p:spPr>
          <a:xfrm>
            <a:off x="1979640" y="3860640"/>
            <a:ext cx="4464000" cy="158436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лучаем: 10000000001</a:t>
            </a:r>
            <a:r>
              <a:rPr b="0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 В числе 2-е единиц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Rectangle 7" descr=""/>
          <p:cNvPicPr/>
          <p:nvPr/>
        </p:nvPicPr>
        <p:blipFill>
          <a:blip r:embed="rId1"/>
          <a:stretch/>
        </p:blipFill>
        <p:spPr>
          <a:xfrm>
            <a:off x="396720" y="328680"/>
            <a:ext cx="8229600" cy="1218960"/>
          </a:xfrm>
          <a:prstGeom prst="rect">
            <a:avLst/>
          </a:prstGeom>
          <a:ln w="0">
            <a:noFill/>
          </a:ln>
        </p:spPr>
      </p:pic>
      <p:pic>
        <p:nvPicPr>
          <p:cNvPr id="176" name="WordArt 18" descr=""/>
          <p:cNvPicPr/>
          <p:nvPr/>
        </p:nvPicPr>
        <p:blipFill>
          <a:blip r:embed="rId2"/>
          <a:stretch/>
        </p:blipFill>
        <p:spPr>
          <a:xfrm>
            <a:off x="237960" y="5211720"/>
            <a:ext cx="8406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895320" y="1994400"/>
            <a:ext cx="77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В некоторой системе счисления число 12 записывается в виде 110. Укажите основание системы счис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376200" y="42660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Calibri"/>
                <a:ea typeface="Times New Roman"/>
              </a:rPr>
              <a:t>Задание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215968"/>
                </a:solidFill>
                <a:latin typeface="Calibri"/>
                <a:ea typeface="Times New Roman"/>
              </a:rPr>
              <a:t> для самостоятельного выполн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1"/>
          <p:cNvSpPr/>
          <p:nvPr/>
        </p:nvSpPr>
        <p:spPr>
          <a:xfrm>
            <a:off x="2971800" y="4581360"/>
            <a:ext cx="3166920" cy="11512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428760" y="1177920"/>
            <a:ext cx="778644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о А=9D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B=237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Какое из чисел C, записанных в двоичной системе, отвечает условию A&lt;C&lt;B?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10011010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10011110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10011111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11011110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428760" y="504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Calibri"/>
                <a:ea typeface="Times New Roman"/>
              </a:rPr>
              <a:t>Задание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4 </a:t>
            </a:r>
            <a:r>
              <a:rPr b="1" lang="ru-RU" sz="3600" spc="-1" strike="noStrike">
                <a:solidFill>
                  <a:srgbClr val="215968"/>
                </a:solidFill>
                <a:latin typeface="Calibri"/>
                <a:ea typeface="Times New Roman"/>
              </a:rPr>
              <a:t>для самостоятельного выполн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Прямоугольник 1"/>
          <p:cNvSpPr/>
          <p:nvPr/>
        </p:nvSpPr>
        <p:spPr>
          <a:xfrm>
            <a:off x="971640" y="4532400"/>
            <a:ext cx="7027920" cy="12952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&lt;C&lt;B: 1001 1101</a:t>
            </a:r>
            <a:r>
              <a:rPr b="1" lang="pt-BR" sz="28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pt-BR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&lt;1001 1110</a:t>
            </a:r>
            <a:r>
              <a:rPr b="1" lang="pt-BR" sz="28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pt-BR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&lt;1001 1111</a:t>
            </a:r>
            <a:r>
              <a:rPr b="1" lang="pt-BR" sz="28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0" lang="pt-BR" sz="1800" spc="-1" strike="noStrike" baseline="-25000">
                <a:solidFill>
                  <a:srgbClr val="ffffff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899640" y="1700280"/>
            <a:ext cx="67770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35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10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36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8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3А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16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100101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130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4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        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111001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64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8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9Е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16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25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10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210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3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        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72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8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156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10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101001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8В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16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232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5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      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12D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16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78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8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100011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541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10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, 124</a:t>
            </a:r>
            <a:r>
              <a:rPr b="1" i="1" lang="ru-RU" sz="2600" spc="-1" strike="noStrike" baseline="-25000">
                <a:solidFill>
                  <a:srgbClr val="ffffff"/>
                </a:solidFill>
                <a:latin typeface="Constantia"/>
              </a:rPr>
              <a:t>5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   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26960" y="444600"/>
            <a:ext cx="8229600" cy="191448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1"/>
          <p:cNvSpPr/>
          <p:nvPr/>
        </p:nvSpPr>
        <p:spPr>
          <a:xfrm>
            <a:off x="1187280" y="4221000"/>
            <a:ext cx="6264360" cy="21607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  130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, 36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35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100101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3А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6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  210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25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64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111001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9Е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6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  101001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72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2325, 8В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6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156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  100011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124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5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788, 12D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6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541</a:t>
            </a:r>
            <a:r>
              <a:rPr b="1" i="1" lang="ru-RU" sz="2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24000" y="2276280"/>
            <a:ext cx="396072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285</a:t>
            </a:r>
            <a:r>
              <a:rPr b="1" i="1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?  11D</a:t>
            </a:r>
            <a:r>
              <a:rPr b="1" i="1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1111</a:t>
            </a:r>
            <a:r>
              <a:rPr b="1" i="1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?   1111</a:t>
            </a:r>
            <a:r>
              <a:rPr b="1" i="1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С</a:t>
            </a:r>
            <a:r>
              <a:rPr b="1" i="1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?   101001</a:t>
            </a:r>
            <a:r>
              <a:rPr b="1" i="1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5</a:t>
            </a:r>
            <a:r>
              <a:rPr b="1" i="1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?   125</a:t>
            </a:r>
            <a:r>
              <a:rPr b="1" i="1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374" name="Прямоугольник 1"/>
          <p:cNvSpPr/>
          <p:nvPr/>
        </p:nvSpPr>
        <p:spPr>
          <a:xfrm>
            <a:off x="4437000" y="2205000"/>
            <a:ext cx="3960720" cy="266400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273240" algn="ctr">
              <a:lnSpc>
                <a:spcPct val="10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   285</a:t>
            </a:r>
            <a:r>
              <a:rPr b="0" i="1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=  285</a:t>
            </a:r>
            <a:r>
              <a:rPr b="0" i="1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   63</a:t>
            </a:r>
            <a:r>
              <a:rPr b="0" i="1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 &lt;  585</a:t>
            </a:r>
            <a:r>
              <a:rPr b="0" i="1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    108</a:t>
            </a:r>
            <a:r>
              <a:rPr b="0" i="1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  &gt; 41</a:t>
            </a:r>
            <a:r>
              <a:rPr b="0" i="1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   85</a:t>
            </a:r>
            <a:r>
              <a:rPr b="0" i="1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=  85</a:t>
            </a:r>
            <a:r>
              <a:rPr b="0" i="1" lang="ru-RU" sz="20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10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042560" y="3141720"/>
            <a:ext cx="6777000" cy="26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6" name="Заголовок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705800" cy="280980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2"/>
          <p:cNvSpPr/>
          <p:nvPr/>
        </p:nvSpPr>
        <p:spPr>
          <a:xfrm>
            <a:off x="3011400" y="4213080"/>
            <a:ext cx="3095640" cy="91440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, 13, 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1"/>
          <p:cNvSpPr/>
          <p:nvPr/>
        </p:nvSpPr>
        <p:spPr>
          <a:xfrm>
            <a:off x="1383840" y="28591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ИДЕЯ 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20" descr="CRCTR632"/>
          <p:cNvPicPr/>
          <p:nvPr/>
        </p:nvPicPr>
        <p:blipFill>
          <a:blip r:embed="rId1"/>
          <a:stretch/>
        </p:blipFill>
        <p:spPr>
          <a:xfrm>
            <a:off x="395280" y="4325760"/>
            <a:ext cx="1920960" cy="2119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T_Borodina22"/>
          <p:cNvPicPr/>
          <p:nvPr/>
        </p:nvPicPr>
        <p:blipFill>
          <a:blip r:embed="rId2"/>
          <a:stretch/>
        </p:blipFill>
        <p:spPr>
          <a:xfrm>
            <a:off x="2316240" y="3043080"/>
            <a:ext cx="6408720" cy="3495960"/>
          </a:xfrm>
          <a:prstGeom prst="rect">
            <a:avLst/>
          </a:prstGeom>
          <a:ln w="0">
            <a:noFill/>
          </a:ln>
        </p:spPr>
      </p:pic>
      <p:pic>
        <p:nvPicPr>
          <p:cNvPr id="381" name="Заголовок 1" descr=""/>
          <p:cNvPicPr/>
          <p:nvPr/>
        </p:nvPicPr>
        <p:blipFill>
          <a:blip r:embed="rId3"/>
          <a:stretch/>
        </p:blipFill>
        <p:spPr>
          <a:xfrm>
            <a:off x="500040" y="853920"/>
            <a:ext cx="8229600" cy="1505160"/>
          </a:xfrm>
          <a:prstGeom prst="rect">
            <a:avLst/>
          </a:prstGeom>
          <a:ln w="0">
            <a:noFill/>
          </a:ln>
        </p:spPr>
      </p:pic>
      <p:sp>
        <p:nvSpPr>
          <p:cNvPr id="382" name="Овальная выноска 5"/>
          <p:cNvSpPr/>
          <p:nvPr/>
        </p:nvSpPr>
        <p:spPr>
          <a:xfrm>
            <a:off x="833400" y="3225960"/>
            <a:ext cx="2170080" cy="1314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то посееш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о и пожнешь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049400" y="1268280"/>
            <a:ext cx="75549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WordArt 4"/>
          <p:cNvSpPr txBox="1"/>
          <p:nvPr/>
        </p:nvSpPr>
        <p:spPr>
          <a:xfrm>
            <a:off x="1116000" y="549360"/>
            <a:ext cx="68421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ведение итогов урока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—  </a:t>
            </a:r>
            <a:r>
              <a:rPr b="0" i="1" lang="ru-RU" sz="2600" spc="-1" strike="noStrike">
                <a:solidFill>
                  <a:srgbClr val="002060"/>
                </a:solidFill>
                <a:latin typeface="Verdana"/>
              </a:rPr>
              <a:t>Доволен ли ты тем, как прошел урок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Verdana"/>
              </a:rPr>
              <a:t>-  Было ли тебе интересно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Verdana"/>
              </a:rPr>
              <a:t>- Сумел ли ты получить новые знания, умения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Verdana"/>
              </a:rPr>
              <a:t>- Ты был активен на уроке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Verdana"/>
              </a:rPr>
              <a:t>- Ты с удовольствием будешь выполнять домашнее задание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Verdana"/>
              </a:rPr>
              <a:t>- Ты сумел показать свои знания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Verdana"/>
              </a:rPr>
              <a:t>- Легко ли работать в группе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Verdana"/>
              </a:rPr>
              <a:t>- Что приобретаешь в совместной деятельност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WordArt 4"/>
          <p:cNvSpPr txBox="1"/>
          <p:nvPr/>
        </p:nvSpPr>
        <p:spPr>
          <a:xfrm>
            <a:off x="1150920" y="2060640"/>
            <a:ext cx="7056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940120" y="3933720"/>
            <a:ext cx="19209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468360" y="618840"/>
            <a:ext cx="54007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ОЛЬКО ЛЕТ ДЕВОЧ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А. Старико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й было тысяча сто ле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а в сто первый класс ходила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ортфеле по сто книг носила —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это правда, а не бред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гда, пыля десятком ног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а шагала по дороге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ней всегда бежал щенок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одним хвостом, зато стоноги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а ловила каждый зву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оими десятью ушами,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десять загорелых рук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тфель и поводок держал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десять темно-синих глаз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ли мир привычно,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станет все совсем обычным,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гда поймете наш рассказ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j0195384"/>
          <p:cNvPicPr/>
          <p:nvPr/>
        </p:nvPicPr>
        <p:blipFill>
          <a:blip r:embed="rId1"/>
          <a:stretch/>
        </p:blipFill>
        <p:spPr>
          <a:xfrm>
            <a:off x="5003640" y="2781360"/>
            <a:ext cx="355788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Rectangle 2" descr=""/>
          <p:cNvPicPr/>
          <p:nvPr/>
        </p:nvPicPr>
        <p:blipFill>
          <a:blip r:embed="rId1"/>
          <a:stretch/>
        </p:blipFill>
        <p:spPr>
          <a:xfrm>
            <a:off x="609480" y="341280"/>
            <a:ext cx="7705800" cy="11397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250920" y="1484280"/>
            <a:ext cx="144144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грмпроа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2124000" y="1484280"/>
            <a:ext cx="1584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грам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50920" y="2133720"/>
            <a:ext cx="144144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редай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2124000" y="2133720"/>
            <a:ext cx="1584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райв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250920" y="2852640"/>
            <a:ext cx="144144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резрб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2124000" y="2852640"/>
            <a:ext cx="1584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рауз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250920" y="3500280"/>
            <a:ext cx="144144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айф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2124000" y="3500280"/>
            <a:ext cx="1584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й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250920" y="4149720"/>
            <a:ext cx="144144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тин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2124000" y="4149720"/>
            <a:ext cx="1584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250920" y="4869000"/>
            <a:ext cx="144144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оимноф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2124000" y="4869000"/>
            <a:ext cx="1584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кроф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250920" y="5589720"/>
            <a:ext cx="144144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ькаап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2124000" y="5589720"/>
            <a:ext cx="1584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ска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075280" y="1484280"/>
            <a:ext cx="144144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свенти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6948360" y="1484280"/>
            <a:ext cx="1584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нчест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075280" y="2133720"/>
            <a:ext cx="144144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итйждо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23"/>
          <p:cNvSpPr/>
          <p:nvPr/>
        </p:nvSpPr>
        <p:spPr>
          <a:xfrm>
            <a:off x="6948360" y="2133720"/>
            <a:ext cx="1584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жойст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4"/>
          <p:cNvSpPr/>
          <p:nvPr/>
        </p:nvSpPr>
        <p:spPr>
          <a:xfrm>
            <a:off x="5075280" y="2852640"/>
            <a:ext cx="144144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глатми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6948360" y="2852640"/>
            <a:ext cx="1584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лгорит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26"/>
          <p:cNvSpPr/>
          <p:nvPr/>
        </p:nvSpPr>
        <p:spPr>
          <a:xfrm>
            <a:off x="5075280" y="3500280"/>
            <a:ext cx="1584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аофпаар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27"/>
          <p:cNvSpPr/>
          <p:nvPr/>
        </p:nvSpPr>
        <p:spPr>
          <a:xfrm>
            <a:off x="6948360" y="3500280"/>
            <a:ext cx="1584360" cy="4320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оаппар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28"/>
          <p:cNvSpPr/>
          <p:nvPr/>
        </p:nvSpPr>
        <p:spPr>
          <a:xfrm>
            <a:off x="5075280" y="4149720"/>
            <a:ext cx="144144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креро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29"/>
          <p:cNvSpPr/>
          <p:nvPr/>
        </p:nvSpPr>
        <p:spPr>
          <a:xfrm>
            <a:off x="6948360" y="4164120"/>
            <a:ext cx="1584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дак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30"/>
          <p:cNvSpPr/>
          <p:nvPr/>
        </p:nvSpPr>
        <p:spPr>
          <a:xfrm>
            <a:off x="5075280" y="4869000"/>
            <a:ext cx="172872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инофрами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31"/>
          <p:cNvSpPr/>
          <p:nvPr/>
        </p:nvSpPr>
        <p:spPr>
          <a:xfrm>
            <a:off x="6948360" y="4869000"/>
            <a:ext cx="1584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32"/>
          <p:cNvSpPr/>
          <p:nvPr/>
        </p:nvSpPr>
        <p:spPr>
          <a:xfrm>
            <a:off x="5075280" y="5589720"/>
            <a:ext cx="1584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еидоркоа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33"/>
          <p:cNvSpPr/>
          <p:nvPr/>
        </p:nvSpPr>
        <p:spPr>
          <a:xfrm>
            <a:off x="6948360" y="5589720"/>
            <a:ext cx="158436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ди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6840" y="1413000"/>
            <a:ext cx="6202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58920" indent="-3589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ка о законах, методах и способах накопления, обработки и передачи информации.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58920" indent="-3589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ованная последовательность действий.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58920" indent="-3589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ройство ввода информации.         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58920" indent="-3589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лько байт в одном килобайте.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58920" indent="-3589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ройство ввода в ЭВМ информации непосредственно с листа.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58920" indent="-3589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мальная единица измерения кол-ва информации.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358920" indent="-3589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альный индикатор, указывающий позицию на экране 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969840" y="262080"/>
            <a:ext cx="7094520" cy="14382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4"/>
          <p:cNvSpPr/>
          <p:nvPr/>
        </p:nvSpPr>
        <p:spPr>
          <a:xfrm>
            <a:off x="6588000" y="1989000"/>
            <a:ext cx="2160720" cy="287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т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588000" y="2924280"/>
            <a:ext cx="2160720" cy="2872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горит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6588000" y="3429000"/>
            <a:ext cx="2160720" cy="2872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виатура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6588000" y="3789360"/>
            <a:ext cx="2160720" cy="2872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6659640" y="4292640"/>
            <a:ext cx="2160360" cy="2872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не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6659640" y="4869000"/>
            <a:ext cx="2160360" cy="2872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т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6659640" y="5516640"/>
            <a:ext cx="2160360" cy="2872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рсор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971640" y="1557360"/>
          <a:ext cx="7151760" cy="5014800"/>
        </p:xfrm>
        <a:graphic>
          <a:graphicData uri="http://schemas.openxmlformats.org/drawingml/2006/table">
            <a:tbl>
              <a:tblPr/>
              <a:tblGrid>
                <a:gridCol w="1430280"/>
                <a:gridCol w="1430280"/>
                <a:gridCol w="1430280"/>
                <a:gridCol w="1430280"/>
                <a:gridCol w="1430640"/>
              </a:tblGrid>
              <a:tr h="98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WordArt 43"/>
          <p:cNvSpPr txBox="1"/>
          <p:nvPr/>
        </p:nvSpPr>
        <p:spPr>
          <a:xfrm>
            <a:off x="1000080" y="314280"/>
            <a:ext cx="712800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частливый случай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Text Box 44">
            <a:hlinkClick r:id="rId1" action="ppaction://hlinksldjump"/>
          </p:cNvPr>
          <p:cNvSpPr/>
          <p:nvPr/>
        </p:nvSpPr>
        <p:spPr>
          <a:xfrm>
            <a:off x="1187280" y="1700280"/>
            <a:ext cx="93528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2" action="ppaction://hlinksldjump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5508720" y="566100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3" action="ppaction://hlinksldjump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4067280" y="371628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4" action="ppaction://hlinksldjump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47"/>
          <p:cNvSpPr/>
          <p:nvPr/>
        </p:nvSpPr>
        <p:spPr>
          <a:xfrm>
            <a:off x="5508720" y="170028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5" action="ppaction://hlinksldjump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8"/>
          <p:cNvSpPr/>
          <p:nvPr/>
        </p:nvSpPr>
        <p:spPr>
          <a:xfrm>
            <a:off x="1187280" y="3573360"/>
            <a:ext cx="93528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6" action="ppaction://hlinksldjump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49"/>
          <p:cNvSpPr/>
          <p:nvPr/>
        </p:nvSpPr>
        <p:spPr>
          <a:xfrm>
            <a:off x="2627280" y="465300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7" action="ppaction://hlinksldjump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50"/>
          <p:cNvSpPr/>
          <p:nvPr/>
        </p:nvSpPr>
        <p:spPr>
          <a:xfrm>
            <a:off x="4140360" y="170028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8" action="ppaction://hlinksldjump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1"/>
          <p:cNvSpPr/>
          <p:nvPr/>
        </p:nvSpPr>
        <p:spPr>
          <a:xfrm>
            <a:off x="5435640" y="364500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9" action="ppaction://hlinksldjump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2"/>
          <p:cNvSpPr/>
          <p:nvPr/>
        </p:nvSpPr>
        <p:spPr>
          <a:xfrm>
            <a:off x="1187280" y="5734080"/>
            <a:ext cx="93528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10" action="ppaction://hlinksldjump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53"/>
          <p:cNvSpPr/>
          <p:nvPr/>
        </p:nvSpPr>
        <p:spPr>
          <a:xfrm>
            <a:off x="6877080" y="170028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11" action="ppaction://hlinksldjump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4"/>
          <p:cNvSpPr/>
          <p:nvPr/>
        </p:nvSpPr>
        <p:spPr>
          <a:xfrm>
            <a:off x="2627280" y="364500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12" action="ppaction://hlinksldjump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5"/>
          <p:cNvSpPr/>
          <p:nvPr/>
        </p:nvSpPr>
        <p:spPr>
          <a:xfrm>
            <a:off x="2627280" y="170028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13" action="ppaction://hlinksldjump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6"/>
          <p:cNvSpPr/>
          <p:nvPr/>
        </p:nvSpPr>
        <p:spPr>
          <a:xfrm>
            <a:off x="4067280" y="573408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14" action="ppaction://hlinksldjump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57"/>
          <p:cNvSpPr/>
          <p:nvPr/>
        </p:nvSpPr>
        <p:spPr>
          <a:xfrm>
            <a:off x="1187280" y="2637000"/>
            <a:ext cx="93528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15" action="ppaction://hlinksldjump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8"/>
          <p:cNvSpPr/>
          <p:nvPr/>
        </p:nvSpPr>
        <p:spPr>
          <a:xfrm>
            <a:off x="6948360" y="3645000"/>
            <a:ext cx="93528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16" action="ppaction://hlinksldjump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59"/>
          <p:cNvSpPr/>
          <p:nvPr/>
        </p:nvSpPr>
        <p:spPr>
          <a:xfrm>
            <a:off x="4067280" y="465300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8e58b6"/>
                </a:solidFill>
                <a:uFillTx/>
                <a:latin typeface="Arial"/>
                <a:hlinkClick r:id="rId17" action="ppaction://hlinksldjump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60"/>
          <p:cNvSpPr/>
          <p:nvPr/>
        </p:nvSpPr>
        <p:spPr>
          <a:xfrm>
            <a:off x="5508720" y="263700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61"/>
          <p:cNvSpPr/>
          <p:nvPr/>
        </p:nvSpPr>
        <p:spPr>
          <a:xfrm>
            <a:off x="2627280" y="263700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62"/>
          <p:cNvSpPr/>
          <p:nvPr/>
        </p:nvSpPr>
        <p:spPr>
          <a:xfrm>
            <a:off x="6948360" y="4653000"/>
            <a:ext cx="93528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64"/>
          <p:cNvSpPr/>
          <p:nvPr/>
        </p:nvSpPr>
        <p:spPr>
          <a:xfrm>
            <a:off x="1187280" y="4653000"/>
            <a:ext cx="93528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65"/>
          <p:cNvSpPr/>
          <p:nvPr/>
        </p:nvSpPr>
        <p:spPr>
          <a:xfrm>
            <a:off x="2627280" y="573408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Arial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66"/>
          <p:cNvSpPr/>
          <p:nvPr/>
        </p:nvSpPr>
        <p:spPr>
          <a:xfrm>
            <a:off x="4067280" y="263700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Arial"/>
              </a:rPr>
              <a:t>2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67"/>
          <p:cNvSpPr/>
          <p:nvPr/>
        </p:nvSpPr>
        <p:spPr>
          <a:xfrm>
            <a:off x="6877080" y="263700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Arial"/>
              </a:rPr>
              <a:t>2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68"/>
          <p:cNvSpPr/>
          <p:nvPr/>
        </p:nvSpPr>
        <p:spPr>
          <a:xfrm>
            <a:off x="6948360" y="5661000"/>
            <a:ext cx="93528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Arial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69"/>
          <p:cNvSpPr/>
          <p:nvPr/>
        </p:nvSpPr>
        <p:spPr>
          <a:xfrm>
            <a:off x="5508720" y="4653000"/>
            <a:ext cx="934920" cy="703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70"/>
          <p:cNvSpPr/>
          <p:nvPr/>
        </p:nvSpPr>
        <p:spPr>
          <a:xfrm>
            <a:off x="1655640" y="907920"/>
            <a:ext cx="5546880" cy="648000"/>
          </a:xfrm>
          <a:custGeom>
            <a:avLst/>
            <a:gdLst>
              <a:gd name="textAreaLeft" fmla="*/ 41760 w 5546880"/>
              <a:gd name="textAreaRight" fmla="*/ 5505120 w 55468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184805" h="21600">
                <a:moveTo>
                  <a:pt x="0" y="0"/>
                </a:moveTo>
                <a:lnTo>
                  <a:pt x="184805" y="0"/>
                </a:lnTo>
                <a:lnTo>
                  <a:pt x="184805" y="21600"/>
                </a:lnTo>
                <a:lnTo>
                  <a:pt x="0" y="21600"/>
                </a:lnTo>
                <a:close/>
              </a:path>
              <a:path fill="lightenLess" w="184805" h="21600">
                <a:moveTo>
                  <a:pt x="0" y="0"/>
                </a:moveTo>
                <a:lnTo>
                  <a:pt x="184805" y="0"/>
                </a:lnTo>
                <a:lnTo>
                  <a:pt x="183405" y="1400"/>
                </a:lnTo>
                <a:lnTo>
                  <a:pt x="1400" y="1400"/>
                </a:lnTo>
                <a:close/>
              </a:path>
              <a:path fill="darken" w="184805" h="21600">
                <a:moveTo>
                  <a:pt x="184805" y="0"/>
                </a:moveTo>
                <a:lnTo>
                  <a:pt x="184805" y="21600"/>
                </a:lnTo>
                <a:lnTo>
                  <a:pt x="183405" y="20200"/>
                </a:lnTo>
                <a:lnTo>
                  <a:pt x="183405" y="1400"/>
                </a:lnTo>
                <a:close/>
              </a:path>
              <a:path fill="darkenLess" w="184805" h="21600">
                <a:moveTo>
                  <a:pt x="184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3405" y="20200"/>
                </a:lnTo>
                <a:close/>
              </a:path>
              <a:path fill="lighten" w="184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оверка усвоения изученного матери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5-конечная звезда 1"/>
          <p:cNvSpPr/>
          <p:nvPr/>
        </p:nvSpPr>
        <p:spPr>
          <a:xfrm>
            <a:off x="8128080" y="6089760"/>
            <a:ext cx="836640" cy="652320"/>
          </a:xfrm>
          <a:custGeom>
            <a:avLst/>
            <a:gdLst/>
            <a:ahLst/>
            <a:rect l="l" t="t" r="r" b="b"/>
            <a:pathLst>
              <a:path w="836613" h="652463">
                <a:moveTo>
                  <a:pt x="1" y="249218"/>
                </a:moveTo>
                <a:lnTo>
                  <a:pt x="319559" y="249220"/>
                </a:lnTo>
                <a:lnTo>
                  <a:pt x="418307" y="0"/>
                </a:lnTo>
                <a:lnTo>
                  <a:pt x="517054" y="249220"/>
                </a:lnTo>
                <a:lnTo>
                  <a:pt x="836612" y="249218"/>
                </a:lnTo>
                <a:lnTo>
                  <a:pt x="578083" y="403243"/>
                </a:lnTo>
                <a:lnTo>
                  <a:pt x="676834" y="652461"/>
                </a:lnTo>
                <a:lnTo>
                  <a:pt x="418307" y="498434"/>
                </a:lnTo>
                <a:lnTo>
                  <a:pt x="159779" y="652461"/>
                </a:lnTo>
                <a:lnTo>
                  <a:pt x="258530" y="403243"/>
                </a:lnTo>
                <a:lnTo>
                  <a:pt x="1" y="249218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7884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780000" y="40464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3 балл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24000" y="32846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ие виды систем счисления вы знает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4">
            <a:hlinkClick r:id="" action="ppaction://hlinkshowjump?jump=previousslide"/>
            <a:hlinkClick r:id="rId1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47"/>
          <p:cNvPicPr/>
          <p:nvPr/>
        </p:nvPicPr>
        <p:blipFill>
          <a:blip r:embed="rId2"/>
          <a:stretch/>
        </p:blipFill>
        <p:spPr>
          <a:xfrm>
            <a:off x="468360" y="333360"/>
            <a:ext cx="2448000" cy="2141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4859280" y="1628640"/>
            <a:ext cx="3816360" cy="100836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зиционные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позиционные 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j0286034"/>
          <p:cNvPicPr/>
          <p:nvPr/>
        </p:nvPicPr>
        <p:blipFill>
          <a:blip r:embed="rId1"/>
          <a:stretch/>
        </p:blipFill>
        <p:spPr>
          <a:xfrm>
            <a:off x="2843280" y="1484280"/>
            <a:ext cx="3168720" cy="30337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1692360" y="4581360"/>
            <a:ext cx="53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Переход ход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050920" y="333360"/>
            <a:ext cx="53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ВИРУС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5">
            <a:hlinkClick r:id="" action="ppaction://hlinkshowjump?jump=previousslide"/>
            <a:hlinkClick r:id="rId2"/>
          </p:cNvPr>
          <p:cNvSpPr/>
          <p:nvPr/>
        </p:nvSpPr>
        <p:spPr>
          <a:xfrm>
            <a:off x="4067280" y="602136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5" h="21600">
                <a:moveTo>
                  <a:pt x="18942" y="3837"/>
                </a:moveTo>
                <a:lnTo>
                  <a:pt x="21519" y="6448"/>
                </a:ln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lnTo>
                  <a:pt x="25905" y="10800"/>
                </a:lnTo>
                <a:lnTo>
                  <a:pt x="24252" y="10800"/>
                </a:lnTo>
                <a:lnTo>
                  <a:pt x="24252" y="17989"/>
                </a:lnTo>
                <a:lnTo>
                  <a:pt x="13633" y="17989"/>
                </a:lnTo>
                <a:lnTo>
                  <a:pt x="13633" y="10800"/>
                </a:lnTo>
                <a:lnTo>
                  <a:pt x="11979" y="10800"/>
                </a:lnTo>
                <a:close/>
              </a:path>
              <a:path fill="darkenLess" w="37885" h="21600">
                <a:moveTo>
                  <a:pt x="21519" y="6448"/>
                </a:moveTo>
                <a:lnTo>
                  <a:pt x="21519" y="4707"/>
                </a:lnTo>
                <a:lnTo>
                  <a:pt x="23294" y="4707"/>
                </a:lnTo>
                <a:lnTo>
                  <a:pt x="23294" y="8224"/>
                </a:lnTo>
                <a:close/>
              </a:path>
              <a:path fill="darkenLess" w="37885" h="21600">
                <a:moveTo>
                  <a:pt x="18020" y="14299"/>
                </a:moveTo>
                <a:lnTo>
                  <a:pt x="19865" y="14299"/>
                </a:lnTo>
                <a:lnTo>
                  <a:pt x="19865" y="17989"/>
                </a:lnTo>
                <a:lnTo>
                  <a:pt x="24252" y="17989"/>
                </a:lnTo>
                <a:lnTo>
                  <a:pt x="24252" y="10800"/>
                </a:lnTo>
                <a:lnTo>
                  <a:pt x="13633" y="10800"/>
                </a:lnTo>
                <a:lnTo>
                  <a:pt x="13633" y="17989"/>
                </a:lnTo>
                <a:lnTo>
                  <a:pt x="18020" y="17989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08:45:38Z</dcterms:created>
  <dc:creator>Глуса</dc:creator>
  <dc:description/>
  <dc:language>en-US</dc:language>
  <cp:lastModifiedBy>User</cp:lastModifiedBy>
  <dcterms:modified xsi:type="dcterms:W3CDTF">2019-01-29T03:42:50Z</dcterms:modified>
  <cp:revision>176</cp:revision>
  <dc:subject/>
  <dc:title>Слайд 1</dc:title>
</cp:coreProperties>
</file>