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B56-A397-4C8F-A592-DCC17717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465-1081-4590-883F-BA09621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0A9-C55B-448F-8EC7-6BC7C556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0AA-68E3-471C-B78F-6ADE4774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E2C8-3A95-4E3E-AA64-F1A40224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A9AD-AD13-498E-A622-90B6D9D8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1C23-FB7D-45FA-B45E-DFD46DFF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0A08-744C-4798-80EA-545F8CA2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1B31-03A5-4E57-8390-BCD3C53C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21AF-971F-49B9-B3E3-BC71E736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A453-EF9E-46ED-A4C6-E7EDD90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247-A0A2-4315-BBB1-507BDAFD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E556-CDA7-4B20-8E9A-3FA7A5EB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069-1425-4B78-B1AD-BA84D83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BE2B-A427-4DEA-AAB0-C5F6B1BC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0BCF-CC4E-4AF7-BAFF-5EADFA12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0A8A-4F89-43B8-9A2F-114EC1FE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50D-96FF-4C23-8FC5-2ED746B8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11A-79B8-4A5F-B399-B75D43A0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07A-3630-4840-986E-0F678A1B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999-493E-4365-BA48-E46C6B25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A03-0BF0-40E1-9AE2-BED235F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3E0-B36C-40C4-9C3B-DEFF8A36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196-6FD9-41BA-AE3D-3EFDC474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D49A-2240-44FD-B698-38B30E88387A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52C6-6A9B-46B0-812E-3CC5FA626758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40000" y="1412640"/>
            <a:ext cx="759600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99"/>
                </a:solidFill>
                <a:latin typeface="Arial"/>
              </a:rPr>
              <a:t>«Единственная известная мне роскошь – это роскошь человеческого общения»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99"/>
                </a:solidFill>
                <a:latin typeface="Arial"/>
              </a:rPr>
              <a:t>Антуан де Сент -Экзюпери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56000" y="2133360"/>
            <a:ext cx="66960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Игра-кричалка 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«Наши дети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2151000" cy="367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1760" y="2924280"/>
            <a:ext cx="1992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Поздравляем!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983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56898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Законы родительской истины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84582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. Дорожите любовью своего ребёнка. Помните: от любви до ненависти только один шаг, не делайте необдуманных шагов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2. Не унижайте своего ребёнка. Унижая его самого, вы формируете у него умение и навык унижения, которые он сможет использовать по отношению к другим людям. Не исключено, что и к ва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3. Не угрожайте своему ребёнку. Угрозы взрослого порождают ложь ребёнка, приводят к боязни и ненавист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4. Не налагайте запретов. В природе ребёнка лежит дух бунтарства. То, что запрещено, очень хочется попробовать –  не забывайте об это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4778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813744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5. Не опекайте своего ребёнка там, где можно обойтись без опеки; дайте возможность маленькому человеку самостоятельно стать больши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6. Не идите на поводу у своего ребёнка, умейте соблюдать меру своей любви и меру своей родительской ответственност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7. Развивайте в себе чувство юмора. Учитесь смеяться над своими слабостями, разрешайте своему ребёнку смеяться вместе с в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8. Учите своего ребёнка смеяться над собой! Это лучше, чем если над ним будут смеяться други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9. Не читайте своему ребёнку бесконечные нотации, он их просто не слышит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0. Будьте всегда последовательны в своих требованиях. Хорошо ориентируйтесь в своих «да» и «нет»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6720" y="549360"/>
            <a:ext cx="838692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1. Не лишайте своего ребёнка права быть ребёнком. Дайте ему возможность побыть озорником и непоседой, бунтарём и шалуном.  Период детства весьма скоротечен, а так много нужно успеть попробовать, прежде чем станешь взрослым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Дайте возможность своему малышу побыть ребенком в детстве, иначе период детства будет продолжаться и в его взрослой жизни. Это может обернуться серьёзными последствиями и для вашего ребёнка, и для вас, родители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12. Помните, что самое большое родительское счастье – видеть состоявшихся, умных и благополучных детей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4653000"/>
            <a:ext cx="12078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0160" y="836280"/>
            <a:ext cx="777240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пасибо за внимание, сотрудничество, продуктивный диалог, ваше творчество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До новых встреч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994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Анкета для детей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1. Как часто вы что-то делаете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ежедневно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по выходны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несколько раз в неделю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г) раз в месяц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д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2. Что именно вы чаще всего делаете вмес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игр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мастерим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учим уро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г) гуля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д) хозяйничаем по дому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е) посещаем кинотеатры, театры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ж) чит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3. Сколько времени уходит на совместную деятельнос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30 мин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1-2 час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4. Что бы вы хотели делать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62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Анкета для родителей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«Достаточно ли внимания Вы уделяете своему ребенку?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208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Жизненные установки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озитивные и негативны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223200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3345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766764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. Не будешь слушаться – заболеешь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Ты всегда будешь здоров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. Думай только о себе, не жалей никого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Сколько отдашь – столько и получишь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3. Ты всегда, как твой папа (твоя мама)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ая мама умница! Какой у нас папа молодец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. Уж лучше бы тебя вообще не было на свете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ое счастье, что ты у нас есть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5. Вот и будешь по жизни мыкаться, как твой папа (мама) –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ждый сам выбирает свой путь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6. Сколько сил мы тебе дали, а ты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Мы любим, понимаем, надеемся на тебя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7. Не твоего ума дело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Твое мнение всем интересно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8. Бог тебя накажет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Бог любит тебя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9. Если ты будешь так поступать, с тобой никто дружить не будет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 ты относишься к людям, так и они относятся к теб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Семейный досуг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66978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Игры для всей семь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198756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674720" cy="2303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067280" y="1484280"/>
            <a:ext cx="2603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Конкурс капитанов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Друзья зовут вашего ребенка гулять, а у него не сделаны уроки. Как вы поступите в этой ситуаци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2. Из-за медлительности ребенок часто опаздывает в школу. Как бы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3. Спасая котенка, который не мог слезть с дерева, ребенок порвал куртку. Ваши действия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4. Убедите ребенка в полезности молока и манной каши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5. Ребенок звонит вам на работу, а у вас важное совещание. Что вы ему скаже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6. Найдите убедительные доводы в пользу самостоятельного чтени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7. Уже поздно, ребенку пора домой. Позовите его так, чтобы он не смог отказатьс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8. Ребенок смотрит по телевизору передачу, а на другом канале показывают очень важную для вас информацию. Что дела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Твои эмоци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6913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7:25Z</dcterms:created>
  <dc:creator>Стас</dc:creator>
  <dc:description/>
  <dc:language>en-US</dc:language>
  <cp:lastModifiedBy>.</cp:lastModifiedBy>
  <dcterms:modified xsi:type="dcterms:W3CDTF">2012-04-06T09:46:29Z</dcterms:modified>
  <cp:revision>9</cp:revision>
  <dc:subject/>
  <dc:title>Роскошь</dc:title>
</cp:coreProperties>
</file>