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624E-753C-4E81-9C2E-2684C6B52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DC74-3708-4EAD-ACB5-7C47990C2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9B7B-9B46-4AB6-843A-3EFAF8F8D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7994-BD64-4B11-8086-DE9591E07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88031-0B94-4DE0-9C8A-7BEC7D3E9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307E7-5101-49A8-A8A0-3E4C8E4D9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E504D-320A-475B-ACFF-C877004ED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4CAF0-C695-4D61-8D7E-E91B7F7A6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C6B1B-932E-4661-8B05-4F6D59398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5B145-116D-48C5-B257-28FB734AA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AB75B-4126-462E-8F38-796B130B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C81C-AC4D-4A24-BC56-7397BA466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65AAB-4DBC-471E-A708-05B8CB4B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B3175-B5F5-4006-ADFF-05E84850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3F914-4A7B-466A-B510-3D99C1612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3F0F9-B923-4695-8485-8FC5244B2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58AC9-518B-4671-8463-A89309262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BD34-2CD6-4901-AFC5-9E58D95D8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47B4-BB4F-4077-AB56-272A9CEA1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10DA-721E-49DF-902C-81E861528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02F3-45B0-488B-B1D9-E5FFE1C36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8591-E290-4DA4-9010-75023CE3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5997-C290-496B-BAEF-2931CA82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7C96-357B-4179-8115-9A3D5453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1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67E9B-AA52-4455-A9D5-8A58BB71C74B}" type="slidenum"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47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153A5-EF9C-4682-AD58-567CEE9779DA}" type="slidenum"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440000" y="1412640"/>
            <a:ext cx="7596000" cy="414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6699"/>
                </a:solidFill>
                <a:latin typeface="Arial"/>
              </a:rPr>
              <a:t>«Единственная известная мне роскошь – это роскошь человеческого общения».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6699"/>
                </a:solidFill>
                <a:latin typeface="Arial"/>
              </a:rPr>
              <a:t>Антуан де Сент -Экзюпери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56000" y="2133360"/>
            <a:ext cx="6696000" cy="93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ff"/>
                </a:solidFill>
                <a:latin typeface="Times New Roman"/>
              </a:rPr>
              <a:t>Игра-кричалка </a:t>
            </a:r>
            <a:br>
              <a:rPr sz="4000"/>
            </a:br>
            <a:r>
              <a:rPr b="1" i="1" lang="ru-RU" sz="4000" spc="-1" strike="noStrike">
                <a:solidFill>
                  <a:srgbClr val="0066ff"/>
                </a:solidFill>
                <a:latin typeface="Times New Roman"/>
              </a:rPr>
              <a:t>«Наши дети»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763640" y="333360"/>
            <a:ext cx="2151000" cy="3673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151760" y="2924280"/>
            <a:ext cx="19922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Times New Roman"/>
              </a:rPr>
              <a:t>Поздравляем!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692360" y="1341360"/>
            <a:ext cx="698328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02920" y="1052280"/>
            <a:ext cx="5689800" cy="102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ff"/>
                </a:solidFill>
                <a:latin typeface="Times New Roman"/>
              </a:rPr>
              <a:t>Законы родительской истины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2205000"/>
            <a:ext cx="845820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1. Дорожите любовью своего ребёнка. Помните: от любви до ненависти только один шаг, не делайте необдуманных шагов!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2. Не унижайте своего ребёнка. Унижая его самого, вы формируете у него умение и навык унижения, которые он сможет использовать по отношению к другим людям. Не исключено, что и к вам.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3. Не угрожайте своему ребёнку. Угрозы взрослого порождают ложь ребёнка, приводят к боязни и ненависти.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4. Не налагайте запретов. В природе ребёнка лежит дух бунтарства. То, что запрещено, очень хочется попробовать –  не забывайте об этом.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47780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755640" y="260280"/>
            <a:ext cx="8137440" cy="603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597240" indent="-59724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5. Не опекайте своего ребёнка там, где можно обойтись без опеки; дайте возможность маленькому человеку самостоятельно стать большим.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59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597240" indent="-59724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6. Не идите на поводу у своего ребёнка, умейте соблюдать меру своей любви и меру своей родительской ответственности.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59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597240" indent="-59724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7. Развивайте в себе чувство юмора. Учитесь смеяться над своими слабостями, разрешайте своему ребёнку смеяться вместе с вами.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59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597240" indent="-59724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8. Учите своего ребёнка смеяться над собой! Это лучше, чем если над ним будут смеяться другие.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59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597240" indent="-59724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9. Не читайте своему ребёнку бесконечные нотации, он их просто не слышит.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59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597240" indent="-59724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10. Будьте всегда последовательны в своих требованиях. Хорошо ориентируйтесь в своих «да» и «нет».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756720" y="549360"/>
            <a:ext cx="8386920" cy="741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11. Не лишайте своего ребёнка права быть ребёнком. Дайте ему возможность побыть озорником и непоседой, бунтарём и шалуном.  Период детства весьма скоротечен, а так много нужно успеть попробовать, прежде чем станешь взрослым.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          </a:t>
            </a: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Дайте возможность своему малышу побыть ребенком в детстве, иначе период детства будет продолжаться и в его взрослой жизни. Это может обернуться серьёзными последствиями и для вашего ребёнка, и для вас, родители!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12. Помните, что самое большое родительское счастье – видеть состоявшихся, умных и благополучных детей!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835280" y="4653000"/>
            <a:ext cx="1207800" cy="19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370160" y="836280"/>
            <a:ext cx="7772400" cy="495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Спасибо за внимание, сотрудничество, продуктивный диалог, ваше творчество!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До новых встреч!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88000" y="3284640"/>
            <a:ext cx="199404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1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1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1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1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1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03280" y="0"/>
            <a:ext cx="774072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Анкета для детей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0160" y="105228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1. Как часто вы что-то делаете вместе с родителями?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а) ежедневно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б) по выходным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в) несколько раз в неделю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г) раз в месяц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д) другое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2. Что именно вы чаще всего делаете вместе?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а) играем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б) мастерим 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в) учим уроки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г) гуляем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д) хозяйничаем по дому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е) посещаем кинотеатры, театры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ж) читаем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3. Сколько времени уходит на совместную деятельность?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а) 30 мин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б) 1-2 часа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в) другое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4. Что бы вы хотели делать вместе с родителями?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76000" y="0"/>
            <a:ext cx="7666200" cy="58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0066ff"/>
                </a:solidFill>
                <a:latin typeface="Times New Roman"/>
              </a:rPr>
              <a:t>Анкета для родителей</a:t>
            </a: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«Достаточно ли внимания Вы уделяете своему ребенку?»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835280" y="333360"/>
            <a:ext cx="208728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imes New Roman"/>
              </a:rPr>
              <a:t>Жизненные установки</a:t>
            </a: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Позитивные и негативные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124000" y="4221000"/>
            <a:ext cx="2232000" cy="1905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003640" y="2421000"/>
            <a:ext cx="334512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476000" y="260280"/>
            <a:ext cx="7667640" cy="472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41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1. Не будешь слушаться – заболеешь! –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41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Ты всегда будешь здоров!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41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2. Думай только о себе, не жалей никого –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41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Сколько отдашь – столько и получишь.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41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3. Ты всегда, как твой папа (твоя мама) –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41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Какая мама умница! Какой у нас папа молодец!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41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4. Уж лучше бы тебя вообще не было на свете! –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41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Какое счастье, что ты у нас есть!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41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5. Вот и будешь по жизни мыкаться, как твой папа (мама) –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41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Каждый сам выбирает свой путь.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41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6. Сколько сил мы тебе дали, а ты… –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41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Мы любим, понимаем, надеемся на тебя.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41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7. Не твоего ума дело… –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41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Твое мнение всем интересно.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41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8. Бог тебя накажет –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41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Бог любит тебя!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41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9. Если ты будешь так поступать, с тобой никто дружить не будет!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41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Как ты относишься к людям, так и они относятся к тебе.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7.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95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95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95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7.5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95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95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95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7.5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95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95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95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7.5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95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95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95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7.5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95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95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95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7.5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95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95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95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7.5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95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95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95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7.5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95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95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95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7.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95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95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95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7.5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95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95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95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7.5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95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95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95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7.5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95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95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95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7.5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95"/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95"/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95"/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7.5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95"/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95"/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95"/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7.5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95"/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95"/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95"/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7.5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95"/>
                                        <p:tgtEl>
                                          <p:spTgt spid="1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95"/>
                                        <p:tgtEl>
                                          <p:spTgt spid="1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95"/>
                                        <p:tgtEl>
                                          <p:spTgt spid="1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7.5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95"/>
                                        <p:tgtEl>
                                          <p:spTgt spid="1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95"/>
                                        <p:tgtEl>
                                          <p:spTgt spid="1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95"/>
                                        <p:tgtEl>
                                          <p:spTgt spid="1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7.5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95"/>
                                        <p:tgtEl>
                                          <p:spTgt spid="10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95"/>
                                        <p:tgtEl>
                                          <p:spTgt spid="10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95"/>
                                        <p:tgtEl>
                                          <p:spTgt spid="10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imes New Roman"/>
              </a:rPr>
              <a:t>Семейный досуг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979640" y="1341360"/>
            <a:ext cx="6697800" cy="50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imes New Roman"/>
              </a:rPr>
              <a:t>Игры для всей семьи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763640" y="3860640"/>
            <a:ext cx="1987560" cy="2376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164360" y="4221000"/>
            <a:ext cx="1674720" cy="2303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067280" y="1484280"/>
            <a:ext cx="26035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imes New Roman"/>
              </a:rPr>
              <a:t>Конкурс капитанов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1341360"/>
            <a:ext cx="7772400" cy="513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1. </a:t>
            </a:r>
            <a:r>
              <a:rPr b="1" i="1" lang="en-US" sz="1600" spc="-1" strike="noStrike">
                <a:solidFill>
                  <a:srgbClr val="336699"/>
                </a:solidFill>
                <a:latin typeface="Arial"/>
              </a:rPr>
              <a:t>Друзья зовут вашего ребенка гулять, а у него не сделаны уроки. Как вы поступите в этой ситуации?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99"/>
                </a:solidFill>
                <a:latin typeface="Arial"/>
              </a:rPr>
              <a:t>2. Из-за медлительности ребенок часто опаздывает в школу. Как быть?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99"/>
                </a:solidFill>
                <a:latin typeface="Arial"/>
              </a:rPr>
              <a:t>3. Спасая котенка, который не мог слезть с дерева, ребенок порвал куртку. Ваши действия?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99"/>
                </a:solidFill>
                <a:latin typeface="Arial"/>
              </a:rPr>
              <a:t>4. Убедите ребенка в полезности молока и манной каши.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99"/>
                </a:solidFill>
                <a:latin typeface="Arial"/>
              </a:rPr>
              <a:t>5. Ребенок звонит вам на работу, а у вас важное совещание. Что вы ему скажете?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99"/>
                </a:solidFill>
                <a:latin typeface="Arial"/>
              </a:rPr>
              <a:t>6. Найдите убедительные доводы в пользу самостоятельного чтения.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99"/>
                </a:solidFill>
                <a:latin typeface="Arial"/>
              </a:rPr>
              <a:t>7. Уже поздно, ребенку пора домой. Позовите его так, чтобы он не смог отказаться.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99"/>
                </a:solidFill>
                <a:latin typeface="Arial"/>
              </a:rPr>
              <a:t>8. Ребенок смотрит по телевизору передачу, а на другом канале показывают очень важную для вас информацию. Что делать?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5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0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5" dur="2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0" dur="2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5" dur="20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0" dur="2000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5" dur="2000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0" dur="2000"/>
                                        <p:tgtEl>
                                          <p:spTgt spid="1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imes New Roman"/>
              </a:rPr>
              <a:t>Твои эмоции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835280" y="1341360"/>
            <a:ext cx="691344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7T14:17:25Z</dcterms:created>
  <dc:creator>Стас</dc:creator>
  <dc:description/>
  <dc:language>en-US</dc:language>
  <cp:lastModifiedBy>.</cp:lastModifiedBy>
  <dcterms:modified xsi:type="dcterms:W3CDTF">2012-04-06T09:46:29Z</dcterms:modified>
  <cp:revision>9</cp:revision>
  <dc:subject/>
  <dc:title>Роскошь</dc:title>
</cp:coreProperties>
</file>