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6B3-81CD-416E-BBD6-5056F718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7A3-54A9-4ED7-BB8E-86D8B04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FEB-43D2-4BA9-8F0C-4623544B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538-2140-49C4-8D37-1458E004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A35-48B4-47AB-9DC2-D46D6D33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6419-D3C4-4667-B41F-7E2B0D0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C5BF-9D09-43B0-84A0-E749CCEA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73F-BF44-42D0-A616-CC67CD40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4B9B-1421-4D3B-BD0B-D571CF5C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4640-CEEE-4D81-9044-97E4D0F4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AB8-B472-4F6F-8B55-AC2D90F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A33-3289-4ED5-BE21-791A2246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925-EB35-4EA7-B6BF-1FF9546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06C2-B417-4A48-B8FC-7F94343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9B43-4FE0-47F8-A5D5-81B6E03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9793-1447-4D10-A1F3-032FA8FD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3EB-90A5-4C49-B0B8-6DC33797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147-C7E8-4C9C-986E-4F4427F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6D4-ED64-42FA-9891-6F5670F0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ABF-4629-42F3-A87E-AFAB740A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D46-F771-45BD-8E8E-B1B55F7C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2A5-0097-4FB1-8069-92BD8DAE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2B1-5FE6-4C3F-9395-5A47A89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07F-63B9-4BB4-84E7-926457F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977-1CD9-43C5-ABD6-C235200AA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A363-FF96-44B1-89B0-C03626554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тневская средняя шко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Творческий проект по технолог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3300"/>
                </a:solidFill>
                <a:latin typeface="Arial"/>
              </a:rPr>
              <a:t>«Цветочная коровка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полнила: Цистов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еница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уководитель: Г.А.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3737-56а (496x626, 99Kb)"/>
          <p:cNvPicPr/>
          <p:nvPr/>
        </p:nvPicPr>
        <p:blipFill>
          <a:blip r:embed="rId1"/>
          <a:stretch/>
        </p:blipFill>
        <p:spPr>
          <a:xfrm>
            <a:off x="539640" y="1844640"/>
            <a:ext cx="3600720" cy="432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3737-58а (496x620, 93Kb)"/>
          <p:cNvPicPr/>
          <p:nvPr/>
        </p:nvPicPr>
        <p:blipFill>
          <a:blip r:embed="rId2"/>
          <a:stretch/>
        </p:blipFill>
        <p:spPr>
          <a:xfrm>
            <a:off x="4500720" y="1773360"/>
            <a:ext cx="37432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3737-59а (495x608, 75Kb)"/>
          <p:cNvPicPr/>
          <p:nvPr/>
        </p:nvPicPr>
        <p:blipFill>
          <a:blip r:embed="rId1"/>
          <a:stretch/>
        </p:blipFill>
        <p:spPr>
          <a:xfrm>
            <a:off x="684360" y="1844640"/>
            <a:ext cx="3671640" cy="432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737-60а (502x619, 94Kb)"/>
          <p:cNvPicPr/>
          <p:nvPr/>
        </p:nvPicPr>
        <p:blipFill>
          <a:blip r:embed="rId2"/>
          <a:stretch/>
        </p:blipFill>
        <p:spPr>
          <a:xfrm>
            <a:off x="4716360" y="1773360"/>
            <a:ext cx="3443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3737-62а (502x614, 97Kb)"/>
          <p:cNvPicPr/>
          <p:nvPr/>
        </p:nvPicPr>
        <p:blipFill>
          <a:blip r:embed="rId1"/>
          <a:stretch/>
        </p:blipFill>
        <p:spPr>
          <a:xfrm>
            <a:off x="395280" y="1700280"/>
            <a:ext cx="3517920" cy="45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3737-64 (495x616, 88Kb)"/>
          <p:cNvPicPr/>
          <p:nvPr/>
        </p:nvPicPr>
        <p:blipFill>
          <a:blip r:embed="rId2"/>
          <a:stretch/>
        </p:blipFill>
        <p:spPr>
          <a:xfrm>
            <a:off x="4500720" y="1773360"/>
            <a:ext cx="372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Экономические вычис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бежевого цвета «Акрил 100%» - 130 ру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красного цвета «Детская пехорка» - 80 ру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бирюзового цвета «Детская пехорка» - 80 ру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коричневого цвета «50% Акрил; 50% Шерсть» - 115 руб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Итого: 405 рублей мне потребовалось для вяз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Реклам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В моей комнате жи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Цветочная коров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Не дает мне молока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Не жует морковк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Ее праздничный наряд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Всем на удивл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А веселая мордаш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Поднимает настро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оя цель -  связать крючк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еобычную, красивую, ярку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грушку для  укра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нтерьера своей комнат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лан моей рабо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Выбор подходящего изделия и схемы из интерне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Подбор цветовой гаммы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3. Покупка недостающих ниток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4.  Правильное прочтение схемы вяз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5. Начало вязания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6. Окончание вяз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Подбор ниток по цвету для сшивания частей игруш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Сшивание всех частей игрушки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8. Получение нужного результат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66"/>
                </a:solidFill>
                <a:latin typeface="Arial Black"/>
              </a:rPr>
              <a:t>Межпредметная связь: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1. Урок технологии - я научилась вязать по схеме;</a:t>
            </a: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2. Урок ИЗО - в моём проекте есть рисунки;</a:t>
            </a: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3. Урок русского языка - в проекте нужно писать грамотно;</a:t>
            </a: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4. Урок математики - в схеме я подсчитываю количество рядов и петель, делаю экономические вычисления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2700"/>
            </a:b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116000" y="533520"/>
            <a:ext cx="7342200" cy="8078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зайн-спецификаци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Каким я хочу видеть свое издели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Аккуратно и надежно связанны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олее сложным в исполнении, чем предыдущие игруш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Подходить по цветовой гамме интерьеру моей комна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Создавать хорошее на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Не дорогим по цен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Первоначальные иде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смотрим идею  №1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37065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ассмотрим идею №2.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124000" y="190512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Рассмотрим идею №3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979640" y="1905120"/>
            <a:ext cx="46418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хема вязания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Picture 4" descr="3737-53а (499x614, 93Kb)"/>
          <p:cNvPicPr/>
          <p:nvPr/>
        </p:nvPicPr>
        <p:blipFill>
          <a:blip r:embed="rId1"/>
          <a:stretch/>
        </p:blipFill>
        <p:spPr>
          <a:xfrm>
            <a:off x="662040" y="1844640"/>
            <a:ext cx="3646440" cy="432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3737-55а (501x623, 83Kb)"/>
          <p:cNvPicPr/>
          <p:nvPr/>
        </p:nvPicPr>
        <p:blipFill>
          <a:blip r:embed="rId2"/>
          <a:stretch/>
        </p:blipFill>
        <p:spPr>
          <a:xfrm>
            <a:off x="4338720" y="1844640"/>
            <a:ext cx="4066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18:01:00Z</dcterms:created>
  <dc:creator>1</dc:creator>
  <dc:description/>
  <dc:language>en-US</dc:language>
  <cp:lastModifiedBy>Пользователь Windows</cp:lastModifiedBy>
  <dcterms:modified xsi:type="dcterms:W3CDTF">2019-02-04T18:30:40Z</dcterms:modified>
  <cp:revision>3</cp:revision>
  <dc:subject/>
  <dc:title>Летневская средняя школа</dc:title>
</cp:coreProperties>
</file>