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2F5-26C7-48AC-93D5-4EE40098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8A1-843B-40CD-96F6-973A72D7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1B5-2B41-4862-A9DB-FC0F497B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A3D-261F-4AEE-AD60-363DB4BC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2A22-AA13-4AAA-9E1E-2105AE54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6631-5676-4EFB-8669-EBF3556F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FCD-A9CF-4098-8F18-59D099D8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DC4-8EED-4699-9AE4-840FE72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DA56-D064-4144-8EE9-39887606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5EEE-F1F4-4378-A7B8-20E90AC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07EF-089C-45E3-8540-C5FC2DD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F63-9AD8-49F9-B8B4-3DB7BF3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8F48-2B39-4E82-930F-92A89D9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455-7E52-4AE3-A7BF-FEF8D33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AB7-737C-4DF2-91D1-8CCB5A3C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B2D0-5BE4-45B6-A35D-E9ACB973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297E-070B-4997-9008-8996BF5D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CC8-82A7-440B-AF54-02C0C2B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E5B-396D-4E55-B846-BAEEF43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15D-5755-4377-BB01-2EFE799F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9A2-0B02-484E-B73D-159AAB9C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A01-C472-47BF-9362-78F1312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37E-4046-44BB-9FF5-8927A2C0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B2E-3B06-4870-9F1B-F067450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677-452B-44B3-9E37-714A711D5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C37-6C95-4F1C-93D7-6A3C382AB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тневская средняя школ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Творческий проект по технолог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3300"/>
                </a:solidFill>
                <a:latin typeface="Arial"/>
              </a:rPr>
              <a:t>«Цветочная коровк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полнила: Цистов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еница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уководитель: Г.А.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737-56а (496x626, 99Kb)"/>
          <p:cNvPicPr/>
          <p:nvPr/>
        </p:nvPicPr>
        <p:blipFill>
          <a:blip r:embed="rId1"/>
          <a:stretch/>
        </p:blipFill>
        <p:spPr>
          <a:xfrm>
            <a:off x="539640" y="1844640"/>
            <a:ext cx="3600720" cy="432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3737-58а (496x620, 93Kb)"/>
          <p:cNvPicPr/>
          <p:nvPr/>
        </p:nvPicPr>
        <p:blipFill>
          <a:blip r:embed="rId2"/>
          <a:stretch/>
        </p:blipFill>
        <p:spPr>
          <a:xfrm>
            <a:off x="4500720" y="1773360"/>
            <a:ext cx="37432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3737-59а (495x608, 75Kb)"/>
          <p:cNvPicPr/>
          <p:nvPr/>
        </p:nvPicPr>
        <p:blipFill>
          <a:blip r:embed="rId1"/>
          <a:stretch/>
        </p:blipFill>
        <p:spPr>
          <a:xfrm>
            <a:off x="684360" y="1844640"/>
            <a:ext cx="3671640" cy="432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737-60а (502x619, 94Kb)"/>
          <p:cNvPicPr/>
          <p:nvPr/>
        </p:nvPicPr>
        <p:blipFill>
          <a:blip r:embed="rId2"/>
          <a:stretch/>
        </p:blipFill>
        <p:spPr>
          <a:xfrm>
            <a:off x="4716360" y="1773360"/>
            <a:ext cx="3443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3737-62а (502x614, 97Kb)"/>
          <p:cNvPicPr/>
          <p:nvPr/>
        </p:nvPicPr>
        <p:blipFill>
          <a:blip r:embed="rId1"/>
          <a:stretch/>
        </p:blipFill>
        <p:spPr>
          <a:xfrm>
            <a:off x="395280" y="1700280"/>
            <a:ext cx="3517920" cy="45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737-64 (495x616, 88Kb)"/>
          <p:cNvPicPr/>
          <p:nvPr/>
        </p:nvPicPr>
        <p:blipFill>
          <a:blip r:embed="rId2"/>
          <a:stretch/>
        </p:blipFill>
        <p:spPr>
          <a:xfrm>
            <a:off x="4500720" y="1773360"/>
            <a:ext cx="3724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Экономические вычис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бежевого цвета «Акрил 100%» - 130 ру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красного цвета «Детская пехорка» - 80 ру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бирюзового цвета «Детская пехорка» - 80 ру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Пряжа коричневого цвета «50% Акрил; 50% Шерсть» - 115 руб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Arial"/>
              </a:rPr>
              <a:t>Итого: 405 рублей мне потребовалось для вяз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Реклам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В моей комнате жи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Цветочная коров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Не дает мне молока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Не жует морковк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Ее праздничный наряд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Всем на удивл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А веселая мордаш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cc"/>
                </a:solidFill>
                <a:latin typeface="Arial"/>
              </a:rPr>
              <a:t>Поднимает настро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оя цель -  связать крючк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еобычную, красивую, ярку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грушку для  укра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нтерьера своей комнат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лан моей рабо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1. Выбор подходящего изделия и схемы из интерн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2. Подбор цветовой гаммы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3. Покупка недостающих ниток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4.  Правильное прочтение схемы вяз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5. Начало вязания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6. Окончание вяз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Подбор ниток по цвету для сшивания частей игруш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7. Сшивание всех частей игрушки;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8. Получение нужного результата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66"/>
                </a:solidFill>
                <a:latin typeface="Arial Black"/>
              </a:rPr>
              <a:t>Межпредметная связь: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1. Урок технологии - я научилась вязать по схеме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2. Урок ИЗО - в моём проекте есть рисунки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3. Урок русского языка - в проекте нужно писать грамотно;</a:t>
            </a:r>
            <a:br>
              <a:rPr sz="2700"/>
            </a:br>
            <a:r>
              <a:rPr b="1" lang="ru-RU" sz="2700" spc="-1" strike="noStrike">
                <a:solidFill>
                  <a:srgbClr val="000099"/>
                </a:solidFill>
                <a:latin typeface="Arial"/>
              </a:rPr>
              <a:t>4. Урок математики - в схеме я подсчитываю количество рядов и петель, делаю экономические вычисления</a:t>
            </a: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.</a:t>
            </a:r>
            <a:br>
              <a:rPr sz="2700"/>
            </a:br>
            <a:r>
              <a:rPr b="0" lang="ru-RU" sz="27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116000" y="533520"/>
            <a:ext cx="7342200" cy="8078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зайн-спецификаци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Каким я хочу видеть свое издели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Аккуратно и надежно связанны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олее сложным в исполнении, чем предыдущие игруш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Подходить по цветовой гамме интерьеру моей комнат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Создавать хорошее на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Не дорогим по цен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ервоначальные иде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смотрим идею  №1.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37065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ассмотрим идею №2.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124000" y="190512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Рассмотрим идею №3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979640" y="1905120"/>
            <a:ext cx="46418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хема вязания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Picture 4" descr="3737-53а (499x614, 93Kb)"/>
          <p:cNvPicPr/>
          <p:nvPr/>
        </p:nvPicPr>
        <p:blipFill>
          <a:blip r:embed="rId1"/>
          <a:stretch/>
        </p:blipFill>
        <p:spPr>
          <a:xfrm>
            <a:off x="662040" y="1844640"/>
            <a:ext cx="3646440" cy="432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3737-55а (501x623, 83Kb)"/>
          <p:cNvPicPr/>
          <p:nvPr/>
        </p:nvPicPr>
        <p:blipFill>
          <a:blip r:embed="rId2"/>
          <a:stretch/>
        </p:blipFill>
        <p:spPr>
          <a:xfrm>
            <a:off x="4338720" y="1844640"/>
            <a:ext cx="4066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18:01:00Z</dcterms:created>
  <dc:creator>1</dc:creator>
  <dc:description/>
  <dc:language>en-US</dc:language>
  <cp:lastModifiedBy>Пользователь Windows</cp:lastModifiedBy>
  <dcterms:modified xsi:type="dcterms:W3CDTF">2019-02-04T18:30:40Z</dcterms:modified>
  <cp:revision>3</cp:revision>
  <dc:subject/>
  <dc:title>Летневская средняя школа</dc:title>
</cp:coreProperties>
</file>