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6.png" ContentType="image/png"/>
  <Override PartName="/ppt/media/image31.png" ContentType="image/png"/>
  <Override PartName="/ppt/media/image18.png" ContentType="image/png"/>
  <Override PartName="/ppt/media/image11.jpeg" ContentType="image/jpeg"/>
  <Override PartName="/ppt/media/image9.jpeg" ContentType="image/jpeg"/>
  <Override PartName="/ppt/media/image24.jpeg" ContentType="image/jpeg"/>
  <Override PartName="/ppt/media/image15.png" ContentType="image/png"/>
  <Override PartName="/ppt/media/image12.gif" ContentType="image/gif"/>
  <Override PartName="/ppt/media/image30.jpeg" ContentType="image/jpeg"/>
  <Override PartName="/ppt/media/image20.gif" ContentType="image/gif"/>
  <Override PartName="/ppt/media/image13.jpeg" ContentType="image/jpeg"/>
  <Override PartName="/ppt/media/image3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19.jpeg" ContentType="image/jpeg"/>
  <Override PartName="/ppt/media/image3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92A-A19A-4B36-B01D-913D08F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393-6A81-43BB-91A0-9784752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169-CAEC-4E94-98F9-5CC63217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070-8AD8-4A3A-B992-DE7E67A9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EE77-3184-4F10-B0EB-6AA20519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718D-66EF-4ADE-81E8-09CC9EB6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EF3-85AA-49F5-957B-15D74EC2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EF50-F494-430A-A78F-F8616ABF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C2AE-ADC0-4E06-AE52-9C4B347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152-8971-40F4-B9C9-0A99805E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046-4AFB-477C-B830-AE08542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2FC-D79A-4607-B55F-EFB0D6BC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B42-5C4E-4AED-8832-A1913C5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1199-D0B0-4A5C-AD89-5F452E3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725-920F-4704-9C65-68E7953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DD3-506A-483C-8078-C58AF3A4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3372-DE59-4B33-A297-F3E3ED64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457BD-DB1A-4F06-8C64-9A49F9C8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3656-C671-44C7-979D-C88C9259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7D89-99ED-47EC-999F-50D5946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732B-41A1-47A9-A7D6-D99F388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7D8A-0047-4099-887B-7309EF8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700-05CE-4DF4-8EFC-4101BD5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B481-5BD4-40A2-B2E1-3E74C37C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5CF5-5401-4191-A485-588BE8F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6327-7CC9-4E9A-84BE-EEA5CAF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E4A7-F8B1-4159-A897-9AF2CEE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2377-F6C3-431E-9002-7B866BA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B050-5149-44B1-89D2-2EDDA63F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A0A2-B22C-4C76-90C2-D5C4E946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C709-1C69-4138-A2F6-2BF7AD7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C895-710E-4CEC-ABEF-5B7CBC38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E6CA-5562-4A13-99FF-74DBFAE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265-168D-40C7-953F-AF2BD79A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DDE8-6AEA-4917-AE8E-04C3855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7982-5E19-4D22-B7C6-F541F01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7D37-CE42-45D2-9408-972F928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7509-067E-4E49-B9F8-97DAE8E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8A53-9FEC-4825-90B8-AF2C0B1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9C8D-F119-4504-BC0E-C18C9E2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FC41-CD12-425B-8DC4-8F868D2E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A731-B4E2-455B-88DC-24EDB5A8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8F99-9F94-4DE3-B454-C91E6A7F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568-A3C4-45C2-BEAF-4393704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DA0-68D9-414B-820B-55E49B2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F52-3BEC-46EC-881B-EEF3AF2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E4A-86B8-41BC-8713-4B62445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A8A-F6EC-4B51-A385-2313C35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E21-8717-49EB-9B0F-06A0C16974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264A-9812-483C-870E-4E79344A83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C77A-85DD-4C35-919E-E4BE7C6D3D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05F9-C16F-4650-91F6-FBD8833E90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324000"/>
            <a:ext cx="5877000" cy="14745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about[1].jpg"/>
          <p:cNvPicPr/>
          <p:nvPr/>
        </p:nvPicPr>
        <p:blipFill>
          <a:blip r:embed="rId2"/>
          <a:stretch/>
        </p:blipFill>
        <p:spPr>
          <a:xfrm>
            <a:off x="7162920" y="2438280"/>
            <a:ext cx="116496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:\Класс\картинки и рисунки\разные картинки\анимашки\object_5.1103200898.42206[1].gif"/>
          <p:cNvPicPr/>
          <p:nvPr/>
        </p:nvPicPr>
        <p:blipFill>
          <a:blip r:embed="rId3"/>
          <a:stretch/>
        </p:blipFill>
        <p:spPr>
          <a:xfrm>
            <a:off x="2743200" y="2209680"/>
            <a:ext cx="3809880" cy="3286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3124080" y="548640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Чадова Ирина Николаевна учитель технологии и экономики, 1 категории МОУ СОШ № 11 г. Кушва, Свердловская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E:\Класс\Работа в школе\Внеклассная работа\класс против курения\картинки\001(7).jpg"/>
          <p:cNvPicPr/>
          <p:nvPr/>
        </p:nvPicPr>
        <p:blipFill>
          <a:blip r:embed="rId1"/>
          <a:stretch/>
        </p:blipFill>
        <p:spPr>
          <a:xfrm>
            <a:off x="1600200" y="914400"/>
            <a:ext cx="63151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Класс\картинки и рисунки\разные картинки\анимашки\object_5.1103200898.42206[1].gif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1219320" y="533520"/>
            <a:ext cx="70866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в заключение слова немецкого врача и учёного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. Фог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Потребление табака составляет некрасивую и грязную привычку, так что трудно понять, как женщины вследствие глупой моды всё больше и больше предаются этому пороку, который наносит большой ущерб их потомству, здоровью, грации и красот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512640"/>
            <a:ext cx="6089400" cy="11034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" descr=""/>
          <p:cNvPicPr/>
          <p:nvPr/>
        </p:nvPicPr>
        <p:blipFill>
          <a:blip r:embed="rId2"/>
          <a:stretch/>
        </p:blipFill>
        <p:spPr>
          <a:xfrm>
            <a:off x="2779560" y="1633680"/>
            <a:ext cx="5718240" cy="263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E:\Класс\Работа в школе\Внеклассная работа\класс против курения\картинки\esche-sotsialka-o-vrede-urenija_13138_s__1.jpg"/>
          <p:cNvPicPr/>
          <p:nvPr/>
        </p:nvPicPr>
        <p:blipFill>
          <a:blip r:embed="rId3"/>
          <a:stretch/>
        </p:blipFill>
        <p:spPr>
          <a:xfrm>
            <a:off x="838080" y="3505320"/>
            <a:ext cx="3848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1554120"/>
            <a:ext cx="855180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E:\Класс\открытки проверить\YD1.GIF"/>
          <p:cNvPicPr/>
          <p:nvPr/>
        </p:nvPicPr>
        <p:blipFill>
          <a:blip r:embed="rId2"/>
          <a:stretch/>
        </p:blipFill>
        <p:spPr>
          <a:xfrm>
            <a:off x="4114800" y="3048120"/>
            <a:ext cx="146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ак стали выращивать ещё в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VI веке до нашей эр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I веке до нашей эры американские индейцы использовали табак в медицинских и религиозных це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5 октября 1492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ак был передан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Христофору Колумб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американскими индейцами как подарок и, вскоре после этого, табак был завезен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Европ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 его начали выращивать повсеместн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pic20000"/>
          <p:cNvPicPr/>
          <p:nvPr/>
        </p:nvPicPr>
        <p:blipFill>
          <a:blip r:embed="rId1"/>
          <a:srcRect l="0" t="1001" r="0" b="1001"/>
          <a:stretch/>
        </p:blipFill>
        <p:spPr>
          <a:xfrm rot="420000">
            <a:off x="3422160" y="1180800"/>
            <a:ext cx="4618080" cy="39304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3" descr=""/>
          <p:cNvPicPr/>
          <p:nvPr/>
        </p:nvPicPr>
        <p:blipFill>
          <a:blip r:embed="rId2"/>
          <a:stretch/>
        </p:blipFill>
        <p:spPr>
          <a:xfrm>
            <a:off x="225360" y="262080"/>
            <a:ext cx="46148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1371600" y="685800"/>
            <a:ext cx="685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житель Вирджини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омас Харриет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пагандировал ежедневное курение табака как путь к общему оздоровлению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1776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ду, во время войны за независимость в США, американцы использовали табак как обеспечение кредитов, полученных ими во Фра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Если до ХХ века подавляющее преимущество получал табак для курительных трубок и сигары, то 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XX век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тепенно выходят на первое место в общем объеме табачного производства сигар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tab10020"/>
          <p:cNvPicPr/>
          <p:nvPr/>
        </p:nvPicPr>
        <p:blipFill>
          <a:blip r:embed="rId1"/>
          <a:stretch/>
        </p:blipFill>
        <p:spPr>
          <a:xfrm>
            <a:off x="3352680" y="4038480"/>
            <a:ext cx="2718000" cy="2210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E:\Класс\картинки и рисунки\разные картинки\смайлики\22.gif"/>
          <p:cNvPicPr/>
          <p:nvPr/>
        </p:nvPicPr>
        <p:blipFill>
          <a:blip r:embed="rId2"/>
          <a:stretch/>
        </p:blipFill>
        <p:spPr>
          <a:xfrm>
            <a:off x="7772400" y="990720"/>
            <a:ext cx="704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05.jpg"/>
          <p:cNvPicPr/>
          <p:nvPr/>
        </p:nvPicPr>
        <p:blipFill>
          <a:blip r:embed="rId1"/>
          <a:stretch/>
        </p:blipFill>
        <p:spPr>
          <a:xfrm>
            <a:off x="3276720" y="3657600"/>
            <a:ext cx="3809880" cy="26748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" descr=""/>
          <p:cNvPicPr/>
          <p:nvPr/>
        </p:nvPicPr>
        <p:blipFill>
          <a:blip r:embed="rId2"/>
          <a:stretch/>
        </p:blipFill>
        <p:spPr>
          <a:xfrm>
            <a:off x="2835360" y="255600"/>
            <a:ext cx="3949560" cy="1152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"/>
          <p:cNvSpPr/>
          <p:nvPr/>
        </p:nvSpPr>
        <p:spPr>
          <a:xfrm>
            <a:off x="990720" y="175248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котиновая зависим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ли попросту курение, - самая распространенная на земле: в общей сложности курит каждый второй житель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2" descr=""/>
          <p:cNvPicPr/>
          <p:nvPr/>
        </p:nvPicPr>
        <p:blipFill>
          <a:blip r:embed="rId1"/>
          <a:stretch/>
        </p:blipFill>
        <p:spPr>
          <a:xfrm>
            <a:off x="1463760" y="334800"/>
            <a:ext cx="6576840" cy="1152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838080" y="1523880"/>
            <a:ext cx="746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жде всего - это химическое воздействие никотина на головной моз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икотин является по своей химической природе стимулирующим средством, подстегивающим работу мозга и вызывающим легкую эйф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этому многим кажется, что сигарета улучшает мыслительный процесс,  но вскоре он вообще не сможет думать без сигареты – мозг откажется работать самостоятель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1210858550_1210780987_5186870x05.jpg"/>
          <p:cNvPicPr/>
          <p:nvPr/>
        </p:nvPicPr>
        <p:blipFill>
          <a:blip r:embed="rId2"/>
          <a:stretch/>
        </p:blipFill>
        <p:spPr>
          <a:xfrm>
            <a:off x="5867280" y="4114800"/>
            <a:ext cx="2457720" cy="254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E:\Класс\картинки и рисунки\разные картинки\смайлики\57.gif"/>
          <p:cNvPicPr/>
          <p:nvPr/>
        </p:nvPicPr>
        <p:blipFill>
          <a:blip r:embed="rId3"/>
          <a:stretch/>
        </p:blipFill>
        <p:spPr>
          <a:xfrm>
            <a:off x="7620120" y="457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1295280" y="1600200"/>
            <a:ext cx="70866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гда закуривает подросток (любого пола), это наверняка стремление доказать всем, что он уже взросл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ди нерешительные курят иногда затем, чтобы везде «чувствовать себя как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рение может быть и элементом моды, и способом ухода от действительности (особенно когда человек чувствует в чем-то свою беспомощ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Прямоугольник 3" descr=""/>
          <p:cNvPicPr/>
          <p:nvPr/>
        </p:nvPicPr>
        <p:blipFill>
          <a:blip r:embed="rId1"/>
          <a:stretch/>
        </p:blipFill>
        <p:spPr>
          <a:xfrm>
            <a:off x="1163520" y="487440"/>
            <a:ext cx="723132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" descr="short.jpg"/>
          <p:cNvPicPr/>
          <p:nvPr/>
        </p:nvPicPr>
        <p:blipFill>
          <a:blip r:embed="rId2"/>
          <a:srcRect l="0" t="58001" r="0" b="0"/>
          <a:stretch/>
        </p:blipFill>
        <p:spPr>
          <a:xfrm>
            <a:off x="3200400" y="4191120"/>
            <a:ext cx="2867040" cy="2000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" descr="E:\Класс\картинки и рисунки\разные картинки\смайлики\мото.gif"/>
          <p:cNvPicPr/>
          <p:nvPr/>
        </p:nvPicPr>
        <p:blipFill>
          <a:blip r:embed="rId3"/>
          <a:stretch/>
        </p:blipFill>
        <p:spPr>
          <a:xfrm>
            <a:off x="762120" y="5486400"/>
            <a:ext cx="6858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18.jpg"/>
          <p:cNvPicPr/>
          <p:nvPr/>
        </p:nvPicPr>
        <p:blipFill>
          <a:blip r:embed="rId1"/>
          <a:stretch/>
        </p:blipFill>
        <p:spPr>
          <a:xfrm>
            <a:off x="457200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838080" y="609480"/>
            <a:ext cx="769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родой задумано так, чтобы человек испытывал чувство покоя и комфорта под действием сосательного рефлекса. И точно так же, как младенец успокаивается у маминой груди, взрослые приходят в себя, беря в рот сигар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image.jpeg"/>
          <p:cNvPicPr/>
          <p:nvPr/>
        </p:nvPicPr>
        <p:blipFill>
          <a:blip r:embed="rId1"/>
          <a:stretch/>
        </p:blipFill>
        <p:spPr>
          <a:xfrm>
            <a:off x="1828800" y="990720"/>
            <a:ext cx="552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:\Класс\Работа в школе\Внеклассная работа\класс против курения\картинки\980351_62338dd1.jpg"/>
          <p:cNvPicPr/>
          <p:nvPr/>
        </p:nvPicPr>
        <p:blipFill>
          <a:blip r:embed="rId1"/>
          <a:stretch/>
        </p:blipFill>
        <p:spPr>
          <a:xfrm>
            <a:off x="3657600" y="30492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Класс\Работа в школе\Внеклассная работа\класс против курения\картинки\_1066133_unwhitenedteeth300.jpg"/>
          <p:cNvPicPr/>
          <p:nvPr/>
        </p:nvPicPr>
        <p:blipFill>
          <a:blip r:embed="rId2"/>
          <a:stretch/>
        </p:blipFill>
        <p:spPr>
          <a:xfrm>
            <a:off x="380880" y="533520"/>
            <a:ext cx="2857680" cy="1714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E:\Класс\Работа в школе\Внеклассная работа\класс против курения\картинки\00101.jpg"/>
          <p:cNvPicPr/>
          <p:nvPr/>
        </p:nvPicPr>
        <p:blipFill>
          <a:blip r:embed="rId3"/>
          <a:stretch/>
        </p:blipFill>
        <p:spPr>
          <a:xfrm>
            <a:off x="228600" y="3581280"/>
            <a:ext cx="4724280" cy="307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E:\Класс\Работа в школе\Внеклассная работа\класс против курения\картинки\images.jpeg"/>
          <p:cNvPicPr/>
          <p:nvPr/>
        </p:nvPicPr>
        <p:blipFill>
          <a:blip r:embed="rId4"/>
          <a:stretch/>
        </p:blipFill>
        <p:spPr>
          <a:xfrm>
            <a:off x="5410080" y="3733920"/>
            <a:ext cx="3419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Я</cp:lastModifiedBy>
  <dcterms:modified xsi:type="dcterms:W3CDTF">2009-12-03T16:01:27Z</dcterms:modified>
  <cp:revision>10</cp:revision>
  <dc:subject/>
  <dc:title>Слайд 1</dc:title>
</cp:coreProperties>
</file>