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gif" ContentType="image/gif"/>
  <Override PartName="/ppt/media/image6.png" ContentType="image/png"/>
  <Override PartName="/ppt/media/image31.png" ContentType="image/png"/>
  <Override PartName="/ppt/media/image18.png" ContentType="image/png"/>
  <Override PartName="/ppt/media/image11.jpeg" ContentType="image/jpeg"/>
  <Override PartName="/ppt/media/image9.jpeg" ContentType="image/jpeg"/>
  <Override PartName="/ppt/media/image24.jpeg" ContentType="image/jpeg"/>
  <Override PartName="/ppt/media/image15.png" ContentType="image/png"/>
  <Override PartName="/ppt/media/image12.gif" ContentType="image/gif"/>
  <Override PartName="/ppt/media/image30.jpeg" ContentType="image/jpeg"/>
  <Override PartName="/ppt/media/image20.gif" ContentType="image/gif"/>
  <Override PartName="/ppt/media/image13.jpeg" ContentType="image/jpeg"/>
  <Override PartName="/ppt/media/image3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jpeg" ContentType="image/jpeg"/>
  <Override PartName="/ppt/media/image27.jpeg" ContentType="image/jpeg"/>
  <Override PartName="/ppt/media/image17.gif" ContentType="image/gif"/>
  <Override PartName="/ppt/media/image29.png" ContentType="image/png"/>
  <Override PartName="/ppt/media/image21.jpeg" ContentType="image/jpeg"/>
  <Override PartName="/ppt/media/image19.jpeg" ContentType="image/jpeg"/>
  <Override PartName="/ppt/media/image32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DFD-3B03-4832-8A78-357917AE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29C-9B0B-4EB2-BA5A-AB8602DE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5D67-F8C3-4D14-850C-E5D4968B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839-A8C8-45C4-BB12-986BFA90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0DF6-E8F0-4CD2-A13B-856F04A6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5A66-FDE9-4B90-93AA-08704FA2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F20B-83F9-4CDB-902D-104FC209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76E5-F020-4069-B0E3-CFCCA1AF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D0E8-14C8-4BCB-9798-7C0C7592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7308-E398-4C3E-AE43-56FFF3EE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303E-13E6-42C9-B3BA-071DC3D9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85D-6BD8-441A-BF94-90FE874E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8E0C-66E4-4D6A-8E51-E6F29552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30DB-D03C-4F6B-BDFD-68A64358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22A5-5D0F-44AA-A456-9DF11E10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95AB-4E07-458B-AFC2-D9111C4A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D0AA-57DD-4B63-AEB9-55A022AD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A018C-5BF9-4610-962A-98F3798E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A530E-A48C-4B07-A085-277FF180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A7A88-8519-4543-8AA1-C07AF70B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FDC61-516F-463E-95D9-0B6D08DC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1C108-D4A2-4D57-8200-43D13981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358-B769-4477-B303-993FD8ED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3CDA-6918-4680-816E-A5791E71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AC4A0-C3C5-4D4F-86FB-BB183667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28E6D-24A8-489F-9780-D0F68FE7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89F42-1250-457A-B0FC-6FB6A305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6ADEB-1B7A-463B-98A0-29B38EDB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0F79E-0096-4FBF-9F6F-C2A9E83B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934AF-59B5-439B-A219-E99C14DF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0688C-A654-49DE-A917-7FA3EFFC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002A4-0F9B-44E5-8A93-8444B4E4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5E1DF-A3F8-4402-A5B7-6C375F6F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524A-92D9-429B-BA76-62E76B86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3572B-D801-498E-AA35-19938D9D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0CA89-902C-4288-8053-D7DF1D9D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FC805-2D29-4484-AEEF-2292EDD8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BF6E7-5A7E-4804-BB12-13DF4537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C3D8A-DBC8-456B-9C1A-CFC94E5B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FCBDD-1BC0-4C9E-82A1-AD362A2D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261F9-28D2-4DAF-BF26-83253D7E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21F6D-0335-4C6D-8487-52106CE3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B3AB5-4C06-466E-BB6A-0F21B952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8579-AB47-4431-9BD6-E11C3536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FA7-C996-4271-9F2C-3A786F1C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9A6-38B9-4500-A0EC-47F67F27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E267-187E-4045-BCC5-AE9C91A6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2FA-AA03-428D-9AD9-BC277D34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9BC1-F7FC-4340-A455-4EC21D8E4E2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AEF1-FD8F-4B10-BA1A-E06F5FC9EF6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7112-2591-4045-986E-2CE696DB046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9022-619C-4EE5-B502-1053B928F37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1" descr=""/>
          <p:cNvPicPr/>
          <p:nvPr/>
        </p:nvPicPr>
        <p:blipFill>
          <a:blip r:embed="rId1"/>
          <a:stretch/>
        </p:blipFill>
        <p:spPr>
          <a:xfrm>
            <a:off x="1822320" y="324000"/>
            <a:ext cx="5877000" cy="14745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about[1].jpg"/>
          <p:cNvPicPr/>
          <p:nvPr/>
        </p:nvPicPr>
        <p:blipFill>
          <a:blip r:embed="rId2"/>
          <a:stretch/>
        </p:blipFill>
        <p:spPr>
          <a:xfrm>
            <a:off x="7162920" y="2438280"/>
            <a:ext cx="1164960" cy="2232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E:\Класс\картинки и рисунки\разные картинки\анимашки\object_5.1103200898.42206[1].gif"/>
          <p:cNvPicPr/>
          <p:nvPr/>
        </p:nvPicPr>
        <p:blipFill>
          <a:blip r:embed="rId3"/>
          <a:stretch/>
        </p:blipFill>
        <p:spPr>
          <a:xfrm>
            <a:off x="2743200" y="2209680"/>
            <a:ext cx="3809880" cy="32860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3124080" y="5486400"/>
            <a:ext cx="480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Чадова Ирина Николаевна учитель технологии и экономики, 1 категории МОУ СОШ № 11 г. Кушва, Свердловская об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E:\Класс\Работа в школе\Внеклассная работа\класс против курения\картинки\001(7).jpg"/>
          <p:cNvPicPr/>
          <p:nvPr/>
        </p:nvPicPr>
        <p:blipFill>
          <a:blip r:embed="rId1"/>
          <a:stretch/>
        </p:blipFill>
        <p:spPr>
          <a:xfrm>
            <a:off x="1600200" y="914400"/>
            <a:ext cx="63151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E:\Класс\картинки и рисунки\разные картинки\анимашки\object_5.1103200898.42206[1].gif"/>
          <p:cNvPicPr/>
          <p:nvPr/>
        </p:nvPicPr>
        <p:blipFill>
          <a:blip r:embed="rId1"/>
          <a:stretch/>
        </p:blipFill>
        <p:spPr>
          <a:xfrm>
            <a:off x="2666880" y="2895480"/>
            <a:ext cx="3810240" cy="32860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1219320" y="533520"/>
            <a:ext cx="70866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 в заключение слова немецкого врача и учёного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. Фогел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"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Потребление табака составляет некрасивую и грязную привычку, так что трудно понять, как женщины вследствие глупой моды всё больше и больше предаются этому пороку, который наносит большой ущерб их потомству, здоровью, грации и красоте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2" descr=""/>
          <p:cNvPicPr/>
          <p:nvPr/>
        </p:nvPicPr>
        <p:blipFill>
          <a:blip r:embed="rId1"/>
          <a:stretch/>
        </p:blipFill>
        <p:spPr>
          <a:xfrm>
            <a:off x="378000" y="512640"/>
            <a:ext cx="6089400" cy="110340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3" descr=""/>
          <p:cNvPicPr/>
          <p:nvPr/>
        </p:nvPicPr>
        <p:blipFill>
          <a:blip r:embed="rId2"/>
          <a:stretch/>
        </p:blipFill>
        <p:spPr>
          <a:xfrm>
            <a:off x="2779560" y="1633680"/>
            <a:ext cx="5718240" cy="2633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E:\Класс\Работа в школе\Внеклассная работа\класс против курения\картинки\esche-sotsialka-o-vrede-urenija_13138_s__1.jpg"/>
          <p:cNvPicPr/>
          <p:nvPr/>
        </p:nvPicPr>
        <p:blipFill>
          <a:blip r:embed="rId3"/>
          <a:stretch/>
        </p:blipFill>
        <p:spPr>
          <a:xfrm>
            <a:off x="838080" y="3505320"/>
            <a:ext cx="38484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Прямоугольник 1" descr=""/>
          <p:cNvPicPr/>
          <p:nvPr/>
        </p:nvPicPr>
        <p:blipFill>
          <a:blip r:embed="rId1"/>
          <a:stretch/>
        </p:blipFill>
        <p:spPr>
          <a:xfrm>
            <a:off x="268200" y="1554120"/>
            <a:ext cx="8551800" cy="1152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E:\Класс\открытки проверить\YD1.GIF"/>
          <p:cNvPicPr/>
          <p:nvPr/>
        </p:nvPicPr>
        <p:blipFill>
          <a:blip r:embed="rId2"/>
          <a:stretch/>
        </p:blipFill>
        <p:spPr>
          <a:xfrm>
            <a:off x="4114800" y="3048120"/>
            <a:ext cx="1463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560" y="14479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4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абак стали выращивать ещё в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VI веке до нашей эры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I веке до нашей эры американские индейцы использовали табак в медицинских и религиозных целях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15 октября 1492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абак был передан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Христофору Колумбу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американскими индейцами как подарок и, вскоре после этого, табак был завезен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 Европу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и его начали выращивать повсеместно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pic20000"/>
          <p:cNvPicPr/>
          <p:nvPr/>
        </p:nvPicPr>
        <p:blipFill>
          <a:blip r:embed="rId1"/>
          <a:srcRect l="0" t="1001" r="0" b="1001"/>
          <a:stretch/>
        </p:blipFill>
        <p:spPr>
          <a:xfrm rot="420000">
            <a:off x="3422160" y="1180800"/>
            <a:ext cx="4618080" cy="3930480"/>
          </a:xfrm>
          <a:prstGeom prst="rect">
            <a:avLst/>
          </a:prstGeom>
          <a:ln w="0">
            <a:noFill/>
          </a:ln>
        </p:spPr>
      </p:pic>
      <p:pic>
        <p:nvPicPr>
          <p:cNvPr id="201" name="Прямоугольник 3" descr=""/>
          <p:cNvPicPr/>
          <p:nvPr/>
        </p:nvPicPr>
        <p:blipFill>
          <a:blip r:embed="rId2"/>
          <a:stretch/>
        </p:blipFill>
        <p:spPr>
          <a:xfrm>
            <a:off x="225360" y="262080"/>
            <a:ext cx="46148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2"/>
          <p:cNvSpPr/>
          <p:nvPr/>
        </p:nvSpPr>
        <p:spPr>
          <a:xfrm>
            <a:off x="1371600" y="685800"/>
            <a:ext cx="685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житель Вирджинии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омас Харриет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пагандировал ежедневное курение табака как путь к общему оздоровлению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1776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оду, во время войны за независимость в США, американцы использовали табак как обеспечение кредитов, полученных ими во Фран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Если до ХХ века подавляющее преимущество получал табак для курительных трубок и сигары, то в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XX веке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степенно выходят на первое место в общем объеме табачного производства сигар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tab10020"/>
          <p:cNvPicPr/>
          <p:nvPr/>
        </p:nvPicPr>
        <p:blipFill>
          <a:blip r:embed="rId1"/>
          <a:stretch/>
        </p:blipFill>
        <p:spPr>
          <a:xfrm>
            <a:off x="3352680" y="4038480"/>
            <a:ext cx="2718000" cy="2210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E:\Класс\картинки и рисунки\разные картинки\смайлики\22.gif"/>
          <p:cNvPicPr/>
          <p:nvPr/>
        </p:nvPicPr>
        <p:blipFill>
          <a:blip r:embed="rId2"/>
          <a:stretch/>
        </p:blipFill>
        <p:spPr>
          <a:xfrm>
            <a:off x="7772400" y="990720"/>
            <a:ext cx="704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2" descr="05.jpg"/>
          <p:cNvPicPr/>
          <p:nvPr/>
        </p:nvPicPr>
        <p:blipFill>
          <a:blip r:embed="rId1"/>
          <a:stretch/>
        </p:blipFill>
        <p:spPr>
          <a:xfrm>
            <a:off x="3276720" y="3657600"/>
            <a:ext cx="3809880" cy="267480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3" descr=""/>
          <p:cNvPicPr/>
          <p:nvPr/>
        </p:nvPicPr>
        <p:blipFill>
          <a:blip r:embed="rId2"/>
          <a:stretch/>
        </p:blipFill>
        <p:spPr>
          <a:xfrm>
            <a:off x="2835360" y="255600"/>
            <a:ext cx="3949560" cy="11523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8"/>
          <p:cNvSpPr/>
          <p:nvPr/>
        </p:nvSpPr>
        <p:spPr>
          <a:xfrm>
            <a:off x="990720" y="1752480"/>
            <a:ext cx="739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икотиновая зависимость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или попросту курение, - самая распространенная на земле: в общей сложности курит каждый второй житель нашей план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Прямоугольник 2" descr=""/>
          <p:cNvPicPr/>
          <p:nvPr/>
        </p:nvPicPr>
        <p:blipFill>
          <a:blip r:embed="rId1"/>
          <a:stretch/>
        </p:blipFill>
        <p:spPr>
          <a:xfrm>
            <a:off x="1463760" y="334800"/>
            <a:ext cx="6576840" cy="11527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3"/>
          <p:cNvSpPr/>
          <p:nvPr/>
        </p:nvSpPr>
        <p:spPr>
          <a:xfrm>
            <a:off x="838080" y="1523880"/>
            <a:ext cx="7467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жде всего - это химическое воздействие никотина на головной моз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икотин является по своей химической природе стимулирующим средством, подстегивающим работу мозга и вызывающим легкую эйфор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этому многим кажется, что сигарета улучшает мыслительный процесс,  но вскоре он вообще не сможет думать без сигареты – мозг откажется работать самостоятель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4" descr="1210858550_1210780987_5186870x05.jpg"/>
          <p:cNvPicPr/>
          <p:nvPr/>
        </p:nvPicPr>
        <p:blipFill>
          <a:blip r:embed="rId2"/>
          <a:stretch/>
        </p:blipFill>
        <p:spPr>
          <a:xfrm>
            <a:off x="5867280" y="4114800"/>
            <a:ext cx="2457720" cy="2546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" descr="E:\Класс\картинки и рисунки\разные картинки\смайлики\57.gif"/>
          <p:cNvPicPr/>
          <p:nvPr/>
        </p:nvPicPr>
        <p:blipFill>
          <a:blip r:embed="rId3"/>
          <a:stretch/>
        </p:blipFill>
        <p:spPr>
          <a:xfrm>
            <a:off x="7620120" y="4572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2"/>
          <p:cNvSpPr/>
          <p:nvPr/>
        </p:nvSpPr>
        <p:spPr>
          <a:xfrm>
            <a:off x="1295280" y="1600200"/>
            <a:ext cx="708660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гда закуривает подросток (любого пола), это наверняка стремление доказать всем, что он уже взросл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юди нерешительные курят иногда затем, чтобы везде «чувствовать себя как дом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урение может быть и элементом моды, и способом ухода от действительности (особенно когда человек чувствует в чем-то свою беспомощн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Прямоугольник 3" descr=""/>
          <p:cNvPicPr/>
          <p:nvPr/>
        </p:nvPicPr>
        <p:blipFill>
          <a:blip r:embed="rId1"/>
          <a:stretch/>
        </p:blipFill>
        <p:spPr>
          <a:xfrm>
            <a:off x="1163520" y="487440"/>
            <a:ext cx="7231320" cy="115236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5" descr="short.jpg"/>
          <p:cNvPicPr/>
          <p:nvPr/>
        </p:nvPicPr>
        <p:blipFill>
          <a:blip r:embed="rId2"/>
          <a:srcRect l="0" t="58001" r="0" b="0"/>
          <a:stretch/>
        </p:blipFill>
        <p:spPr>
          <a:xfrm>
            <a:off x="3200400" y="4191120"/>
            <a:ext cx="2867040" cy="2000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" descr="E:\Класс\картинки и рисунки\разные картинки\смайлики\мото.gif"/>
          <p:cNvPicPr/>
          <p:nvPr/>
        </p:nvPicPr>
        <p:blipFill>
          <a:blip r:embed="rId3"/>
          <a:stretch/>
        </p:blipFill>
        <p:spPr>
          <a:xfrm>
            <a:off x="762120" y="5486400"/>
            <a:ext cx="68580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3" descr="18.jpg"/>
          <p:cNvPicPr/>
          <p:nvPr/>
        </p:nvPicPr>
        <p:blipFill>
          <a:blip r:embed="rId1"/>
          <a:stretch/>
        </p:blipFill>
        <p:spPr>
          <a:xfrm>
            <a:off x="4572000" y="34290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2"/>
          <p:cNvSpPr/>
          <p:nvPr/>
        </p:nvSpPr>
        <p:spPr>
          <a:xfrm>
            <a:off x="838080" y="609480"/>
            <a:ext cx="7696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иродой задумано так, чтобы человек испытывал чувство покоя и комфорта под действием сосательного рефлекса. И точно так же, как младенец успокаивается у маминой груди, взрослые приходят в себя, беря в рот сигар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2" descr="image.jpeg"/>
          <p:cNvPicPr/>
          <p:nvPr/>
        </p:nvPicPr>
        <p:blipFill>
          <a:blip r:embed="rId1"/>
          <a:stretch/>
        </p:blipFill>
        <p:spPr>
          <a:xfrm>
            <a:off x="1828800" y="990720"/>
            <a:ext cx="552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E:\Класс\Работа в школе\Внеклассная работа\класс против курения\картинки\980351_62338dd1.jpg"/>
          <p:cNvPicPr/>
          <p:nvPr/>
        </p:nvPicPr>
        <p:blipFill>
          <a:blip r:embed="rId1"/>
          <a:stretch/>
        </p:blipFill>
        <p:spPr>
          <a:xfrm>
            <a:off x="3657600" y="304920"/>
            <a:ext cx="5257800" cy="3154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E:\Класс\Работа в школе\Внеклассная работа\класс против курения\картинки\_1066133_unwhitenedteeth300.jpg"/>
          <p:cNvPicPr/>
          <p:nvPr/>
        </p:nvPicPr>
        <p:blipFill>
          <a:blip r:embed="rId2"/>
          <a:stretch/>
        </p:blipFill>
        <p:spPr>
          <a:xfrm>
            <a:off x="380880" y="533520"/>
            <a:ext cx="2857680" cy="1714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E:\Класс\Работа в школе\Внеклассная работа\класс против курения\картинки\00101.jpg"/>
          <p:cNvPicPr/>
          <p:nvPr/>
        </p:nvPicPr>
        <p:blipFill>
          <a:blip r:embed="rId3"/>
          <a:stretch/>
        </p:blipFill>
        <p:spPr>
          <a:xfrm>
            <a:off x="228600" y="3581280"/>
            <a:ext cx="4724280" cy="3076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E:\Класс\Работа в школе\Внеклассная работа\класс против курения\картинки\images.jpeg"/>
          <p:cNvPicPr/>
          <p:nvPr/>
        </p:nvPicPr>
        <p:blipFill>
          <a:blip r:embed="rId4"/>
          <a:stretch/>
        </p:blipFill>
        <p:spPr>
          <a:xfrm>
            <a:off x="5410080" y="3733920"/>
            <a:ext cx="3419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ЛЬЯ</cp:lastModifiedBy>
  <dcterms:modified xsi:type="dcterms:W3CDTF">2009-12-03T16:01:27Z</dcterms:modified>
  <cp:revision>10</cp:revision>
  <dc:subject/>
  <dc:title>Слайд 1</dc:title>
</cp:coreProperties>
</file>