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6.jpeg" ContentType="image/jpeg"/>
  <Override PartName="/ppt/media/image10.wmf" ContentType="image/x-wmf"/>
  <Override PartName="/ppt/media/image55.jpeg" ContentType="image/jpeg"/>
  <Override PartName="/ppt/media/image6.jpeg" ContentType="image/jpeg"/>
  <Override PartName="/ppt/media/image27.jpeg" ContentType="image/jpeg"/>
  <Override PartName="/ppt/media/image50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58.jpeg" ContentType="image/jpeg"/>
  <Override PartName="/ppt/media/image36.jpeg" ContentType="image/jpeg"/>
  <Override PartName="/ppt/media/image2.jpeg" ContentType="image/jpeg"/>
  <Override PartName="/ppt/media/image14.wmf" ContentType="image/x-wmf"/>
  <Override PartName="/ppt/media/image57.png" ContentType="image/pn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1.png" ContentType="image/png"/>
  <Override PartName="/ppt/media/image52.jpeg" ContentType="image/jpeg"/>
  <Override PartName="/ppt/media/image15.jpeg" ContentType="image/jpeg"/>
  <Override PartName="/ppt/media/image21.jpeg" ContentType="image/jpeg"/>
  <Override PartName="/ppt/media/image16.jpeg" ContentType="image/jpeg"/>
  <Override PartName="/ppt/media/image22.jpeg" ContentType="image/jpeg"/>
  <Override PartName="/ppt/media/image9.png" ContentType="image/png"/>
  <Override PartName="/ppt/media/image63.png" ContentType="image/png"/>
  <Override PartName="/ppt/media/image61.jpeg" ContentType="image/jpeg"/>
  <Override PartName="/ppt/media/image4.jpeg" ContentType="image/jpeg"/>
  <Override PartName="/ppt/media/image17.jpeg" ContentType="image/jpeg"/>
  <Override PartName="/ppt/media/image39.png" ContentType="image/pn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9.jpeg" ContentType="image/jpeg"/>
  <Override PartName="/ppt/media/image23.jpeg" ContentType="image/jpeg"/>
  <Override PartName="/ppt/media/image8.png" ContentType="image/png"/>
  <Override PartName="/ppt/media/image11.jpeg" ContentType="image/jpeg"/>
  <Override PartName="/ppt/media/image28.jpeg" ContentType="image/jpeg"/>
  <Override PartName="/ppt/media/image51.jpeg" ContentType="image/jpeg"/>
  <Override PartName="/ppt/media/image25.jpeg" ContentType="image/jpeg"/>
  <Override PartName="/ppt/media/image32.png" ContentType="image/png"/>
  <Override PartName="/ppt/media/image31.jpeg" ContentType="image/jpeg"/>
  <Override PartName="/ppt/media/image29.jpeg" ContentType="image/jpeg"/>
  <Override PartName="/ppt/media/image12.jpeg" ContentType="image/jpeg"/>
  <Override PartName="/ppt/media/image13.jpeg" ContentType="image/jpeg"/>
  <Override PartName="/ppt/media/image40.jpeg" ContentType="image/jpeg"/>
  <Override PartName="/ppt/media/image18.wmf" ContentType="image/x-wmf"/>
  <Override PartName="/ppt/media/image30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41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png" ContentType="image/pn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5757-1054-4FFB-8484-38B161397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C4F3-1478-4334-A11A-9BD8FE88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E5CE-13C0-4161-AD80-81137F3E7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CC36-DF2A-4422-9D31-053B48D35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588C-4940-42D3-BD76-E80FF2661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CFDF-FA1E-48C1-949D-AF280244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305A-1771-4FDB-A465-F359F65F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25A3-CAEC-4CEC-9456-B9F61665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1A65-F0F0-4D98-B79B-66557646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EC57-D504-42F8-B9E8-1383C8E2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8C43-ACCF-4E9C-894F-2057BC95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67BC-2928-4C96-AD84-B492CFB6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A787-50FB-47B0-B48F-DA783325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753D-4DF5-4179-8F26-DA2CBE7F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A0B0-984E-4C4B-A3E1-AC7B03BB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262C-A51E-4C0F-A04B-1C594449D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EA16F-ECEC-4643-A41E-505E5F7E2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B2D8-156D-402C-8EB2-519F5DB1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CA88-127B-4E69-8C7C-ABD571CD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781C-0DD6-4E5F-834B-B96E0574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75CA-3B33-4593-918B-944C4D76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AC84-8FB6-482D-B954-2AFFF8AB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C38D-6097-423D-B7E5-8E3A416D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6006-9BF7-4875-AC5A-8A9B6955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4EBD-DA66-4B09-824B-CEB686BAD9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5866-6BCA-484F-9FEF-B1BDBDCF98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pn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png"/><Relationship Id="rId3" Type="http://schemas.openxmlformats.org/officeDocument/2006/relationships/image" Target="../media/image6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 rot="21100200">
            <a:off x="0" y="1700280"/>
            <a:ext cx="8636040" cy="39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Откуда хлеб пришёл?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" name=""/>
          <p:cNvSpPr/>
          <p:nvPr/>
        </p:nvSpPr>
        <p:spPr>
          <a:xfrm rot="20210400">
            <a:off x="2483280" y="1282320"/>
            <a:ext cx="5761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66"/>
                </a:solidFill>
                <a:latin typeface="Monotype Corsiva"/>
              </a:rPr>
              <a:t>Откуда хлебушек пришёл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02800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336328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884480" y="907560"/>
            <a:ext cx="425916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Рисунок 4" descr="s000239_497327.jpg"/>
          <p:cNvPicPr/>
          <p:nvPr/>
        </p:nvPicPr>
        <p:blipFill>
          <a:blip r:embed="rId1"/>
          <a:stretch/>
        </p:blipFill>
        <p:spPr>
          <a:xfrm>
            <a:off x="5508720" y="1052640"/>
            <a:ext cx="2957400" cy="3168360"/>
          </a:xfrm>
          <a:prstGeom prst="rect">
            <a:avLst/>
          </a:prstGeom>
          <a:ln w="57240">
            <a:solidFill>
              <a:srgbClr val="cccc00"/>
            </a:solidFill>
            <a:miter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692360" y="981000"/>
            <a:ext cx="2662200" cy="2322720"/>
          </a:xfrm>
          <a:prstGeom prst="rect">
            <a:avLst/>
          </a:prstGeom>
          <a:ln w="57240">
            <a:solidFill>
              <a:srgbClr val="cccc00"/>
            </a:solidFill>
            <a:miter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395280" y="3789360"/>
            <a:ext cx="3024360" cy="2278080"/>
          </a:xfrm>
          <a:prstGeom prst="rect">
            <a:avLst/>
          </a:prstGeom>
          <a:ln w="57240">
            <a:solidFill>
              <a:srgbClr val="cccc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827640" y="333360"/>
            <a:ext cx="16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раньш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867280" y="40464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сейча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5292720" y="2924280"/>
            <a:ext cx="3203640" cy="2392200"/>
          </a:xfrm>
          <a:prstGeom prst="rect">
            <a:avLst/>
          </a:prstGeom>
          <a:ln w="57240">
            <a:solidFill>
              <a:srgbClr val="cccc00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395280" y="5851440"/>
            <a:ext cx="40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Сеял сеятель старинный                Из лукошка – решета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22880" y="5271840"/>
            <a:ext cx="392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Нынче сеялка – машина                Этим делом занят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76360" y="328464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Вот старинная сох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ольник 1"/>
          <p:cNvSpPr/>
          <p:nvPr/>
        </p:nvSpPr>
        <p:spPr>
          <a:xfrm>
            <a:off x="571680" y="214200"/>
            <a:ext cx="76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Прямоугольник 2"/>
          <p:cNvSpPr/>
          <p:nvPr/>
        </p:nvSpPr>
        <p:spPr>
          <a:xfrm>
            <a:off x="5143680" y="457200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Из зёрен вырастают колоски.  В каждом колосе много новых зёре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Прямоугольник 7"/>
          <p:cNvSpPr/>
          <p:nvPr/>
        </p:nvSpPr>
        <p:spPr>
          <a:xfrm>
            <a:off x="0" y="1143000"/>
            <a:ext cx="535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Рисунок 5" descr="ee3ff110578e.jpg"/>
          <p:cNvPicPr/>
          <p:nvPr/>
        </p:nvPicPr>
        <p:blipFill>
          <a:blip r:embed="rId1"/>
          <a:stretch/>
        </p:blipFill>
        <p:spPr>
          <a:xfrm>
            <a:off x="324000" y="1052640"/>
            <a:ext cx="3725640" cy="496872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sp>
        <p:nvSpPr>
          <p:cNvPr id="170" name=""/>
          <p:cNvSpPr/>
          <p:nvPr/>
        </p:nvSpPr>
        <p:spPr>
          <a:xfrm>
            <a:off x="324000" y="5950080"/>
            <a:ext cx="36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Monotype Corsiva"/>
              </a:rPr>
              <a:t>Всходы пшениц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40360" y="1135080"/>
            <a:ext cx="48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Продолжается рассказ, всходы дружные у на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3" name="Рисунок 4" descr="507_ma_p172.jpg"/>
          <p:cNvPicPr/>
          <p:nvPr/>
        </p:nvPicPr>
        <p:blipFill>
          <a:blip r:embed="rId1"/>
          <a:stretch/>
        </p:blipFill>
        <p:spPr>
          <a:xfrm>
            <a:off x="250920" y="189000"/>
            <a:ext cx="4038480" cy="431964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pic>
        <p:nvPicPr>
          <p:cNvPr id="174" name="Рисунок 5" descr="2325_.jpg"/>
          <p:cNvPicPr/>
          <p:nvPr/>
        </p:nvPicPr>
        <p:blipFill>
          <a:blip r:embed="rId2"/>
          <a:stretch/>
        </p:blipFill>
        <p:spPr>
          <a:xfrm>
            <a:off x="4284720" y="476280"/>
            <a:ext cx="4619520" cy="381636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sp>
        <p:nvSpPr>
          <p:cNvPr id="175" name=""/>
          <p:cNvSpPr/>
          <p:nvPr/>
        </p:nvSpPr>
        <p:spPr>
          <a:xfrm>
            <a:off x="395280" y="4941720"/>
            <a:ext cx="828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Урожай поспел у нас .   Выплывают в степь комбайны .                Словно в море корабли.   Ох, машинища какая!  Ну, комбайнер, покажи!   Как из колоса тугого   выбивается зерно .   Как ?- пожалуйста, готово! –     В бункер сыплется оно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1"/>
          <p:cNvSpPr/>
          <p:nvPr/>
        </p:nvSpPr>
        <p:spPr>
          <a:xfrm>
            <a:off x="0" y="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Рисунок 6" descr="brno_muzeum_1375.jpg"/>
          <p:cNvPicPr/>
          <p:nvPr/>
        </p:nvPicPr>
        <p:blipFill>
          <a:blip r:embed="rId1"/>
          <a:stretch/>
        </p:blipFill>
        <p:spPr>
          <a:xfrm>
            <a:off x="179280" y="404640"/>
            <a:ext cx="4542120" cy="302292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7" descr="big_ekonomika_rossii_selskoe_hozyaystvo_1.jpg"/>
          <p:cNvPicPr/>
          <p:nvPr/>
        </p:nvPicPr>
        <p:blipFill>
          <a:blip r:embed="rId2"/>
          <a:stretch/>
        </p:blipFill>
        <p:spPr>
          <a:xfrm>
            <a:off x="250920" y="3716280"/>
            <a:ext cx="2600280" cy="2737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4788000" y="765000"/>
            <a:ext cx="4356000" cy="32814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140360" y="4437000"/>
            <a:ext cx="482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Хоть и собрано зерно,                      Да не хлеб ещё оно.                  Станут зёрнышки мукою                  Не дадут и ей покою .                       На большой хлебозавод                 Грузовик муку везё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1"/>
          <p:cNvSpPr/>
          <p:nvPr/>
        </p:nvSpPr>
        <p:spPr>
          <a:xfrm>
            <a:off x="3121200" y="357120"/>
            <a:ext cx="597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Там его растирают в муку 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мелют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Рисунок 2" descr="21.jpg"/>
          <p:cNvPicPr/>
          <p:nvPr/>
        </p:nvPicPr>
        <p:blipFill>
          <a:blip r:embed="rId1"/>
          <a:stretch/>
        </p:blipFill>
        <p:spPr>
          <a:xfrm>
            <a:off x="395280" y="1557360"/>
            <a:ext cx="5027760" cy="530064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771640" y="1628640"/>
            <a:ext cx="6372360" cy="450072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sp>
        <p:nvSpPr>
          <p:cNvPr id="184" name=""/>
          <p:cNvSpPr/>
          <p:nvPr/>
        </p:nvSpPr>
        <p:spPr>
          <a:xfrm>
            <a:off x="468360" y="1125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Раньш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84720" y="119700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Сейча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458136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Жернов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Рисунок 3" descr="121735365700852.gif"/>
          <p:cNvPicPr/>
          <p:nvPr/>
        </p:nvPicPr>
        <p:blipFill>
          <a:blip r:embed="rId3"/>
          <a:stretch/>
        </p:blipFill>
        <p:spPr>
          <a:xfrm>
            <a:off x="1908000" y="4005360"/>
            <a:ext cx="2573640" cy="263664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pic>
        <p:nvPicPr>
          <p:cNvPr id="188" name="Рисунок 4" descr="muka_dlya_sayta.jpg"/>
          <p:cNvPicPr/>
          <p:nvPr/>
        </p:nvPicPr>
        <p:blipFill>
          <a:blip r:embed="rId4"/>
          <a:stretch/>
        </p:blipFill>
        <p:spPr>
          <a:xfrm>
            <a:off x="3635280" y="4076640"/>
            <a:ext cx="2214720" cy="256536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pic>
        <p:nvPicPr>
          <p:cNvPr id="189" name="Рисунок 5" descr="dsc_7375.jpg"/>
          <p:cNvPicPr/>
          <p:nvPr/>
        </p:nvPicPr>
        <p:blipFill>
          <a:blip r:embed="rId5"/>
          <a:stretch/>
        </p:blipFill>
        <p:spPr>
          <a:xfrm>
            <a:off x="5435640" y="4292640"/>
            <a:ext cx="1660320" cy="221436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</p:spTree>
  </p:cSld>
  <p:transition>
    <p:zoom dir="ou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Рисунок 10" descr="image012.jpg"/>
          <p:cNvPicPr/>
          <p:nvPr/>
        </p:nvPicPr>
        <p:blipFill>
          <a:blip r:embed="rId1"/>
          <a:stretch/>
        </p:blipFill>
        <p:spPr>
          <a:xfrm>
            <a:off x="324000" y="0"/>
            <a:ext cx="2643120" cy="380376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pic>
        <p:nvPicPr>
          <p:cNvPr id="191" name="Рисунок 4" descr="324426783_yFYGa-S.jpg"/>
          <p:cNvPicPr/>
          <p:nvPr/>
        </p:nvPicPr>
        <p:blipFill>
          <a:blip r:embed="rId2"/>
          <a:stretch/>
        </p:blipFill>
        <p:spPr>
          <a:xfrm>
            <a:off x="755640" y="1700280"/>
            <a:ext cx="3753000" cy="287640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pic>
        <p:nvPicPr>
          <p:cNvPr id="192" name="Рисунок 3" descr="324436430_uLwcP-S.jpg"/>
          <p:cNvPicPr/>
          <p:nvPr/>
        </p:nvPicPr>
        <p:blipFill>
          <a:blip r:embed="rId3"/>
          <a:stretch/>
        </p:blipFill>
        <p:spPr>
          <a:xfrm>
            <a:off x="250920" y="3781440"/>
            <a:ext cx="4033800" cy="307656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4932360" y="1341360"/>
            <a:ext cx="3887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На   большом хлебозаводе                Станешь тестом ты, мука.               Там при всём честном народе                Уж нажмут тебе бо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Тесту тесно, - мало места.                               « Ох, пустите!» - шепчет тесто.                - ладно, пустим, - в печь дава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7" dur="2000" fill="hold"/>
                                        <p:tgtEl>
                                          <p:spTgt spid="1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1" dur="2000" fill="hold"/>
                                        <p:tgtEl>
                                          <p:spTgt spid="1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3962160" cy="4032360"/>
          </a:xfrm>
          <a:prstGeom prst="rect">
            <a:avLst/>
          </a:prstGeom>
          <a:ln w="57240">
            <a:solidFill>
              <a:srgbClr val="cccc00"/>
            </a:solidFill>
            <a:miter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780000" y="2349360"/>
            <a:ext cx="5364000" cy="403236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4278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Пекарни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26920" y="1557360"/>
            <a:ext cx="20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Раньш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12000" y="98100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Сейчас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Рисунок 3" descr="2285_200.jpg"/>
          <p:cNvPicPr/>
          <p:nvPr/>
        </p:nvPicPr>
        <p:blipFill>
          <a:blip r:embed="rId1"/>
          <a:stretch/>
        </p:blipFill>
        <p:spPr>
          <a:xfrm>
            <a:off x="4140360" y="3213000"/>
            <a:ext cx="4572000" cy="320040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sp>
        <p:nvSpPr>
          <p:cNvPr id="200" name="Прямоугольник 4"/>
          <p:cNvSpPr/>
          <p:nvPr/>
        </p:nvSpPr>
        <p:spPr>
          <a:xfrm flipV="1" rot="10800000">
            <a:off x="1356840" y="-360"/>
            <a:ext cx="464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леб готов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Рисунок 8" descr="big_rossiya_produktyi_pitaniya_selskoe_hozyaystvo_1.jpg"/>
          <p:cNvPicPr/>
          <p:nvPr/>
        </p:nvPicPr>
        <p:blipFill>
          <a:blip r:embed="rId2"/>
          <a:stretch/>
        </p:blipFill>
        <p:spPr>
          <a:xfrm>
            <a:off x="324000" y="1052640"/>
            <a:ext cx="4608360" cy="331776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</p:spTree>
  </p:cSld>
  <p:transition>
    <p:zoom dir="out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-360" y="1628280"/>
            <a:ext cx="52196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Народился карава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В нем земли родимой соки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Солнца свет весёлый в нем…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Уплетай за обе щёки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Вырастай богатырё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076720" y="333360"/>
            <a:ext cx="4067280" cy="306396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427640" y="3645000"/>
            <a:ext cx="4395600" cy="293040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</p:spTree>
  </p:cSld>
  <p:transition>
    <p:zoom dir="ou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Прямоугольник 1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Его везут в магазины.   Покупайте и кушайт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Рисунок 2" descr="828.jpg"/>
          <p:cNvPicPr/>
          <p:nvPr/>
        </p:nvPicPr>
        <p:blipFill>
          <a:blip r:embed="rId1"/>
          <a:stretch/>
        </p:blipFill>
        <p:spPr>
          <a:xfrm>
            <a:off x="3276720" y="836640"/>
            <a:ext cx="5111640" cy="383364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pic>
        <p:nvPicPr>
          <p:cNvPr id="207" name="Рисунок 4" descr="B_356x361_ourbreads.jpg"/>
          <p:cNvPicPr/>
          <p:nvPr/>
        </p:nvPicPr>
        <p:blipFill>
          <a:blip r:embed="rId2"/>
          <a:stretch/>
        </p:blipFill>
        <p:spPr>
          <a:xfrm>
            <a:off x="4859280" y="2492280"/>
            <a:ext cx="3952800" cy="400680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pic>
        <p:nvPicPr>
          <p:cNvPr id="208" name="Рисунок 5" descr="hleb.gif"/>
          <p:cNvPicPr/>
          <p:nvPr/>
        </p:nvPicPr>
        <p:blipFill>
          <a:blip r:embed="rId3"/>
          <a:stretch/>
        </p:blipFill>
        <p:spPr>
          <a:xfrm>
            <a:off x="250920" y="692280"/>
            <a:ext cx="5041800" cy="431316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pic>
        <p:nvPicPr>
          <p:cNvPr id="209" name="Рисунок 7" descr="06hleb3.jpg"/>
          <p:cNvPicPr/>
          <p:nvPr/>
        </p:nvPicPr>
        <p:blipFill>
          <a:blip r:embed="rId4"/>
          <a:stretch/>
        </p:blipFill>
        <p:spPr>
          <a:xfrm>
            <a:off x="468360" y="1773360"/>
            <a:ext cx="6840360" cy="470376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</p:spTree>
  </p:cSld>
  <p:transition>
    <p:zoom dir="out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3" descr="117248198072989.jpg"/>
          <p:cNvPicPr/>
          <p:nvPr/>
        </p:nvPicPr>
        <p:blipFill>
          <a:blip r:embed="rId1"/>
          <a:stretch/>
        </p:blipFill>
        <p:spPr>
          <a:xfrm>
            <a:off x="179280" y="0"/>
            <a:ext cx="2428920" cy="253836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pic>
        <p:nvPicPr>
          <p:cNvPr id="123" name="Рисунок 4" descr="ceh5p.JPG"/>
          <p:cNvPicPr/>
          <p:nvPr/>
        </p:nvPicPr>
        <p:blipFill>
          <a:blip r:embed="rId2"/>
          <a:stretch/>
        </p:blipFill>
        <p:spPr>
          <a:xfrm>
            <a:off x="3492360" y="404640"/>
            <a:ext cx="3024360" cy="210204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pic>
        <p:nvPicPr>
          <p:cNvPr id="124" name="Рисунок 5" descr="00010754.jpg"/>
          <p:cNvPicPr/>
          <p:nvPr/>
        </p:nvPicPr>
        <p:blipFill>
          <a:blip r:embed="rId3"/>
          <a:stretch/>
        </p:blipFill>
        <p:spPr>
          <a:xfrm>
            <a:off x="6300720" y="3500280"/>
            <a:ext cx="2489400" cy="3143520"/>
          </a:xfrm>
          <a:prstGeom prst="rect">
            <a:avLst/>
          </a:prstGeom>
          <a:ln w="76320">
            <a:solidFill>
              <a:srgbClr val="cccc00"/>
            </a:solidFill>
            <a:prstDash val="sysDot"/>
            <a:miter/>
          </a:ln>
        </p:spPr>
      </p:pic>
      <p:pic>
        <p:nvPicPr>
          <p:cNvPr id="125" name="Рисунок 6" descr="00010770.jpg"/>
          <p:cNvPicPr/>
          <p:nvPr/>
        </p:nvPicPr>
        <p:blipFill>
          <a:blip r:embed="rId4"/>
          <a:stretch/>
        </p:blipFill>
        <p:spPr>
          <a:xfrm>
            <a:off x="6948360" y="260280"/>
            <a:ext cx="1828800" cy="230364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pic>
        <p:nvPicPr>
          <p:cNvPr id="126" name="Рисунок 7" descr="170155.JPEG"/>
          <p:cNvPicPr/>
          <p:nvPr/>
        </p:nvPicPr>
        <p:blipFill>
          <a:blip r:embed="rId5"/>
          <a:stretch/>
        </p:blipFill>
        <p:spPr>
          <a:xfrm>
            <a:off x="2987640" y="4005360"/>
            <a:ext cx="3009960" cy="250812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pic>
        <p:nvPicPr>
          <p:cNvPr id="127" name="Рисунок 8" descr="khleb2.jpg"/>
          <p:cNvPicPr/>
          <p:nvPr/>
        </p:nvPicPr>
        <p:blipFill>
          <a:blip r:embed="rId6"/>
          <a:stretch/>
        </p:blipFill>
        <p:spPr>
          <a:xfrm>
            <a:off x="324000" y="3535200"/>
            <a:ext cx="2214360" cy="3322800"/>
          </a:xfrm>
          <a:prstGeom prst="rect">
            <a:avLst/>
          </a:prstGeom>
          <a:ln w="57240">
            <a:solidFill>
              <a:srgbClr val="cccc00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-46080" y="2569320"/>
            <a:ext cx="836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Как хлеб на стол, так и стол престол, а как хлеба ни куска, так и стол доск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"/>
          <p:cNvSpPr/>
          <p:nvPr/>
        </p:nvSpPr>
        <p:spPr>
          <a:xfrm>
            <a:off x="0" y="581400"/>
            <a:ext cx="292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Вырос в поле дом, 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Полон дом зерном, 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Стены позолочены, 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Ставни заколочены, 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Ходит дом ходуном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На столбе золот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Прямоугольник 4"/>
          <p:cNvSpPr/>
          <p:nvPr/>
        </p:nvSpPr>
        <p:spPr>
          <a:xfrm>
            <a:off x="5429160" y="642960"/>
            <a:ext cx="3929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Парикмахер необычный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Гладко чуб стрижёт пшеничный, 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И лежат за ним вразброс 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Копны золотых воло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Прямоугольник 5"/>
          <p:cNvSpPr/>
          <p:nvPr/>
        </p:nvSpPr>
        <p:spPr>
          <a:xfrm>
            <a:off x="826920" y="3357720"/>
            <a:ext cx="27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Был я сыпучим, 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Потом – тягучим, 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В огонь попал –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Мягким стал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6"/>
          <p:cNvSpPr/>
          <p:nvPr/>
        </p:nvSpPr>
        <p:spPr>
          <a:xfrm>
            <a:off x="2446920" y="0"/>
            <a:ext cx="431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696"/>
                </a:solidFill>
                <a:latin typeface="Times New Roman"/>
                <a:ea typeface="Times New Roman"/>
              </a:rPr>
              <a:t>Отгадайте загадк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Рисунок 7" descr="03_01_00.jpg"/>
          <p:cNvPicPr/>
          <p:nvPr/>
        </p:nvPicPr>
        <p:blipFill>
          <a:blip r:embed="rId1"/>
          <a:stretch/>
        </p:blipFill>
        <p:spPr>
          <a:xfrm>
            <a:off x="2771640" y="765000"/>
            <a:ext cx="2381400" cy="266724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pic>
        <p:nvPicPr>
          <p:cNvPr id="215" name="Рисунок 8" descr="kzs7.jpg"/>
          <p:cNvPicPr/>
          <p:nvPr/>
        </p:nvPicPr>
        <p:blipFill>
          <a:blip r:embed="rId2"/>
          <a:stretch/>
        </p:blipFill>
        <p:spPr>
          <a:xfrm>
            <a:off x="5435640" y="2637000"/>
            <a:ext cx="3449520" cy="231588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pic>
        <p:nvPicPr>
          <p:cNvPr id="216" name="Рисунок 10" descr="324420153_YFXGx-M.jpg"/>
          <p:cNvPicPr/>
          <p:nvPr/>
        </p:nvPicPr>
        <p:blipFill>
          <a:blip r:embed="rId3"/>
          <a:stretch/>
        </p:blipFill>
        <p:spPr>
          <a:xfrm>
            <a:off x="3635280" y="5072040"/>
            <a:ext cx="2678040" cy="178596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pic>
        <p:nvPicPr>
          <p:cNvPr id="217" name="Рисунок 11" descr="a285891435d8.jpg"/>
          <p:cNvPicPr/>
          <p:nvPr/>
        </p:nvPicPr>
        <p:blipFill>
          <a:blip r:embed="rId4"/>
          <a:stretch/>
        </p:blipFill>
        <p:spPr>
          <a:xfrm>
            <a:off x="900000" y="5057640"/>
            <a:ext cx="2703600" cy="180036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</p:spTree>
  </p:cSld>
  <p:transition>
    <p:zoom dir="out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9" descr="pirog_sladkiy.jpg"/>
          <p:cNvPicPr/>
          <p:nvPr/>
        </p:nvPicPr>
        <p:blipFill>
          <a:blip r:embed="rId1"/>
          <a:stretch/>
        </p:blipFill>
        <p:spPr>
          <a:xfrm>
            <a:off x="324000" y="3860640"/>
            <a:ext cx="3214440" cy="263556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sp>
        <p:nvSpPr>
          <p:cNvPr id="219" name="AutoShape 2"/>
          <p:cNvSpPr/>
          <p:nvPr/>
        </p:nvSpPr>
        <p:spPr>
          <a:xfrm>
            <a:off x="127080" y="1006560"/>
            <a:ext cx="27813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3"/>
          <p:cNvSpPr/>
          <p:nvPr/>
        </p:nvSpPr>
        <p:spPr>
          <a:xfrm>
            <a:off x="0" y="214200"/>
            <a:ext cx="328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Кольцо не простое,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Кольцо золотое,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Блестящее, хрустящее,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Всем на загляденье...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Ну и объеденье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4"/>
          <p:cNvSpPr/>
          <p:nvPr/>
        </p:nvSpPr>
        <p:spPr>
          <a:xfrm>
            <a:off x="1714680" y="2205000"/>
            <a:ext cx="415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Что на сковородку наливают 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Да вчетверо сгибают?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Прямоугольник 5"/>
          <p:cNvSpPr/>
          <p:nvPr/>
        </p:nvSpPr>
        <p:spPr>
          <a:xfrm>
            <a:off x="3714840" y="4919760"/>
            <a:ext cx="3786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В печь сперва его сажают, 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А как выйдет он оттуда, 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То кладут его на блюдо. 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Ну, теперь зови ребят! 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По кусочку все съедят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Рисунок 6" descr="всч.jpg"/>
          <p:cNvPicPr/>
          <p:nvPr/>
        </p:nvPicPr>
        <p:blipFill>
          <a:blip r:embed="rId2"/>
          <a:stretch/>
        </p:blipFill>
        <p:spPr>
          <a:xfrm>
            <a:off x="3132000" y="260280"/>
            <a:ext cx="3214800" cy="178596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pic>
        <p:nvPicPr>
          <p:cNvPr id="224" name="Рисунок 8" descr="adad376a1f2a.jpg"/>
          <p:cNvPicPr/>
          <p:nvPr/>
        </p:nvPicPr>
        <p:blipFill>
          <a:blip r:embed="rId3"/>
          <a:stretch/>
        </p:blipFill>
        <p:spPr>
          <a:xfrm>
            <a:off x="6156360" y="2133720"/>
            <a:ext cx="2571840" cy="251604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</p:spTree>
  </p:cSld>
  <p:transition>
    <p:zoom dir="out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1"/>
          <p:cNvSpPr/>
          <p:nvPr/>
        </p:nvSpPr>
        <p:spPr>
          <a:xfrm>
            <a:off x="0" y="0"/>
            <a:ext cx="9144000" cy="68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ешь ли ты пословицы о хлеб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Хлеб – всему голо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Рыба – вода, ягода – трава, а хлеб – всему голо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Хлеб – батюшка, водица – матуш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Хлеб да соль – это труд да любов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Хлеб на стол – так и стол престол; а хлеба ни куска – так и стол дос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Хлеб да вода – крестьянская е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Плох обед, когда хлеба н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8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8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2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2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80"/>
                                        <p:tgtEl>
                                          <p:spTgt spid="2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2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2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2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1"/>
          <p:cNvSpPr/>
          <p:nvPr/>
        </p:nvSpPr>
        <p:spPr>
          <a:xfrm>
            <a:off x="285840" y="2357280"/>
            <a:ext cx="492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У славян существовал обыча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люди, преломившие хлеб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тановятся друзьями на всю жизн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Прямоугольник 2"/>
          <p:cNvSpPr/>
          <p:nvPr/>
        </p:nvSpPr>
        <p:spPr>
          <a:xfrm>
            <a:off x="468360" y="4149720"/>
            <a:ext cx="727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Хлеб-батюшка, хлеб-кормилец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стается самой большой ценность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 хлебом провожали на фрон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 хлебом встречали вернувшихся с войны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 хлебом солью встречают дорогих гост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Прямоугольник 3"/>
          <p:cNvSpPr/>
          <p:nvPr/>
        </p:nvSpPr>
        <p:spPr>
          <a:xfrm>
            <a:off x="179280" y="907920"/>
            <a:ext cx="45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Хлеб на нашем столе появляется благодаря нелёгкому труд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людей 120 професс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Рисунок 4" descr="F2006080916271900128.jpg"/>
          <p:cNvPicPr/>
          <p:nvPr/>
        </p:nvPicPr>
        <p:blipFill>
          <a:blip r:embed="rId1"/>
          <a:stretch/>
        </p:blipFill>
        <p:spPr>
          <a:xfrm>
            <a:off x="4932360" y="549360"/>
            <a:ext cx="4211640" cy="3398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30" name="Прямоугольник 6"/>
          <p:cNvSpPr/>
          <p:nvPr/>
        </p:nvSpPr>
        <p:spPr>
          <a:xfrm>
            <a:off x="236160" y="214200"/>
            <a:ext cx="377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Знаешь ли ты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4" dur="2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"/>
          <p:cNvSpPr/>
          <p:nvPr/>
        </p:nvSpPr>
        <p:spPr>
          <a:xfrm>
            <a:off x="285840" y="240480"/>
            <a:ext cx="5143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о время Великой Отечественной войны жителям Ленинграда выпала страшная доля – 900 дней вражеской блокады. Жители города получали 125 г хлеба на весь день, но именно он, этот хлеб помог ленинградцам не только выстоять, но и победи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641803 ленинградца погибли в дни блокады от голод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а Пискаревском кладбище тысячи могил. Около одной могилы стоят люди и молча плачут. На могиле лежит ломтик хлеба, а рядом слова: «Доченька, если бы я могла тебе дать его тогда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Рисунок 2" descr="46-7-1.jpg"/>
          <p:cNvPicPr/>
          <p:nvPr/>
        </p:nvPicPr>
        <p:blipFill>
          <a:blip r:embed="rId1"/>
          <a:stretch/>
        </p:blipFill>
        <p:spPr>
          <a:xfrm>
            <a:off x="5724360" y="404640"/>
            <a:ext cx="2857680" cy="3648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233" name="Рисунок 3" descr="34.gif"/>
          <p:cNvPicPr/>
          <p:nvPr/>
        </p:nvPicPr>
        <p:blipFill>
          <a:blip r:embed="rId2"/>
          <a:stretch/>
        </p:blipFill>
        <p:spPr>
          <a:xfrm>
            <a:off x="5867280" y="4653000"/>
            <a:ext cx="2643480" cy="17571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5219640" y="3357720"/>
            <a:ext cx="2232000" cy="1638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Рисунок 5" descr="icon.jpg"/>
          <p:cNvPicPr/>
          <p:nvPr/>
        </p:nvPicPr>
        <p:blipFill>
          <a:blip r:embed="rId1"/>
          <a:stretch/>
        </p:blipFill>
        <p:spPr>
          <a:xfrm>
            <a:off x="5796000" y="4221000"/>
            <a:ext cx="2786040" cy="184500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sp>
        <p:nvSpPr>
          <p:cNvPr id="236" name="Rectangle 1"/>
          <p:cNvSpPr/>
          <p:nvPr/>
        </p:nvSpPr>
        <p:spPr>
          <a:xfrm>
            <a:off x="0" y="909720"/>
            <a:ext cx="5076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Мальчик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Ногою пинающий хлеб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Мальчик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Голодных не знающий ле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Помн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Что были лихие го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Хлеб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Это жизнь, а не просто е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Хлебом клялис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За хлеб умира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Не для того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Чтоб в футбол им игра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Рисунок 4" descr="_1201604686.jpg"/>
          <p:cNvPicPr/>
          <p:nvPr/>
        </p:nvPicPr>
        <p:blipFill>
          <a:blip r:embed="rId2"/>
          <a:stretch/>
        </p:blipFill>
        <p:spPr>
          <a:xfrm>
            <a:off x="5076720" y="404640"/>
            <a:ext cx="3651480" cy="273852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</p:spTree>
  </p:cSld>
  <p:transition>
    <p:zoom dir="out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684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В слове народная мудрость таится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Вот, что в народе у нас говорится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«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Если ты хлеб ценить перестал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Ты человеком быть перестал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!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2" dur="2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4" dur="2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1"/>
          <p:cNvSpPr/>
          <p:nvPr/>
        </p:nvSpPr>
        <p:spPr>
          <a:xfrm>
            <a:off x="500040" y="500040"/>
            <a:ext cx="6357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Хлеб ржаной, батоны, булки</a:t>
            </a:r>
            <a:br>
              <a:rPr sz="3600"/>
            </a:br>
            <a:r>
              <a:rPr b="1" i="1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Не добудешь на прогулке.</a:t>
            </a:r>
            <a:br>
              <a:rPr sz="3600"/>
            </a:br>
            <a:r>
              <a:rPr b="1" i="1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Люди хлеб в полях лелеют,</a:t>
            </a:r>
            <a:br>
              <a:rPr sz="3600"/>
            </a:br>
            <a:r>
              <a:rPr b="1" i="1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Сил для хлеба не жалеют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Рисунок 2" descr="khleb2.jpg"/>
          <p:cNvPicPr/>
          <p:nvPr/>
        </p:nvPicPr>
        <p:blipFill>
          <a:blip r:embed="rId1"/>
          <a:stretch/>
        </p:blipFill>
        <p:spPr>
          <a:xfrm>
            <a:off x="6156360" y="2205000"/>
            <a:ext cx="2571840" cy="385776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pic>
        <p:nvPicPr>
          <p:cNvPr id="241" name="Picture 3" descr="http://www.timeout.ru/pix/48944.jpeg"/>
          <p:cNvPicPr/>
          <p:nvPr/>
        </p:nvPicPr>
        <p:blipFill>
          <a:blip r:embed="rId2"/>
          <a:stretch/>
        </p:blipFill>
        <p:spPr>
          <a:xfrm>
            <a:off x="324000" y="3645000"/>
            <a:ext cx="3743280" cy="260964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</p:spTree>
  </p:cSld>
  <p:transition>
    <p:zoom dir="out"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1"/>
          <p:cNvSpPr/>
          <p:nvPr/>
        </p:nvSpPr>
        <p:spPr>
          <a:xfrm>
            <a:off x="285840" y="-214200"/>
            <a:ext cx="3857400" cy="70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Бул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Три паренька по переулку 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Играя будто бы в футбол,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Туда – сюда гоняли булку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И забивали ею гол.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Шел мимо незнакомый дядя,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Остановился и вздохнул,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И, на ребят почти не глядя,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К той булке руку протянул.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Потом, насупившись сердито,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Он долго пыль с нее сдувал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И вдруг спокойно и открыто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При всех ее поцеловал.</a:t>
            </a: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Прямоугольник 2"/>
          <p:cNvSpPr/>
          <p:nvPr/>
        </p:nvSpPr>
        <p:spPr>
          <a:xfrm>
            <a:off x="4284720" y="692280"/>
            <a:ext cx="442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Вы кто такой? – спросили дети,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Забыв на время про футбол.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 Я пекарь! – человек ответил,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И с булкой медленно ушел.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И это слово пахло хлебом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И той особой теплотой,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Которой налиты под небом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Моря пшеницы золото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С. Михалко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932360" y="4076640"/>
            <a:ext cx="3384720" cy="255132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http://www.sinergia.by/upload/img/hleb.jpg"/>
          <p:cNvPicPr/>
          <p:nvPr/>
        </p:nvPicPr>
        <p:blipFill>
          <a:blip r:embed="rId1"/>
          <a:stretch/>
        </p:blipFill>
        <p:spPr>
          <a:xfrm>
            <a:off x="5076720" y="189000"/>
            <a:ext cx="3673440" cy="367344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pic>
        <p:nvPicPr>
          <p:cNvPr id="246" name="Picture 4" descr="http://expomenu.ru/images/bread.gif"/>
          <p:cNvPicPr/>
          <p:nvPr/>
        </p:nvPicPr>
        <p:blipFill>
          <a:blip r:embed="rId2"/>
          <a:stretch/>
        </p:blipFill>
        <p:spPr>
          <a:xfrm>
            <a:off x="250920" y="189000"/>
            <a:ext cx="2666880" cy="247644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pic>
        <p:nvPicPr>
          <p:cNvPr id="247" name="Picture 6" descr="http://foto-jaluzi.ru/pictures/26069.jpg"/>
          <p:cNvPicPr/>
          <p:nvPr/>
        </p:nvPicPr>
        <p:blipFill>
          <a:blip r:embed="rId3"/>
          <a:stretch/>
        </p:blipFill>
        <p:spPr>
          <a:xfrm>
            <a:off x="6156360" y="4214880"/>
            <a:ext cx="2643120" cy="264312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sp>
        <p:nvSpPr>
          <p:cNvPr id="248" name=""/>
          <p:cNvSpPr/>
          <p:nvPr/>
        </p:nvSpPr>
        <p:spPr>
          <a:xfrm>
            <a:off x="0" y="2679840"/>
            <a:ext cx="684036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Ты запомни, дружок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золотые слов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«Хлеб – всему голова, хлеб всему голова!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7" dur="2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-360" y="357120"/>
            <a:ext cx="871524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– </a:t>
            </a: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В детстве я думал, что батоны растут на поле, – сказал Саша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– </a:t>
            </a: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А я думал</a:t>
            </a: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а</a:t>
            </a: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, что хлеб делают в магазине!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1" i="1" lang="en-US" sz="39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–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же появился хлеб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Рисунок 3" descr="1158.gif"/>
          <p:cNvPicPr/>
          <p:nvPr/>
        </p:nvPicPr>
        <p:blipFill>
          <a:blip r:embed="rId1"/>
          <a:stretch/>
        </p:blipFill>
        <p:spPr>
          <a:xfrm>
            <a:off x="7885080" y="692280"/>
            <a:ext cx="1071720" cy="192852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4" descr="Рисунок1.gif"/>
          <p:cNvPicPr/>
          <p:nvPr/>
        </p:nvPicPr>
        <p:blipFill>
          <a:blip r:embed="rId2"/>
          <a:stretch/>
        </p:blipFill>
        <p:spPr>
          <a:xfrm>
            <a:off x="324000" y="3716280"/>
            <a:ext cx="1428480" cy="252720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5" descr="J0234010.WMF"/>
          <p:cNvPicPr/>
          <p:nvPr/>
        </p:nvPicPr>
        <p:blipFill>
          <a:blip r:embed="rId3"/>
          <a:stretch/>
        </p:blipFill>
        <p:spPr>
          <a:xfrm rot="2388600">
            <a:off x="468000" y="836640"/>
            <a:ext cx="1165320" cy="9558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7" descr="baranki24-03.jpg"/>
          <p:cNvPicPr/>
          <p:nvPr/>
        </p:nvPicPr>
        <p:blipFill>
          <a:blip r:embed="rId4"/>
          <a:stretch/>
        </p:blipFill>
        <p:spPr>
          <a:xfrm>
            <a:off x="7020000" y="4437000"/>
            <a:ext cx="1946160" cy="1549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рямоугольник 1"/>
          <p:cNvSpPr/>
          <p:nvPr/>
        </p:nvSpPr>
        <p:spPr>
          <a:xfrm>
            <a:off x="714240" y="114300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Georgia"/>
              </a:rPr>
              <a:t>Фото: </a:t>
            </a:r>
            <a:r>
              <a:rPr b="0" lang="en-US" sz="1800" spc="-1" strike="noStrike">
                <a:solidFill>
                  <a:srgbClr val="ffffcc"/>
                </a:solidFill>
                <a:latin typeface="Calibri"/>
              </a:rPr>
              <a:t>http://images.google.ru/images?ndsp=20&amp;hl=ru&amp;newwindow=1&amp;q=%D1%85%D0%BB%D0%B5%D0%B1%D0%BE%D0%B1%D1%83%D0%BB%D0%BE%D1%87%D0%BD%D1%8B%D0%B5+%D0%B8%D0%B7%D0%B4%D0%B5%D0%BB%D0%B8%D1%8F&amp;start=120&amp;sa=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Box 2"/>
          <p:cNvSpPr/>
          <p:nvPr/>
        </p:nvSpPr>
        <p:spPr>
          <a:xfrm>
            <a:off x="3286080" y="28584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eorgia"/>
              </a:rPr>
              <a:t>Ресурс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Прямоугольник 3"/>
          <p:cNvSpPr/>
          <p:nvPr/>
        </p:nvSpPr>
        <p:spPr>
          <a:xfrm>
            <a:off x="829800" y="3213000"/>
            <a:ext cx="416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http://www.stihi-rus.ru/1/Mihalkov/7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Прямоугольник 4"/>
          <p:cNvSpPr/>
          <p:nvPr/>
        </p:nvSpPr>
        <p:spPr>
          <a:xfrm>
            <a:off x="857160" y="3500280"/>
            <a:ext cx="735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www.eda-server.ru/cook-book/muchnye/raznoe/st00228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Box 5"/>
          <p:cNvSpPr/>
          <p:nvPr/>
        </p:nvSpPr>
        <p:spPr>
          <a:xfrm>
            <a:off x="857160" y="2857680"/>
            <a:ext cx="47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Georgia"/>
              </a:rPr>
              <a:t>Информац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Прямоугольник 6"/>
          <p:cNvSpPr/>
          <p:nvPr/>
        </p:nvSpPr>
        <p:spPr>
          <a:xfrm>
            <a:off x="861840" y="3857760"/>
            <a:ext cx="42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http://shkolazhizni.ru/archive/0/n-11559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91360" y="4365720"/>
            <a:ext cx="703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http://www.ellf.ru/uploads/posts/2009-03/1236781817_02.jp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9144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Презентация выполнена учителем начальных классов МОУ «Верхне – Ульхунская общеобразовательная школа» Забайкальского края Крысиной Т.Г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к проекту «Хлеб всему голова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1"/>
          <p:cNvSpPr/>
          <p:nvPr/>
        </p:nvSpPr>
        <p:spPr>
          <a:xfrm>
            <a:off x="3708360" y="620640"/>
            <a:ext cx="52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оугольник 2"/>
          <p:cNvSpPr/>
          <p:nvPr/>
        </p:nvSpPr>
        <p:spPr>
          <a:xfrm>
            <a:off x="1927440" y="0"/>
            <a:ext cx="479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Когда и где родился хлеб?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Рисунок 4" descr="первобытная охота.JPG"/>
          <p:cNvPicPr/>
          <p:nvPr/>
        </p:nvPicPr>
        <p:blipFill>
          <a:blip r:embed="rId1"/>
          <a:stretch/>
        </p:blipFill>
        <p:spPr>
          <a:xfrm>
            <a:off x="468360" y="2133720"/>
            <a:ext cx="4408560" cy="360972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sp>
        <p:nvSpPr>
          <p:cNvPr id="137" name="Прямоугольник 5"/>
          <p:cNvSpPr/>
          <p:nvPr/>
        </p:nvSpPr>
        <p:spPr>
          <a:xfrm>
            <a:off x="214200" y="3687840"/>
            <a:ext cx="5214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10552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Впервые хлеб появился на земле свыше пятнадцати тысяч лет назад. Жизнь наших предков в те далекие времена была нелёгкой. Главной заботой была забота о пропитании. В поисках пищи они-то и обратили внимание на злаковые растения. Эти злаки являются предками нынешних пшеницы, ржи, овса, ячмен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Когда и где родился хлеб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Древние люди заметили, что брошенное в землю зерно возвращает несколько зерен, что на рыхлой и влажной земле вырастает больше зерен. Долгое время люди употребляли в пищу зерна в сыром виде, затем научились растирать их между камнями, получая крупу, и варить ее. Так появились первые жернова, первая мука, первый хлеб. Первый хлеб имел вид жидкой каши. Она и является прародительницей хлеба.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3" descr="457.jpg"/>
          <p:cNvPicPr/>
          <p:nvPr/>
        </p:nvPicPr>
        <p:blipFill>
          <a:blip r:embed="rId1"/>
          <a:stretch/>
        </p:blipFill>
        <p:spPr>
          <a:xfrm>
            <a:off x="3203640" y="1341360"/>
            <a:ext cx="3524040" cy="518472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pic>
        <p:nvPicPr>
          <p:cNvPr id="142" name="Рисунок 7" descr="J0295767.WMF"/>
          <p:cNvPicPr/>
          <p:nvPr/>
        </p:nvPicPr>
        <p:blipFill>
          <a:blip r:embed="rId2"/>
          <a:stretch/>
        </p:blipFill>
        <p:spPr>
          <a:xfrm>
            <a:off x="0" y="4429080"/>
            <a:ext cx="1739880" cy="157176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1"/>
          <p:cNvSpPr/>
          <p:nvPr/>
        </p:nvSpPr>
        <p:spPr>
          <a:xfrm>
            <a:off x="2074680" y="428760"/>
            <a:ext cx="27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Пшениц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1"/>
          <p:cNvSpPr/>
          <p:nvPr/>
        </p:nvSpPr>
        <p:spPr>
          <a:xfrm>
            <a:off x="3276720" y="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Рож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Рисунок 2" descr="prnim.php.jpg"/>
          <p:cNvPicPr/>
          <p:nvPr/>
        </p:nvPicPr>
        <p:blipFill>
          <a:blip r:embed="rId1"/>
          <a:stretch/>
        </p:blipFill>
        <p:spPr>
          <a:xfrm>
            <a:off x="2050920" y="2781360"/>
            <a:ext cx="4824720" cy="361800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pic>
        <p:nvPicPr>
          <p:cNvPr id="146" name="Рисунок 3" descr="ear.jpg"/>
          <p:cNvPicPr/>
          <p:nvPr/>
        </p:nvPicPr>
        <p:blipFill>
          <a:blip r:embed="rId2"/>
          <a:stretch/>
        </p:blipFill>
        <p:spPr>
          <a:xfrm>
            <a:off x="395280" y="765000"/>
            <a:ext cx="2981160" cy="223704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pic>
        <p:nvPicPr>
          <p:cNvPr id="147" name="Рисунок 4" descr="img98126.jpg"/>
          <p:cNvPicPr/>
          <p:nvPr/>
        </p:nvPicPr>
        <p:blipFill>
          <a:blip r:embed="rId3"/>
          <a:stretch/>
        </p:blipFill>
        <p:spPr>
          <a:xfrm>
            <a:off x="5796000" y="620640"/>
            <a:ext cx="3143160" cy="235764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pic>
        <p:nvPicPr>
          <p:cNvPr id="148" name="Рисунок 5" descr="J0299483.WMF"/>
          <p:cNvPicPr/>
          <p:nvPr/>
        </p:nvPicPr>
        <p:blipFill>
          <a:blip r:embed="rId4"/>
          <a:stretch/>
        </p:blipFill>
        <p:spPr>
          <a:xfrm>
            <a:off x="6500880" y="3929040"/>
            <a:ext cx="1500120" cy="1924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76360" y="333360"/>
            <a:ext cx="6551640" cy="491328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  <p:sp>
        <p:nvSpPr>
          <p:cNvPr id="150" name=""/>
          <p:cNvSpPr/>
          <p:nvPr/>
        </p:nvSpPr>
        <p:spPr>
          <a:xfrm>
            <a:off x="468360" y="595008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5950080"/>
            <a:ext cx="7991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00000" y="5516640"/>
            <a:ext cx="748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Зима. Спит земля… . А что ей снится? Спелая пшениц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Ну, а людям не до сна. Приходи скорей, весна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Как хлеб к нам приходит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10552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Трактора выходят в степ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Тянут плуги на прицепе                 Режьте, плуги, как ножом                Сочный, жирный чернозём!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Рисунок 4" descr="s000239_497327.jpg"/>
          <p:cNvPicPr/>
          <p:nvPr/>
        </p:nvPicPr>
        <p:blipFill>
          <a:blip r:embed="rId1"/>
          <a:stretch/>
        </p:blipFill>
        <p:spPr>
          <a:xfrm>
            <a:off x="468360" y="1773360"/>
            <a:ext cx="4038480" cy="4037040"/>
          </a:xfrm>
          <a:prstGeom prst="rect">
            <a:avLst/>
          </a:prstGeom>
          <a:ln w="76320">
            <a:solidFill>
              <a:srgbClr val="cccc00"/>
            </a:solidFill>
            <a:miter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1:03:40Z</dcterms:created>
  <dc:creator>админ</dc:creator>
  <dc:description/>
  <dc:language>en-US</dc:language>
  <cp:lastModifiedBy>татьяна</cp:lastModifiedBy>
  <dcterms:modified xsi:type="dcterms:W3CDTF">2010-10-18T11:18:55Z</dcterms:modified>
  <cp:revision>58</cp:revision>
  <dc:subject/>
  <dc:title>Слайд 1</dc:title>
</cp:coreProperties>
</file>