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D38-267C-427F-A04B-6E6FB3E5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53E1-24BC-43A5-AB63-84F91A26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AA6-B64F-49F6-A1FE-E1493799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9162-FCA9-4AAA-8B2B-2E12618D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C73D-2BF1-4762-B66E-098D5479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4796-AE03-4DD4-BE13-0AF658E0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E9CF-4AC9-48F4-AC9E-3DC3B4FD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5D0B-F361-46E8-BA6F-0A674667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CB5E-1220-454A-895F-C3D19B88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5AD3-B016-4E1F-B0C1-F6F2B344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A046-8C8B-4EB8-8D60-3CB17DE4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6870-1B6F-429C-A94D-50B816E9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F715-DC13-4B97-A7AB-04D7746C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87BE-DC18-4D0A-80F8-F96CF35E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F377-E1C7-4ABF-AD64-F6F0BFA2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8E3D-56DB-49A8-94AE-D23EBE37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BCE2-7A9D-493C-BA5D-C60B4067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00E9-30F0-4201-88F3-92C53729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5E69-912E-459B-865A-0C50E3AA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E4E-BEA9-49FF-856D-673DCE37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215B-C0DB-4C64-AFD2-3B12FDB0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19D8-A32F-486F-99D0-CE0B8EF5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0E5-2C58-49E9-99B0-88313F9E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1C06-EA50-4690-980A-E98E44C3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A0C3-3269-4A20-8AA9-7EBE6A62D24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4EFF-3990-4E54-B91F-CC6B0525A75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5638680" cy="144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Пожарная безопасность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419720" y="281952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а, обязанности и ответственность граждан в области пожарной безопас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00034912"/>
          <p:cNvPicPr/>
          <p:nvPr/>
        </p:nvPicPr>
        <p:blipFill>
          <a:blip r:embed="rId1"/>
          <a:stretch/>
        </p:blipFill>
        <p:spPr>
          <a:xfrm>
            <a:off x="228600" y="4038480"/>
            <a:ext cx="3505320" cy="23986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41a217737875.jpg"/>
          <p:cNvPicPr/>
          <p:nvPr/>
        </p:nvPicPr>
        <p:blipFill>
          <a:blip r:embed="rId2"/>
          <a:stretch/>
        </p:blipFill>
        <p:spPr>
          <a:xfrm>
            <a:off x="6705720" y="228600"/>
            <a:ext cx="2257200" cy="2529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8"/>
          <p:cNvSpPr/>
          <p:nvPr/>
        </p:nvSpPr>
        <p:spPr>
          <a:xfrm>
            <a:off x="2295360" y="281952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ный час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6345720" y="5505480"/>
            <a:ext cx="19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готови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олов Дании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олова Ка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6" descr="1boom1-b.jpg"/>
          <p:cNvPicPr/>
          <p:nvPr/>
        </p:nvPicPr>
        <p:blipFill>
          <a:blip r:embed="rId1"/>
          <a:stretch/>
        </p:blipFill>
        <p:spPr>
          <a:xfrm>
            <a:off x="0" y="1143000"/>
            <a:ext cx="4321080" cy="3255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111"/>
          <p:cNvPicPr/>
          <p:nvPr/>
        </p:nvPicPr>
        <p:blipFill>
          <a:blip r:embed="rId2"/>
          <a:stretch/>
        </p:blipFill>
        <p:spPr>
          <a:xfrm>
            <a:off x="4427640" y="3886200"/>
            <a:ext cx="4716360" cy="2590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аиболее распространенные 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причины пожаров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в быту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Неосторожное обращение с огн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Неправильная эксплуатация печного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опления, электрооборуд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Шалости дет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Использование пиротех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457200" y="3048120"/>
            <a:ext cx="81532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обнаружении пожаров немедленно уведомить пожарную охран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 прибытия пожарной охраны принимать посильные меры по тушению пожара, спасению людей, имуще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полнять все законные требования должностных лиц по­жарной охра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2" descr="photos0-800x600.jpg"/>
          <p:cNvPicPr/>
          <p:nvPr/>
        </p:nvPicPr>
        <p:blipFill>
          <a:blip r:embed="rId1"/>
          <a:srcRect l="20003" t="1335" r="16001" b="8000"/>
          <a:stretch/>
        </p:blipFill>
        <p:spPr>
          <a:xfrm>
            <a:off x="6248520" y="380880"/>
            <a:ext cx="2438280" cy="25909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00000003192-1.jpg"/>
          <p:cNvPicPr/>
          <p:nvPr/>
        </p:nvPicPr>
        <p:blipFill>
          <a:blip r:embed="rId2"/>
          <a:srcRect l="0" t="22481" r="0" b="24809"/>
          <a:stretch/>
        </p:blipFill>
        <p:spPr>
          <a:xfrm>
            <a:off x="380880" y="304920"/>
            <a:ext cx="33242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акая  техника  используется при тушении пожаров.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ециализирован-ные пожарные маш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ные вертолеты, самоле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ные катера, су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ные поез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Рисунок 4" descr="rrs_FireTrain_2.jpg"/>
          <p:cNvPicPr/>
          <p:nvPr/>
        </p:nvPicPr>
        <p:blipFill>
          <a:blip r:embed="rId1"/>
          <a:stretch/>
        </p:blipFill>
        <p:spPr>
          <a:xfrm>
            <a:off x="6324480" y="114300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5" descr="samookupaemosty_pogarnih_4.jpg"/>
          <p:cNvPicPr/>
          <p:nvPr/>
        </p:nvPicPr>
        <p:blipFill>
          <a:blip r:embed="rId2"/>
          <a:stretch/>
        </p:blipFill>
        <p:spPr>
          <a:xfrm>
            <a:off x="3381480" y="2514600"/>
            <a:ext cx="2448000" cy="16765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Image51.jpg"/>
          <p:cNvPicPr/>
          <p:nvPr/>
        </p:nvPicPr>
        <p:blipFill>
          <a:blip r:embed="rId3"/>
          <a:srcRect l="6003" t="0" r="23332" b="28765"/>
          <a:stretch/>
        </p:blipFill>
        <p:spPr>
          <a:xfrm>
            <a:off x="5867280" y="4038480"/>
            <a:ext cx="27100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5" descr="19889.jpg"/>
          <p:cNvPicPr/>
          <p:nvPr/>
        </p:nvPicPr>
        <p:blipFill>
          <a:blip r:embed="rId1"/>
          <a:stretch/>
        </p:blipFill>
        <p:spPr>
          <a:xfrm>
            <a:off x="5105520" y="3733920"/>
            <a:ext cx="3784320" cy="28382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6386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Чем тушить огонь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324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да(кроме электропроводки, нефтепродукто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сок, земля, пена, спецпоро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шма (используется для тушения горюче-смазочных материа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j0199541"/>
          <p:cNvPicPr/>
          <p:nvPr/>
        </p:nvPicPr>
        <p:blipFill>
          <a:blip r:embed="rId2"/>
          <a:stretch/>
        </p:blipFill>
        <p:spPr>
          <a:xfrm>
            <a:off x="7358040" y="228600"/>
            <a:ext cx="1785960" cy="15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029200" y="50288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удьте осторожны с «Огнём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6" descr="00034920"/>
          <p:cNvPicPr/>
          <p:nvPr/>
        </p:nvPicPr>
        <p:blipFill>
          <a:blip r:embed="rId1"/>
          <a:stretch/>
        </p:blipFill>
        <p:spPr>
          <a:xfrm>
            <a:off x="533520" y="4114800"/>
            <a:ext cx="4267080" cy="252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20060213-6"/>
          <p:cNvPicPr/>
          <p:nvPr/>
        </p:nvPicPr>
        <p:blipFill>
          <a:blip r:embed="rId2"/>
          <a:stretch/>
        </p:blipFill>
        <p:spPr>
          <a:xfrm>
            <a:off x="6095880" y="380880"/>
            <a:ext cx="2819520" cy="43815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7"/>
          <p:cNvSpPr/>
          <p:nvPr/>
        </p:nvSpPr>
        <p:spPr>
          <a:xfrm>
            <a:off x="98280" y="838080"/>
            <a:ext cx="614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мни, соблюдение прави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тивопожарной 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это обязанность каждого жите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шей план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то наше с тобой здоров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благосостоян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аждые 4 – 5 минут в нашей стране вспыхивает пожар.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9000" y="1980720"/>
            <a:ext cx="55627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промышленных предприятиях, объектах сельского хозяйства, в учебных заведениях, детских дошкольных учреждениях и в жилых домах, при перевозках грузов на всех видах транспорта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58"/>
          <p:cNvPicPr/>
          <p:nvPr/>
        </p:nvPicPr>
        <p:blipFill>
          <a:blip r:embed="rId1"/>
          <a:stretch/>
        </p:blipFill>
        <p:spPr>
          <a:xfrm>
            <a:off x="0" y="2666880"/>
            <a:ext cx="35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00000003192-1.jpg"/>
          <p:cNvPicPr/>
          <p:nvPr/>
        </p:nvPicPr>
        <p:blipFill>
          <a:blip r:embed="rId2"/>
          <a:srcRect l="0" t="22481" r="0" b="24809"/>
          <a:stretch/>
        </p:blipFill>
        <p:spPr>
          <a:xfrm>
            <a:off x="6781680" y="5638680"/>
            <a:ext cx="18795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гонь наш друг, но иногда приходит с ним в наш дом бед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3096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02"/>
          <p:cNvPicPr/>
          <p:nvPr/>
        </p:nvPicPr>
        <p:blipFill>
          <a:blip r:embed="rId1"/>
          <a:stretch/>
        </p:blipFill>
        <p:spPr>
          <a:xfrm>
            <a:off x="228600" y="1523880"/>
            <a:ext cx="8534520" cy="5181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02"/>
          <p:cNvPicPr/>
          <p:nvPr/>
        </p:nvPicPr>
        <p:blipFill>
          <a:blip r:embed="rId2"/>
          <a:stretch/>
        </p:blipFill>
        <p:spPr>
          <a:xfrm>
            <a:off x="0" y="152388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6" descr="1105_02BC020D.jpg"/>
          <p:cNvPicPr/>
          <p:nvPr/>
        </p:nvPicPr>
        <p:blipFill>
          <a:blip r:embed="rId1"/>
          <a:stretch/>
        </p:blipFill>
        <p:spPr>
          <a:xfrm>
            <a:off x="4724280" y="152280"/>
            <a:ext cx="4048200" cy="2695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41320"/>
            <a:ext cx="3657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з истор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32004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49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у, пожаром  в Дрездене, был уничтожен весь гор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547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ду - 21 июня в Москве, погибло при пожаре 1700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66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у в Лондоне, со 2  по 6 сентября «большой огонь» поглотил 14000 домов, лишил дома 200000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начение огня на разных этапах развития общества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5410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80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Обогрев в холодное время го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Защита от диких животн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риготовление пищ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Обработка и изготовление орудий тру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Освещ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5" descr="1663382000185aa54b0b6ef051ff42e366f79b70c5.jpg"/>
          <p:cNvPicPr/>
          <p:nvPr/>
        </p:nvPicPr>
        <p:blipFill>
          <a:blip r:embed="rId1"/>
          <a:stretch/>
        </p:blipFill>
        <p:spPr>
          <a:xfrm>
            <a:off x="5686560" y="1523880"/>
            <a:ext cx="30002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жа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6560"/>
            <a:ext cx="822960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никает, когда огонь выходит из-под контроля человека и процесс горения становится неуправляем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00034909"/>
          <p:cNvPicPr/>
          <p:nvPr/>
        </p:nvPicPr>
        <p:blipFill>
          <a:blip r:embed="rId1"/>
          <a:stretch/>
        </p:blipFill>
        <p:spPr>
          <a:xfrm>
            <a:off x="457200" y="3657600"/>
            <a:ext cx="4465800" cy="2990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00034924"/>
          <p:cNvPicPr/>
          <p:nvPr/>
        </p:nvPicPr>
        <p:blipFill>
          <a:blip r:embed="rId2"/>
          <a:stretch/>
        </p:blipFill>
        <p:spPr>
          <a:xfrm>
            <a:off x="5410080" y="3657600"/>
            <a:ext cx="26449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жар – это неконтролируемый процесс горения , сопровождающийся уничтожением материальных ценностей и создающий опасность для жизни и здоровья людей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4419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ведение при пожаре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 школе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 пожаре сообщить учителю(любому взрослому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кричи, выполняй требования руководител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аникова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кидай школу вместе с класс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ле выхода из школы не  уходи без разре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редпринимай никаких действий без соглас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3" descr="MCj02902930000[1]"/>
          <p:cNvPicPr/>
          <p:nvPr/>
        </p:nvPicPr>
        <p:blipFill>
          <a:blip r:embed="rId1"/>
          <a:stretch/>
        </p:blipFill>
        <p:spPr>
          <a:xfrm>
            <a:off x="7308720" y="189000"/>
            <a:ext cx="149724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пасность огня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окая температура (вызывает ожоги, смерть людей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азованность (удушает, отравляет людей)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ымление (мешает тушить пожар, спасать людей)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ры и пламя ( вызывают новые очаги возгорани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j0285498"/>
          <p:cNvPicPr/>
          <p:nvPr/>
        </p:nvPicPr>
        <p:blipFill>
          <a:blip r:embed="rId1"/>
          <a:stretch/>
        </p:blipFill>
        <p:spPr>
          <a:xfrm>
            <a:off x="6858000" y="152280"/>
            <a:ext cx="136044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Валерий Рыбаков</cp:lastModifiedBy>
  <dcterms:modified xsi:type="dcterms:W3CDTF">2017-09-28T11:34:00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