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D48-9CBF-4DB8-8EED-29D25672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9A8-EAC6-4AFE-AAA8-FA889D91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A2AF-0BE8-434B-A0E9-42753006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141-7616-4196-A11D-6FFB9CDF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6353-6ED5-4D3A-8A1A-F180F686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A326-14EA-4BF9-8729-5B873D32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3B50-4523-49B9-B32F-76EAFDCD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C98D-1812-4940-AD32-65096B90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1E13-415F-4E3C-B1E4-8E9B00CA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BF95-A6A5-40E6-8692-10D12B5B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E707-8AEB-40FF-9265-23304E95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C46-C53F-4B41-A109-E9BB7440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9BE4-3A3E-4E4B-A415-297A4AEA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D832-77DB-4619-8D0B-ABA71251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64B7-822C-48A4-81C4-6CBDD441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98D8-13F0-4E2F-A549-4A5B898D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A913-0EB5-45B9-AA6F-F8799433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3DE-DAC4-4C74-BC1A-F6353E62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554-A445-416A-893E-E047DE67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E55-CFC9-4191-B88B-3EF07709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4CE-ED65-4E4D-AEF6-D8D227FB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9F8-B85A-4190-A577-2F1F67BF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438-C490-4F50-A5EC-860FA0E2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264-01F9-42D2-8A15-9B9BA8B8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0BF4-4CF5-4A9C-BB5E-97F8D0E6C9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3662-D283-4DBF-A7CA-FEAADAAE665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Пожарная безопасность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419720" y="281952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а, обязанности и ответственность граждан в области пожарной безопас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00034912"/>
          <p:cNvPicPr/>
          <p:nvPr/>
        </p:nvPicPr>
        <p:blipFill>
          <a:blip r:embed="rId1"/>
          <a:stretch/>
        </p:blipFill>
        <p:spPr>
          <a:xfrm>
            <a:off x="228600" y="4038480"/>
            <a:ext cx="3505320" cy="23986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41a217737875.jpg"/>
          <p:cNvPicPr/>
          <p:nvPr/>
        </p:nvPicPr>
        <p:blipFill>
          <a:blip r:embed="rId2"/>
          <a:stretch/>
        </p:blipFill>
        <p:spPr>
          <a:xfrm>
            <a:off x="6705720" y="228600"/>
            <a:ext cx="2257200" cy="2529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8"/>
          <p:cNvSpPr/>
          <p:nvPr/>
        </p:nvSpPr>
        <p:spPr>
          <a:xfrm>
            <a:off x="2295360" y="281952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ный час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6345720" y="5505480"/>
            <a:ext cx="19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готов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олов Дани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олова Ка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6" descr="1boom1-b.jpg"/>
          <p:cNvPicPr/>
          <p:nvPr/>
        </p:nvPicPr>
        <p:blipFill>
          <a:blip r:embed="rId1"/>
          <a:stretch/>
        </p:blipFill>
        <p:spPr>
          <a:xfrm>
            <a:off x="0" y="1143000"/>
            <a:ext cx="4321080" cy="3255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111"/>
          <p:cNvPicPr/>
          <p:nvPr/>
        </p:nvPicPr>
        <p:blipFill>
          <a:blip r:embed="rId2"/>
          <a:stretch/>
        </p:blipFill>
        <p:spPr>
          <a:xfrm>
            <a:off x="4427640" y="3886200"/>
            <a:ext cx="4716360" cy="2590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аиболее распространенные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причины пожаров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в быту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Неосторожное обращение с огн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Неправильная эксплуатация печного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опления, электрооборуд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Шалости де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Использование пиротех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457200" y="3048120"/>
            <a:ext cx="81532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обнаружении пожаров немедленно уведомить пожарную охран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 прибытия пожарной охраны принимать посильные меры по тушению пожара, спасению людей, имуще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полнять все законные требования должностных лиц по­жарной охра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2" descr="photos0-800x600.jpg"/>
          <p:cNvPicPr/>
          <p:nvPr/>
        </p:nvPicPr>
        <p:blipFill>
          <a:blip r:embed="rId1"/>
          <a:srcRect l="20003" t="1335" r="16001" b="8000"/>
          <a:stretch/>
        </p:blipFill>
        <p:spPr>
          <a:xfrm>
            <a:off x="6248520" y="380880"/>
            <a:ext cx="2438280" cy="25909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00000003192-1.jpg"/>
          <p:cNvPicPr/>
          <p:nvPr/>
        </p:nvPicPr>
        <p:blipFill>
          <a:blip r:embed="rId2"/>
          <a:srcRect l="0" t="22481" r="0" b="24809"/>
          <a:stretch/>
        </p:blipFill>
        <p:spPr>
          <a:xfrm>
            <a:off x="380880" y="304920"/>
            <a:ext cx="33242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акая  техника  используется при тушении пожаров.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ециализирован-ные пожарные маш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ные вертолеты, самоле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ные катера, с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ные поез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Рисунок 4" descr="rrs_FireTrain_2.jpg"/>
          <p:cNvPicPr/>
          <p:nvPr/>
        </p:nvPicPr>
        <p:blipFill>
          <a:blip r:embed="rId1"/>
          <a:stretch/>
        </p:blipFill>
        <p:spPr>
          <a:xfrm>
            <a:off x="6324480" y="114300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5" descr="samookupaemosty_pogarnih_4.jpg"/>
          <p:cNvPicPr/>
          <p:nvPr/>
        </p:nvPicPr>
        <p:blipFill>
          <a:blip r:embed="rId2"/>
          <a:stretch/>
        </p:blipFill>
        <p:spPr>
          <a:xfrm>
            <a:off x="3381480" y="2514600"/>
            <a:ext cx="2448000" cy="16765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Image51.jpg"/>
          <p:cNvPicPr/>
          <p:nvPr/>
        </p:nvPicPr>
        <p:blipFill>
          <a:blip r:embed="rId3"/>
          <a:srcRect l="6003" t="0" r="23332" b="28765"/>
          <a:stretch/>
        </p:blipFill>
        <p:spPr>
          <a:xfrm>
            <a:off x="5867280" y="4038480"/>
            <a:ext cx="27100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5" descr="19889.jpg"/>
          <p:cNvPicPr/>
          <p:nvPr/>
        </p:nvPicPr>
        <p:blipFill>
          <a:blip r:embed="rId1"/>
          <a:stretch/>
        </p:blipFill>
        <p:spPr>
          <a:xfrm>
            <a:off x="5105520" y="3733920"/>
            <a:ext cx="3784320" cy="28382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638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Чем тушить огонь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324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да(кроме электропроводки, нефтепродукто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сок, земля, пена, спецпоро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шма (используется для тушения горюче-смазочных материа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j0199541"/>
          <p:cNvPicPr/>
          <p:nvPr/>
        </p:nvPicPr>
        <p:blipFill>
          <a:blip r:embed="rId2"/>
          <a:stretch/>
        </p:blipFill>
        <p:spPr>
          <a:xfrm>
            <a:off x="7358040" y="228600"/>
            <a:ext cx="1785960" cy="15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029200" y="50288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удьте осторожны с «Огнём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00034920"/>
          <p:cNvPicPr/>
          <p:nvPr/>
        </p:nvPicPr>
        <p:blipFill>
          <a:blip r:embed="rId1"/>
          <a:stretch/>
        </p:blipFill>
        <p:spPr>
          <a:xfrm>
            <a:off x="533520" y="4114800"/>
            <a:ext cx="4267080" cy="252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20060213-6"/>
          <p:cNvPicPr/>
          <p:nvPr/>
        </p:nvPicPr>
        <p:blipFill>
          <a:blip r:embed="rId2"/>
          <a:stretch/>
        </p:blipFill>
        <p:spPr>
          <a:xfrm>
            <a:off x="6095880" y="380880"/>
            <a:ext cx="2819520" cy="43815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7"/>
          <p:cNvSpPr/>
          <p:nvPr/>
        </p:nvSpPr>
        <p:spPr>
          <a:xfrm>
            <a:off x="98280" y="838080"/>
            <a:ext cx="614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мни, соблюдение прав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тивопожарной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это обязанность каждого жите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шей план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то наше с тобой здоров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благосостоян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аждые 4 – 5 минут в нашей стране вспыхивает пожар.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9000" y="1980720"/>
            <a:ext cx="5562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ромышленных предприятиях, объектах сельского хозяйства, в учебных заведениях, детских дошкольных учреждениях и в жилых домах, при перевозках грузов на всех видах транспорта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58"/>
          <p:cNvPicPr/>
          <p:nvPr/>
        </p:nvPicPr>
        <p:blipFill>
          <a:blip r:embed="rId1"/>
          <a:stretch/>
        </p:blipFill>
        <p:spPr>
          <a:xfrm>
            <a:off x="0" y="2666880"/>
            <a:ext cx="35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00000003192-1.jpg"/>
          <p:cNvPicPr/>
          <p:nvPr/>
        </p:nvPicPr>
        <p:blipFill>
          <a:blip r:embed="rId2"/>
          <a:srcRect l="0" t="22481" r="0" b="24809"/>
          <a:stretch/>
        </p:blipFill>
        <p:spPr>
          <a:xfrm>
            <a:off x="6781680" y="5638680"/>
            <a:ext cx="18795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гонь наш друг, но иногда приходит с ним в наш дом бед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3096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02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5181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02"/>
          <p:cNvPicPr/>
          <p:nvPr/>
        </p:nvPicPr>
        <p:blipFill>
          <a:blip r:embed="rId2"/>
          <a:stretch/>
        </p:blipFill>
        <p:spPr>
          <a:xfrm>
            <a:off x="0" y="15238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6" descr="1105_02BC020D.jpg"/>
          <p:cNvPicPr/>
          <p:nvPr/>
        </p:nvPicPr>
        <p:blipFill>
          <a:blip r:embed="rId1"/>
          <a:stretch/>
        </p:blipFill>
        <p:spPr>
          <a:xfrm>
            <a:off x="4724280" y="152280"/>
            <a:ext cx="4048200" cy="2695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41320"/>
            <a:ext cx="3657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з истор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32004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49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у, пожаром  в Дрездене, был уничтожен весь гор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547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у - 21 июня в Москве, погибло при пожаре 1700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66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у в Лондоне, со 2  по 6 сентября «большой огонь» поглотил 14000 домов, лишил дома 200000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начение огня на разных этапах развития общества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5410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80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богрев в холодное время го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Защита от диких животн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риготовление пищ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бработка и изготовление орудий тру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свещ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5" descr="1663382000185aa54b0b6ef051ff42e366f79b70c5.jpg"/>
          <p:cNvPicPr/>
          <p:nvPr/>
        </p:nvPicPr>
        <p:blipFill>
          <a:blip r:embed="rId1"/>
          <a:stretch/>
        </p:blipFill>
        <p:spPr>
          <a:xfrm>
            <a:off x="5686560" y="1523880"/>
            <a:ext cx="30002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жа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никает, когда огонь выходит из-под контроля человека и процесс горения становится неуправляем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00034909"/>
          <p:cNvPicPr/>
          <p:nvPr/>
        </p:nvPicPr>
        <p:blipFill>
          <a:blip r:embed="rId1"/>
          <a:stretch/>
        </p:blipFill>
        <p:spPr>
          <a:xfrm>
            <a:off x="457200" y="3657600"/>
            <a:ext cx="4465800" cy="299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00034924"/>
          <p:cNvPicPr/>
          <p:nvPr/>
        </p:nvPicPr>
        <p:blipFill>
          <a:blip r:embed="rId2"/>
          <a:stretch/>
        </p:blipFill>
        <p:spPr>
          <a:xfrm>
            <a:off x="5410080" y="3657600"/>
            <a:ext cx="2644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жар – это неконтролируемый процесс горения , сопровождающийся уничтожением материальных ценностей и создающий опасность для жизни и здоровья людей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4419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ведение при пожаре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 школе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 пожаре сообщить учителю(любому взрослому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кричи, выполняй требования руководител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аникова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кидай школу вместе с класс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ле выхода из школы не  уходи без раз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редпринимай никаких действий без соглас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3" descr="MCj02902930000[1]"/>
          <p:cNvPicPr/>
          <p:nvPr/>
        </p:nvPicPr>
        <p:blipFill>
          <a:blip r:embed="rId1"/>
          <a:stretch/>
        </p:blipFill>
        <p:spPr>
          <a:xfrm>
            <a:off x="7308720" y="189000"/>
            <a:ext cx="149724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пасность огн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окая температура (вызывает ожоги, смерть людей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азованность (удушает, отравляет людей)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ымление (мешает тушить пожар, спасать людей)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ры и пламя ( вызывают новые очаги возгорани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j0285498"/>
          <p:cNvPicPr/>
          <p:nvPr/>
        </p:nvPicPr>
        <p:blipFill>
          <a:blip r:embed="rId1"/>
          <a:stretch/>
        </p:blipFill>
        <p:spPr>
          <a:xfrm>
            <a:off x="6858000" y="152280"/>
            <a:ext cx="136044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Валерий Рыбаков</cp:lastModifiedBy>
  <dcterms:modified xsi:type="dcterms:W3CDTF">2017-09-28T11:34:00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