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388B-E6D1-4499-A882-502B593F5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B5CB-D73F-4D71-9FE8-052156355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51F5-A8AD-4CA5-991C-800FA17C2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8AEA-667E-4292-9F45-E10D1CD9D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87B1-FF8C-4C39-B994-54B376510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F0BB-4FEB-47D3-9A41-0371DF5CB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EE1C-CAA8-4AD0-A52F-A1E471D85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6BED-BC6E-4394-B331-968FE1C23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C65C-6D58-4A7C-9606-A5C1AA259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11CF-BD00-4779-8F9C-96D0408CF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59A3-3A7E-4B5C-8E85-1877E6EB9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C0D7-3DB0-4F00-9DA3-086B1B45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FD82A-4E9B-487E-8F4C-039F4DB544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419720" y="0"/>
            <a:ext cx="47242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1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724280" y="0"/>
            <a:ext cx="441972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24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724280" y="0"/>
            <a:ext cx="441972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76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0968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18T08:39:56Z</dcterms:created>
  <dc:creator>Наталья</dc:creator>
  <dc:description/>
  <dc:language>en-US</dc:language>
  <cp:lastModifiedBy>Наталья</cp:lastModifiedBy>
  <dcterms:modified xsi:type="dcterms:W3CDTF">2019-02-06T18:33:39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