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27E8-1C93-4ACD-A0E4-1620834E4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D08B-2A7D-4A42-A7F1-16C0D74F9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8A89-9901-43D7-9EDB-0DC8742D3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11F5-541B-4D58-A947-2AB2331AF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7A58E-4A01-4A9C-9C53-653C71ED2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7E277-F7B4-4034-A8B1-FE105564A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34A99-3D1C-477D-BC33-81D1CDF4E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92B1C-2BD1-4AEF-8DC3-FE7C174CF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4DC64-240D-4DAC-9DA8-0940258A0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1B2E0-017A-402E-AFFF-2843435A7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83905-40A0-460E-AA62-33FAFC7F5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80B1-EE15-496B-BFFF-402B12CE8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52BEE-666D-4744-92FB-A21B2CC65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C18EB-890D-4139-B734-75286DE2F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8C7FE-BDD3-471D-AA57-9BB893449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DFCD3-3A95-4E58-B258-C3C70B5B6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D09DC-7CF3-41E6-B43F-465BF8DCB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7C92-4E64-48A0-9CB7-BB91762BD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C041-BA64-4CAD-8B60-EF89CAF8A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2F2F-6579-4603-98BD-5BCEA49B3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6017-7678-4C9D-B151-B59F37D25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AA39-9083-4293-BA5B-CC091E60D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5AF0-CC53-4BEA-820F-87D40E284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E833-9435-4B74-89E3-7AB277220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1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f99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EDBBE-61B4-4EF6-B3C7-CCD52598BD4B}" type="slidenum"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47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f99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016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FA635-B724-4C82-9236-2310A8CF06BD}" type="slidenum"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440000" y="1412640"/>
            <a:ext cx="7596000" cy="414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6699"/>
                </a:solidFill>
                <a:latin typeface="Arial"/>
              </a:rPr>
              <a:t>«Единственная известная мне роскошь – это роскошь человеческого общения».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336699"/>
                </a:solidFill>
                <a:latin typeface="Arial"/>
              </a:rPr>
              <a:t>Антуан де Сент -Экзюпери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56000" y="2133360"/>
            <a:ext cx="6696000" cy="93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ff"/>
                </a:solidFill>
                <a:latin typeface="Times New Roman"/>
              </a:rPr>
              <a:t>Игра-кричалка </a:t>
            </a:r>
            <a:br>
              <a:rPr sz="4000"/>
            </a:br>
            <a:r>
              <a:rPr b="1" i="1" lang="ru-RU" sz="4000" spc="-1" strike="noStrike">
                <a:solidFill>
                  <a:srgbClr val="0066ff"/>
                </a:solidFill>
                <a:latin typeface="Times New Roman"/>
              </a:rPr>
              <a:t>«Наши дети»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763640" y="333360"/>
            <a:ext cx="2151000" cy="36734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151760" y="2924280"/>
            <a:ext cx="19922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00"/>
                </a:solidFill>
                <a:latin typeface="Times New Roman"/>
              </a:rPr>
              <a:t>Поздравляем!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692360" y="1341360"/>
            <a:ext cx="698328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02920" y="1052280"/>
            <a:ext cx="5689800" cy="102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ff"/>
                </a:solidFill>
                <a:latin typeface="Times New Roman"/>
              </a:rPr>
              <a:t>Законы родительской истины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2205000"/>
            <a:ext cx="8458200" cy="43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99"/>
                </a:solidFill>
                <a:latin typeface="Arial"/>
              </a:rPr>
              <a:t>1. Дорожите любовью своего ребёнка. Помните: от любви до ненависти только один шаг, не делайте необдуманных шагов!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99"/>
                </a:solidFill>
                <a:latin typeface="Arial"/>
              </a:rPr>
              <a:t>2. Не унижайте своего ребёнка. Унижая его самого, вы формируете у него умение и навык унижения, которые он сможет использовать по отношению к другим людям. Не исключено, что и к вам.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99"/>
                </a:solidFill>
                <a:latin typeface="Arial"/>
              </a:rPr>
              <a:t>3. Не угрожайте своему ребёнку. Угрозы взрослого порождают ложь ребёнка, приводят к боязни и ненависти.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99"/>
                </a:solidFill>
                <a:latin typeface="Arial"/>
              </a:rPr>
              <a:t>4. Не налагайте запретов. В природе ребёнка лежит дух бунтарства. То, что запрещено, очень хочется попробовать –  не забывайте об этом.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093080" y="404640"/>
            <a:ext cx="1477800" cy="18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755640" y="260280"/>
            <a:ext cx="8137440" cy="603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597240" indent="-597240"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99"/>
                </a:solidFill>
                <a:latin typeface="Arial"/>
              </a:rPr>
              <a:t>5. Не опекайте своего ребёнка там, где можно обойтись без опеки; дайте возможность маленькому человеку самостоятельно стать большим.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59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597240" indent="-597240"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99"/>
                </a:solidFill>
                <a:latin typeface="Arial"/>
              </a:rPr>
              <a:t>6. Не идите на поводу у своего ребёнка, умейте соблюдать меру своей любви и меру своей родительской ответственности.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59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597240" indent="-597240"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99"/>
                </a:solidFill>
                <a:latin typeface="Arial"/>
              </a:rPr>
              <a:t>7. Развивайте в себе чувство юмора. Учитесь смеяться над своими слабостями, разрешайте своему ребёнку смеяться вместе с вами. 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59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597240" indent="-597240"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99"/>
                </a:solidFill>
                <a:latin typeface="Arial"/>
              </a:rPr>
              <a:t>8. Учите своего ребёнка смеяться над собой! Это лучше, чем если над ним будут смеяться другие.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59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597240" indent="-597240"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99"/>
                </a:solidFill>
                <a:latin typeface="Arial"/>
              </a:rPr>
              <a:t>9. Не читайте своему ребёнку бесконечные нотации, он их просто не слышит.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59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597240" indent="-597240"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99"/>
                </a:solidFill>
                <a:latin typeface="Arial"/>
              </a:rPr>
              <a:t>10. Будьте всегда последовательны в своих требованиях. Хорошо ориентируйтесь в своих «да» и «нет».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756720" y="549360"/>
            <a:ext cx="8386920" cy="741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99"/>
                </a:solidFill>
                <a:latin typeface="Arial"/>
              </a:rPr>
              <a:t>11. Не лишайте своего ребёнка права быть ребёнком. Дайте ему возможность побыть озорником и непоседой, бунтарём и шалуном.  Период детства весьма скоротечен, а так много нужно успеть попробовать, прежде чем станешь взрослым. 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99"/>
                </a:solidFill>
                <a:latin typeface="Arial"/>
              </a:rPr>
              <a:t>          </a:t>
            </a:r>
            <a:r>
              <a:rPr b="1" i="1" lang="en-US" sz="1800" spc="-1" strike="noStrike">
                <a:solidFill>
                  <a:srgbClr val="336699"/>
                </a:solidFill>
                <a:latin typeface="Arial"/>
              </a:rPr>
              <a:t>Дайте возможность своему малышу побыть ребенком в детстве, иначе период детства будет продолжаться и в его взрослой жизни. Это может обернуться серьёзными последствиями и для вашего ребёнка, и для вас, родители!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12. Помните, что самое большое родительское счастье – видеть состоявшихся, умных и благополучных детей!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835280" y="4653000"/>
            <a:ext cx="1207800" cy="19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370160" y="836280"/>
            <a:ext cx="7772400" cy="495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Спасибо за внимание, сотрудничество, продуктивный диалог, ваше творчество!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До новых встреч!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588000" y="3284640"/>
            <a:ext cx="199404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1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1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1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" dur="1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" dur="1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1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03280" y="0"/>
            <a:ext cx="774072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Анкета для детей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0160" y="105228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1. Как часто вы что-то делаете вместе с родителями?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а) ежедневно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б) по выходным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в) несколько раз в неделю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г) раз в месяц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д) другое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2. Что именно вы чаще всего делаете вместе?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а) играем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б) мастерим 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в) учим уроки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г) гуляем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д) хозяйничаем по дому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е) посещаем кинотеатры, театры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ж) читаем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3. Сколько времени уходит на совместную деятельность?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а) 30 мин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б) 1-2 часа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в) другое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4. Что бы вы хотели делать вместе с родителями?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76000" y="0"/>
            <a:ext cx="7666200" cy="58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0066ff"/>
                </a:solidFill>
                <a:latin typeface="Times New Roman"/>
              </a:rPr>
              <a:t>Анкета для родителей</a:t>
            </a: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«Достаточно ли внимания Вы уделяете своему ребенку?»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835280" y="333360"/>
            <a:ext cx="208728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ff"/>
                </a:solidFill>
                <a:latin typeface="Times New Roman"/>
              </a:rPr>
              <a:t>Жизненные установки</a:t>
            </a: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Позитивные и негативные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124000" y="4221000"/>
            <a:ext cx="2232000" cy="1905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003640" y="2421000"/>
            <a:ext cx="334512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476000" y="260280"/>
            <a:ext cx="7667640" cy="472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41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1. Не будешь слушаться – заболеешь! – 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41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Ты всегда будешь здоров! 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41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2. Думай только о себе, не жалей никого – 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41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Сколько отдашь – столько и получишь.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41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3. Ты всегда, как твой папа (твоя мама) – 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41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Какая мама умница! Какой у нас папа молодец! 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41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4. Уж лучше бы тебя вообще не было на свете! – 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41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Какое счастье, что ты у нас есть! 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41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5. Вот и будешь по жизни мыкаться, как твой папа (мама) –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41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Каждый сам выбирает свой путь. 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41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6. Сколько сил мы тебе дали, а ты… – 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41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Мы любим, понимаем, надеемся на тебя. 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41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7. Не твоего ума дело… – 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41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Твое мнение всем интересно. 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41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8. Бог тебя накажет – 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41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Бог любит тебя! 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41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9. Если ты будешь так поступать, с тобой никто дружить не будет! 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41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Как ты относишься к людям, так и они относятся к тебе.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7.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95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95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95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7.5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95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95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95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7.5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95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95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95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7.5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95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95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95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7.5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95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95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95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7.5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95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95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95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7.5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95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95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95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7.5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95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95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95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7.5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95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95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95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7.5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95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95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95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7.5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95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95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95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7.5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95"/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95"/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95"/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7.5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95"/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95"/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95"/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7.5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95"/>
                                        <p:tgtEl>
                                          <p:spTgt spid="1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95"/>
                                        <p:tgtEl>
                                          <p:spTgt spid="1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95"/>
                                        <p:tgtEl>
                                          <p:spTgt spid="1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7.5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95"/>
                                        <p:tgtEl>
                                          <p:spTgt spid="1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95"/>
                                        <p:tgtEl>
                                          <p:spTgt spid="1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95"/>
                                        <p:tgtEl>
                                          <p:spTgt spid="1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7.5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95"/>
                                        <p:tgtEl>
                                          <p:spTgt spid="10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95"/>
                                        <p:tgtEl>
                                          <p:spTgt spid="10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95"/>
                                        <p:tgtEl>
                                          <p:spTgt spid="10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7.5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95"/>
                                        <p:tgtEl>
                                          <p:spTgt spid="1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95"/>
                                        <p:tgtEl>
                                          <p:spTgt spid="1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95"/>
                                        <p:tgtEl>
                                          <p:spTgt spid="1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7.5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" dur="95"/>
                                        <p:tgtEl>
                                          <p:spTgt spid="10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" dur="95"/>
                                        <p:tgtEl>
                                          <p:spTgt spid="10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95"/>
                                        <p:tgtEl>
                                          <p:spTgt spid="10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ff"/>
                </a:solidFill>
                <a:latin typeface="Times New Roman"/>
              </a:rPr>
              <a:t>Семейный досуг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979640" y="1341360"/>
            <a:ext cx="6697800" cy="50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ff"/>
                </a:solidFill>
                <a:latin typeface="Times New Roman"/>
              </a:rPr>
              <a:t>Игры для всей семьи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763640" y="3860640"/>
            <a:ext cx="1987560" cy="23767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164360" y="4221000"/>
            <a:ext cx="1674720" cy="23036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4067280" y="1484280"/>
            <a:ext cx="26035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ff"/>
                </a:solidFill>
                <a:latin typeface="Times New Roman"/>
              </a:rPr>
              <a:t>Конкурс капитанов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1341360"/>
            <a:ext cx="7772400" cy="513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1. </a:t>
            </a:r>
            <a:r>
              <a:rPr b="1" i="1" lang="en-US" sz="1600" spc="-1" strike="noStrike">
                <a:solidFill>
                  <a:srgbClr val="336699"/>
                </a:solidFill>
                <a:latin typeface="Arial"/>
              </a:rPr>
              <a:t>Друзья зовут вашего ребенка гулять, а у него не сделаны уроки. Как вы поступите в этой ситуации?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6699"/>
                </a:solidFill>
                <a:latin typeface="Arial"/>
              </a:rPr>
              <a:t>2. Из-за медлительности ребенок часто опаздывает в школу. Как быть?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6699"/>
                </a:solidFill>
                <a:latin typeface="Arial"/>
              </a:rPr>
              <a:t>3. Спасая котенка, который не мог слезть с дерева, ребенок порвал куртку. Ваши действия?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6699"/>
                </a:solidFill>
                <a:latin typeface="Arial"/>
              </a:rPr>
              <a:t>4. Убедите ребенка в полезности молока и манной каши.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6699"/>
                </a:solidFill>
                <a:latin typeface="Arial"/>
              </a:rPr>
              <a:t>5. Ребенок звонит вам на работу, а у вас важное совещание. Что вы ему скажете?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6699"/>
                </a:solidFill>
                <a:latin typeface="Arial"/>
              </a:rPr>
              <a:t>6. Найдите убедительные доводы в пользу самостоятельного чтения.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6699"/>
                </a:solidFill>
                <a:latin typeface="Arial"/>
              </a:rPr>
              <a:t>7. Уже поздно, ребенку пора домой. Позовите его так, чтобы он не смог отказаться.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6699"/>
                </a:solidFill>
                <a:latin typeface="Arial"/>
              </a:rPr>
              <a:t>8. Ребенок смотрит по телевизору передачу, а на другом канале показывают очень важную для вас информацию. Что делать?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5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0" dur="2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5" dur="2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0" dur="2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5" dur="20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0" dur="2000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5" dur="2000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0" dur="2000"/>
                                        <p:tgtEl>
                                          <p:spTgt spid="1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ff"/>
                </a:solidFill>
                <a:latin typeface="Times New Roman"/>
              </a:rPr>
              <a:t>Твои эмоции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835280" y="1341360"/>
            <a:ext cx="691344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7T14:17:25Z</dcterms:created>
  <dc:creator>Стас</dc:creator>
  <dc:description/>
  <dc:language>en-US</dc:language>
  <cp:lastModifiedBy>.</cp:lastModifiedBy>
  <dcterms:modified xsi:type="dcterms:W3CDTF">2012-04-06T09:46:29Z</dcterms:modified>
  <cp:revision>9</cp:revision>
  <dc:subject/>
  <dc:title>Роскошь</dc:title>
</cp:coreProperties>
</file>