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EFB-C80F-4A27-90AF-FEC4DAF1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280-96B8-435A-8A37-F5C13E3E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668-4353-4697-B843-494C1EB0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20D-6651-440A-8720-CDB678CB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BC5A-3616-4D97-8520-E16F6F33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234A-11E9-4243-994B-33E532EE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1F46-5E05-4670-BD0F-B333FD1B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231B-C2BF-46A1-858C-4EDD112A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F6D8-2CB5-4D75-BDE5-926EF5B7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B31C-5FDB-464B-9CA4-3ED7CB1A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7730-03EE-48BA-A902-C58243D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12A-0BEC-4F10-84C1-EAFAEEDF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920E-1BA6-4AC5-B362-E01C57D0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0C90-BB4F-4971-8A59-A378C66C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E38A-A7D3-4967-904C-0F7513DF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EBF8-FCB5-40A5-B921-98717BED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C4E2-4D90-4305-83C5-A71C6048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2CD-D79C-4F6B-9C08-8EC5459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D5E-6F2D-40B2-898E-80148BC0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A68-D009-45DE-A613-FDDE8B30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6B9-F857-442D-ACC3-F08ADF14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A50-4079-4C55-931C-BF90752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E91-256E-4E9E-A3DE-86ABE987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7B5-394F-411B-843F-A2995A3D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5A0E-3BDE-454E-8CC0-C74C313247C5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0127-90C8-4368-9A4C-F7287DDFD688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40000" y="1412640"/>
            <a:ext cx="759600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99"/>
                </a:solidFill>
                <a:latin typeface="Arial"/>
              </a:rPr>
              <a:t>«Единственная известная мне роскошь – это роскошь человеческого общения»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99"/>
                </a:solidFill>
                <a:latin typeface="Arial"/>
              </a:rPr>
              <a:t>Антуан де Сент -Экзюпери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6000" y="2133360"/>
            <a:ext cx="66960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Игра-кричалка 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«Наши дети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2151000" cy="367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1760" y="2924280"/>
            <a:ext cx="1992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Поздравляем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56898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Законы родительской истины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205000"/>
            <a:ext cx="84582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. Дорожите любовью своего ребёнка. Помните: от любви до ненависти только один шаг, не делайте необдуманных шагов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2. Не унижайте своего ребёнка. Унижая его самого, вы формируете у него умение и навык унижения, которые он сможет использовать по отношению к другим людям. Не исключено, что и к ва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3. Не угрожайте своему ребёнку. Угрозы взрослого порождают ложь ребёнка, приводят к боязни и ненавист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4. Не налагайте запретов. В природе ребёнка лежит дух бунтарства. То, что запрещено, очень хочется попробовать –  не забывайте об это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4778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813744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5. Не опекайте своего ребёнка там, где можно обойтись без опеки; дайте возможность маленькому человеку самостоятельно стать большим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6. Не идите на поводу у своего ребёнка, умейте соблюдать меру своей любви и меру своей родительской ответственности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7. Развивайте в себе чувство юмора. Учитесь смеяться над своими слабостями, разрешайте своему ребёнку смеяться вместе с в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8. Учите своего ребёнка смеяться над собой! Это лучше, чем если над ним будут смеяться други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9. Не читайте своему ребёнку бесконечные нотации, он их просто не слышит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597240" indent="-5972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0. Будьте всегда последовательны в своих требованиях. Хорошо ориентируйтесь в своих «да» и «нет»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6720" y="549360"/>
            <a:ext cx="838692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11. Не лишайте своего ребёнка права быть ребёнком. Дайте ему возможность побыть озорником и непоседой, бунтарём и шалуном.  Период детства весьма скоротечен, а так много нужно успеть попробовать, прежде чем станешь взрослым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Дайте возможность своему малышу побыть ребенком в детстве, иначе период детства будет продолжаться и в его взрослой жизни. Это может обернуться серьёзными последствиями и для вашего ребёнка, и для вас, родители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12. Помните, что самое большое родительское счастье – видеть состоявшихся, умных и благополучных детей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4653000"/>
            <a:ext cx="12078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0160" y="836280"/>
            <a:ext cx="777240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пасибо за внимание, сотрудничество, продуктивный диалог, ваше творчество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До новых встреч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1994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Анкета для детей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. Как часто вы что-то делаете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ежедневно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по выходны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несколько раз в неделю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г) раз в месяц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д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2. Что именно вы чаще всего делаете вмес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игр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мастерим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учим уроки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г) гуля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д) хозяйничаем по дому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е) посещаем кинотеатры, театры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ж) читаем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3. Сколько времени уходит на совместную деятельнос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а) 30 мин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б) 1-2 часа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в) другое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4. Что бы вы хотели делать вместе с родителям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62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66ff"/>
                </a:solidFill>
                <a:latin typeface="Times New Roman"/>
              </a:rPr>
              <a:t>Анкета для родителей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«Достаточно ли внимания Вы уделяете своему ребенку?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208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Жизненные установки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озитивные и негативны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223200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33451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766764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. Не будешь слушаться – заболеешь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Ты всегда будешь здоров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 Думай только о себе, не жалей никого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Сколько отдашь – столько и получишь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3. Ты всегда, как твой папа (твоя мама)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ая мама умница! Какой у нас папа молодец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. Уж лучше бы тебя вообще не было на свете!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ое счастье, что ты у нас есть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5. Вот и будешь по жизни мыкаться, как твой папа (мама) –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ждый сам выбирает свой путь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6. Сколько сил мы тебе дали, а ты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Мы любим, понимаем, надеемся на тебя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7. Не твоего ума дело…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Твое мнение всем интересно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8. Бог тебя накажет –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Бог любит тебя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9. Если ты будешь так поступать, с тобой никто дружить не будет!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ак ты относишься к людям, так и они относятся к тебе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95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9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95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95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95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95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95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95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95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95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95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95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95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95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95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95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95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Семейный досуг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66978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Игры для всей семь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198756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74720" cy="2303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067280" y="1484280"/>
            <a:ext cx="2603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Конкурс капитанов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1341360"/>
            <a:ext cx="77724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Друзья зовут вашего ребенка гулять, а у него не сделаны уроки. Как вы поступите в этой ситуации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2. Из-за медлительности ребенок часто опаздывает в школу. Как бы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3. Спасая котенка, который не мог слезть с дерева, ребенок порвал куртку. Ваши действия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4. Убедите ребенка в полезности молока и манной каши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5. Ребенок звонит вам на работу, а у вас важное совещание. Что вы ему скажете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6. Найдите убедительные доводы в пользу самостоятельного чтени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7. Уже поздно, ребенку пора домой. Позовите его так, чтобы он не смог отказаться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99"/>
                </a:solidFill>
                <a:latin typeface="Arial"/>
              </a:rPr>
              <a:t>8. Ребенок смотрит по телевизору передачу, а на другом канале показывают очень важную для вас информацию. Что делать?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Твои эмоци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6913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7:25Z</dcterms:created>
  <dc:creator>Стас</dc:creator>
  <dc:description/>
  <dc:language>en-US</dc:language>
  <cp:lastModifiedBy>.</cp:lastModifiedBy>
  <dcterms:modified xsi:type="dcterms:W3CDTF">2012-04-06T09:46:29Z</dcterms:modified>
  <cp:revision>9</cp:revision>
  <dc:subject/>
  <dc:title>Роскошь</dc:title>
</cp:coreProperties>
</file>