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636-D72D-4E3E-88DF-EB119362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6C7-2D0A-4CA7-813E-DF16CFD8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B87-42D5-4A3E-BAEC-DBF7EC1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B9E-F741-4C06-936E-1CFF975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B97-2347-4953-9AE6-8662BFC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E57-61D4-4715-B696-FE5B975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B8C-FAE2-4C3E-89DC-6B41DAD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685-1FF9-4907-A4DD-7E4B107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88C-D07B-47E3-9A15-51610E4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F89-0024-4645-8AFD-FE5EE37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E59-15D6-4F10-9E69-795B80F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FFB-495D-43AA-8114-9AD411C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060F-E081-44BD-8685-98D63B11F30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7621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За день до рожденья 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р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ебенок 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сказал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Б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ог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у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335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„</a:t>
            </a: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Неважно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,</a:t>
            </a: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 как его зовут</a:t>
            </a:r>
            <a:r>
              <a:rPr b="1" lang="de-CH" sz="28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632480"/>
            <a:ext cx="50292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3333cc"/>
                </a:solidFill>
                <a:latin typeface="Courier New"/>
              </a:rPr>
              <a:t>…</a:t>
            </a:r>
            <a:r>
              <a:rPr b="1" lang="de-CH" sz="2800" spc="-1" strike="noStrike">
                <a:solidFill>
                  <a:srgbClr val="3333cc"/>
                </a:solidFill>
                <a:latin typeface="Courier New"/>
              </a:rPr>
              <a:t>ты будешь называть его</a:t>
            </a: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600" spc="-1" strike="noStrike">
                <a:solidFill>
                  <a:srgbClr val="ff9933"/>
                </a:solidFill>
                <a:latin typeface="Comic Sans MS"/>
              </a:rPr>
              <a:t>MAMA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368000" cy="69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7080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492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1295280"/>
            <a:ext cx="789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„</a:t>
            </a: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Я не знаю</a:t>
            </a:r>
            <a:r>
              <a:rPr b="1" lang="ru-RU" sz="4800" spc="-1" strike="noStrike">
                <a:solidFill>
                  <a:srgbClr val="ffff66"/>
                </a:solidFill>
                <a:latin typeface="Courier New"/>
              </a:rPr>
              <a:t>,</a:t>
            </a: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 что я должен делать в этом </a:t>
            </a:r>
            <a:r>
              <a:rPr b="1" lang="ru-RU" sz="4800" spc="-1" strike="noStrike">
                <a:solidFill>
                  <a:srgbClr val="ffff66"/>
                </a:solidFill>
                <a:latin typeface="Courier New"/>
              </a:rPr>
              <a:t>м</a:t>
            </a: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ире.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2280"/>
            <a:ext cx="95248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12547"/>
                </a:solidFill>
                <a:latin typeface="Courier New"/>
              </a:rPr>
              <a:t>Бог ответи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cc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3333cc"/>
                </a:solidFill>
                <a:latin typeface="Courier New"/>
              </a:rPr>
              <a:t>Я подарю тебе Ангела</a:t>
            </a:r>
            <a:r>
              <a:rPr b="1" lang="de-DE" sz="36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cc"/>
                </a:solidFill>
                <a:latin typeface="Courier New"/>
              </a:rPr>
              <a:t>Который всегда будет рядом с тобой“</a:t>
            </a: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5029200"/>
            <a:ext cx="79250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7fc1a"/>
                </a:solidFill>
                <a:latin typeface="Courier New"/>
              </a:rPr>
              <a:t>„</a:t>
            </a:r>
            <a:r>
              <a:rPr b="1" lang="de-CH" sz="4400" spc="-1" strike="noStrike">
                <a:solidFill>
                  <a:srgbClr val="f7fc1a"/>
                </a:solidFill>
                <a:latin typeface="Courier New"/>
              </a:rPr>
              <a:t>Но я не понимаю его язык“</a:t>
            </a:r>
            <a:r>
              <a:rPr b="1" lang="ru-RU" sz="4400" spc="-1" strike="noStrike">
                <a:solidFill>
                  <a:srgbClr val="f7fc1a"/>
                </a:solidFill>
                <a:latin typeface="Courier Ne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ff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0000ff"/>
                </a:solidFill>
                <a:latin typeface="Courier New"/>
              </a:rPr>
              <a:t>Ангел будет учить тебя своему языку“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105520"/>
            <a:ext cx="853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7fc1a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f7fc1a"/>
                </a:solidFill>
                <a:latin typeface="Courier New"/>
              </a:rPr>
              <a:t>Он будет охранять тебя от всех бед“</a:t>
            </a:r>
            <a:r>
              <a:rPr b="1" lang="ru-RU" sz="3600" spc="-1" strike="noStrike">
                <a:solidFill>
                  <a:srgbClr val="f7fc1a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afd6b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fafd6b"/>
                </a:solidFill>
                <a:latin typeface="Courier New"/>
              </a:rPr>
              <a:t>Как и когда я должен вернуться к тебе?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7432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ff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0000ff"/>
                </a:solidFill>
                <a:latin typeface="Courier New"/>
              </a:rPr>
              <a:t>Твой ангел скажет тебе все“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64360" cy="568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26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9933"/>
                </a:solidFill>
                <a:latin typeface="Courier New"/>
              </a:rPr>
              <a:t>„</a:t>
            </a:r>
            <a:r>
              <a:rPr b="1" lang="de-CH" sz="3200" spc="-1" strike="noStrike">
                <a:solidFill>
                  <a:srgbClr val="ff9933"/>
                </a:solidFill>
                <a:latin typeface="Courier New"/>
              </a:rPr>
              <a:t>А как зовут моего ангела?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8:48:41Z</dcterms:created>
  <dc:creator>Admin</dc:creator>
  <dc:description/>
  <dc:language>en-US</dc:language>
  <cp:lastModifiedBy>.</cp:lastModifiedBy>
  <dcterms:modified xsi:type="dcterms:W3CDTF">2012-04-09T12:08:20Z</dcterms:modified>
  <cp:revision>11</cp:revision>
  <dc:subject/>
  <dc:title>Слайд 1</dc:title>
</cp:coreProperties>
</file>