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AF8-84E1-49F8-B426-FF701D8F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A74-E60A-4462-8E44-CB757986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827E-8D93-4354-BBF7-0A3B38BE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C9E-094F-44CD-A8A6-2E11B437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317B-E591-4162-B2EA-498D88A6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F4E-D39A-4C87-8C64-0D9AAEB0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DAC-049C-4BEB-B779-5891F4AB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C85-DB4F-40D2-8367-BADE2FA3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AAEB-4DEA-41E5-BBC2-9B392A94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04F-FCC0-49D8-A53F-404D3F60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CA9-238B-439D-8C92-29085229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1D4F-84C0-464B-A413-8552DEBA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9AA2-4928-451C-A130-18617E7DF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6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Лексика, стилистическая окраска с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2920"/>
            <a:ext cx="640080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дготовка к ОГЭ по русскому язы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229600" cy="674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1643040"/>
            <a:ext cx="8929800" cy="4302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5"/>
          <p:cNvSpPr/>
          <p:nvPr/>
        </p:nvSpPr>
        <p:spPr>
          <a:xfrm>
            <a:off x="2928960" y="321480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па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229600" cy="579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0" y="2000160"/>
            <a:ext cx="9144000" cy="378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2571840" y="307188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масшедш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229600" cy="579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1714680"/>
            <a:ext cx="8879040" cy="771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>
            <a:off x="2643120" y="307188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каз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8229600" cy="561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rcRect l="0" t="0" r="0" b="5179"/>
          <a:stretch/>
        </p:blipFill>
        <p:spPr>
          <a:xfrm>
            <a:off x="0" y="1857240"/>
            <a:ext cx="9105840" cy="7858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5"/>
          <p:cNvSpPr/>
          <p:nvPr/>
        </p:nvSpPr>
        <p:spPr>
          <a:xfrm>
            <a:off x="2714760" y="357192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 м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14200" y="500040"/>
            <a:ext cx="8229600" cy="546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8786880" cy="3096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2928960" y="300024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лостливый, слаб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229600" cy="566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0" y="1928880"/>
            <a:ext cx="9144000" cy="7221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5"/>
          <p:cNvSpPr/>
          <p:nvPr/>
        </p:nvSpPr>
        <p:spPr>
          <a:xfrm>
            <a:off x="2786040" y="321480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ня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8229600" cy="676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0" y="1928880"/>
            <a:ext cx="8786880" cy="7887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3143160" y="364320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229600" cy="53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2500200" y="2000160"/>
            <a:ext cx="4257720" cy="7239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5"/>
          <p:cNvSpPr/>
          <p:nvPr/>
        </p:nvSpPr>
        <p:spPr>
          <a:xfrm>
            <a:off x="2571840" y="342900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8229600" cy="530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0" y="1928880"/>
            <a:ext cx="8786880" cy="7887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"/>
          <p:cNvSpPr/>
          <p:nvPr/>
        </p:nvSpPr>
        <p:spPr>
          <a:xfrm>
            <a:off x="2643120" y="321480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хватился, заволнова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8229600" cy="615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357120" y="2214720"/>
            <a:ext cx="8786880" cy="55872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2571840" y="335772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тихонь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3080" y="274680"/>
            <a:ext cx="4929120" cy="79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или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571680" y="135720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гово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4786200" y="135720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ни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ая выноска 6"/>
          <p:cNvSpPr/>
          <p:nvPr/>
        </p:nvSpPr>
        <p:spPr>
          <a:xfrm>
            <a:off x="1357200" y="4429080"/>
            <a:ext cx="2571840" cy="857160"/>
          </a:xfrm>
          <a:prstGeom prst="wedgeRectCallout">
            <a:avLst>
              <a:gd name="adj1" fmla="val 123055"/>
              <a:gd name="adj2" fmla="val -32249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удоже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ая выноска 7"/>
          <p:cNvSpPr/>
          <p:nvPr/>
        </p:nvSpPr>
        <p:spPr>
          <a:xfrm>
            <a:off x="3714840" y="3571920"/>
            <a:ext cx="2571840" cy="857160"/>
          </a:xfrm>
          <a:prstGeom prst="wedgeRectCallout">
            <a:avLst>
              <a:gd name="adj1" fmla="val 45277"/>
              <a:gd name="adj2" fmla="val -224162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фициально-дел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ая выноска 8"/>
          <p:cNvSpPr/>
          <p:nvPr/>
        </p:nvSpPr>
        <p:spPr>
          <a:xfrm>
            <a:off x="4786200" y="4714920"/>
            <a:ext cx="2928960" cy="857160"/>
          </a:xfrm>
          <a:prstGeom prst="wedgeRectCallout">
            <a:avLst>
              <a:gd name="adj1" fmla="val 4722"/>
              <a:gd name="adj2" fmla="val -34749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блиц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ая выноска 9"/>
          <p:cNvSpPr/>
          <p:nvPr/>
        </p:nvSpPr>
        <p:spPr>
          <a:xfrm>
            <a:off x="6572160" y="3071880"/>
            <a:ext cx="2571840" cy="857160"/>
          </a:xfrm>
          <a:prstGeom prst="wedgeRectCallout">
            <a:avLst>
              <a:gd name="adj1" fmla="val -55305"/>
              <a:gd name="adj2" fmla="val -16862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у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8229600" cy="707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rcRect l="0" t="0" r="0" b="22185"/>
          <a:stretch/>
        </p:blipFill>
        <p:spPr>
          <a:xfrm>
            <a:off x="214200" y="1714680"/>
            <a:ext cx="8643960" cy="47592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>
            <a:off x="2428920" y="307188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орош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22960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0" y="1928880"/>
            <a:ext cx="9053640" cy="7808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5"/>
          <p:cNvSpPr/>
          <p:nvPr/>
        </p:nvSpPr>
        <p:spPr>
          <a:xfrm>
            <a:off x="2357280" y="335772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д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8229600" cy="692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0" y="1305000"/>
            <a:ext cx="8850240" cy="19098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2500200" y="364320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ы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29600" cy="546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8929800" cy="5889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2786040" y="3000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раин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8229600" cy="59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32884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ус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29600" cy="608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0" y="1643040"/>
            <a:ext cx="8858160" cy="93816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5"/>
          <p:cNvSpPr/>
          <p:nvPr/>
        </p:nvSpPr>
        <p:spPr>
          <a:xfrm>
            <a:off x="2571840" y="350028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храна, наблюдение, об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229600" cy="581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0" y="2405160"/>
            <a:ext cx="9144000" cy="95076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229600" cy="62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8786880" cy="101916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ещ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229600" cy="626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0" y="1714680"/>
            <a:ext cx="8929800" cy="84924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дничали, важнич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8229600" cy="60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285840" y="1857240"/>
            <a:ext cx="8286840" cy="9651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5640" y="274320"/>
            <a:ext cx="5072040" cy="72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краска сл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571680" y="135720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йтр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5214960" y="135720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илистически окраш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ая выноска 6"/>
          <p:cNvSpPr/>
          <p:nvPr/>
        </p:nvSpPr>
        <p:spPr>
          <a:xfrm>
            <a:off x="1357200" y="4429080"/>
            <a:ext cx="2571840" cy="857160"/>
          </a:xfrm>
          <a:prstGeom prst="wedgeRectCallout">
            <a:avLst>
              <a:gd name="adj1" fmla="val 123055"/>
              <a:gd name="adj2" fmla="val -32249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говор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ая выноска 7"/>
          <p:cNvSpPr/>
          <p:nvPr/>
        </p:nvSpPr>
        <p:spPr>
          <a:xfrm>
            <a:off x="4786200" y="4714920"/>
            <a:ext cx="2928960" cy="857160"/>
          </a:xfrm>
          <a:prstGeom prst="wedgeRectCallout">
            <a:avLst>
              <a:gd name="adj1" fmla="val 4722"/>
              <a:gd name="adj2" fmla="val -34749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иж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ая выноска 8"/>
          <p:cNvSpPr/>
          <p:nvPr/>
        </p:nvSpPr>
        <p:spPr>
          <a:xfrm>
            <a:off x="6215040" y="3714840"/>
            <a:ext cx="2928960" cy="857160"/>
          </a:xfrm>
          <a:prstGeom prst="wedgeRectCallout">
            <a:avLst>
              <a:gd name="adj1" fmla="val -36254"/>
              <a:gd name="adj2" fmla="val -234166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сторе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29600" cy="47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357120" y="1785960"/>
            <a:ext cx="8045640" cy="9288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9"/>
          <p:cNvSpPr/>
          <p:nvPr/>
        </p:nvSpPr>
        <p:spPr>
          <a:xfrm>
            <a:off x="2714760" y="350028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со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8229600" cy="53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428760" y="1785960"/>
            <a:ext cx="8715240" cy="5176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8"/>
          <p:cNvSpPr/>
          <p:nvPr/>
        </p:nvSpPr>
        <p:spPr>
          <a:xfrm>
            <a:off x="2714760" y="285768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м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229600" cy="50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642960" y="1928880"/>
            <a:ext cx="8001000" cy="4474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3143160" y="278604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ожно, непоня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229600" cy="561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3000240" y="321480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вр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29600" cy="573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9144000" cy="17938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5"/>
          <p:cNvSpPr/>
          <p:nvPr/>
        </p:nvSpPr>
        <p:spPr>
          <a:xfrm>
            <a:off x="2714760" y="407196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ществую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229600" cy="633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0" y="1643040"/>
            <a:ext cx="8821800" cy="5000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2286000" y="307188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правда, сказка, выду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09:33:38Z</dcterms:created>
  <dc:creator>Инна</dc:creator>
  <dc:description/>
  <dc:language>en-US</dc:language>
  <cp:lastModifiedBy>Admin</cp:lastModifiedBy>
  <dcterms:modified xsi:type="dcterms:W3CDTF">2015-11-27T16:37:35Z</dcterms:modified>
  <cp:revision>7</cp:revision>
  <dc:subject/>
  <dc:title>В1 Лексика, стилистическая окраска слов</dc:title>
</cp:coreProperties>
</file>