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3D1-C802-48F2-8BD6-A686BF10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5AD-9CBE-4670-BC4B-D10CFDF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017-EED7-4ED6-A06E-E645E359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AF8-69EA-42B1-92E7-50BC4D3F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2A7-E778-4A20-9126-CA2E2DE3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621-0A58-48A6-81F1-9AB340AA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EE3-A345-4163-B723-FE408943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724-925D-41C2-BB11-1ED84B0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ECA-56B4-44EF-8619-06FB9C2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93F-AF2B-485E-8443-94ACE8F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2E2-CFE7-43BF-9401-A1424413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FDC-0D52-44A3-9CB7-9EF01D1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06B4-5B1E-4CEC-8D03-CBB9319B0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Лексика, стилистическая окраск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2920"/>
            <a:ext cx="64008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ОГЭ по русскому язы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67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929800" cy="430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928960" y="32148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п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37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257184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асшед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87904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643120" y="307188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rcRect l="0" t="0" r="0" b="5179"/>
          <a:stretch/>
        </p:blipFill>
        <p:spPr>
          <a:xfrm>
            <a:off x="0" y="1857240"/>
            <a:ext cx="910584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2714760" y="35719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м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3096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2928960" y="300024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стлив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400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27860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н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229600" cy="676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314316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29600" cy="53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4257720" cy="723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2571840" y="342900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29600" cy="53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8786880" cy="78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264312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хватился, заволно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786880" cy="5587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571840" y="335772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ихонь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4929120" cy="79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4786200" y="1357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ая выноска 7"/>
          <p:cNvSpPr/>
          <p:nvPr/>
        </p:nvSpPr>
        <p:spPr>
          <a:xfrm>
            <a:off x="3714840" y="3571920"/>
            <a:ext cx="2571840" cy="857160"/>
          </a:xfrm>
          <a:prstGeom prst="wedgeRectCallout">
            <a:avLst>
              <a:gd name="adj1" fmla="val 45277"/>
              <a:gd name="adj2" fmla="val -224162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ая выноска 8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ая выноска 9"/>
          <p:cNvSpPr/>
          <p:nvPr/>
        </p:nvSpPr>
        <p:spPr>
          <a:xfrm>
            <a:off x="6572160" y="3071880"/>
            <a:ext cx="2571840" cy="857160"/>
          </a:xfrm>
          <a:prstGeom prst="wedgeRectCallout">
            <a:avLst>
              <a:gd name="adj1" fmla="val -55305"/>
              <a:gd name="adj2" fmla="val -16862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8229600" cy="70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rcRect l="0" t="0" r="0" b="22185"/>
          <a:stretch/>
        </p:blipFill>
        <p:spPr>
          <a:xfrm>
            <a:off x="214200" y="1714680"/>
            <a:ext cx="8643960" cy="475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42892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1928880"/>
            <a:ext cx="90536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2357280" y="335772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1305000"/>
            <a:ext cx="8850240" cy="1909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500200" y="364320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4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929800" cy="58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786040" y="3000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раи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2960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608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8858160" cy="9381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57184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храна, наблюдение, об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581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2405160"/>
            <a:ext cx="9144000" cy="9507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229600" cy="6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8786880" cy="10191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29600" cy="62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8929800" cy="8492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дничали, важнич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22960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828684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2500200" y="4143240"/>
            <a:ext cx="35006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раска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7168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й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214960" y="135720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истически окраш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6"/>
          <p:cNvSpPr/>
          <p:nvPr/>
        </p:nvSpPr>
        <p:spPr>
          <a:xfrm>
            <a:off x="1357200" y="4429080"/>
            <a:ext cx="2571840" cy="857160"/>
          </a:xfrm>
          <a:prstGeom prst="wedgeRectCallout">
            <a:avLst>
              <a:gd name="adj1" fmla="val 123055"/>
              <a:gd name="adj2" fmla="val -322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о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ая выноска 7"/>
          <p:cNvSpPr/>
          <p:nvPr/>
        </p:nvSpPr>
        <p:spPr>
          <a:xfrm>
            <a:off x="4786200" y="4714920"/>
            <a:ext cx="2928960" cy="857160"/>
          </a:xfrm>
          <a:prstGeom prst="wedgeRectCallout">
            <a:avLst>
              <a:gd name="adj1" fmla="val 4722"/>
              <a:gd name="adj2" fmla="val -34749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ж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ая выноска 8"/>
          <p:cNvSpPr/>
          <p:nvPr/>
        </p:nvSpPr>
        <p:spPr>
          <a:xfrm>
            <a:off x="6215040" y="3714840"/>
            <a:ext cx="2928960" cy="857160"/>
          </a:xfrm>
          <a:prstGeom prst="wedgeRectCallout">
            <a:avLst>
              <a:gd name="adj1" fmla="val -36254"/>
              <a:gd name="adj2" fmla="val -23416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р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4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04564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2714760" y="3500280"/>
            <a:ext cx="350028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о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2296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71524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714760" y="28576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2296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001000" cy="4474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143160" y="278604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, непоня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2296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000240" y="3214800"/>
            <a:ext cx="35006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р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29600" cy="5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17938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2714760" y="407196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ществ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296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643040"/>
            <a:ext cx="8821800" cy="5000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2286000" y="3071880"/>
            <a:ext cx="350028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правда, сказка, выд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9:33:38Z</dcterms:created>
  <dc:creator>Инна</dc:creator>
  <dc:description/>
  <dc:language>en-US</dc:language>
  <cp:lastModifiedBy>Admin</cp:lastModifiedBy>
  <dcterms:modified xsi:type="dcterms:W3CDTF">2015-11-27T16:37:35Z</dcterms:modified>
  <cp:revision>7</cp:revision>
  <dc:subject/>
  <dc:title>В1 Лексика, стилистическая окраска слов</dc:title>
</cp:coreProperties>
</file>