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C54-9917-49CB-B726-0533678B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810-6796-4E56-AF4F-620D9F1E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C28-70CF-4BA6-A637-7288B883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5B3-25E0-4EB9-9BD7-EB1A759A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97C-6034-4E7A-B37B-77B4F8ED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786-33B0-4FE3-A72F-9A0233C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18F-0D6A-4240-A1B9-8F203B6B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F63-678F-4AAE-9693-1C624D7E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893-38AC-417A-A3A4-C6E7046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3EC-2374-4106-A25A-FD829AA2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F19-0994-45D0-A372-FFE2398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357-3834-4288-A63E-248CE5D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5D79-9CE1-4EC5-9FA3-CF3FFE5F4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28640"/>
            <a:ext cx="7988040" cy="32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огащение лексического состава английского язык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условиях двуязыч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Надежда Лукьянчиков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3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0" y="404640"/>
            <a:ext cx="860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БОУ «Костёнковская средняя общеобразовательная школ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1563840"/>
            <a:ext cx="5715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332000" y="1844640"/>
            <a:ext cx="6840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9999"/>
                </a:solidFill>
                <a:effectLst>
                  <a:outerShdw dist="89604" dir="2700000" blurRad="0" rotWithShape="0">
                    <a:srgbClr val="4f271c">
                      <a:alpha val="50000"/>
                    </a:srgbClr>
                  </a:outerShdw>
                </a:effectLst>
                <a:latin typeface="Arial"/>
              </a:rPr>
              <a:t>Спасибо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9999"/>
              </a:solidFill>
              <a:effectLst>
                <a:outerShdw dist="89604" dir="2700000" blurRad="0" rotWithShape="0">
                  <a:srgbClr val="4f271c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3" descr="36_2_250"/>
          <p:cNvPicPr/>
          <p:nvPr/>
        </p:nvPicPr>
        <p:blipFill>
          <a:blip r:embed="rId1"/>
          <a:stretch/>
        </p:blipFill>
        <p:spPr>
          <a:xfrm>
            <a:off x="3564000" y="3789360"/>
            <a:ext cx="2050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920" y="1125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своение различных явлений, которые отличаются от явлений существующих в силу основной традиции, называется языковым заимствование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0" y="47628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имствования 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1. диалектные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2. заимствования из области культур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187280" y="1844640"/>
            <a:ext cx="69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Тема исследования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богащение лексического состава английского языка в условиях двуязыч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глийский язык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 появление заимствованных слов в условиях двуязыч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435880" cy="60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исторические эпохи, в которых происходило языковое соприкосновение двух стран (одна из которых Англия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знакомиться с источниками, содержащими сведения по теме исследования, в том числе и английских автор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ыявить и проанализировать слова, заимствованные в ходе тех, или иных исторических эпох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интерпретировать полученные результаты и сделать выво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217680" y="260280"/>
            <a:ext cx="223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956720" y="115920"/>
            <a:ext cx="1042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чем длительнее соприкосновение коллективов, говорящих на разных языках, тем больше языковых заимствован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9" descr="КРОСЫ"/>
          <p:cNvPicPr/>
          <p:nvPr/>
        </p:nvPicPr>
        <p:blipFill>
          <a:blip r:embed="rId1"/>
          <a:stretch/>
        </p:blipFill>
        <p:spPr>
          <a:xfrm>
            <a:off x="7236000" y="501336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73512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he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Lanca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nche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oche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Leice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Заимствования, вошедшие в данный язык, подчинившиеся его внутренним законам, не вредят языку, а наоборот, обогащают его, усиливают, совершенствуют его выразительные средства, не лишая его национальной самобытности»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7:38:00Z</dcterms:created>
  <dc:creator>НАСТЕНА</dc:creator>
  <dc:description/>
  <dc:language>en-US</dc:language>
  <cp:lastModifiedBy>1</cp:lastModifiedBy>
  <dcterms:modified xsi:type="dcterms:W3CDTF">2013-04-18T15:26:56Z</dcterms:modified>
  <cp:revision>24</cp:revision>
  <dc:subject/>
  <dc:title>Формирование навыков продуктивной самостоятельной деятельности обучающихся при изучении английского языка</dc:title>
</cp:coreProperties>
</file>