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gif" ContentType="image/gif"/>
  <Override PartName="/ppt/media/image3.png" ContentType="image/png"/>
  <Override PartName="/ppt/media/image4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107DA-ED33-4001-B4C2-45D562D71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4209B-CB23-4D51-BFA2-EDF41A98A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5491C-87B5-4F2A-8A9F-4FC9A47B6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B5F07-F585-49C3-B7B4-073C36BD0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B6092-8F37-42BA-8445-20629B4AB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82C54-1A2F-4409-A38D-8DDA326B5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3878A-8A26-4694-A9F2-B623551C3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3CF89-2F9F-4CBB-9336-3ABD4AC19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7C09E-5E95-4CF9-9BEF-2F74ECE41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73C47-6E10-4B34-8DEA-BA7CB5A77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FC4F2-6C9F-4777-BF86-05AD8232D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EAB76-A011-4247-A21B-4325B88A3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eb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BB4B6-9D57-435E-981D-630D4D02556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000" y="1628640"/>
            <a:ext cx="7988040" cy="326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Обогащение лексического состава английского языка 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в условиях двуязычия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32000" y="4292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898989"/>
                </a:solidFill>
                <a:latin typeface="Calibri"/>
              </a:rPr>
              <a:t>Работу выполнила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898989"/>
                </a:solidFill>
                <a:latin typeface="Calibri"/>
              </a:rPr>
              <a:t>Надежда Лукьянчикова,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898989"/>
                </a:solidFill>
                <a:latin typeface="Calibri"/>
              </a:rPr>
              <a:t>3 класс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Прямоугольник 3"/>
          <p:cNvSpPr/>
          <p:nvPr/>
        </p:nvSpPr>
        <p:spPr>
          <a:xfrm>
            <a:off x="0" y="404640"/>
            <a:ext cx="86043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МБОУ «Костёнковская средняя общеобразовательная школа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24000" y="836640"/>
            <a:ext cx="8229600" cy="538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1476360" y="1563840"/>
            <a:ext cx="5715000" cy="36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WordArt 4"/>
          <p:cNvSpPr txBox="1"/>
          <p:nvPr/>
        </p:nvSpPr>
        <p:spPr>
          <a:xfrm>
            <a:off x="1332000" y="1844640"/>
            <a:ext cx="6840360" cy="1065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ffffff"/>
                  </a:solidFill>
                  <a:miter/>
                </a:ln>
                <a:solidFill>
                  <a:srgbClr val="ff9999"/>
                </a:solidFill>
                <a:effectLst>
                  <a:outerShdw dist="89604" dir="2700000" blurRad="0" rotWithShape="0">
                    <a:srgbClr val="4f271c">
                      <a:alpha val="50000"/>
                    </a:srgbClr>
                  </a:outerShdw>
                </a:effectLst>
                <a:latin typeface="Arial"/>
              </a:rPr>
              <a:t>Спасибо!</a:t>
            </a:r>
            <a:endParaRPr b="1" lang="en-US" sz="1800" spc="1" strike="noStrike">
              <a:ln w="28440">
                <a:solidFill>
                  <a:srgbClr val="ffffff"/>
                </a:solidFill>
                <a:miter/>
              </a:ln>
              <a:solidFill>
                <a:srgbClr val="ff9999"/>
              </a:solidFill>
              <a:effectLst>
                <a:outerShdw dist="89604" dir="2700000" blurRad="0" rotWithShape="0">
                  <a:srgbClr val="4f271c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60" name="Picture 3" descr="36_2_250"/>
          <p:cNvPicPr/>
          <p:nvPr/>
        </p:nvPicPr>
        <p:blipFill>
          <a:blip r:embed="rId1"/>
          <a:stretch/>
        </p:blipFill>
        <p:spPr>
          <a:xfrm>
            <a:off x="3564000" y="3789360"/>
            <a:ext cx="2050920" cy="20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2" dur="250" autoRev="1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73" dur="250" autoRev="1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4" dur="250" autoRev="1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6" nodeType="afterEffect" fill="hold" presetClass="entr" presetID="3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69920" y="112500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"/>
              </a:rPr>
              <a:t>Усвоение различных явлений, которые отличаются от явлений существующих в силу основной традиции, называется языковым заимствованием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Прямоугольник 4"/>
          <p:cNvSpPr/>
          <p:nvPr/>
        </p:nvSpPr>
        <p:spPr>
          <a:xfrm>
            <a:off x="0" y="476280"/>
            <a:ext cx="18432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24000" y="476280"/>
            <a:ext cx="8229600" cy="538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Заимствования :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          1. диалектные;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          2. заимствования из области культуры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24000" y="836640"/>
            <a:ext cx="8229600" cy="538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Прямоугольник 2"/>
          <p:cNvSpPr/>
          <p:nvPr/>
        </p:nvSpPr>
        <p:spPr>
          <a:xfrm>
            <a:off x="1187280" y="1844640"/>
            <a:ext cx="69850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Arial"/>
              </a:rPr>
              <a:t>Тема исследования: 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обогащение лексического состава английского языка в условиях двуязыч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1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5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24000" y="836640"/>
            <a:ext cx="8229600" cy="538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"/>
              </a:rPr>
              <a:t>Объект исследования: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английский язык.</a:t>
            </a:r>
            <a:br>
              <a:rPr sz="4400"/>
            </a:br>
            <a:r>
              <a:rPr b="0" i="1" lang="ru-RU" sz="4400" spc="-1" strike="noStrike">
                <a:solidFill>
                  <a:srgbClr val="000000"/>
                </a:solidFill>
                <a:latin typeface="Calibri"/>
              </a:rPr>
              <a:t>Предмет исследования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: появление заимствованных слов в условиях двуязычия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0560" y="620640"/>
            <a:ext cx="8435880" cy="603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зучить исторические эпохи, в которых происходило языковое соприкосновение двух стран (одна из которых Англия);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. ознакомиться с источниками, содержащими сведения по теме исследования, в том числе и английских авторов;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. выявить и проанализировать слова, заимствованные в ходе тех, или иных исторических эпох;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4. интерпретировать полученные результаты и сделать вывод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Прямоугольник 2"/>
          <p:cNvSpPr/>
          <p:nvPr/>
        </p:nvSpPr>
        <p:spPr>
          <a:xfrm>
            <a:off x="3217680" y="260280"/>
            <a:ext cx="2235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Задачи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"/>
          <p:cNvPicPr/>
          <p:nvPr/>
        </p:nvPicPr>
        <p:blipFill>
          <a:blip r:embed="rId1"/>
          <a:stretch/>
        </p:blipFill>
        <p:spPr>
          <a:xfrm>
            <a:off x="7956720" y="115920"/>
            <a:ext cx="104292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24000" y="836640"/>
            <a:ext cx="8229600" cy="538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"/>
              </a:rPr>
              <a:t>Гипотеза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4400" spc="-1" strike="noStrike">
                <a:solidFill>
                  <a:srgbClr val="000000"/>
                </a:solidFill>
                <a:latin typeface="Calibri"/>
              </a:rPr>
              <a:t>исследования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:</a:t>
            </a:r>
            <a:br>
              <a:rPr sz="4400"/>
            </a:br>
            <a:r>
              <a:rPr b="0" i="1" lang="ru-RU" sz="4400" spc="-1" strike="noStrike">
                <a:solidFill>
                  <a:srgbClr val="000000"/>
                </a:solidFill>
                <a:latin typeface="Calibri"/>
              </a:rPr>
              <a:t>чем длительнее соприкосновение коллективов, говорящих на разных языках, тем больше языковых заимствований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9" descr="КРОСЫ"/>
          <p:cNvPicPr/>
          <p:nvPr/>
        </p:nvPicPr>
        <p:blipFill>
          <a:blip r:embed="rId1"/>
          <a:stretch/>
        </p:blipFill>
        <p:spPr>
          <a:xfrm>
            <a:off x="7236000" y="5013360"/>
            <a:ext cx="172872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735120"/>
            <a:ext cx="8229600" cy="538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alibri"/>
              </a:rPr>
              <a:t>Chester</a:t>
            </a:r>
            <a:r>
              <a:rPr b="0" i="1" lang="ru-RU" sz="44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4400" spc="-1" strike="noStrike">
                <a:solidFill>
                  <a:srgbClr val="000000"/>
                </a:solidFill>
                <a:latin typeface="Calibri"/>
              </a:rPr>
              <a:t>Lancaster</a:t>
            </a:r>
            <a:r>
              <a:rPr b="0" i="1" lang="ru-RU" sz="4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en-US" sz="4400" spc="-1" strike="noStrike">
                <a:solidFill>
                  <a:srgbClr val="000000"/>
                </a:solidFill>
                <a:latin typeface="Calibri"/>
              </a:rPr>
              <a:t>Manchester</a:t>
            </a:r>
            <a:r>
              <a:rPr b="0" i="1" lang="ru-RU" sz="4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en-US" sz="4400" spc="-1" strike="noStrike">
                <a:solidFill>
                  <a:srgbClr val="000000"/>
                </a:solidFill>
                <a:latin typeface="Calibri"/>
              </a:rPr>
              <a:t>Rochester</a:t>
            </a:r>
            <a:r>
              <a:rPr b="0" i="1" lang="ru-RU" sz="4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en-US" sz="4400" spc="-1" strike="noStrike">
                <a:solidFill>
                  <a:srgbClr val="000000"/>
                </a:solidFill>
                <a:latin typeface="Calibri"/>
              </a:rPr>
              <a:t>Leicester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24000" y="836640"/>
            <a:ext cx="8229600" cy="538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«Заимствования, вошедшие в данный язык, подчинившиеся его внутренним законам, не вредят языку, а наоборот, обогащают его, усиливают, совершенствуют его выразительные средства, не лишая его национальной самобытности»</a:t>
            </a:r>
            <a:br>
              <a:rPr sz="36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Большая Советская Энциклопед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9T07:38:00Z</dcterms:created>
  <dc:creator>НАСТЕНА</dc:creator>
  <dc:description/>
  <dc:language>en-US</dc:language>
  <cp:lastModifiedBy>1</cp:lastModifiedBy>
  <dcterms:modified xsi:type="dcterms:W3CDTF">2013-04-18T15:26:56Z</dcterms:modified>
  <cp:revision>24</cp:revision>
  <dc:subject/>
  <dc:title>Формирование навыков продуктивной самостоятельной деятельности обучающихся при изучении английского языка</dc:title>
</cp:coreProperties>
</file>