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3E5-DD2D-4B18-98CA-38A2CAA3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B6A-C8F0-4EF3-A183-97299CC7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EF0-3A6B-4168-82A5-E891B310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FB4-50A7-49E3-8DE8-36B929A5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822-F4DA-4842-B524-F011838C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D44-E913-4DE4-86F7-5F8145A5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347-B57D-4353-BFB7-BA39F09F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70A-CF36-4062-A725-64C6C3F2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FC3-60A5-4406-9A1F-F409F9E3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427-EE02-49CF-AA5F-A6C53277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7168-5D71-4A2E-8DA4-2D34B894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784-F1E8-459A-B357-6FFAD4B8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1F65-C583-4C12-985C-A9F8CAF0CC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6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Лексика, стилистическая окраска с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2920"/>
            <a:ext cx="640080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готовка к ОГЭ по русскому язы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229600" cy="674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1643040"/>
            <a:ext cx="8929800" cy="430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2928960" y="321480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п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29600" cy="579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0" y="2000160"/>
            <a:ext cx="9144000" cy="37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2571840" y="30718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масшедш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29600" cy="57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1714680"/>
            <a:ext cx="8879040" cy="771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2643120" y="307188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каз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229600" cy="56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rcRect l="0" t="0" r="0" b="5179"/>
          <a:stretch/>
        </p:blipFill>
        <p:spPr>
          <a:xfrm>
            <a:off x="0" y="1857240"/>
            <a:ext cx="9105840" cy="7858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5"/>
          <p:cNvSpPr/>
          <p:nvPr/>
        </p:nvSpPr>
        <p:spPr>
          <a:xfrm>
            <a:off x="2714760" y="357192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м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4200" y="500040"/>
            <a:ext cx="8229600" cy="54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8786880" cy="3096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2928960" y="300024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стливый, слаб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229600" cy="566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9144000" cy="7221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2786040" y="321480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ня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8229600" cy="676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8786880" cy="788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3143160" y="364320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29600" cy="53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2500200" y="2000160"/>
            <a:ext cx="4257720" cy="7239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5"/>
          <p:cNvSpPr/>
          <p:nvPr/>
        </p:nvSpPr>
        <p:spPr>
          <a:xfrm>
            <a:off x="2571840" y="342900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229600" cy="530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8786880" cy="7887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2643120" y="321480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хватился, заволнов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8229600" cy="615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57120" y="2214720"/>
            <a:ext cx="8786880" cy="5587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2571840" y="335772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тихонь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3080" y="274680"/>
            <a:ext cx="4929120" cy="79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или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571680" y="135720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4786200" y="135720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и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ая выноска 6"/>
          <p:cNvSpPr/>
          <p:nvPr/>
        </p:nvSpPr>
        <p:spPr>
          <a:xfrm>
            <a:off x="1357200" y="4429080"/>
            <a:ext cx="2571840" cy="857160"/>
          </a:xfrm>
          <a:prstGeom prst="wedgeRectCallout">
            <a:avLst>
              <a:gd name="adj1" fmla="val 123055"/>
              <a:gd name="adj2" fmla="val -322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удоже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ая выноска 7"/>
          <p:cNvSpPr/>
          <p:nvPr/>
        </p:nvSpPr>
        <p:spPr>
          <a:xfrm>
            <a:off x="3714840" y="3571920"/>
            <a:ext cx="2571840" cy="857160"/>
          </a:xfrm>
          <a:prstGeom prst="wedgeRectCallout">
            <a:avLst>
              <a:gd name="adj1" fmla="val 45277"/>
              <a:gd name="adj2" fmla="val -224162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фициально-дел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ая выноска 8"/>
          <p:cNvSpPr/>
          <p:nvPr/>
        </p:nvSpPr>
        <p:spPr>
          <a:xfrm>
            <a:off x="4786200" y="4714920"/>
            <a:ext cx="2928960" cy="857160"/>
          </a:xfrm>
          <a:prstGeom prst="wedgeRectCallout">
            <a:avLst>
              <a:gd name="adj1" fmla="val 4722"/>
              <a:gd name="adj2" fmla="val -347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ая выноска 9"/>
          <p:cNvSpPr/>
          <p:nvPr/>
        </p:nvSpPr>
        <p:spPr>
          <a:xfrm>
            <a:off x="6572160" y="3071880"/>
            <a:ext cx="2571840" cy="857160"/>
          </a:xfrm>
          <a:prstGeom prst="wedgeRectCallout">
            <a:avLst>
              <a:gd name="adj1" fmla="val -55305"/>
              <a:gd name="adj2" fmla="val -16862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у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8229600" cy="70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rcRect l="0" t="0" r="0" b="22185"/>
          <a:stretch/>
        </p:blipFill>
        <p:spPr>
          <a:xfrm>
            <a:off x="214200" y="1714680"/>
            <a:ext cx="8643960" cy="4759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2428920" y="30718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ор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2960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9053640" cy="7808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2357280" y="335772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д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229600" cy="69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0" y="1305000"/>
            <a:ext cx="8850240" cy="1909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500200" y="364320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ы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54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8929800" cy="5889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786040" y="3000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раи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8229600" cy="5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3288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у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608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0" y="1643040"/>
            <a:ext cx="8858160" cy="9381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5"/>
          <p:cNvSpPr/>
          <p:nvPr/>
        </p:nvSpPr>
        <p:spPr>
          <a:xfrm>
            <a:off x="2571840" y="350028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храна, наблюдение, об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229600" cy="581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0" y="2405160"/>
            <a:ext cx="9144000" cy="9507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29600" cy="6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8786880" cy="10191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ещ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229600" cy="626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0" y="1714680"/>
            <a:ext cx="8929800" cy="8492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дничали, важнич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22960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285840" y="1857240"/>
            <a:ext cx="8286840" cy="9651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274320"/>
            <a:ext cx="5072040" cy="72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краска с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571680" y="135720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йт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214960" y="135720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илистически окраш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ая выноска 6"/>
          <p:cNvSpPr/>
          <p:nvPr/>
        </p:nvSpPr>
        <p:spPr>
          <a:xfrm>
            <a:off x="1357200" y="4429080"/>
            <a:ext cx="2571840" cy="857160"/>
          </a:xfrm>
          <a:prstGeom prst="wedgeRectCallout">
            <a:avLst>
              <a:gd name="adj1" fmla="val 123055"/>
              <a:gd name="adj2" fmla="val -322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гово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ая выноска 7"/>
          <p:cNvSpPr/>
          <p:nvPr/>
        </p:nvSpPr>
        <p:spPr>
          <a:xfrm>
            <a:off x="4786200" y="4714920"/>
            <a:ext cx="2928960" cy="857160"/>
          </a:xfrm>
          <a:prstGeom prst="wedgeRectCallout">
            <a:avLst>
              <a:gd name="adj1" fmla="val 4722"/>
              <a:gd name="adj2" fmla="val -347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и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ая выноска 8"/>
          <p:cNvSpPr/>
          <p:nvPr/>
        </p:nvSpPr>
        <p:spPr>
          <a:xfrm>
            <a:off x="6215040" y="3714840"/>
            <a:ext cx="2928960" cy="857160"/>
          </a:xfrm>
          <a:prstGeom prst="wedgeRectCallout">
            <a:avLst>
              <a:gd name="adj1" fmla="val -36254"/>
              <a:gd name="adj2" fmla="val -234166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торе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47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357120" y="1785960"/>
            <a:ext cx="8045640" cy="9288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9"/>
          <p:cNvSpPr/>
          <p:nvPr/>
        </p:nvSpPr>
        <p:spPr>
          <a:xfrm>
            <a:off x="2714760" y="350028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о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229600" cy="5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8715240" cy="5176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8"/>
          <p:cNvSpPr/>
          <p:nvPr/>
        </p:nvSpPr>
        <p:spPr>
          <a:xfrm>
            <a:off x="2714760" y="28576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229600" cy="50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42960" y="1928880"/>
            <a:ext cx="8001000" cy="4474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3143160" y="278604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жно, непоня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229600" cy="561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3000240" y="321480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вр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573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9144000" cy="17938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2714760" y="407196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ществую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229600" cy="63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0" y="1643040"/>
            <a:ext cx="8821800" cy="5000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2286000" y="30718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правда, сказка, выду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9:33:38Z</dcterms:created>
  <dc:creator>Инна</dc:creator>
  <dc:description/>
  <dc:language>en-US</dc:language>
  <cp:lastModifiedBy>Admin</cp:lastModifiedBy>
  <dcterms:modified xsi:type="dcterms:W3CDTF">2015-11-27T16:37:35Z</dcterms:modified>
  <cp:revision>7</cp:revision>
  <dc:subject/>
  <dc:title>В1 Лексика, стилистическая окраска слов</dc:title>
</cp:coreProperties>
</file>