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40E-0FF7-4C0F-91C5-1F1A704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077-55C2-4431-86B8-6EFCDF4D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B4C-08DF-446C-9E5E-6705BB5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122-41B1-4A97-BE19-2937C589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50E-00CD-4F20-A1B7-6B968912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CF8-5A8B-4F23-ABE3-FF1DC87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5EA-0CFA-4ABC-8AA0-434CC301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75C-BCA7-47C4-A44E-582840E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7BF-029C-4A26-A0AD-A37416A9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39D-268E-4345-8F8B-92B36C1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4C9-C823-4FCF-9035-1EE1AB2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41F-CCE5-4353-84B1-754D592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F7AF-B06F-40CD-8D63-463872757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Лексика, стилистическая окраск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2920"/>
            <a:ext cx="64008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67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92980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928960" y="32148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п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57184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асшед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87904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643120" y="307188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0" y="1857240"/>
            <a:ext cx="910584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714760" y="35719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м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309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2928960" y="300024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стлив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7860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н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229600" cy="67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14316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4257720" cy="723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2571840" y="34290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296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64312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хватился, заволно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786880" cy="558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571840" y="33577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ихо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4929120" cy="79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786200" y="1357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ая выноска 7"/>
          <p:cNvSpPr/>
          <p:nvPr/>
        </p:nvSpPr>
        <p:spPr>
          <a:xfrm>
            <a:off x="3714840" y="3571920"/>
            <a:ext cx="2571840" cy="857160"/>
          </a:xfrm>
          <a:prstGeom prst="wedgeRectCallout">
            <a:avLst>
              <a:gd name="adj1" fmla="val 45277"/>
              <a:gd name="adj2" fmla="val -22416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ая выноска 8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ая выноска 9"/>
          <p:cNvSpPr/>
          <p:nvPr/>
        </p:nvSpPr>
        <p:spPr>
          <a:xfrm>
            <a:off x="6572160" y="3071880"/>
            <a:ext cx="2571840" cy="857160"/>
          </a:xfrm>
          <a:prstGeom prst="wedgeRectCallout">
            <a:avLst>
              <a:gd name="adj1" fmla="val -55305"/>
              <a:gd name="adj2" fmla="val -16862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22960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rcRect l="0" t="0" r="0" b="22185"/>
          <a:stretch/>
        </p:blipFill>
        <p:spPr>
          <a:xfrm>
            <a:off x="214200" y="1714680"/>
            <a:ext cx="8643960" cy="475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42892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0536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357280" y="335772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1305000"/>
            <a:ext cx="8850240" cy="190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50020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929800" cy="58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786040" y="3000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ра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2960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60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858160" cy="938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57184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храна, наблюдение, об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2405160"/>
            <a:ext cx="9144000" cy="950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1019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62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929800" cy="849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ничали, важни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28684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раска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21496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стически окраш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о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ая выноска 7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ая выноска 8"/>
          <p:cNvSpPr/>
          <p:nvPr/>
        </p:nvSpPr>
        <p:spPr>
          <a:xfrm>
            <a:off x="6215040" y="3714840"/>
            <a:ext cx="2928960" cy="857160"/>
          </a:xfrm>
          <a:prstGeom prst="wedgeRectCallout">
            <a:avLst>
              <a:gd name="adj1" fmla="val -36254"/>
              <a:gd name="adj2" fmla="val -23416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р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4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04564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271476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о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71524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714760" y="28576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296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001000" cy="4474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143160" y="278604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,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0002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714760" y="407196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296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882180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28600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равда, сказка, выд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33:38Z</dcterms:created>
  <dc:creator>Инна</dc:creator>
  <dc:description/>
  <dc:language>en-US</dc:language>
  <cp:lastModifiedBy>Admin</cp:lastModifiedBy>
  <dcterms:modified xsi:type="dcterms:W3CDTF">2015-11-27T16:37:35Z</dcterms:modified>
  <cp:revision>7</cp:revision>
  <dc:subject/>
  <dc:title>В1 Лексика, стилистическая окраска слов</dc:title>
</cp:coreProperties>
</file>