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3B8-336B-4A2F-910C-D88A0146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E1F-1535-4E7E-933B-B8C6E265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F5F-889D-402D-9A6A-AE143F61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332-10B1-49B6-ACDA-4EC536B7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3725-7D9D-427D-B59B-0976F022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C571-81B4-4B62-82E3-3E798707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C7C1-0658-4156-A1FB-D18EB078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068B-8D4A-47F4-8BD4-39C238D2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89ED-1695-4175-BD34-563C85DA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1556-957D-4878-A1FA-043650C6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5D12-B70E-4C3B-8AA3-242A51E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F40-79B6-4A55-9901-AFCDA9B8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3311-59F2-4D66-AC8D-C5D16E4A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C2E8-8E52-4576-814B-22FEBE0A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DBB4-DDAD-44B8-BC3A-21718643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20CD-33E7-4E67-A893-2A2C3288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8B43-052A-4DF9-A4EF-38ED4B6C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AD6-09EF-4DEC-9AEE-9FF23E07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938-CA3F-4BC2-916C-AFD75C06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0A0-4CD4-44B7-98EF-27187D3D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2BF-8953-4248-BA0C-C154AE1B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6CB-B66C-4B94-8763-442F246C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02C-2BEB-4D7E-AD1A-4505CDE5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186-A940-4F93-82C2-DFD0DB9F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32323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232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232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50000">
                    <a:srgbClr val="6b9f25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50000">
                    <a:srgbClr val="6b9f25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ded1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CDBE-45F3-42CA-92BB-689858F3480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f2936"/>
                </a:gs>
                <a:gs pos="50000">
                  <a:srgbClr val="6b9f25"/>
                </a:gs>
                <a:gs pos="100000">
                  <a:srgbClr val="9f29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9f293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f29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232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f2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2936"/>
                  </a:gs>
                  <a:gs pos="50000">
                    <a:srgbClr val="6b9f25"/>
                  </a:gs>
                  <a:gs pos="100000">
                    <a:srgbClr val="9f293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ded1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8BAC-C02F-4FBC-83B1-4A466711EC8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Вводные слова и обращения</a:t>
            </a: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(</a:t>
            </a: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задание 10)</a:t>
            </a:r>
            <a:endParaRPr b="1" lang="en-US" sz="4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ка к экзамену в 9 кла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ых предложениях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520" y="2361960"/>
            <a:ext cx="8534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2400" spc="-1" strike="noStrike">
                <a:solidFill>
                  <a:srgbClr val="92d050"/>
                </a:solidFill>
                <a:latin typeface="Tahoma"/>
              </a:rPr>
              <a:t>Из твоей части, (1) из другой – было невозможно, (2) чтобы кто-то отвернулся, (3) сделав вид, (4) что не заметил. Помогали, (5) тащили на себе, (6) перевязывали, (7) подвозили… Кое-кто, (8) может, (9) и нарушал этот закон фронтовой жизни, (10) так ведь были и дезертиры, (11) и самостре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Двенадцатиугольник 3"/>
          <p:cNvSpPr/>
          <p:nvPr/>
        </p:nvSpPr>
        <p:spPr>
          <a:xfrm>
            <a:off x="7696080" y="571500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8,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971800" y="2361960"/>
            <a:ext cx="5943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000"/>
                </a:solidFill>
                <a:latin typeface="Tahoma"/>
              </a:rPr>
              <a:t>Поднялся из самых низов, (1) пришёл из Суконной слободки, (2) чтобы дать миру, (3) по выражению Стасова, (4) «радость безмерную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Двенадцатиугольник 3"/>
          <p:cNvSpPr/>
          <p:nvPr/>
        </p:nvSpPr>
        <p:spPr>
          <a:xfrm>
            <a:off x="7772400" y="556272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3,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Рисунок 4" descr="Шаляпин.bmp"/>
          <p:cNvPicPr/>
          <p:nvPr/>
        </p:nvPicPr>
        <p:blipFill>
          <a:blip r:embed="rId1"/>
          <a:stretch/>
        </p:blipFill>
        <p:spPr>
          <a:xfrm>
            <a:off x="228600" y="2514600"/>
            <a:ext cx="274320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2361960"/>
            <a:ext cx="8534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00b0f0"/>
                </a:solidFill>
                <a:latin typeface="Tahoma"/>
              </a:rPr>
              <a:t>И, (1)наконец, (2) четвёртая, (3)  к сожалению, (4) самая многочисленная, (5) – необозримое море людей, (6) которые к языкам равнодушны и палец о палец не ударят, (7) чтобы чего-нибудь доби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Двенадцатиугольник 3"/>
          <p:cNvSpPr/>
          <p:nvPr/>
        </p:nvSpPr>
        <p:spPr>
          <a:xfrm>
            <a:off x="7543800" y="541008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1,2,3,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Рисунок 5" descr="знания 3.wmf"/>
          <p:cNvPicPr/>
          <p:nvPr/>
        </p:nvPicPr>
        <p:blipFill>
          <a:blip r:embed="rId1"/>
          <a:stretch/>
        </p:blipFill>
        <p:spPr>
          <a:xfrm>
            <a:off x="3352680" y="4343400"/>
            <a:ext cx="2362320" cy="21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2361960"/>
            <a:ext cx="8381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2400" spc="-1" strike="noStrike">
                <a:solidFill>
                  <a:srgbClr val="ff33cc"/>
                </a:solidFill>
                <a:latin typeface="Tahoma"/>
              </a:rPr>
              <a:t>Разумеется, (1) он не сидел всё лето, (2) просто, (3) если человек пробыл всё лето в городе, (4) даже не без удовольствия и пользы, (5) всё равно говорится «просидел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Двенадцатиугольник 3"/>
          <p:cNvSpPr/>
          <p:nvPr/>
        </p:nvSpPr>
        <p:spPr>
          <a:xfrm>
            <a:off x="7696080" y="556272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52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2400" spc="-1" strike="noStrike">
                <a:solidFill>
                  <a:srgbClr val="ffc000"/>
                </a:solidFill>
                <a:latin typeface="Tahoma"/>
              </a:rPr>
              <a:t>К примеру, (1) некоторые суеверия, (2) связанные с кошками, (3) отличаются жестокостью и основаны на страхе и невежестве, (4) а другие, (5) напротив, (6) основаны на любви и восхищ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Двенадцатиугольник 3"/>
          <p:cNvSpPr/>
          <p:nvPr/>
        </p:nvSpPr>
        <p:spPr>
          <a:xfrm>
            <a:off x="7543800" y="563868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1, 5,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Рисунок 4" descr="Пьеро и кот.bmp"/>
          <p:cNvPicPr/>
          <p:nvPr/>
        </p:nvPicPr>
        <p:blipFill>
          <a:blip r:embed="rId1"/>
          <a:stretch/>
        </p:blipFill>
        <p:spPr>
          <a:xfrm>
            <a:off x="3581280" y="4267080"/>
            <a:ext cx="2051280" cy="2400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00b0f0"/>
                </a:solidFill>
                <a:latin typeface="Tahoma"/>
              </a:rPr>
              <a:t>Обращение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– слово или сочетание слов, называющее того, к кому или чему обращаются с речью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4000" spc="-1" strike="noStrike">
                <a:solidFill>
                  <a:srgbClr val="ffc000"/>
                </a:solidFill>
                <a:latin typeface="Tahoma"/>
              </a:rPr>
              <a:t>Паша, это т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Rus190_0064"/>
          <p:cNvPicPr/>
          <p:nvPr/>
        </p:nvPicPr>
        <p:blipFill>
          <a:blip r:embed="rId1"/>
          <a:stretch/>
        </p:blipFill>
        <p:spPr>
          <a:xfrm>
            <a:off x="-990720" y="0"/>
            <a:ext cx="10820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763640" y="0"/>
            <a:ext cx="5400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пособ выра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164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008000" cy="1052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80880" y="979560"/>
            <a:ext cx="8534520" cy="69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Обращения обычно выражено именами существительными одушевлёнными, реже прилагательными или причастиями в значении существительн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Monotype Corsiva"/>
              </a:rPr>
              <a:t>Хорошая, любимая, родная</a:t>
            </a:r>
            <a:r>
              <a:rPr b="1" lang="ru-RU" sz="2400" spc="-1" strike="noStrike">
                <a:solidFill>
                  <a:srgbClr val="ffc000"/>
                </a:solidFill>
                <a:latin typeface="Monotype Corsiva"/>
              </a:rPr>
              <a:t>, мы друг от друга далеко живём (Щип.).</a:t>
            </a:r>
            <a:r>
              <a:rPr b="1" lang="ru-RU" sz="2000" spc="-1" strike="noStrike">
                <a:solidFill>
                  <a:srgbClr val="ffc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В роли обращений чаще всего выступают собственные имена и существительные, называющие лиц по родству, по общественному положению, по професси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Monotype Corsiva"/>
              </a:rPr>
              <a:t>Вот, Л</a:t>
            </a:r>
            <a:r>
              <a:rPr b="1" lang="ru-RU" sz="2400" spc="-1" strike="noStrike">
                <a:solidFill>
                  <a:srgbClr val="00b0f0"/>
                </a:solidFill>
                <a:latin typeface="Monotype Corsiva"/>
              </a:rPr>
              <a:t>юбушка</a:t>
            </a:r>
            <a:r>
              <a:rPr b="1" lang="ru-RU" sz="2400" spc="-1" strike="noStrike">
                <a:solidFill>
                  <a:srgbClr val="ffc000"/>
                </a:solidFill>
                <a:latin typeface="Monotype Corsiva"/>
              </a:rPr>
              <a:t>, Митя проститься пришёл: он едет к матушке своей (Ост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Личные местоимения 2 лица ТЫ и ВЫ чаще входят в состав особого оборота, выступающего в роли обращения и заключающего в себе качественную оценку л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Что вы такой герцогиней смотрите, </a:t>
            </a:r>
            <a:r>
              <a:rPr b="1" lang="ru-RU" sz="2800" spc="-1" strike="noStrike">
                <a:solidFill>
                  <a:srgbClr val="00b0f0"/>
                </a:solidFill>
                <a:latin typeface="Monotype Corsiva"/>
              </a:rPr>
              <a:t>красавица вы мо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В языке художественной литературы, особенно в поэтических текстах, используются обращения к неодушевлённым предмет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Красуйся, </a:t>
            </a:r>
            <a:r>
              <a:rPr b="1" lang="ru-RU" sz="2800" spc="-1" strike="noStrike">
                <a:solidFill>
                  <a:srgbClr val="00b0f0"/>
                </a:solidFill>
                <a:latin typeface="Monotype Corsiva"/>
              </a:rPr>
              <a:t>град Петров</a:t>
            </a: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, и ст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</a:rPr>
              <a:t>Неколебимо, как Россия (Пушкин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600200" y="22860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Corsiva"/>
              </a:rPr>
              <a:t>Место в предложе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Corsiva"/>
              <a:ea typeface="Monotype Corsiva"/>
            </a:endParaRPr>
          </a:p>
        </p:txBody>
      </p:sp>
      <p:pic>
        <p:nvPicPr>
          <p:cNvPr id="167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0" y="1628640"/>
            <a:ext cx="89996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Обращение может стоять в начале, в середине и в конце предложени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Обращение не является членом предлож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наки препин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170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250920" y="1397160"/>
          <a:ext cx="8713800" cy="47736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16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Обращение выделяется запятыми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c000"/>
                          </a:solidFill>
                          <a:latin typeface="Monotype Corsiva"/>
                        </a:rPr>
                        <a:t>Наташа</a:t>
                      </a:r>
                      <a:r>
                        <a:rPr b="0" lang="ru-RU" sz="32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 иди сюда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Вперёд тебе наука, </a:t>
                      </a:r>
                      <a:r>
                        <a:rPr b="0" lang="ru-RU" sz="3600" spc="-1" strike="noStrike">
                          <a:solidFill>
                            <a:srgbClr val="ffc000"/>
                          </a:solidFill>
                          <a:latin typeface="Monotype Corsiva"/>
                        </a:rPr>
                        <a:t>друг.</a:t>
                      </a: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Если обращение стоит в начале предложения и произносится с восклицательной интонацией, после него ставится восклицательный знак, а идущее дальше предложение начинается с прописной буквы.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c000"/>
                          </a:solidFill>
                          <a:latin typeface="Monotype Corsiva"/>
                        </a:rPr>
                        <a:t>Соседушка, мой свет!</a:t>
                      </a: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Пожалуйста, покуша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Если обращение разбито на части, выделяется запятыми каждая часть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Отколе</a:t>
                      </a:r>
                      <a:r>
                        <a:rPr b="0" lang="ru-RU" sz="36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, </a:t>
                      </a:r>
                      <a:r>
                        <a:rPr b="0" lang="ru-RU" sz="3600" spc="-1" strike="noStrike">
                          <a:solidFill>
                            <a:srgbClr val="ffc000"/>
                          </a:solidFill>
                          <a:latin typeface="Monotype Corsiva"/>
                        </a:rPr>
                        <a:t>умная</a:t>
                      </a:r>
                      <a:r>
                        <a:rPr b="0" lang="ru-RU" sz="36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 бредёшь ты, </a:t>
                      </a:r>
                      <a:r>
                        <a:rPr b="0" lang="ru-RU" sz="3600" spc="-1" strike="noStrike">
                          <a:solidFill>
                            <a:srgbClr val="e3ded1"/>
                          </a:solidFill>
                          <a:latin typeface="Monotype Corsiva"/>
                        </a:rPr>
                        <a:t>голова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ded1"/>
                </a:solidFill>
                <a:latin typeface="Tahoma"/>
              </a:rPr>
              <a:t>Вводные слова и их значения</a:t>
            </a:r>
            <a:endParaRPr b="1" lang="en-US" sz="3200" spc="-1" strike="noStrike">
              <a:solidFill>
                <a:srgbClr val="e3ded1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066680"/>
          <a:ext cx="8305560" cy="5486400"/>
        </p:xfrm>
        <a:graphic>
          <a:graphicData uri="http://schemas.openxmlformats.org/drawingml/2006/table">
            <a:tbl>
              <a:tblPr/>
              <a:tblGrid>
                <a:gridCol w="2743200"/>
                <a:gridCol w="556236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ппа по значе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Увер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Конечно, разумеется, бесспорно, несомненно, без сомнения, безусловно, действит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Неувер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ажется, вероятно, очевидно, возможно, пожалу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Различные чув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Tahoma"/>
                        </a:rPr>
                        <a:t>К счастью, к общей радости, к несчастью, к сожалению, к удивле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Источник информ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По сообщению…, по словам…, по мнению…, по моему мнению, по-моему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Порядок мыс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ahoma"/>
                        </a:rPr>
                        <a:t>Во-первых, во-вторых, в-третьих, наконец, следовательно, значит, итак, напротив, наоборот, например, т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Замечания о способах оформления мыс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Одним словом, иначе говоря, лучше сказ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приведённых ниже предложениях  пронумерованы все запятые. Выпишите цифры, обозначающие запятые при обраще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901"/>
              </a:spcBef>
              <a:buClr>
                <a:srgbClr val="6b9f25"/>
              </a:buClr>
              <a:buSzPct val="70000"/>
              <a:buFont typeface="Britannic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Приплыла к нему рыбка, (1) спросил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  </a:t>
            </a: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- Чего тебе надобно,(</a:t>
            </a:r>
            <a:r>
              <a:rPr b="0" i="1" lang="ru-RU" sz="3600" spc="-1" strike="noStrike">
                <a:solidFill>
                  <a:srgbClr val="ffc000"/>
                </a:solidFill>
                <a:latin typeface="Tahoma"/>
              </a:rPr>
              <a:t>2</a:t>
            </a: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) старче?                (Пушкин).</a:t>
            </a:r>
            <a:r>
              <a:rPr b="0" i="1" lang="ru-RU" sz="3600" spc="-1" strike="noStrike">
                <a:solidFill>
                  <a:srgbClr val="ffc000"/>
                </a:solidFill>
                <a:latin typeface="Tahoma"/>
              </a:rPr>
              <a:t>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6b9f25"/>
              </a:buClr>
              <a:buSzPct val="70000"/>
              <a:buFont typeface="Britannic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Государь ты наш Владимир Андреевич,</a:t>
            </a:r>
            <a:r>
              <a:rPr b="0" i="1" lang="ru-RU" sz="36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c000"/>
                </a:solidFill>
                <a:latin typeface="Britannic Bold"/>
              </a:rPr>
              <a:t>(1) я, (2) твоя старая нянька,(3) решилась тебе доложить о здоровье папенькином. (Пушкин</a:t>
            </a:r>
            <a:r>
              <a:rPr b="0" i="1" lang="ru-RU" sz="2800" spc="-1" strike="noStrike">
                <a:solidFill>
                  <a:srgbClr val="ffc000"/>
                </a:solidFill>
                <a:latin typeface="Britannic Bold"/>
              </a:rPr>
              <a:t>).</a:t>
            </a:r>
            <a:r>
              <a:rPr b="0" lang="ru-RU" sz="2800" spc="-1" strike="noStrike">
                <a:solidFill>
                  <a:srgbClr val="ffc000"/>
                </a:solidFill>
                <a:latin typeface="Britannic Bol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2"/>
          <p:cNvPicPr/>
          <p:nvPr/>
        </p:nvPicPr>
        <p:blipFill>
          <a:blip r:embed="rId1"/>
          <a:stretch/>
        </p:blipFill>
        <p:spPr>
          <a:xfrm>
            <a:off x="7086600" y="3276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1"/>
          <p:cNvPicPr/>
          <p:nvPr/>
        </p:nvPicPr>
        <p:blipFill>
          <a:blip r:embed="rId2"/>
          <a:stretch/>
        </p:blipFill>
        <p:spPr>
          <a:xfrm>
            <a:off x="6781680" y="548640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В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  В приведенных ниже предложениях из прочитанного текста пронумерованы все запятые. Выпишите цифры (или цифру), обозначающие запятые при вводных слов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00b0f0"/>
                </a:solidFill>
                <a:latin typeface="Tahoma"/>
              </a:rPr>
              <a:t>Не только я и соседи, (1) но, </a:t>
            </a:r>
            <a:r>
              <a:rPr b="0" lang="ru-RU" sz="3200" spc="-1" strike="noStrike">
                <a:solidFill>
                  <a:srgbClr val="00b0f0"/>
                </a:solidFill>
                <a:latin typeface="Tahoma"/>
              </a:rPr>
              <a:t>(2) </a:t>
            </a:r>
            <a:r>
              <a:rPr b="0" i="1" lang="ru-RU" sz="3200" spc="-1" strike="noStrike">
                <a:solidFill>
                  <a:srgbClr val="00b0f0"/>
                </a:solidFill>
                <a:latin typeface="Tahoma"/>
              </a:rPr>
              <a:t>кажется, (3) уже весь вагон слушал радостную повесть девушки о новогодних подарках. Опустились на колени раскрытые книги, (4) развернутые листы газет. Наверное, </a:t>
            </a:r>
            <a:r>
              <a:rPr b="0" lang="ru-RU" sz="3200" spc="-1" strike="noStrike">
                <a:solidFill>
                  <a:srgbClr val="00b0f0"/>
                </a:solidFill>
                <a:latin typeface="Tahoma"/>
              </a:rPr>
              <a:t>(5) </a:t>
            </a:r>
            <a:r>
              <a:rPr b="0" i="1" lang="ru-RU" sz="3200" spc="-1" strike="noStrike">
                <a:solidFill>
                  <a:srgbClr val="00b0f0"/>
                </a:solidFill>
                <a:latin typeface="Tahoma"/>
              </a:rPr>
              <a:t>у всех, (6) как и у меня, (7) отступило, (8) забылось дневное, (9) несладкое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r>
              <a:rPr b="1" i="1" lang="ru-RU" sz="4000" spc="-1" strike="noStrike">
                <a:solidFill>
                  <a:srgbClr val="e3ded1"/>
                </a:solidFill>
                <a:latin typeface="Tahoma"/>
              </a:rPr>
              <a:t>2,3,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В5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 приведённом ниже предложении из прочитанного текста пронумерованы все запятые. Выпишите цифры, обозначающие запятые при вводном сл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Так же как и у взрослых,(1) в библиотеке детей есть книги зачитанные,(2) затрёпанные,(3) а следовательно,(4) и самые дорогие,(5) и есть книги новенькие,(6) с нестёршимся золотым тиснением на переплётах,(7) книги,(8) раз только раскрытые и недолистанные до кон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                                                                </a:t>
            </a:r>
            <a:r>
              <a:rPr b="1" i="1" lang="ru-RU" sz="3600" spc="-1" strike="noStrike">
                <a:solidFill>
                  <a:srgbClr val="e3ded1"/>
                </a:solidFill>
                <a:latin typeface="Tahoma"/>
              </a:rPr>
              <a:t>3,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В5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ведённом ниже предложении из прочитанного текста пронумерованы все запятые. Выпишите цифры, обозначающие запятые при вводном слове (выражен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c000"/>
                </a:solidFill>
                <a:latin typeface="Tahoma"/>
              </a:rPr>
              <a:t>В нём,(1) казалось,(2) не было ни одного из тех качеств,(3) которыми,(4) по общему установившемуся мнению,(5) должны обладать победители женских серде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Tahoma"/>
              </a:rPr>
              <a:t>                                                            </a:t>
            </a:r>
            <a:r>
              <a:rPr b="1" i="1" lang="ru-RU" sz="4400" spc="-1" strike="noStrike">
                <a:solidFill>
                  <a:srgbClr val="e3ded1"/>
                </a:solidFill>
                <a:latin typeface="Tahoma"/>
              </a:rPr>
              <a:t>1,2,4,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2" descr="C:\Documents and Settings\Loner\Рабочий стол\Надежда Павловна\Всё для презентаций\Анимашки сказочные\кот читает газету.gif"/>
          <p:cNvPicPr/>
          <p:nvPr/>
        </p:nvPicPr>
        <p:blipFill>
          <a:blip r:embed="rId1"/>
          <a:stretch/>
        </p:blipFill>
        <p:spPr>
          <a:xfrm>
            <a:off x="4724280" y="2057400"/>
            <a:ext cx="5029200" cy="502920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3" descr=""/>
          <p:cNvPicPr/>
          <p:nvPr/>
        </p:nvPicPr>
        <p:blipFill>
          <a:blip r:embed="rId2"/>
          <a:stretch/>
        </p:blipFill>
        <p:spPr>
          <a:xfrm>
            <a:off x="-23760" y="-317520"/>
            <a:ext cx="8796240" cy="517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228600" y="152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Найдите вводные слова. Определите их зна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457200" y="914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, государь, к несчастью, недостоин ни милостей, ни вашего вниманья.  </a:t>
            </a: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ув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457200" y="1868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должен буду, без сомненья, письмо Татьяны переве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485640" y="2741760"/>
            <a:ext cx="81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ечно, шутишь ты – но так шутить безбож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473040" y="35132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егин, я тогда моложе и лучше, кажется, была, и я любила ва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457200" y="4451400"/>
            <a:ext cx="81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леко, в прохладной мгле, казалось, приросли к скале две сакли дружною чет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380880" y="5638680"/>
            <a:ext cx="803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вас люблю любовью брата и, может быть, ещё сильн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3455280" y="233028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в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3666960" y="324468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в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3062160" y="40798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ув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4008240" y="50976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ув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16"/>
          <p:cNvSpPr/>
          <p:nvPr/>
        </p:nvSpPr>
        <p:spPr>
          <a:xfrm>
            <a:off x="3219120" y="62848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увер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Найдите вводные слова. Определите их значения</a:t>
            </a:r>
            <a:endParaRPr b="1" lang="en-US" sz="2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ыть бессмертным не в силе, но надежда моя: если будет Россия, значит, буду и я. 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Порядок мыс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 мнению Вернадского, живой организм и земная кора близки по химическому составу.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Источ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 летописной легенде, Владимир Мономах получил шапку от византийского императора Константина.  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Источ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, наконец, всё ещё впереди.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Порядок мыс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 прошлом году они, похоже, познакомились.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Неувер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так, у Ильи Лапшина я встретился со Слуцким.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Порядок мыс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алант, в сущности, состоит в свойстве выразить в искусстве свой характер.   </a:t>
            </a:r>
            <a:r>
              <a:rPr b="0" i="1" lang="ru-RU" sz="1800" spc="-1" strike="noStrike">
                <a:solidFill>
                  <a:srgbClr val="ffc000"/>
                </a:solidFill>
                <a:latin typeface="Tahoma"/>
              </a:rPr>
              <a:t>Замечания о способах оформления мыс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02120" indent="-402120">
              <a:spcBef>
                <a:spcPts val="451"/>
              </a:spcBef>
              <a:buClr>
                <a:srgbClr val="6b9f2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Овал 3"/>
          <p:cNvSpPr/>
          <p:nvPr/>
        </p:nvSpPr>
        <p:spPr>
          <a:xfrm>
            <a:off x="8381880" y="914400"/>
            <a:ext cx="609840" cy="4572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ded1"/>
                </a:solidFill>
                <a:latin typeface="Tahoma"/>
              </a:rPr>
              <a:t>Отличия вводных слов от членов предложения</a:t>
            </a:r>
            <a:endParaRPr b="1" lang="en-US" sz="3200" spc="-1" strike="noStrike">
              <a:solidFill>
                <a:srgbClr val="e3ded1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981080"/>
          <a:ext cx="8229600" cy="4211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одные с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лены пред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1. Кажется,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шепчут колосья друг друг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Мир кажется мне книгой бесконеч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Вы</a:t>
                      </a: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, верно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едете в Ставрополь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Задача решена вер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</a:t>
                      </a: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Бесспорно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огурец и с дом величиной дикови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Ваше право на отпуск бесспор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</a:t>
                      </a: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Правда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 годами мои стихи делались менее нарядны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Правда в огне не горит и в воде не то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Он, </a:t>
                      </a: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точно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немного стран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Все три раза он проводил поезда точно по расписа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Дождь, </a:t>
                      </a: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казалос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зарядил надол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Море на сотни миль вокруг казалось пустынны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ahoma"/>
              </a:rPr>
              <a:t>Прочитайте со знаками препинаниями. Разграничьте вводные слова и члены предложения</a:t>
            </a:r>
            <a:endParaRPr b="1" lang="en-US" sz="24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 algn="just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конец он приехал. </a:t>
            </a: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Наконец можно обратиться к врачу за помощ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н может быть ещё успеет уехать со всеми. </a:t>
            </a: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Что может быть важнее дружбы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Бывало они часто собирались вместе за чаем. </a:t>
            </a: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Им бывало весе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Это было совершенно очевидно. </a:t>
            </a: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Он очевидно стесняется среди незнаком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06800" indent="-406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ded1"/>
                </a:solidFill>
                <a:latin typeface="Tahoma"/>
              </a:rPr>
              <a:t>Прочитайте со знаками препинаниями. Разграничьте вводные слова и члены предложения</a:t>
            </a:r>
            <a:endParaRPr b="1" lang="en-US" sz="32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8284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Он проработал таким образом до десяти часов. </a:t>
            </a:r>
            <a:r>
              <a:rPr b="0" i="1" lang="ru-RU" sz="2400" spc="-1" strike="noStrike">
                <a:solidFill>
                  <a:srgbClr val="92d050"/>
                </a:solidFill>
                <a:latin typeface="Tahoma"/>
              </a:rPr>
              <a:t>Уже начинало темнеть и таким образом мы возвратились с прогулки вовре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Всё казалось ему знакомым. </a:t>
            </a:r>
            <a:r>
              <a:rPr b="0" i="1" lang="ru-RU" sz="2400" spc="-1" strike="noStrike">
                <a:solidFill>
                  <a:srgbClr val="92d050"/>
                </a:solidFill>
                <a:latin typeface="Tahoma"/>
              </a:rPr>
              <a:t>Всё здесь казалось напоминало ему о детст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Он часто бывает у нас. </a:t>
            </a:r>
            <a:r>
              <a:rPr b="0" i="1" lang="ru-RU" sz="2400" spc="-1" strike="noStrike">
                <a:solidFill>
                  <a:srgbClr val="92d050"/>
                </a:solidFill>
                <a:latin typeface="Tahoma"/>
              </a:rPr>
              <a:t>Бывает она поёт очень долго, с удовольств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b9f25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ahoma"/>
              </a:rPr>
              <a:t>Оля видно только проснулась. </a:t>
            </a:r>
            <a:r>
              <a:rPr b="0" i="1" lang="ru-RU" sz="2400" spc="-1" strike="noStrike">
                <a:solidFill>
                  <a:srgbClr val="92d050"/>
                </a:solidFill>
                <a:latin typeface="Tahoma"/>
              </a:rPr>
              <a:t>Мне видно лес из ок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Овал 3"/>
          <p:cNvSpPr/>
          <p:nvPr/>
        </p:nvSpPr>
        <p:spPr>
          <a:xfrm>
            <a:off x="8229600" y="2971800"/>
            <a:ext cx="9144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2400" spc="-1" strike="noStrike">
                <a:solidFill>
                  <a:srgbClr val="92d050"/>
                </a:solidFill>
                <a:latin typeface="Tahoma"/>
              </a:rPr>
              <a:t>Римский философ Сенека в самом начале нашей эры, (1) размышляя о времени, (2) в одном из писем к Луцилию, (3) которые, (4) впрочем, (5) можно адресовать и всем молодым людям нашего времени, (6) писал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Двенадцатиугольник 3"/>
          <p:cNvSpPr/>
          <p:nvPr/>
        </p:nvSpPr>
        <p:spPr>
          <a:xfrm>
            <a:off x="1371600" y="571500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4,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Платон.png"/>
          <p:cNvPicPr/>
          <p:nvPr/>
        </p:nvPicPr>
        <p:blipFill>
          <a:blip r:embed="rId1"/>
          <a:stretch/>
        </p:blipFill>
        <p:spPr>
          <a:xfrm>
            <a:off x="7201080" y="4525920"/>
            <a:ext cx="1942920" cy="233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ded1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e3ded1"/>
                </a:solidFill>
                <a:latin typeface="Tahoma"/>
              </a:rPr>
              <a:t>В приведённом ниже предложении пронумерованы все запятые. Выпишите цифры, которые обозначают запятые при вводном слове</a:t>
            </a:r>
            <a:endParaRPr b="1" lang="en-US" sz="2800" spc="-1" strike="noStrike">
              <a:solidFill>
                <a:srgbClr val="e3ded1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09320" y="2361960"/>
            <a:ext cx="6705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2400" spc="-1" strike="noStrike">
                <a:solidFill>
                  <a:srgbClr val="00b0f0"/>
                </a:solidFill>
                <a:latin typeface="Tahoma"/>
              </a:rPr>
              <a:t>Тихий, (1) молчаливый, (2) сдержанный, (3) он появлялся в мастерских, (4) где ещё только заканчивались будущие шедевры живописи,(5) и  ,(6) случалось, (7) покупал их для своей галереи прежде, (8) чем они успевали появиться на выстав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Двенадцатиугольник 3"/>
          <p:cNvSpPr/>
          <p:nvPr/>
        </p:nvSpPr>
        <p:spPr>
          <a:xfrm>
            <a:off x="7848720" y="5715000"/>
            <a:ext cx="914400" cy="914400"/>
          </a:xfrm>
          <a:prstGeom prst="pi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6, 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Рисунок 4" descr="Третьяков.jpg"/>
          <p:cNvPicPr/>
          <p:nvPr/>
        </p:nvPicPr>
        <p:blipFill>
          <a:blip r:embed="rId1"/>
          <a:stretch/>
        </p:blipFill>
        <p:spPr>
          <a:xfrm>
            <a:off x="0" y="2678040"/>
            <a:ext cx="2133720" cy="257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8:30:53Z</dcterms:created>
  <dc:creator/>
  <dc:description/>
  <dc:language>en-US</dc:language>
  <cp:lastModifiedBy>Admin</cp:lastModifiedBy>
  <dcterms:modified xsi:type="dcterms:W3CDTF">2017-04-06T15:40:2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