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57E-B857-4D12-A1AC-2406EFCC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CDB-2FF4-4A06-9F92-0C75C069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7BDDE-4AD5-48F2-A8EE-B4BD195B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869F0-ED50-4896-A0D4-3CE350A2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D4276-5847-4A01-ACCF-DE5C65C2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7DE9B-8223-4064-8497-EE0357E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6A03B-F69E-46BD-86EF-797A921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16F3C-5083-482D-9BA8-35660182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D9979-1645-4F73-90EF-92519997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12FEE-2527-4E74-9289-789B47F9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EF476-8380-4662-9138-7B84AE69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B7C75-298A-4A20-9175-A86F67B5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CF9-7870-4313-9CF2-A4591F9A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1CAAC-9E39-43A4-9BB2-251810B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C3805-253C-4CFF-9D35-B99BAA3A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0F33E-5147-4500-A118-23DB6CE5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7E746-FD41-4F83-8632-45B1141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7D5C7-072F-4B4A-A166-909B771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D427F-4FF8-4920-9078-3F2B635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7490B-0AC3-452A-BF02-A081A7F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81DB2-F017-4EF5-A6C5-8D9F0EE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1AAAB-BF9B-4FDF-B1FD-550D6E5A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BC812-F683-4F36-A9E2-703A451C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8B7-711B-4F9B-A579-F5422E73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90295-2500-4E3D-B6FE-33557E4A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0718-6349-4AC7-AB6E-F93639ED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0A2A-99EC-47DF-854B-C3771F4F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2A3B-8F46-47DE-AC8A-E25C6F61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9CC7-0B07-4095-A6A0-796BC4AE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536B-0AA9-4316-B79F-293E24C3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BC2F-A86D-4F24-A345-D1014DF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70B5-DCF3-4BBA-A19E-7A5D7B3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DFF-F2E8-4269-8FD6-8D2671EE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DCD1-AD93-45F8-AFF5-A686E7C3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6548-99B0-4B25-B200-35B3862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8CCD-1829-49ED-BE6E-6952003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2FD9-7F4C-4220-8E71-C53777B6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E61E-F9F4-4FE2-AC19-6E72045E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E764-4CB0-41FE-80DD-539D41EF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4C03-B3AE-47F6-B06C-BC06D58E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530B-80C8-4B0F-B286-D3FD999B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2A53-CF5D-42E2-B45C-584C14F4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854B-91F3-43B6-ABAA-FA9415FB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DCD-4FAD-4E46-B984-0AA6BA22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FD5C-1454-4B34-A844-A6973C26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9072-2BA1-4D94-802A-AD2EC9D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6FEA-43B7-4738-8935-74D1C9B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9F97-6636-4E62-B676-A29D6AA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1D7B-DDA5-4A0B-AA40-B13391C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A10C-DAB8-43D3-AFFA-396AC5D7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FA6C-AB11-40D0-A7A9-69BF8A45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9ECF-CDD5-456E-95B2-8CF5E20F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46FE-3017-442D-A23E-2783FD74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2D55-8FC7-4930-BA23-898B59ED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6BB-0A01-4882-B049-9A1E9486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1B73-6F1C-414A-8802-E42540B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A2C7-203E-48E2-A149-5E9B4AF6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7A61F-B2EA-4FB7-91FE-9B45BD63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5B32-6091-4F3B-A7BC-CC541095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5985-9222-4F64-B731-2AFC325B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A0F9-DAAF-4A41-89BD-0202F157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7213-3F3B-4E59-BDD4-1411C0B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5426-9818-4E8F-86BA-2674D787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A70B-C734-49E8-B8F9-5FD27755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89066-6733-4644-981C-7D85BB56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C55-66DC-43B7-9878-123C776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EE9E-07CD-45B5-A820-1A2B5849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07E9-C430-4198-A0E0-24372CE9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A4971-2CA3-4D13-9106-102A04C9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248D9-E573-490E-87B7-8C86733B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188B-0371-4A87-9C5F-BB0D7C36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3701-4BEA-4476-9FCC-62BDE982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A342-C588-497A-960E-39640BA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3E17-CDAE-4B60-BE7A-713717DA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D940-BD1E-43C9-B8F2-1FE50694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B066F-8661-4C7D-AAEE-E0F00088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DE4-7F0D-47EC-9B4B-EF0E9032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5EFAD-29CB-4466-8814-3D25F545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3247-70B6-4DCF-9D8B-3E32A331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00DB3-4E6C-4B7D-8F4A-ADBB2F30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4D086-3893-43EA-BE17-A813C1BA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212E-B10C-4F4E-9C0C-605E36FD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908C-D2FE-41C9-AE60-49835A6C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38F8-B1B6-4D77-B996-406E2D9D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0C8DF-4E64-4417-8445-B3DCECC2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57445-29ED-4401-9D7D-7FF10482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7E1F-5C08-4BEF-9A2A-C6F8A39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27D-673B-4173-824A-B63D0D0D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1E42-76BF-48A0-B314-7F9E969B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F023-53D3-4728-BC9A-DCFC5BB7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7F4B-E8C9-479D-BC44-135874A8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57C55-6641-46B9-91DC-175237F9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4C21-4FEC-4247-B66F-CC86A6C6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887C1-4ACC-4DC5-B2B8-7916B0B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546A3-71CC-4A85-92CA-FF3DD8D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497F-6E7A-4176-84F9-FF3948C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990BE-B5E3-4575-B7A3-3AB4C757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487CE-582F-4C12-84D4-36A39A2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540-A60B-4415-AD6A-30AD65C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DE584-8646-4580-AF36-D8891F8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2E887-3569-4761-8B2A-0260E23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2F31A-CBB0-47A3-948D-2F0AD6F5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54A8F-4D13-4DCF-9804-2791B70A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267FC-C369-4647-B7E9-D9E8CF86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7D55B-6DE6-4555-8733-CDCA67FF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4DF6F-804F-4A74-A0CF-8DFD53B2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7DFA-1527-44C7-9980-4EE3FFAB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4B13-5268-4E33-8821-6F3D11E6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09729-BEBD-4376-BBC0-650210B1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783-B73C-4527-A2BC-6F11BC9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D354-D671-43C1-8EB7-93C7C41D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F3993-7557-4DDF-88E9-FE96196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33FE6-F79D-4C7A-A2A6-FEAD0BF9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E0FC7-1E54-43BA-9990-AC061F0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D7477-6089-4B2C-898D-5A498FCC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B9AD2-1F5A-4BE6-AA4A-5899CFBA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F8F83-9808-461D-B5C3-2DA08FAD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A7992-B6CA-4524-9755-EFA7FC84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0F579-9338-40C2-980C-313F9DFA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0A06A-37B0-4734-A898-721961DC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F19-0EAE-4D7C-9C07-D0477CFFD7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C3C3-8373-4E4F-B37D-9387A00C988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C90C-1AB7-4221-B168-EB49C5A72EA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3758-01D6-40F7-8614-8D7139C2EE8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93F0-DC13-47B6-9314-4FBB7981482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7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8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18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C3E4-E8EE-4F25-B8C3-43ECFBC6648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3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3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23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A22A-08EE-4442-953E-AD42E8AA4A4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8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8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8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716B-0E1B-4665-9625-618A9C4B14E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33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33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33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2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3789-2E85-4591-88E4-755BA29B94C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E48A-0080-4525-BE27-2380152F111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inalefa2.files.wordpress.com/2009/06/logotoleranci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Игровая деятельность на уроках иностранного языка как основное условие повышения качеств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8" name="Picture 5" descr="Картинка 68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405240"/>
            <a:ext cx="3295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Овал 25"/>
          <p:cNvSpPr/>
          <p:nvPr/>
        </p:nvSpPr>
        <p:spPr>
          <a:xfrm>
            <a:off x="2411280" y="2205000"/>
            <a:ext cx="360072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86"/>
          <p:cNvGrpSpPr/>
          <p:nvPr/>
        </p:nvGrpSpPr>
        <p:grpSpPr>
          <a:xfrm>
            <a:off x="1440" y="189000"/>
            <a:ext cx="9321480" cy="6478560"/>
            <a:chOff x="1440" y="189000"/>
            <a:chExt cx="9321480" cy="6478560"/>
          </a:xfrm>
        </p:grpSpPr>
        <p:sp>
          <p:nvSpPr>
            <p:cNvPr id="471" name="Text Box 74"/>
            <p:cNvSpPr/>
            <p:nvPr/>
          </p:nvSpPr>
          <p:spPr>
            <a:xfrm>
              <a:off x="2555280" y="2853000"/>
              <a:ext cx="3520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Функции игровой деятель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75"/>
            <p:cNvSpPr/>
            <p:nvPr/>
          </p:nvSpPr>
          <p:spPr>
            <a:xfrm>
              <a:off x="3903840" y="844560"/>
              <a:ext cx="13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77"/>
            <p:cNvSpPr/>
            <p:nvPr/>
          </p:nvSpPr>
          <p:spPr>
            <a:xfrm flipV="1" rot="5400000">
              <a:off x="3216240" y="96696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Прощ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78"/>
            <p:cNvSpPr/>
            <p:nvPr/>
          </p:nvSpPr>
          <p:spPr>
            <a:xfrm rot="5400000">
              <a:off x="3230280" y="5316480"/>
              <a:ext cx="23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развиваю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79"/>
            <p:cNvSpPr/>
            <p:nvPr/>
          </p:nvSpPr>
          <p:spPr>
            <a:xfrm>
              <a:off x="1440" y="3275280"/>
              <a:ext cx="24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Times New Roman"/>
                </a:rPr>
                <a:t>воспита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80"/>
            <p:cNvSpPr/>
            <p:nvPr/>
          </p:nvSpPr>
          <p:spPr>
            <a:xfrm rot="2105400">
              <a:off x="119520" y="1535400"/>
              <a:ext cx="274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обучающ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1"/>
            <p:cNvSpPr/>
            <p:nvPr/>
          </p:nvSpPr>
          <p:spPr>
            <a:xfrm rot="19110600">
              <a:off x="5532840" y="1495440"/>
              <a:ext cx="26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релаксацион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82"/>
            <p:cNvSpPr/>
            <p:nvPr/>
          </p:nvSpPr>
          <p:spPr>
            <a:xfrm rot="2068800">
              <a:off x="5353200" y="4759560"/>
              <a:ext cx="24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c000"/>
                  </a:solidFill>
                  <a:latin typeface="Times New Roman"/>
                </a:rPr>
                <a:t>психолог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83"/>
            <p:cNvSpPr/>
            <p:nvPr/>
          </p:nvSpPr>
          <p:spPr>
            <a:xfrm rot="19128600">
              <a:off x="286560" y="4907160"/>
              <a:ext cx="26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c000"/>
                  </a:solidFill>
                  <a:latin typeface="Times New Roman"/>
                </a:rPr>
                <a:t>коммуникатив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84"/>
            <p:cNvSpPr/>
            <p:nvPr/>
          </p:nvSpPr>
          <p:spPr>
            <a:xfrm>
              <a:off x="5939280" y="3206880"/>
              <a:ext cx="33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развлекате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28:58Z</dcterms:created>
  <dc:creator>ishimova</dc:creator>
  <dc:description/>
  <dc:language>en-US</dc:language>
  <cp:lastModifiedBy>User</cp:lastModifiedBy>
  <dcterms:modified xsi:type="dcterms:W3CDTF">2018-02-22T10:04:56Z</dcterms:modified>
  <cp:revision>90</cp:revision>
  <dc:subject/>
  <dc:title>Слайд 1</dc:title>
</cp:coreProperties>
</file>