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4553-CF35-48D8-A8B6-2DCCF59B1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A80E-7C61-4C87-9124-E8AAC2DE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B970E-446F-4C0A-8DF4-4A855DB4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954A6E-A624-454A-A311-1D265527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381BF7-4559-45DC-B59A-1268EAA2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426A8A-44C7-4CC9-9109-B34686F7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649C0A-96A0-47B5-BA2E-F687F78F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69CCE8-DA53-42EE-8E73-85481D1C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4E5FF-1A0D-47CB-9161-D7B47369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8004FF-487C-4138-84D6-4045A2DA4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F12EF9-2F0B-41AC-9AF2-F19EB5082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999978-4A08-4015-A7EE-1F0832FAD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4FDE-D1A2-4F62-9100-6F3EC3AAC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DAF090-6EEE-4C01-BE4B-57111CC0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E12727-2B58-46F6-A6B0-2EBE2EFD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E0A9A5-3E0D-4FD2-AB83-36ED412B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93A567-1DA1-4D29-83B6-39C422FC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EC5B9A-08F5-42F5-B12B-184D2455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A16143-3E0C-46E6-99CE-06E4E8CB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47CCF2-F129-4519-988C-12524838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0557A4-6278-4D5C-B413-A1A5EEF2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14A76F-E35E-4C3F-9940-FD3F4EE3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EA4541-E47E-426E-BC3E-4CDCA0995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CF08-2396-4FE0-8429-EF50D1170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D2F1D0-EC3B-4621-BD9C-5ACDC2DFC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A5B5C-A95B-43C5-BE2E-B5C84ACF1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ED11-0AD4-434C-9FC3-D8A52FCE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03AD-AB4A-414D-9FA1-7D86B95F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55A3-A67B-4A0E-B6CD-1878E5E6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7DA2-9B2E-4BA0-8414-397FFC0E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B941-BD86-4797-A2FB-986320E0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9B67-B53B-4C57-A0A3-D1620D53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5A4D-F58F-4352-BB74-AF543BCC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A860-7C56-4490-8729-E331B392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AA25-EC47-4091-9E1B-0B541068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3C2D-BC45-42B8-B46E-1201B0ED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D3EE-E586-46EC-A326-4937F9557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F0F2C-A06E-4F1B-8F01-B67B43761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E472B-CF63-4005-AB4D-A00147F6D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81B4B-ADD5-426C-A31F-50A641E4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21A27-48DD-4A9D-BB92-2EB44228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8FB24-3249-46EB-ACA8-60F5DE0F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5E5AF-4A48-449C-9F07-ECE98282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EA7E-4972-43F9-BA6E-261C9923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C7DD2-3A74-42ED-83AB-8E2A38A5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5F569-8E5A-447F-94EA-D7045BD2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B288C-AE69-43F8-8247-6D02C877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9B516-FC3C-40A3-8D08-F2D72B00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DCA7A-2DD2-46DD-BB02-4835D051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A4BA0-E628-4DF3-9F70-63C381C38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A2F23-DB7E-4222-9E2C-BD3CF7D73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6C1EE-E632-4908-BD4E-87B380023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D01C3-B205-4106-ACCA-B920271F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07996-C2BB-441A-A52B-23A6C41F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BB61-D861-4CC8-84D7-3B514463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578D1-2CDD-4B59-9D03-661F084D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9A204-4D9A-47A4-ACB9-7A7E8586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F4135-56EF-44A3-9D70-1DE3EE749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FDFD3-8437-496D-85B8-98430A5E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0A842-DCB8-4F18-9083-6902D542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92302-CE88-48E4-B0E1-E4C572E0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260AC-EB29-4F89-AEA0-EF284662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6CEB7-8F72-4E89-B647-75A0C259B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1166D-2F66-431D-8FDC-2B256FB22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0EF28-7D95-4A30-9797-006BE06DC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393F-6C03-4B26-9CD1-6EA85EB6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B6C75-F57A-4B02-8379-FF2970A1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C750B-48D7-4289-A561-0CB186BB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5E1EB-3E3E-4948-BADD-4092E98A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8698D-6C14-418D-A906-64FECC95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62A0A-5A26-4E37-94D0-D6ACAFAA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C90FF-97FE-4C1A-83F1-32080423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E7713-369C-4254-8124-0643EAC2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4FE43-1AD8-4809-A9AE-C0AEDA4D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B3C7A-9AD1-48C3-971A-B4588D38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CEBD3-A8E3-4C83-826D-73971DF35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72C2-7D99-463E-9513-1D1A0618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BDED9-8CA1-4067-9FAF-AED58743F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8AB4B-63A2-4055-9706-4C49097C2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3C9BB-BB1B-4173-A17B-938D9B44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3C37F-5A15-4AC1-BA74-C73CC30C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59C0B-4972-43A6-AA69-A2BCEBD9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E63CA-0367-437D-B0AD-78A9BE4B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4FD4A-8D1F-464A-B0AA-D26C85D4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D2203-78B9-46A9-91CE-6B5B8CB6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FE866-D9E3-44AA-8D53-F03CD0FD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985C2-92B9-4C34-B4CC-46972B3B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B05C-2764-44B7-ACF5-B683AEFF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D74A3-9EBD-420C-9E02-268322C4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2082B-E049-46CE-B39B-8A41F1DFB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471A0-B6DB-49CA-8F41-3C5030158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99CB4-B588-444C-B92C-A0D632345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BB24F-C9B6-462B-8D69-E8C14F60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570A1-8F8A-45FD-AA6E-4FA78D22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4AFEF-7483-48A5-A839-5347EEB9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41B4F-22D2-4449-9D38-76D43A69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56D06-D864-4C00-9497-1971C331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8B6A2-85E9-4937-B473-1EA73553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68AF-8856-4D2A-BA89-A9A2058F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50775-8498-489D-B0C0-2F0001E5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9DBD8-B811-4583-A7A7-7B3B264A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22C94-4E00-4B26-B9FD-05282C1E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01570-617D-455B-9D92-7CB8CA471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366E7-A141-4682-8F07-49C064FE9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E6ED0-A32E-474F-B85F-48AEB8940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FB519-3E9A-4738-AAF6-45BD9063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D9923-495E-4115-A2C2-3F64462A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33E91-DBA6-4A8E-81C2-5FE8F9AC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52386-FA62-4957-AC0E-0B3F7EE3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3276-6D8A-445A-9CCD-517B6117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79D1C-EFA7-4E4D-B643-6FF773D4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20D2A-DF48-4AD0-8A2F-DAE2ECAC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6B5B1-047C-4A36-A182-C5102481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94D65-3EA9-414E-B908-5513FB3A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42C35-50EE-4AD6-8E8F-0C9F04B1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0FA44-45CF-433D-BB97-E26C671A3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A625E-9F69-4FFD-BF19-0CBB767EB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13950F-203B-4E2F-8B93-A446C6AC6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4A3A59-3D28-41AC-8F00-C32F3B9B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9A7D84-6B79-4012-BD38-EE5489F1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EB6F-2DE5-4F9E-ADDA-741DF7BC20F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28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29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0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8F32-32F7-40F4-989D-864F22CE2E12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42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0C67-9598-4045-AC11-57F766BC6AB9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49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5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5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F397-18D0-49FD-BECD-80C07B7EAC87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ED1A-B1B5-4228-8F69-5687DD89F70F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7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7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8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Прямая соединительная линия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183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AFC1-EEC2-4C75-A9C9-0F8AC9183647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27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3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23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Прямая соединительная линия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236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B109-448D-4EA4-90DA-5795567336D2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8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8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28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Прямая соединительная линия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289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06E5-C4E7-4449-A036-65D6CD1B366F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333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336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339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Прямая соединительная линия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342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A2B9-E2F0-457E-B135-82DCB41AF893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5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6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7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7F5F-2B49-44E2-BC54-91CB7065474D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inalefa2.files.wordpress.com/2009/06/logotolerancia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Игровая деятельность на уроках иностранного языка как основное условие повышения качества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68" name="Picture 5" descr="Картинка 68 из 228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71640" y="3405240"/>
            <a:ext cx="32958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Овал 25"/>
          <p:cNvSpPr/>
          <p:nvPr/>
        </p:nvSpPr>
        <p:spPr>
          <a:xfrm>
            <a:off x="2411280" y="2205000"/>
            <a:ext cx="3600720" cy="2087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86"/>
          <p:cNvGrpSpPr/>
          <p:nvPr/>
        </p:nvGrpSpPr>
        <p:grpSpPr>
          <a:xfrm>
            <a:off x="1440" y="189000"/>
            <a:ext cx="9321480" cy="6478560"/>
            <a:chOff x="1440" y="189000"/>
            <a:chExt cx="9321480" cy="6478560"/>
          </a:xfrm>
        </p:grpSpPr>
        <p:sp>
          <p:nvSpPr>
            <p:cNvPr id="471" name="Text Box 74"/>
            <p:cNvSpPr/>
            <p:nvPr/>
          </p:nvSpPr>
          <p:spPr>
            <a:xfrm>
              <a:off x="2555280" y="2853000"/>
              <a:ext cx="3520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Функции игровой деятельност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75"/>
            <p:cNvSpPr/>
            <p:nvPr/>
          </p:nvSpPr>
          <p:spPr>
            <a:xfrm>
              <a:off x="3903840" y="844560"/>
              <a:ext cx="1309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77"/>
            <p:cNvSpPr/>
            <p:nvPr/>
          </p:nvSpPr>
          <p:spPr>
            <a:xfrm flipV="1" rot="5400000">
              <a:off x="3216240" y="966960"/>
              <a:ext cx="20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000"/>
                  </a:solidFill>
                  <a:latin typeface="Times New Roman"/>
                </a:rPr>
                <a:t>Прощ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78"/>
            <p:cNvSpPr/>
            <p:nvPr/>
          </p:nvSpPr>
          <p:spPr>
            <a:xfrm rot="5400000">
              <a:off x="3230280" y="5316480"/>
              <a:ext cx="23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000"/>
                  </a:solidFill>
                  <a:latin typeface="Times New Roman"/>
                </a:rPr>
                <a:t> </a:t>
              </a:r>
              <a:r>
                <a:rPr b="1" lang="ru-RU" sz="2000" spc="-1" strike="noStrike">
                  <a:solidFill>
                    <a:srgbClr val="ffc000"/>
                  </a:solidFill>
                  <a:latin typeface="Times New Roman"/>
                </a:rPr>
                <a:t>развивающ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79"/>
            <p:cNvSpPr/>
            <p:nvPr/>
          </p:nvSpPr>
          <p:spPr>
            <a:xfrm>
              <a:off x="1440" y="3275280"/>
              <a:ext cx="24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c000"/>
                  </a:solidFill>
                  <a:latin typeface="Times New Roman"/>
                </a:rPr>
                <a:t>воспитатель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80"/>
            <p:cNvSpPr/>
            <p:nvPr/>
          </p:nvSpPr>
          <p:spPr>
            <a:xfrm rot="2105400">
              <a:off x="119520" y="1535400"/>
              <a:ext cx="274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000"/>
                  </a:solidFill>
                  <a:latin typeface="Times New Roman"/>
                </a:rPr>
                <a:t>обучающ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81"/>
            <p:cNvSpPr/>
            <p:nvPr/>
          </p:nvSpPr>
          <p:spPr>
            <a:xfrm rot="19110600">
              <a:off x="5532840" y="1495440"/>
              <a:ext cx="267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000"/>
                  </a:solidFill>
                  <a:latin typeface="Times New Roman"/>
                </a:rPr>
                <a:t>релаксационн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82"/>
            <p:cNvSpPr/>
            <p:nvPr/>
          </p:nvSpPr>
          <p:spPr>
            <a:xfrm rot="2068800">
              <a:off x="5353200" y="4759560"/>
              <a:ext cx="248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c000"/>
                  </a:solidFill>
                  <a:latin typeface="Times New Roman"/>
                </a:rPr>
                <a:t>психологическа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83"/>
            <p:cNvSpPr/>
            <p:nvPr/>
          </p:nvSpPr>
          <p:spPr>
            <a:xfrm rot="19128600">
              <a:off x="286560" y="4907160"/>
              <a:ext cx="262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c000"/>
                  </a:solidFill>
                  <a:latin typeface="Times New Roman"/>
                </a:rPr>
                <a:t>коммуникативна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84"/>
            <p:cNvSpPr/>
            <p:nvPr/>
          </p:nvSpPr>
          <p:spPr>
            <a:xfrm>
              <a:off x="5939280" y="3206880"/>
              <a:ext cx="338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000"/>
                  </a:solidFill>
                  <a:latin typeface="Times New Roman"/>
                </a:rPr>
                <a:t>развлекатель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17:28:58Z</dcterms:created>
  <dc:creator>ishimova</dc:creator>
  <dc:description/>
  <dc:language>en-US</dc:language>
  <cp:lastModifiedBy>User</cp:lastModifiedBy>
  <dcterms:modified xsi:type="dcterms:W3CDTF">2018-02-22T10:04:56Z</dcterms:modified>
  <cp:revision>90</cp:revision>
  <dc:subject/>
  <dc:title>Слайд 1</dc:title>
</cp:coreProperties>
</file>