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40B-D883-417E-A526-2544603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D8D-8E7F-4AA6-B88B-F8666F8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6B8-13C0-4FF9-8607-BBBAF581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B02-828A-4114-9A24-74A4B06F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BC0-487B-446D-B037-9FE4DB66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D9D-BDC8-4536-8F41-EA5CBFC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C78-0545-4139-B796-2750676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B95-507C-4BD7-A6CD-602739C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C42-8CF7-4676-BCEE-0D5DD83C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199-A2A4-4ECF-89B1-8B79BF3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7C3-D130-414C-822B-CAE0721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834-B61C-462B-86D2-3495DB59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1E5-F896-4E7B-8F4E-9717A2967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готовка к ОГЭ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авописание пристав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17—18 выпишите слово, в котором выбор начальной гласной корня зависит от приста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7)Улыбалась она смущённо и с любопытством, будто это не вы разглядывали её, а она, чуть робея, глядела на вас. (18)Выполнено всё это было предельно безыскусно, но как-то удивитель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17—18 выпишите слово, в котором выбор начальной гласной корня зависит от приста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7)Улыбалась она смущённо и с любопытством, будто это не вы разглядывали её, а она, чуть робея, глядела на вас. (18)Выполнено всё это было предельн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езыскусн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но как-то удивитель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предложений 16—17 выпишите слово, в котором правописание приставки зависит от глухости/звонкости звука, обозначаемого следующей после приставки букв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(16)Руки были сложены аккуратно, пальчик к пальчику, на одном серебряное колечко посверкивало. (17)Улыбалась она смущённо и с любопытством, будто это не вы разглядывали её, а она, чуть робея, глядела на в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предложений 16—17 выпишите слово, в котором правописание приставки зависит от глухости/звонкости звука, обозначаемого следующей после приставки букв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(16)Руки были сложены аккуратно, пальчик к пальчику, на одном серебряное колечко посверкивало. (17)Улыбалась она смущённо и с любопытством, будто это не вы 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разглядывали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её, а она, чуть робея, глядела на в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6—8 выпишите слово с неизменяемой приставкой, в которой при произношении происходит озвон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6)Как-то ночью прошли две наши дивизии. (7)Шли долго, беспрерывно, всю ночь напролёт, батальон за батальоном. (8)Раза два немцы пытались сгоряча перебраться через овраг, и тогда начиналась автоматная трескот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6—8 выпишите слово с неизменяемой приставкой, в которой при произношении происходит озвон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6)Как-то ночью прошли две наши дивизии. (7)Шли долго, беспрерывно, всю ночь напролёт, батальон за батальоном. (8)Раза два немцы пыталис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горяча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ребраться через овраг, и тогда начиналась автоматная трескот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неполнота дейст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0)Лесть как бы приподнимала его возможности, и он стремился поднять себя до этого нового и приятного ему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неполнота дейст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0)Лесть как бы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поднимал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его возможности, и он стремился поднять себя до этого нового и приятного ему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приближение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5)И придирчиво оглядела меня. (6)Это было бы ещё ничего: за «внешние данные» пока что отметок не ставят. (7)Но оказалось, что и внутренние данные у мамы тоже были гораздо лучше, чем у мен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8)Больше я не знал никаких подробностей о мамином прошлом. (9)Но вот однажды бабушка, которая пришла помочь маме по хозяйству, сказ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10)– А Серёжа-то стал лауреатом Всероссийского конкурса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приближение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5)И придирчиво оглядела меня. (6)Это было бы ещё ничего: за «внешние данные» пока что отметок не ставят. (7)Но оказалось, что и внутренние данные у мамы тоже были гораздо лучше, чем у мен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8)Больше я не знал никаких подробностей о мамином прошлом. (9)Но вот однажды бабушка, которая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ришла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 помочь маме по хозяйству, сказ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10)– А Серёжа-то стал лауреатом Всероссийского конкурса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ф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. Гласные и согласные в приставках, кроме приставок на -З,-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1. Буквы -З, -С на конце приста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8. Буквы -Ы,-И после приста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. Гласные в приставках ПРЕ-, ПРИ-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1320" cy="256716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3"/>
          <p:cNvSpPr/>
          <p:nvPr/>
        </p:nvSpPr>
        <p:spPr>
          <a:xfrm>
            <a:off x="684360" y="2997360"/>
            <a:ext cx="3527280" cy="122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ад, под, пред,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5219640" y="2997360"/>
            <a:ext cx="3627360" cy="122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, по, во, со, о, об, обо,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539640" y="479736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(НО: здесь, здание, здоров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Лариса\Desktop\Подготовка к ЕГЭ\ЕГЭ картинки\45185870_1227605291_student.jpg"/>
          <p:cNvPicPr/>
          <p:nvPr/>
        </p:nvPicPr>
        <p:blipFill>
          <a:blip r:embed="rId2"/>
          <a:stretch/>
        </p:blipFill>
        <p:spPr>
          <a:xfrm>
            <a:off x="7451640" y="4437000"/>
            <a:ext cx="152424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49160" y="328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57320" y="16128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з – в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з –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з – 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з – 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ез – 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из – н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ерез - ч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авая фигурная скобка 3"/>
          <p:cNvSpPr/>
          <p:nvPr/>
        </p:nvSpPr>
        <p:spPr>
          <a:xfrm>
            <a:off x="2532240" y="1773360"/>
            <a:ext cx="1728720" cy="3809880"/>
          </a:xfrm>
          <a:custGeom>
            <a:avLst/>
            <a:gdLst>
              <a:gd name="textAreaLeft" fmla="*/ 0 w 1728720"/>
              <a:gd name="textAreaRight" fmla="*/ 624240 w 1728720"/>
              <a:gd name="textAreaTop" fmla="*/ 45000 h 3809880"/>
              <a:gd name="textAreaBottom" fmla="*/ 37648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8"/>
                  <a:pt x="10800" y="816"/>
                </a:cubicBezTo>
                <a:lnTo>
                  <a:pt x="10800" y="10110"/>
                </a:lnTo>
                <a:cubicBezTo>
                  <a:pt x="10800" y="10518"/>
                  <a:pt x="16200" y="10926"/>
                  <a:pt x="21600" y="10926"/>
                </a:cubicBezTo>
                <a:cubicBezTo>
                  <a:pt x="16200" y="10926"/>
                  <a:pt x="10800" y="11334"/>
                  <a:pt x="10800" y="11742"/>
                </a:cubicBezTo>
                <a:lnTo>
                  <a:pt x="10800" y="20784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145040" y="141300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и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чик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ь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ватьс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нный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гнуть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ре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ный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е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1920" y="572436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46c0a"/>
                </a:solidFill>
                <a:uFillTx/>
                <a:latin typeface="Arial"/>
              </a:rPr>
              <a:t>Запомните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:  </a:t>
            </a: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глухая согласная  (к, п, с, т, ф, х, ц, ч, ш, щ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З                 звонкая согла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0"/>
          <p:cNvSpPr/>
          <p:nvPr/>
        </p:nvSpPr>
        <p:spPr>
          <a:xfrm>
            <a:off x="2077920" y="5788080"/>
            <a:ext cx="489240" cy="24300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7"/>
          <p:cNvSpPr/>
          <p:nvPr/>
        </p:nvSpPr>
        <p:spPr>
          <a:xfrm>
            <a:off x="2077920" y="6129360"/>
            <a:ext cx="489240" cy="24120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42920" y="1357200"/>
          <a:ext cx="8858160" cy="5237280"/>
        </p:xfrm>
        <a:graphic>
          <a:graphicData uri="http://schemas.openxmlformats.org/drawingml/2006/table">
            <a:tbl>
              <a:tblPr/>
              <a:tblGrid>
                <a:gridCol w="3929040"/>
                <a:gridCol w="492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 = очень, наивысшая степ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едобрый=очень добрый, премилый=очень мил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 – приближени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лететь, прий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При – при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винтить, приклеи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Пре = пе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еломить=переломитьпреграда=перегороди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При – неполнота действия (чуть-чуть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открыть, присе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При – близость (около, вблиз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школьный – около школы, приморский – около мор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890640" y="32868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2771640" y="1768320"/>
            <a:ext cx="637236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осле приставки на соглас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Без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янный, по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ать, пре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юльская (жара), вз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ать (штраф), по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рать, с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змаль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ное (агентств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О: вз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68360" y="1916280"/>
            <a:ext cx="2232000" cy="381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Ы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Овал 2"/>
          <p:cNvSpPr/>
          <p:nvPr/>
        </p:nvSpPr>
        <p:spPr>
          <a:xfrm>
            <a:off x="468360" y="1916280"/>
            <a:ext cx="2232000" cy="381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И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913120" y="1700280"/>
            <a:ext cx="6043680" cy="18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е приставки на гласную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р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грать,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к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928960" y="3786120"/>
            <a:ext cx="6040440" cy="2786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После приставок иноязычного происхождения: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еж-, сверх-, контр-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ежинститутский, сверхинтересный, контригр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я 33 выпишите слово, в котором правописание приставки определяется правилом: «Если после приставки следует глухой согласный, то на конце её пишется 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33)Но слышала она сейчас плохо, потому что предыдущий разговор сильно обеспокоил её, удивил и оби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я 33 выпишите слово, в котором правописание приставки определяется правилом: «Если после приставки следует глухой согласный, то на конце её пишется 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33)Но слышала она сейчас плохо, потому что предыдущий разговор сильн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беспокоил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ё, удивил и оби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4:47:31Z</dcterms:created>
  <dc:creator>Admin</dc:creator>
  <dc:description/>
  <dc:language>en-US</dc:language>
  <cp:lastModifiedBy>Admin</cp:lastModifiedBy>
  <dcterms:modified xsi:type="dcterms:W3CDTF">2017-01-26T13:55:08Z</dcterms:modified>
  <cp:revision>4</cp:revision>
  <dc:subject/>
  <dc:title>Подготовка к ОГЭ. Задание 4. Правописание приставок.</dc:title>
</cp:coreProperties>
</file>