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397-7B7B-4B25-9D77-D77A247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A89-4764-4312-8E15-FBE3715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06AC-CA91-4262-A8C5-F5B84418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46CDF-936E-4133-AAC8-CA67EF87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17EF1-4741-4212-A410-CC774BB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4BF2B-1F53-4C66-A097-B78D0A0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9A051-5DA6-47AE-8BC8-C5F4001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86FE0-DF49-47B6-9E4D-00BA0C4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521B-45DB-43F5-91EC-2DE1E73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9CE07-3F25-4905-8C26-F485597C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EE13E-8150-46D7-A37C-E0B6F01F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05BAD-BFBB-4DD8-9299-AB592464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118-9C96-4C0B-B0AC-31B6E9C3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45666-E4EB-4B62-ADAD-A56B800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FCB00-7594-4AE1-98F6-213808D6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BCC04-3EA6-40B3-B2FB-6CBE1746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42A86-04F9-45A6-9CA5-F42A34C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326C6-674C-4728-859B-2921FD2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6C33F-C12E-4BAD-9D41-471426C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734FD-6C99-4923-A9B4-2B3F34B2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B5ED6-7802-47CD-8C5D-E4F38FD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F0E75-6D01-483C-B75E-3CB2692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7F854-F35F-4444-9492-01ED48EB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180-0117-4AC5-8C8F-402F699C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24B57-95F3-4ECD-907A-CEE71881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FED-1C9C-4D52-BD18-61363BA8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34D-EAA7-4FAA-A5B9-4925A539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3E6-FBB0-40AD-9F67-6C891722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6EC9-4E5E-474C-B374-22A6182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EA44-1870-4166-813D-EAE0987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FAEB-099F-4D82-9C66-BEA705F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DD0E-D16B-4D26-83D5-831978B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80A-3E3D-4241-B8CE-2659489C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0A75-5F82-4671-9820-D288C9F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32E2-20E0-42B4-A92E-EE975C1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477-13F9-4320-8042-0C0D1E6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C3CE-4BA3-46F7-9F27-C336B16E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301-9110-46FB-AACA-11B78FCC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42D4-ACAE-4D33-9D8E-99E11DAF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28E0-5A63-4D57-B386-8A50ACE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FABE-7DA3-4E80-B75D-E3CE324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3C7B-D4D6-4F8F-B95F-62C42E4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56F3-C59F-4BDF-8AEF-F31C18A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245-C269-469C-BA97-FC098AB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6772-D368-4355-8894-1BB84EB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B4ED-931B-4112-9552-402B899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6F15-873F-4D53-B278-6F0B41E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EEF7-1018-4259-834B-E77362A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298F-E79E-4F3B-8B1A-5E68E4E0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5022-E6FF-4C20-A3CD-5E4A900B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9893-F0DD-44BB-9CFE-124D1F0A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B9DE-9140-4D7D-B278-0A1C7C2E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0677-10C1-4D72-8BA4-B35F19D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AE8B-94A0-4120-A8F1-875B327C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169-3A61-49CD-A9F7-B3C91DA4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72B5-33AD-4F99-A948-2EA98D3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634C-408A-47A6-8E1E-C7063F62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69E0-DB90-4E4B-8C50-A964D951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FCB4-5B6C-448E-BC03-5304F82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4681-A77E-48DC-A128-BD9A6C5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4FF8-9109-4F38-AF19-A3A0773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8BA2-68C3-42C8-8D05-DA116F9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3A0E-A526-4EB3-A414-BBC7DBC4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D1F57-E84A-4095-965C-1C8F6998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CE0C-C3FE-4DF2-87FD-5FCF48BF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7EA-F091-46DF-9318-EA00021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9BB0D-939B-4F28-A16F-F42CC8B5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FDFF1-5FAC-40D5-BD62-1A56BDD4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E033-E296-4B68-8104-93B98CB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801A6-4870-4F3C-84BB-176F05A4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B288-0337-4D4B-8A3E-632E5F69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3161-A4D6-435D-9EA3-698F97D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B562-0A7B-465B-805D-6D5B0E5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8B63-90B9-4C88-9A1F-F784865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B8FD-2799-49D2-BEDD-C0F432BE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F316-D2DF-4B9C-A906-F13993A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268-603F-49FD-A820-7CC087CA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8152-57AC-4352-A812-761DD144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FBA2-D29E-452E-B718-EE6F195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5EBB-8F10-48E3-B3EF-63C4B9F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E9EC-9394-4111-AF5C-F377D22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DD05-45B9-4AA7-B388-CAB0947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FC62-B5DA-4F66-986D-6C65AE26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20EF-BC12-4D01-BBBA-6C76FC8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93DF-60AB-4D34-9CA5-DDAE95D9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690AB-33C1-48F1-856C-5AF1D78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9FFD-CC9E-41F7-897A-F9F350F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50D-938F-42CF-86EB-70AA97FA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DCDB-758E-4465-81BD-56BD9BA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1AA2-20D5-4C21-95F9-B8364BFE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853FE-D6EA-497A-BFE7-463964A9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240E-B806-43DB-BBB7-F4F35D56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FB2BF-1D7C-450A-99C4-E8A98E4B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5A658-705E-4643-BFB3-9C1A0580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1436-7CD5-41C1-A588-4CD8A64B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D434-C502-48B9-A1E3-349692C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4F3B-AAFB-4A1B-B8CC-57B35FA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780C-ED6B-4552-826A-45D4BAE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ECC-487D-498D-BE43-E88008D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E119D-315B-41F6-854A-6806253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62023-C9D7-4834-90C3-6BB04AA2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D8F6B-4198-41A4-AC35-AFC73EF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2BF33-1348-4520-8A82-E3CF37C1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F922-3FC5-4B32-8064-3662A12E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FD53-ED56-4257-931F-00E4F72C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893F-6849-4941-8A2B-062E6A6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3DB9C-955A-4E43-852D-DC4FC5D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B34D6-0A69-4CF5-9D3D-F9FBA90D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8B728-003C-416D-BD98-9A11312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DE1-C09A-4ABE-BE73-A42196E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AD94-DD1C-44A4-91C7-5D377F9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42809-89BA-4C2A-942D-1C4E4D4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78B4-9FEE-4CDC-813A-1B4291C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A9B1C-19AB-4139-929A-3D3AFEF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3DF78-3B55-4E25-873E-F360CF6C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EA7E-B08E-4FAE-B12B-C3928D98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E3010-CA07-48D4-9B95-E53A51B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4517-EE3F-4238-B521-244E2D0A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44582-31C3-4CC1-A4FE-9541A33A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4732B-514A-4E32-8791-E28BFDF8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DF1-3F6F-4D97-B3DF-BC5311F1E8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13C-55E9-4CF2-9374-05CBC2E196D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412-984A-45A5-AEB1-D4F6104C134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71F-4C7E-42F2-88E0-6DFB063B246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E02-75AF-4FC8-ADF9-1D878BE4A41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B82-06E4-47A3-ACDE-35F88C47393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B58F-9480-4953-8A94-55CCBE66B94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8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03D2-A877-4F9D-8D0B-2C74592CEF5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EB3-115B-4CB0-8AF7-C6D9764D41C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752-A74D-4933-8E79-9EAFCC6FBD4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ving-stones.narod.ru/11discipl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beslan-2004.front.ru/beslan-18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k-istine.ru/images/faith/illbaby-2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umdb.org.ua/images/imgs/__local10061/impsize/1248813386619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open.az/uploads/posts/2010-02/1267282401_familie_9576952_m2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олерантность – это модно или необходимо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21300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3"/>
          <p:cNvSpPr/>
          <p:nvPr/>
        </p:nvSpPr>
        <p:spPr>
          <a:xfrm>
            <a:off x="179280" y="1773360"/>
            <a:ext cx="856944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08684e"/>
                </a:solidFill>
                <a:latin typeface="Arial"/>
              </a:rPr>
              <a:t>КАК ВОСПИТАТЬ ТОЛЕРАНТНОГО ЧЕЛОВЕКА?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68360" y="-3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Родители должн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о-первых, не обижать ребён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о-вторых, выслушивать его мнение и считаться с ни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четвертых, уметь договариваться без ссор и разрушительных конфликтов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В-шестых, не стоит заставлять ребенка с помощью силы делать то, что хочется ва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а земля – это место, где мы можем любить друг друга, соблюдать традиции и продолжать начатую нами </a:t>
            </a:r>
            <a:r>
              <a:rPr b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историю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8728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entury Gothic"/>
              </a:rPr>
              <a:t>основанную на принципах толерант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9" name="Picture 2" descr="Картинка 51 из 63199"/>
          <p:cNvPicPr/>
          <p:nvPr/>
        </p:nvPicPr>
        <p:blipFill>
          <a:blip r:embed="rId1"/>
          <a:stretch/>
        </p:blipFill>
        <p:spPr>
          <a:xfrm>
            <a:off x="1908000" y="1700280"/>
            <a:ext cx="446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4"/>
          <p:cNvSpPr/>
          <p:nvPr/>
        </p:nvSpPr>
        <p:spPr>
          <a:xfrm>
            <a:off x="826920" y="333360"/>
            <a:ext cx="69138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рпеть и ве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се на свете прекрас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взрослые, и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ты, собаки и  медве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сослуживцы, и  сос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ерпенье  - наш  взаимный шан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едь кто-то также терпи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                       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ит Хе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Картинка 40 из 22800"/>
          <p:cNvPicPr/>
          <p:nvPr/>
        </p:nvPicPr>
        <p:blipFill>
          <a:blip r:embed="rId1"/>
          <a:stretch/>
        </p:blipFill>
        <p:spPr>
          <a:xfrm>
            <a:off x="4067280" y="3357720"/>
            <a:ext cx="471636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C:\Users\ishimova\Desktop\MP90042298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6"/>
          <p:cNvGrpSpPr/>
          <p:nvPr/>
        </p:nvGrpSpPr>
        <p:grpSpPr>
          <a:xfrm>
            <a:off x="0" y="189000"/>
            <a:ext cx="9322560" cy="6478560"/>
            <a:chOff x="0" y="189000"/>
            <a:chExt cx="9322560" cy="6478560"/>
          </a:xfrm>
        </p:grpSpPr>
        <p:sp>
          <p:nvSpPr>
            <p:cNvPr id="472" name="Text Box 74"/>
            <p:cNvSpPr/>
            <p:nvPr/>
          </p:nvSpPr>
          <p:spPr>
            <a:xfrm>
              <a:off x="2556000" y="2853000"/>
              <a:ext cx="35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5"/>
            <p:cNvSpPr/>
            <p:nvPr/>
          </p:nvSpPr>
          <p:spPr>
            <a:xfrm>
              <a:off x="390420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77"/>
            <p:cNvSpPr/>
            <p:nvPr/>
          </p:nvSpPr>
          <p:spPr>
            <a:xfrm flipV="1" rot="5400000">
              <a:off x="3216600" y="9669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78"/>
            <p:cNvSpPr/>
            <p:nvPr/>
          </p:nvSpPr>
          <p:spPr>
            <a:xfrm rot="5400000">
              <a:off x="3382200" y="52858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Милосерд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9"/>
            <p:cNvSpPr/>
            <p:nvPr/>
          </p:nvSpPr>
          <p:spPr>
            <a:xfrm>
              <a:off x="0" y="328320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стр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0"/>
            <p:cNvSpPr/>
            <p:nvPr/>
          </p:nvSpPr>
          <p:spPr>
            <a:xfrm rot="2105400">
              <a:off x="12024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Терп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1"/>
            <p:cNvSpPr/>
            <p:nvPr/>
          </p:nvSpPr>
          <p:spPr>
            <a:xfrm rot="19110600">
              <a:off x="5533200" y="14652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чув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2"/>
            <p:cNvSpPr/>
            <p:nvPr/>
          </p:nvSpPr>
          <p:spPr>
            <a:xfrm rot="2068800">
              <a:off x="5353920" y="4697640"/>
              <a:ext cx="24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Ува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3"/>
            <p:cNvSpPr/>
            <p:nvPr/>
          </p:nvSpPr>
          <p:spPr>
            <a:xfrm rot="19128600">
              <a:off x="286560" y="4845240"/>
              <a:ext cx="26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4"/>
            <p:cNvSpPr/>
            <p:nvPr/>
          </p:nvSpPr>
          <p:spPr>
            <a:xfrm>
              <a:off x="5939280" y="3206880"/>
              <a:ext cx="33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Взаимопо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108000" y="-160200"/>
            <a:ext cx="87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Unicode MS"/>
                <a:ea typeface="Arial Unicode MS"/>
              </a:rPr>
              <a:t>Толерантность – признание, уважение и соблюдение прав и свобод всех людей без различения социальных, классовых, религиозных, этнических и иных особенностей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Картинка 53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479840"/>
            <a:ext cx="3527280" cy="23781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3"/>
          <p:cNvSpPr/>
          <p:nvPr/>
        </p:nvSpPr>
        <p:spPr>
          <a:xfrm>
            <a:off x="755640" y="1410480"/>
            <a:ext cx="87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Rounded MT Bold"/>
              </a:rPr>
              <a:t>Толерантность – это способность индивида без возражений и противодействия воспринимать отличающиеся от его собственных мнения, образ жизни характер поведения и какие-либо иные особенности других индивид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179280" y="34272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 Unicode MS"/>
              </a:rPr>
              <a:t>Толерантность – это минимальное требование к общественным отношениям не допускать насилия и прин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430200" y="-64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Взаимное уважение, доброжелательность и терпимое отношение всех членов того или иного общества к тем или иным социальным, культурным и другим групп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Гарантированное законом сохранение и развитие культурной самобытности и языков национальных меньшин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Реальная возможность следовать традициям для всех культур, представленных в данном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Свобода вероисповедания при условии, что это не ущемляет права и возможности представителей других професс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Сотрудничество и солидарность в решении общих проб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Отказ от негативных стереотипов в области межэтнических и межрасовых отношений и  отношениях между пол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1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2936"/>
                </a:solidFill>
                <a:latin typeface="Arial"/>
              </a:rPr>
              <a:t>Реальное полноправие между представителями различных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://studproekt.stavsu.ru/images/9/9a/%D0%9F%D1%80%D0%BE%D0%B5%D0%BA%D1%82_%D0%97%D0%B0%D1%85%D0%B0%D1%80%D0%BE%D0%B2%D0%BE%D0%B9%D0%A1%D0%90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entury Gothic"/>
              </a:rPr>
              <a:t>БЫВАЮТ ДНИ, ГОДЫ, ДЕСЯТИЛЕТИЯ</a:t>
            </a:r>
            <a:r>
              <a:rPr b="1" lang="ru-RU" sz="4000" spc="-1" strike="noStrike">
                <a:solidFill>
                  <a:srgbClr val="403152"/>
                </a:solidFill>
                <a:latin typeface="Century Gothic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0" name="Picture 4" descr="C:\Documents and Settings\user\Рабочий стол\толерантн\Дети\54264.jpg"/>
          <p:cNvPicPr/>
          <p:nvPr/>
        </p:nvPicPr>
        <p:blipFill>
          <a:blip r:embed="rId1"/>
          <a:stretch/>
        </p:blipFill>
        <p:spPr>
          <a:xfrm>
            <a:off x="5580000" y="119700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491" name="120609.mp3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http://beslan-2004.front.ru/beslan-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789360"/>
            <a:ext cx="3117960" cy="2340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http://www.k-istine.ru/images/faith/illbaby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3238560" cy="2219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" descr="Картинка 42 из 460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4052880" cy="27003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092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3152"/>
                </a:solidFill>
                <a:latin typeface="Century Gothic"/>
              </a:rPr>
              <a:t>когда сложно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Бывают секунды. Минуты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от которых зависит очень мног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8" name="Picture 2" descr="C:\Documents and Settings\user\Рабочий стол\толерантн\Дети\сс.jpeg"/>
          <p:cNvPicPr/>
          <p:nvPr/>
        </p:nvPicPr>
        <p:blipFill>
          <a:blip r:embed="rId1"/>
          <a:stretch/>
        </p:blipFill>
        <p:spPr>
          <a:xfrm>
            <a:off x="500040" y="1285920"/>
            <a:ext cx="1730520" cy="1714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Documents and Settings\user\Рабочий стол\толерантн\Дети\ссора.jpeg"/>
          <p:cNvPicPr/>
          <p:nvPr/>
        </p:nvPicPr>
        <p:blipFill>
          <a:blip r:embed="rId2"/>
          <a:stretch/>
        </p:blipFill>
        <p:spPr>
          <a:xfrm>
            <a:off x="6875640" y="126828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Documents and Settings\user\Рабочий стол\толерантн\Дети\ссо.jpeg"/>
          <p:cNvPicPr/>
          <p:nvPr/>
        </p:nvPicPr>
        <p:blipFill>
          <a:blip r:embed="rId3"/>
          <a:srcRect l="0" t="11127" r="0" b="0"/>
          <a:stretch/>
        </p:blipFill>
        <p:spPr>
          <a:xfrm>
            <a:off x="5072040" y="3357720"/>
            <a:ext cx="2143080" cy="1869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" descr="C:\Documents and Settings\user\Рабочий стол\внеклассная работа\семь\3184.jpg"/>
          <p:cNvPicPr/>
          <p:nvPr/>
        </p:nvPicPr>
        <p:blipFill>
          <a:blip r:embed="rId4"/>
          <a:stretch/>
        </p:blipFill>
        <p:spPr>
          <a:xfrm>
            <a:off x="1749600" y="3357720"/>
            <a:ext cx="2798640" cy="1857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user\Рабочий стол\толерантн\Дети\сс.jpeg"/>
          <p:cNvPicPr/>
          <p:nvPr/>
        </p:nvPicPr>
        <p:blipFill>
          <a:blip r:embed="rId5"/>
          <a:stretch/>
        </p:blipFill>
        <p:spPr>
          <a:xfrm>
            <a:off x="611280" y="1268280"/>
            <a:ext cx="17301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секунды нельзя допустить ошибку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42960" y="5357880"/>
            <a:ext cx="81439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наче после этого не останется ничего, кроме бол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5" name="Picture 6" descr="C:\Documents and Settings\user\Рабочий стол\внеклассная работа\семь\c160a7a9c204756937b9d235034_prev.jpg"/>
          <p:cNvPicPr/>
          <p:nvPr/>
        </p:nvPicPr>
        <p:blipFill>
          <a:blip r:embed="rId1"/>
          <a:stretch/>
        </p:blipFill>
        <p:spPr>
          <a:xfrm>
            <a:off x="5076720" y="2565360"/>
            <a:ext cx="3357720" cy="2462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Картинка 3 из 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492280"/>
            <a:ext cx="38368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Любовь к человеку просто за то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8" name="Picture 2" descr="C:\Documents and Settings\user\Рабочий стол\толерантн\Дети\img_37744038_9722_1.jpg"/>
          <p:cNvPicPr/>
          <p:nvPr/>
        </p:nvPicPr>
        <p:blipFill>
          <a:blip r:embed="rId1"/>
          <a:stretch/>
        </p:blipFill>
        <p:spPr>
          <a:xfrm>
            <a:off x="3492360" y="4508640"/>
            <a:ext cx="2691000" cy="16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Картинка 54 из 64000"/>
          <p:cNvPicPr/>
          <p:nvPr/>
        </p:nvPicPr>
        <p:blipFill>
          <a:blip r:embed="rId2"/>
          <a:stretch/>
        </p:blipFill>
        <p:spPr>
          <a:xfrm>
            <a:off x="179280" y="3789360"/>
            <a:ext cx="3006720" cy="2266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Картинка 58 из 64000"/>
          <p:cNvPicPr/>
          <p:nvPr/>
        </p:nvPicPr>
        <p:blipFill>
          <a:blip r:embed="rId3"/>
          <a:stretch/>
        </p:blipFill>
        <p:spPr>
          <a:xfrm>
            <a:off x="6659640" y="3213000"/>
            <a:ext cx="2185920" cy="334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4" descr="Картинка 151 из 64000"/>
          <p:cNvPicPr/>
          <p:nvPr/>
        </p:nvPicPr>
        <p:blipFill>
          <a:blip r:embed="rId4"/>
          <a:stretch/>
        </p:blipFill>
        <p:spPr>
          <a:xfrm>
            <a:off x="5796000" y="836640"/>
            <a:ext cx="3097080" cy="20876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900000" y="587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что он человек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3" name="Picture 18" descr="Картинка 15 из 64000"/>
          <p:cNvPicPr/>
          <p:nvPr/>
        </p:nvPicPr>
        <p:blipFill>
          <a:blip r:embed="rId5"/>
          <a:stretch/>
        </p:blipFill>
        <p:spPr>
          <a:xfrm>
            <a:off x="0" y="1052640"/>
            <a:ext cx="3449520" cy="2303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4" descr="Картинка 11 из 64000"/>
          <p:cNvPicPr/>
          <p:nvPr/>
        </p:nvPicPr>
        <p:blipFill>
          <a:blip r:embed="rId6"/>
          <a:stretch/>
        </p:blipFill>
        <p:spPr>
          <a:xfrm>
            <a:off x="3276720" y="2276640"/>
            <a:ext cx="30798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User</cp:lastModifiedBy>
  <dcterms:modified xsi:type="dcterms:W3CDTF">2011-12-21T10:44:23Z</dcterms:modified>
  <cp:revision>87</cp:revision>
  <dc:subject/>
  <dc:title>Слайд 1</dc:title>
</cp:coreProperties>
</file>