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872-0E98-4A2F-8646-B4F9B0FB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792-06F8-4A2C-837E-66DA444F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2592C-3822-48B1-B300-D8EDDE8F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B404E-2313-4430-9154-0E3A2634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3AFE3-EFF0-464F-86C6-FFF5F002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C145A-3A70-4E76-9678-E0ECA7F5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AE4D6-DE49-4DAE-8342-2D47ECF9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C88E6-5DED-4C98-A13A-F6874BA4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24C84-A438-4463-B0EE-28D8E71F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BFF97-F083-4D77-A157-A1B4766B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8F2E8-4232-46C7-8A5C-C083B2C3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0A5EE-072B-45F8-822B-230EE5C0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E808-08BB-4258-A8B8-DC12BAF5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76D75-00C5-452E-83CE-2FA0DD68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3A84D-CB84-416D-B2D5-613DD3B3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18737-8714-4287-A584-2433F5E2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B0C63-614E-4A80-8A5A-97DDD25F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9D4DD-B759-4375-B65E-CA8BCBFE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82A96-62B4-4420-90FE-178E6F03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6A5A7-52D0-40B3-8A20-9A8D766E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B6284-5FFD-4C31-94B8-A97AB2C1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434A5-507C-422A-B3CF-706BEABB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1B5F0-1BB5-4AE7-A9F4-BC6D5E5B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4F4E-98E7-4D9F-9B09-06FC1E41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1ECE7-6CB1-47A6-BED5-7AA28E2D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B4F7-E211-4755-86F7-7BD6B701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E3EF-4C00-4746-B91C-D3C38CB6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A8DE-E4D8-4F46-B234-AEC826DF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EA8E-D40A-467F-90C5-86CAFAB8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844C-7A8E-4829-B6E5-6DF98DB1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3C0B-8B38-489E-BD9A-83727ADD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E925-D597-4336-A466-595032FE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6BE-9718-4827-86C5-04F5FF60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8007-290F-4072-8BFB-8AC95B89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B5FF-6FEF-4905-978F-61DA4EEA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51FD-D0CC-42CE-8164-2456B6AE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6EF5-F872-47ED-8CDC-EB130262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4AA3-BB7D-4579-8187-678C0DDD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378E7-A256-4EA4-8C87-764B8607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4EAA6-ACDE-4A51-9012-424D7086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4F9EC-E2AE-40C4-914E-18BEAF41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A9ABE-EB9B-4CF6-9CAE-55955B6F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491CC-AEF1-40D3-BC78-14E85E6F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8032-C02E-4316-8930-1EC49669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8DF10-BBB8-48D9-B559-2E656FE1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AAD29-1ACC-46D1-A3F1-B1C13912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F0638-097E-48AE-BF89-00320E00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36B7B-0DF4-412F-9055-949A626D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283B1-B1CC-4679-A54B-20E581AF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5C9F4-6DE8-443C-9083-CCF53789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9E2A0-896B-46B0-8F91-92538FB1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0C091-EB14-4F28-9BB2-333AB356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8CACC-5E6B-4148-A399-8D3C2B19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09C34-7B9D-46CB-BA63-E043BF22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AA75-01DC-4059-9618-3132C98A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E7ACA-7961-4EC5-AD97-6B133DAE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4BC23-8A10-4379-9184-B0624F21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2EE1E-819E-4CE0-BDEA-E9F25016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9D6C8-8460-40A5-8C08-83D654B1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2CF71-7E75-4E24-A72E-F5E843DE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ECAE6-3004-424E-9975-B7A981E6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1467F-AC0D-4254-BE29-EDEB34EB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6CBF9-FC6F-458D-8208-A915F2D6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75415-B661-4342-AFC1-46BC6800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9AA4A-CF14-4B13-A2F4-7FC2D266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E122-0FE1-4EA9-9194-0905EDEF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34939-2AE2-430A-AC30-9D450F8B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D6469-E176-42A7-AF84-B310B1B9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010F0-70E2-4351-93B1-67B64E3F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7FCAC-C3D0-4663-8F1E-2FBACD8D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81A22-C0A3-42CC-8BE1-8E982759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5FE9F-388D-4EC0-90C6-93F0D55F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75E64-F853-40D0-9BEE-99D1E60D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14D5F-AF4A-4691-80D1-00EEBC2A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61F25-66FC-4642-A281-2894117B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24FAE-203E-4D73-A971-8DFBC81F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CBD0-2BC5-4FD3-A529-E45FC525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5854A-4EA0-4290-9351-2A274BB5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B4A71-DA35-4D7A-9706-FB0516FB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2B3D0-8764-4938-B92E-F56A7181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BB29A-AF4E-4233-A80D-1773DA43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E5812-6590-4E72-B558-9D32AA46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B1863-0900-4DB1-A77F-8470A870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6EBEA-5DAE-40F5-9B85-EB3D3738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C2D82-8797-42F5-B5A8-6A5F924E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F2A04-E69B-4336-B3A8-65D251A9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4D7B9-1C37-4BAA-87C0-27F8FC77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AA45-3D60-4B97-970B-CBC4584A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D8DE9-7A75-4D89-9420-D29F635E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8BC5B-FBE3-4BEE-BA3F-3D030DBE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AB9DB-B0F6-4983-BE3E-D022D740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C1218-0697-4694-9D97-87B3B216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647D6-C0A4-4141-9898-D6B0E466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68B10-3D1B-4AD1-AAEA-6D03ADAD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231BC-95CA-47D3-B9C1-AF0056C6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D040D-2855-4D2F-B18A-87D5236D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1CF8D-306D-4DC6-A855-9D905B05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B5E8A-2F28-4715-A0CF-90B85CFA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0096-4F29-4C9F-B53D-18935A22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6ABF9-1D60-430D-A570-755B3784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A5BBC-1E9A-41EC-8461-E1587ACC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23F27-5D8B-495C-9841-2C8AEA78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99D95-B5C1-4752-8625-3B42DA03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6AF42-A0D1-4149-9FC9-1ED590F9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2A043-AF5D-451E-8EFB-F7011B53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8E0A0-482B-4CA9-966D-D0F8057A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5953E-C739-4CF0-84BA-EEF2DC04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6D33F-82A9-4F0B-9BDF-A112A118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7F97F-E85E-4E4C-B731-09BB8A44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C1E-2F49-40B3-B176-1E062526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F84E3-CE7E-439E-BE20-A5A60945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F530D-9222-451F-83CC-0A5CFB68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7E497-B7FB-40BE-B230-417C627B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B305A-7FBB-4405-9587-605AE075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1B003-1211-4353-A819-A55F5A47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55F5C-CD10-469E-8856-811616B8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04EE0-C026-4FC0-BA4B-E47771E8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041A8-1BE8-4B5A-AA39-3A874C3D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0AA72-57F7-4A95-98EF-EAA73E9F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6DB9E-1CE5-4BB8-9555-E426A776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5598-62B8-454E-AD9C-B4797CED1E7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8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0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F38E-CCE6-402E-9192-9FE404B16BD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4DDC-8049-45F8-AE72-BFD13EE1708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1E99-1821-44F0-B8EB-9F4D83C999E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A801-E6E9-4C19-B4CA-3414B57FD30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7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7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8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18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4134-1C17-4421-83C2-38997F1681B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2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3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3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23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A9B6-D978-4289-8065-4BE0DEF48B8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8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8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1B57-F185-48DA-8A64-569B75F0622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3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6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39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342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36F1-F102-454E-9849-5FA267310DA8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8841-5CE2-4F44-87CE-B91D986F895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inalefa2.files.wordpress.com/2009/06/logotoleranci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iving-stones.narod.ru/11disciple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hyperlink" Target="http://beslan-2004.front.ru/beslan-18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www.k-istine.ru/images/faith/illbaby-2.jpg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umdb.org.ua/images/imgs/__local10061/impsize/1248813386619.jpg" TargetMode="Externa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open.az/uploads/posts/2010-02/1267282401_familie_9576952_m2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олерантность – это модно или необходимо?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8" name="Picture 5" descr="Картинка 68 из 228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3213000"/>
            <a:ext cx="3295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Прямоугольник 3"/>
          <p:cNvSpPr/>
          <p:nvPr/>
        </p:nvSpPr>
        <p:spPr>
          <a:xfrm>
            <a:off x="179280" y="1773360"/>
            <a:ext cx="856944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900" spc="-1" strike="noStrike">
                <a:solidFill>
                  <a:srgbClr val="08684e"/>
                </a:solidFill>
                <a:latin typeface="Arial"/>
              </a:rPr>
              <a:t>КАК ВОСПИТАТЬ ТОЛЕРАНТНОГО ЧЕЛОВЕКА?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68360" y="-3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Родители должны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Во-первых, не обижать ребёнк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Во-вторых, выслушивать его мнение и считаться с ним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В-третьих, уметь прощать обиды и просить прощения у ребенка. Это самый сложный момент, но, в то же время, и самый важный, поскольку у детей обостренное чувство справедливости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В-четвертых, уметь договариваться без ссор и разрушительных конфликтов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В-пятых, нельзя унижать достоинство ребенка – игнорировать его, проявлять неуважение к его увлечениям и т.п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В-шестых, не стоит заставлять ребенка с помощью силы делать то, что хочется вам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19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Наша земля – это место, где мы можем любить друг друга, соблюдать традиции и продолжать начатую нами </a:t>
            </a:r>
            <a:r>
              <a:rPr b="1" lang="ru-RU" sz="36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историю,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187280" y="5634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entury Gothic"/>
              </a:rPr>
              <a:t>основанную на принципах толерантност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19" name="Picture 2" descr="Картинка 51 из 63199"/>
          <p:cNvPicPr/>
          <p:nvPr/>
        </p:nvPicPr>
        <p:blipFill>
          <a:blip r:embed="rId1"/>
          <a:stretch/>
        </p:blipFill>
        <p:spPr>
          <a:xfrm>
            <a:off x="1908000" y="1700280"/>
            <a:ext cx="44643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Прямоугольник 4"/>
          <p:cNvSpPr/>
          <p:nvPr/>
        </p:nvSpPr>
        <p:spPr>
          <a:xfrm>
            <a:off x="826920" y="333360"/>
            <a:ext cx="691380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ерпеть и вер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се на свете прекрас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 взрослые, и де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оты, собаки и  медвед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 сослуживцы, и  сосе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ерпенье  - наш  взаимный шан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едь кто-то также терпит н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                         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ит Хей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" descr="Картинка 40 из 22800"/>
          <p:cNvPicPr/>
          <p:nvPr/>
        </p:nvPicPr>
        <p:blipFill>
          <a:blip r:embed="rId1"/>
          <a:stretch/>
        </p:blipFill>
        <p:spPr>
          <a:xfrm>
            <a:off x="4067280" y="3357720"/>
            <a:ext cx="471636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C:\Users\ishimova\Desktop\MP900422987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Овал 25"/>
          <p:cNvSpPr/>
          <p:nvPr/>
        </p:nvSpPr>
        <p:spPr>
          <a:xfrm>
            <a:off x="2411280" y="2205000"/>
            <a:ext cx="3600720" cy="2087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86"/>
          <p:cNvGrpSpPr/>
          <p:nvPr/>
        </p:nvGrpSpPr>
        <p:grpSpPr>
          <a:xfrm>
            <a:off x="0" y="189000"/>
            <a:ext cx="9322560" cy="6478560"/>
            <a:chOff x="0" y="189000"/>
            <a:chExt cx="9322560" cy="6478560"/>
          </a:xfrm>
        </p:grpSpPr>
        <p:sp>
          <p:nvSpPr>
            <p:cNvPr id="472" name="Text Box 74"/>
            <p:cNvSpPr/>
            <p:nvPr/>
          </p:nvSpPr>
          <p:spPr>
            <a:xfrm>
              <a:off x="2556000" y="2853000"/>
              <a:ext cx="35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Толерантнос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75"/>
            <p:cNvSpPr/>
            <p:nvPr/>
          </p:nvSpPr>
          <p:spPr>
            <a:xfrm>
              <a:off x="3904200" y="844560"/>
              <a:ext cx="1309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77"/>
            <p:cNvSpPr/>
            <p:nvPr/>
          </p:nvSpPr>
          <p:spPr>
            <a:xfrm flipV="1" rot="5400000">
              <a:off x="3216600" y="96696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Прощ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78"/>
            <p:cNvSpPr/>
            <p:nvPr/>
          </p:nvSpPr>
          <p:spPr>
            <a:xfrm rot="5400000">
              <a:off x="3382200" y="528588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Милосерд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79"/>
            <p:cNvSpPr/>
            <p:nvPr/>
          </p:nvSpPr>
          <p:spPr>
            <a:xfrm>
              <a:off x="0" y="3283200"/>
              <a:ext cx="241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Сострад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80"/>
            <p:cNvSpPr/>
            <p:nvPr/>
          </p:nvSpPr>
          <p:spPr>
            <a:xfrm rot="2105400">
              <a:off x="120240" y="1535400"/>
              <a:ext cx="274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Терпим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81"/>
            <p:cNvSpPr/>
            <p:nvPr/>
          </p:nvSpPr>
          <p:spPr>
            <a:xfrm rot="19110600">
              <a:off x="5533200" y="1465200"/>
              <a:ext cx="267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Сочувств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82"/>
            <p:cNvSpPr/>
            <p:nvPr/>
          </p:nvSpPr>
          <p:spPr>
            <a:xfrm rot="2068800">
              <a:off x="5353920" y="4697640"/>
              <a:ext cx="248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Уваж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83"/>
            <p:cNvSpPr/>
            <p:nvPr/>
          </p:nvSpPr>
          <p:spPr>
            <a:xfrm rot="19128600">
              <a:off x="286560" y="4845240"/>
              <a:ext cx="262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Содейств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84"/>
            <p:cNvSpPr/>
            <p:nvPr/>
          </p:nvSpPr>
          <p:spPr>
            <a:xfrm>
              <a:off x="5939280" y="3206880"/>
              <a:ext cx="338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Взаимопоним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Прямоугольник 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108000" y="-160200"/>
            <a:ext cx="87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936"/>
                </a:solidFill>
                <a:latin typeface="Arial Unicode MS"/>
                <a:ea typeface="Arial Unicode MS"/>
              </a:rPr>
              <a:t>Толерантность – признание, уважение и соблюдение прав и свобод всех людей без различения социальных, классовых, религиозных, этнических и иных особенностей</a:t>
            </a:r>
            <a:r>
              <a:rPr b="1" lang="ru-RU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7" descr="Картинка 53 из 228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4479840"/>
            <a:ext cx="3527280" cy="237816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3"/>
          <p:cNvSpPr/>
          <p:nvPr/>
        </p:nvSpPr>
        <p:spPr>
          <a:xfrm>
            <a:off x="755640" y="1410480"/>
            <a:ext cx="87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936"/>
                </a:solidFill>
                <a:latin typeface="Arial Rounded MT Bold"/>
              </a:rPr>
              <a:t>Толерантность – это способность индивида без возражений и противодействия воспринимать отличающиеся от его собственных мнения, образ жизни характер поведения и какие-либо иные особенности других индивидо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179280" y="34272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936"/>
                </a:solidFill>
                <a:latin typeface="Arial Unicode MS"/>
              </a:rPr>
              <a:t>Толерантность – это минимальное требование к общественным отношениям не допускать насилия и принуж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"/>
          <p:cNvSpPr/>
          <p:nvPr/>
        </p:nvSpPr>
        <p:spPr>
          <a:xfrm>
            <a:off x="430200" y="-6480"/>
            <a:ext cx="8713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61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936"/>
                </a:solidFill>
                <a:latin typeface="Arial"/>
              </a:rPr>
              <a:t>Взаимное уважение, доброжелательность и терпимое отношение всех членов того или иного общества к тем или иным социальным, культурным и другим групп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1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936"/>
                </a:solidFill>
                <a:latin typeface="Arial"/>
              </a:rPr>
              <a:t>Гарантированное законом сохранение и развитие культурной самобытности и языков национальных меньшин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1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936"/>
                </a:solidFill>
                <a:latin typeface="Arial"/>
              </a:rPr>
              <a:t>Реальная возможность следовать традициям для всех культур, представленных в данном обще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1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936"/>
                </a:solidFill>
                <a:latin typeface="Arial"/>
              </a:rPr>
              <a:t>Свобода вероисповедания при условии, что это не ущемляет права и возможности представителей других професс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1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936"/>
                </a:solidFill>
                <a:latin typeface="Arial"/>
              </a:rPr>
              <a:t>Сотрудничество и солидарность в решении общих пробл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1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936"/>
                </a:solidFill>
                <a:latin typeface="Arial"/>
              </a:rPr>
              <a:t>Отказ от негативных стереотипов в области межэтнических и межрасовых отношений и  отношениях между пол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1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936"/>
                </a:solidFill>
                <a:latin typeface="Arial"/>
              </a:rPr>
              <a:t>Реальное полноправие между представителями различных на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500" fill="hold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00" fill="hold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http://studproekt.stavsu.ru/images/9/9a/%D0%9F%D1%80%D0%BE%D0%B5%D0%BA%D1%82_%D0%97%D0%B0%D1%85%D0%B0%D1%80%D0%BE%D0%B2%D0%BE%D0%B9%D0%A1%D0%90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3152"/>
                </a:solidFill>
                <a:latin typeface="Century Gothic"/>
              </a:rPr>
              <a:t>БЫВАЮТ ДНИ, ГОДЫ, ДЕСЯТИЛЕТИЯ</a:t>
            </a:r>
            <a:r>
              <a:rPr b="1" lang="ru-RU" sz="4000" spc="-1" strike="noStrike">
                <a:solidFill>
                  <a:srgbClr val="403152"/>
                </a:solidFill>
                <a:latin typeface="Century Gothic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90" name="Picture 4" descr="C:\Documents and Settings\user\Рабочий стол\толерантн\Дети\54264.jpg"/>
          <p:cNvPicPr/>
          <p:nvPr/>
        </p:nvPicPr>
        <p:blipFill>
          <a:blip r:embed="rId1"/>
          <a:stretch/>
        </p:blipFill>
        <p:spPr>
          <a:xfrm>
            <a:off x="5580000" y="1197000"/>
            <a:ext cx="2757600" cy="2143080"/>
          </a:xfrm>
          <a:prstGeom prst="rect">
            <a:avLst/>
          </a:prstGeom>
          <a:ln w="0">
            <a:noFill/>
          </a:ln>
        </p:spPr>
      </p:pic>
      <p:pic>
        <p:nvPicPr>
          <p:cNvPr id="491" name="120609.mp3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6" descr="http://beslan-2004.front.ru/beslan-1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3789360"/>
            <a:ext cx="3117960" cy="2340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2" descr="http://www.k-istine.ru/images/faith/illbaby-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125360"/>
            <a:ext cx="3238560" cy="22194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6" descr="Картинка 42 из 4603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4360" y="3429000"/>
            <a:ext cx="4052880" cy="27003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0920" y="5857920"/>
            <a:ext cx="7086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403152"/>
                </a:solidFill>
                <a:latin typeface="Century Gothic"/>
              </a:rPr>
              <a:t>когда сложно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Бывают секунды. Минуты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0" y="5643720"/>
            <a:ext cx="9144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от которых зависит очень многое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98" name="Picture 2" descr="C:\Documents and Settings\user\Рабочий стол\толерантн\Дети\сс.jpeg"/>
          <p:cNvPicPr/>
          <p:nvPr/>
        </p:nvPicPr>
        <p:blipFill>
          <a:blip r:embed="rId1"/>
          <a:stretch/>
        </p:blipFill>
        <p:spPr>
          <a:xfrm>
            <a:off x="500040" y="1285920"/>
            <a:ext cx="1730520" cy="17143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C:\Documents and Settings\user\Рабочий стол\толерантн\Дети\ссора.jpeg"/>
          <p:cNvPicPr/>
          <p:nvPr/>
        </p:nvPicPr>
        <p:blipFill>
          <a:blip r:embed="rId2"/>
          <a:stretch/>
        </p:blipFill>
        <p:spPr>
          <a:xfrm>
            <a:off x="6875640" y="1268280"/>
            <a:ext cx="1438200" cy="17510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C:\Documents and Settings\user\Рабочий стол\толерантн\Дети\ссо.jpeg"/>
          <p:cNvPicPr/>
          <p:nvPr/>
        </p:nvPicPr>
        <p:blipFill>
          <a:blip r:embed="rId3"/>
          <a:srcRect l="0" t="11127" r="0" b="0"/>
          <a:stretch/>
        </p:blipFill>
        <p:spPr>
          <a:xfrm>
            <a:off x="5072040" y="3357720"/>
            <a:ext cx="2143080" cy="18698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8" descr="C:\Documents and Settings\user\Рабочий стол\внеклассная работа\семь\3184.jpg"/>
          <p:cNvPicPr/>
          <p:nvPr/>
        </p:nvPicPr>
        <p:blipFill>
          <a:blip r:embed="rId4"/>
          <a:stretch/>
        </p:blipFill>
        <p:spPr>
          <a:xfrm>
            <a:off x="1749600" y="3357720"/>
            <a:ext cx="2798640" cy="1857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Documents and Settings\user\Рабочий стол\толерантн\Дети\сс.jpeg"/>
          <p:cNvPicPr/>
          <p:nvPr/>
        </p:nvPicPr>
        <p:blipFill>
          <a:blip r:embed="rId5"/>
          <a:stretch/>
        </p:blipFill>
        <p:spPr>
          <a:xfrm>
            <a:off x="611280" y="1268280"/>
            <a:ext cx="17301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И в эти секунды нельзя допустить ошибку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42960" y="5357880"/>
            <a:ext cx="814392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иначе после этого не останется ничего, кроме боли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05" name="Picture 6" descr="C:\Documents and Settings\user\Рабочий стол\внеклассная работа\семь\c160a7a9c204756937b9d235034_prev.jpg"/>
          <p:cNvPicPr/>
          <p:nvPr/>
        </p:nvPicPr>
        <p:blipFill>
          <a:blip r:embed="rId1"/>
          <a:stretch/>
        </p:blipFill>
        <p:spPr>
          <a:xfrm>
            <a:off x="5076720" y="2565360"/>
            <a:ext cx="3357720" cy="24624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" descr="Картинка 3 из 99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2492280"/>
            <a:ext cx="383688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Любовь к человеку просто за то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08" name="Picture 2" descr="C:\Documents and Settings\user\Рабочий стол\толерантн\Дети\img_37744038_9722_1.jpg"/>
          <p:cNvPicPr/>
          <p:nvPr/>
        </p:nvPicPr>
        <p:blipFill>
          <a:blip r:embed="rId1"/>
          <a:stretch/>
        </p:blipFill>
        <p:spPr>
          <a:xfrm>
            <a:off x="3492360" y="4508640"/>
            <a:ext cx="2691000" cy="16142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Картинка 54 из 64000"/>
          <p:cNvPicPr/>
          <p:nvPr/>
        </p:nvPicPr>
        <p:blipFill>
          <a:blip r:embed="rId2"/>
          <a:stretch/>
        </p:blipFill>
        <p:spPr>
          <a:xfrm>
            <a:off x="179280" y="3789360"/>
            <a:ext cx="3006720" cy="22669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8" descr="Картинка 58 из 64000"/>
          <p:cNvPicPr/>
          <p:nvPr/>
        </p:nvPicPr>
        <p:blipFill>
          <a:blip r:embed="rId3"/>
          <a:stretch/>
        </p:blipFill>
        <p:spPr>
          <a:xfrm>
            <a:off x="6659640" y="3213000"/>
            <a:ext cx="2185920" cy="3348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4" descr="Картинка 151 из 64000"/>
          <p:cNvPicPr/>
          <p:nvPr/>
        </p:nvPicPr>
        <p:blipFill>
          <a:blip r:embed="rId4"/>
          <a:stretch/>
        </p:blipFill>
        <p:spPr>
          <a:xfrm>
            <a:off x="5796000" y="836640"/>
            <a:ext cx="3097080" cy="208764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900000" y="587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что он человек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13" name="Picture 18" descr="Картинка 15 из 64000"/>
          <p:cNvPicPr/>
          <p:nvPr/>
        </p:nvPicPr>
        <p:blipFill>
          <a:blip r:embed="rId5"/>
          <a:stretch/>
        </p:blipFill>
        <p:spPr>
          <a:xfrm>
            <a:off x="0" y="1052640"/>
            <a:ext cx="3449520" cy="23032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4" descr="Картинка 11 из 64000"/>
          <p:cNvPicPr/>
          <p:nvPr/>
        </p:nvPicPr>
        <p:blipFill>
          <a:blip r:embed="rId6"/>
          <a:stretch/>
        </p:blipFill>
        <p:spPr>
          <a:xfrm>
            <a:off x="3276720" y="2276640"/>
            <a:ext cx="3079800" cy="205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7:28:58Z</dcterms:created>
  <dc:creator>ishimova</dc:creator>
  <dc:description/>
  <dc:language>en-US</dc:language>
  <cp:lastModifiedBy>User</cp:lastModifiedBy>
  <dcterms:modified xsi:type="dcterms:W3CDTF">2011-12-21T10:44:23Z</dcterms:modified>
  <cp:revision>87</cp:revision>
  <dc:subject/>
  <dc:title>Слайд 1</dc:title>
</cp:coreProperties>
</file>