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gif" ContentType="image/gi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209-E5B7-4BFD-A776-976C3D43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17E-72F3-4702-86A9-03C8E76E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2D9-654F-4BE1-89FF-8B1BBCF1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44D-89D9-48F6-8908-DE7ECDF1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003C-68DF-45F3-BC48-84403346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CB73-2356-49BF-8C3F-91F6F898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9E90-535F-4E0A-A469-AF1CECB2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706B-321B-46EF-A921-277DFA4F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BD0A-E514-42B6-AE0D-65D806F9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BBC2-C55F-4590-914D-EBD5DC51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96F6-C77E-4734-8CB4-A9667A9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D61-9BE2-434D-833B-F5BDE536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7E5-74BA-479A-BDF4-F5240A2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9A8B-E9FC-4DF8-B5C6-1311B5F3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CD6F-67E7-484B-B531-5109016C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AE98-DDA6-4D57-82D7-88B5DB46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5898-7B87-438E-B82E-9040D6C0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291-B84D-48B8-B91A-C54E392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DB8-9DEB-4D0C-B8DA-F31873A3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A7E-F8DA-4FAA-8D03-FBD31BCE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936-23B9-442B-BCC2-C9DF1C01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93D-F2DF-4F69-823D-BF54A102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B70-D720-4AA3-8C84-A12D8A4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88B-580C-4441-B561-C278E54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6351-1F1D-4B87-B5E6-FE48C93FAA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>
              <a:gd name="textAreaLeft" fmla="*/ 0 w 3822840"/>
              <a:gd name="textAreaRight" fmla="*/ 3823200 w 3822840"/>
              <a:gd name="textAreaTop" fmla="*/ 0 h 6765840"/>
              <a:gd name="textAreaBottom" fmla="*/ 6766200 h 6765840"/>
            </a:gdLst>
            <a:ahLst/>
            <a:rect l="textAreaLeft" t="textAreaTop" r="textAreaRight" b="textAreaBottom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Group 80"/>
            <p:cNvGrpSpPr/>
            <p:nvPr/>
          </p:nvGrpSpPr>
          <p:grpSpPr>
            <a:xfrm>
              <a:off x="983520" y="1197000"/>
              <a:ext cx="927720" cy="4833000"/>
              <a:chOff x="983520" y="1197000"/>
              <a:chExt cx="927720" cy="483300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835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823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6020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112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38840" y="1222560"/>
              <a:ext cx="927720" cy="4833000"/>
              <a:chOff x="2238840" y="122256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38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37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57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66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11440" y="1222560"/>
              <a:ext cx="927720" cy="4833000"/>
              <a:chOff x="3511440" y="122256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114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102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299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391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84400" y="1222560"/>
              <a:ext cx="927720" cy="4833000"/>
              <a:chOff x="4784400" y="122256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8440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8320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40288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1212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6002640" y="1222560"/>
              <a:ext cx="927720" cy="4833000"/>
              <a:chOff x="6002640" y="122256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60026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3014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211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303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48960" y="1222560"/>
              <a:ext cx="927720" cy="4833000"/>
              <a:chOff x="7248960" y="122256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489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477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674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766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>
              <a:gd name="textAreaLeft" fmla="*/ 0 w 8977320"/>
              <a:gd name="textAreaRight" fmla="*/ 8977320 w 89773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CDAB-68F8-47A5-8F96-CA916C59F6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627280" y="5013000"/>
            <a:ext cx="4811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86920" y="1699920"/>
            <a:ext cx="69138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85e25"/>
                </a:solidFill>
                <a:latin typeface="Arial"/>
              </a:rPr>
              <a:t>Выразительные средства речи</a:t>
            </a:r>
            <a:r>
              <a:rPr b="1" lang="en-US" sz="4000" spc="-1" strike="noStrike">
                <a:solidFill>
                  <a:srgbClr val="185e25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185e25"/>
                </a:solidFill>
                <a:latin typeface="Arial"/>
              </a:rPr>
              <a:t>тренинг).</a:t>
            </a:r>
            <a:br>
              <a:rPr sz="4000"/>
            </a:br>
            <a:r>
              <a:rPr b="1" lang="ru-RU" sz="4000" spc="-1" strike="noStrike">
                <a:solidFill>
                  <a:srgbClr val="185e25"/>
                </a:solidFill>
                <a:latin typeface="Arial"/>
              </a:rPr>
              <a:t>Задание 3 ОГЭ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2050920" y="4581360"/>
            <a:ext cx="5329440" cy="1656000"/>
          </a:xfrm>
          <a:prstGeom prst="ellipse">
            <a:avLst/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764388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каком варианте ответа средством выразительности речи является олицетворение?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1) Сослуживцы любили бабушку, они говорили, что с ней вместе из бухгалтерии ушла музыка: бабушка постоянно что-нибудь напе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4) В отличие от бабушки, отец хотел, чтобы Олег стал в будущем толковым инженер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7) Смычок – вот что он будет держать в руках всю жизнь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26) «Может быть, это новые методы музыкального воспитания?»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рассуждала баб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каком варианте ответа средством выразительности речи является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росторечная лексика?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(3) Ты бы, Лёня, рассказал чего-нибудь повеселе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16) Встревает тут Федосья, баба из 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ыни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19) Эти доски и пригодя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24) Особенно портрет Пугачёва – глядеть долго нельзя: кажется, с ним самим разговарив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кажите предложение, в котором средством выразительности речи является эпитет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тоже когда-то собирал, мы приносили их домой целыми сот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обенно много их всегда было под большим дивано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поминается наша улица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бульвар с могучими каштанами, которые разрослись, образовав св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них много пыли, её сметают только перед Новым годом, Первым мая и мамиными именинами двадцать четвёртого октябр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Arial"/>
              </a:rPr>
              <a:t>Ответ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ком варианте ответа средством выразительности речи является сравнение?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ы были такие жёлтые и свежие, как первый тёплый день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на перемене, когда Витя как ни в чём не бывало подошёл к ребятам, хотя уже чувствовал недоброе, Валерка стал кривляться, глядя на нег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орово, юный жених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а несла их впереди себя, и ей казалось, что в них отражается солнце, что они такие красивые, такие особенны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ажите предложение, в котором средством выразительности речи является метафора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ив немедленно идти спасать свою любимицу, Тёма на цыпочках подходит к стеклянной двери и тихо, чтобы не произвести шума, выходит на террас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жав к отверстию колодца, он вполголоса зовё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Жучка, Жучка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теряя времени, Тёма обвязывает вожжами собаку, затем поспешно карабкается на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льчик с ужасом вслушивается в слова няни, и мысли роем теснятся в его го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кажите предложение, в котором средством выразительности речи является метафора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Потом отправили по распределению в среднюю школу посёлка Калиново Вологодской области преподавать русский язык и лите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Какое это было счастье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полных три года он восстанавливал себя сам: чистил кровь Пушкиным, Толстым, Герцено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Всё время мучительно думал: нужны ли все эти культурные ценности девочкам, укутанным в чинёные платки, успевшим до зари прибрать скотину и малых братьев-сестёр, и мальчикам, выполнявшим всю мужскую тяжёлую раб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Обучить грамоте и поскорее отпустить домой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рабо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В каком варианте ответа средством выразительности речи является противопоставление?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лиса могла свободно войти в театральный двор, который охранял строгий сторож, а другие дети не могли попасть в этот интересный ми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геева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артистка театра, молодая и красивая 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Ребята закричали, а я был недалеко и услыш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а спасала парня, спасала его от позора и неблагодарности. 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когда спасают, то долго не думаю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кажите предложение, в котором средством выразительности речи является метафора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 уже думал о солдате как о своём отце, и в его детской душе родилось новое для него чувство сыновней любви и н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действительно, солдат на экране был очень похож на отца на той старой военной фотографии, которая висела у них до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моего отца убили..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закричал Авалбёк, желая, чтобы люди гордились его отцом так же, как о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 был рад, что мать не видит его слё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ажите предложение, в котором средством выразительности речи является фразеологизм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стояли у окна и смотрели на хмурое октябрьское небо, с которого, словно пух, падал редки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бушкин замер и благоговейно, словно святыню, взял её в руки, пролистал страницы, и странная восторженная улыбка появилась на его лиц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он, готовый от стыда провалиться сквозь землю, густо покраснел, торопливо поднял её и, погладив обложку, отодвинул от себя, словно извиняясь за то, что посмел к ней прикоснутьс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наша жизнь пошла по другой дороге, где всем больно и одиноко, где нет тех, кто может поднять упав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кажите предложение, в котором средством выразительности речи является эпите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неплохо знал немецкий, домашних заданий никогда по этому предмету не готовил, но однажды настал и мой черёд, когда Елена Францевна ни с того ни с сего вызвала меня к доске, будто самого рядового ученика, и велела читать стихотвор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дворовых и у школьных ребят навсегда засело в памяти, что в нашей паре я был ведущим, а Павлик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ведо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оглянулся: он сидел через проход позади меня, и у него были холодные, пустые глаз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а стала листать классный жур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Укажите, какое средство выразительности речи используется в предложении 18: «Проводив маму с отцом в очередную командировку, мы с бабушкой тут же, как заговорщики, собирались на экстренный совет»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льный 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опо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Admin</cp:lastModifiedBy>
  <dcterms:modified xsi:type="dcterms:W3CDTF">2017-11-08T13:26:06Z</dcterms:modified>
  <cp:revision>11</cp:revision>
  <dc:subject>урок</dc:subject>
  <dc:title>Презентация</dc:title>
</cp:coreProperties>
</file>