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gif" ContentType="image/gi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117-A5E4-4766-9BA1-E96DB36D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ED2-A747-4AB3-9B45-60E4B87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CAD-D84D-4712-9D9E-2B0B311F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FAC-CA05-4103-83B0-0CCED6AF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C6E-E518-40AE-9F74-2548E41F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141C-C4B7-457D-831C-5476E923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6CF5-EB55-4360-B7D9-8D10C933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1E89-30FC-4739-8C25-615B1E5A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8076-50F8-426D-9A61-7620F5F3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7599-F8C1-484D-8FD6-EDDCBA72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DF95-3177-47FB-BE0D-4A36604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5E0-C792-454C-8AD1-9C90D1C2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8A62-B952-4868-8C89-43A7E325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A5DE-4943-4B33-8AE4-DD8FC5AA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9198-B250-4F98-A648-18763434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A21B-AA0D-467C-A3F9-73D7DEF2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ED33-7C8E-4C32-8819-53103DD7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EE3-AEC3-4C14-BC31-6CEBB819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9E9-4D00-4760-9312-9D28BD30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1FA-5F39-403C-9416-F9473EE6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4DE-6CFF-4899-8760-9C5A036A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A7B-0C06-4BB1-910E-DE6DC116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ACE-818F-4C7F-AAAE-A6866A7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574-B5C0-4CE5-9A3E-E0A1B1A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1322-016B-4C9B-905E-3660617FFC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>
              <a:gd name="textAreaLeft" fmla="*/ 0 w 3822840"/>
              <a:gd name="textAreaRight" fmla="*/ 3823200 w 3822840"/>
              <a:gd name="textAreaTop" fmla="*/ 0 h 6765840"/>
              <a:gd name="textAreaBottom" fmla="*/ 6766200 h 6765840"/>
            </a:gdLst>
            <a:ahLst/>
            <a:rect l="textAreaLeft" t="textAreaTop" r="textAreaRight" b="textAreaBottom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Group 80"/>
            <p:cNvGrpSpPr/>
            <p:nvPr/>
          </p:nvGrpSpPr>
          <p:grpSpPr>
            <a:xfrm>
              <a:off x="983520" y="1197000"/>
              <a:ext cx="927720" cy="4833000"/>
              <a:chOff x="983520" y="1197000"/>
              <a:chExt cx="927720" cy="483300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835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823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6020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112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38840" y="1222560"/>
              <a:ext cx="927720" cy="4833000"/>
              <a:chOff x="2238840" y="122256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38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37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57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66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11440" y="1222560"/>
              <a:ext cx="927720" cy="4833000"/>
              <a:chOff x="3511440" y="122256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114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102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299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391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84400" y="1222560"/>
              <a:ext cx="927720" cy="4833000"/>
              <a:chOff x="4784400" y="122256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8440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8320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40288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1212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6002640" y="1222560"/>
              <a:ext cx="927720" cy="4833000"/>
              <a:chOff x="6002640" y="122256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60026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3014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211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303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48960" y="1222560"/>
              <a:ext cx="927720" cy="4833000"/>
              <a:chOff x="7248960" y="122256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489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477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674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766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>
              <a:gd name="textAreaLeft" fmla="*/ 0 w 8977320"/>
              <a:gd name="textAreaRight" fmla="*/ 8977320 w 89773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B529-BA81-48F8-9337-0732CED3CA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627280" y="5013000"/>
            <a:ext cx="4811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86920" y="1699920"/>
            <a:ext cx="69138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85e25"/>
                </a:solidFill>
                <a:latin typeface="Arial"/>
              </a:rPr>
              <a:t>Выразительные средства речи</a:t>
            </a:r>
            <a:r>
              <a:rPr b="1" lang="en-US" sz="4000" spc="-1" strike="noStrike">
                <a:solidFill>
                  <a:srgbClr val="185e25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185e25"/>
                </a:solidFill>
                <a:latin typeface="Arial"/>
              </a:rPr>
              <a:t>тренинг).</a:t>
            </a:r>
            <a:br>
              <a:rPr sz="4000"/>
            </a:br>
            <a:r>
              <a:rPr b="1" lang="ru-RU" sz="4000" spc="-1" strike="noStrike">
                <a:solidFill>
                  <a:srgbClr val="185e25"/>
                </a:solidFill>
                <a:latin typeface="Arial"/>
              </a:rPr>
              <a:t>Задание 3 ОГЭ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2050920" y="4581360"/>
            <a:ext cx="5329440" cy="1656000"/>
          </a:xfrm>
          <a:prstGeom prst="ellipse">
            <a:avLst/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764388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каком варианте ответа средством выразительности речи является олицетворение?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1) Сослуживцы любили бабушку, они говорили, что с ней вместе из бухгалтерии ушла музыка: бабушка постоянно что-нибудь напе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4) В отличие от бабушки, отец хотел, чтобы Олег стал в будущем толковым инженер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17) Смычок – вот что он будет держать в руках всю жизнь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26) «Может быть, это новые методы музыкального воспитания?»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рассуждала баб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каком варианте ответа средством выразительности речи является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росторечная лексика?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– (3) Ты бы, Лёня, рассказал чего-нибудь повеселе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16) Встревает тут Федосья, баба из П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ыни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19) Эти доски и пригодят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24) Особенно портрет Пугачёва – глядеть долго нельзя: кажется, с ним самим разговарив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кажите предложение, в котором средством выразительности речи является эпитет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тоже когда-то собирал, мы приносили их домой целыми сот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обенно много их всегда было под большим дивано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споминается наша улица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бульвар с могучими каштанами, которые разрослись, образовав св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 них много пыли, её сметают только перед Новым годом, Первым мая и мамиными именинами двадцать четвёртого октябр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Arial"/>
              </a:rPr>
              <a:t>Ответ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ком варианте ответа средством выразительности речи является сравнение?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ы были такие жёлтые и свежие, как первый тёплый день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на перемене, когда Витя как ни в чём не бывало подошёл к ребятам, хотя уже чувствовал недоброе, Валерка стал кривляться, глядя на нег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орово, юный жених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а несла их впереди себя, и ей казалось, что в них отражается солнце, что они такие красивые, такие особенны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ажите предложение, в котором средством выразительности речи является метафора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ив немедленно идти спасать свою любимицу, Тёма на цыпочках подходит к стеклянной двери и тихо, чтобы не произвести шума, выходит на террас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жав к отверстию колодца, он вполголоса зовё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Жучка, Жучка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теряя времени, Тёма обвязывает вожжами собаку, затем поспешно карабкается на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льчик с ужасом вслушивается в слова няни, и мысли роем теснятся в его го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кажите предложение, в котором средством выразительности речи является метафора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Потом отправили по распределению в среднюю школу посёлка Калиново Вологодской области преподавать русский язык и лите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Какое это было счастье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полных три года он восстанавливал себя сам: чистил кровь Пушкиным, Толстым, Герцено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Всё время мучительно думал: нужны ли все эти культурные ценности девочкам, укутанным в чинёные платки, успевшим до зари прибрать скотину и малых братьев-сестёр, и мальчикам, выполнявшим всю мужскую тяжёлую раб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Обучить грамоте и поскорее отпустить домой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рабо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В каком варианте ответа средством выразительности речи является противопоставление?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лиса могла свободно войти в театральный двор, который охранял строгий сторож, а другие дети не могли попасть в этот интересный ми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геева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артистка театра, молодая и красивая 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Ребята закричали, а я был недалеко и услыш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а спасала парня, спасала его от позора и неблагодарности. 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когда спасают, то долго не думаю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кажите предложение, в котором средством выразительности речи является метафора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 уже думал о солдате как о своём отце, и в его детской душе родилось новое для него чувство сыновней любви и н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действительно, солдат на экране был очень похож на отца на той старой военной фотографии, которая висела у них до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моего отца убили..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закричал Авалбёк, желая, чтобы люди гордились его отцом так же, как о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 был рад, что мать не видит его слё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ажите предложение, в котором средством выразительности речи является фразеологизм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стояли у окна и смотрели на хмурое октябрьское небо, с которого, словно пух, падал редки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бушкин замер и благоговейно, словно святыню, взял её в руки, пролистал страницы, и странная восторженная улыбка появилась на его лиц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он, готовый от стыда провалиться сквозь землю, густо покраснел, торопливо поднял её и, погладив обложку, отодвинул от себя, словно извиняясь за то, что посмел к ней прикоснутьс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наша жизнь пошла по другой дороге, где всем больно и одиноко, где нет тех, кто может поднять упав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кажите предложение, в котором средством выразительности речи является эпите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неплохо знал немецкий, домашних заданий никогда по этому предмету не готовил, но однажды настал и мой черёд, когда Елена Францевна ни с того ни с сего вызвала меня к доске, будто самого рядового ученика, и велела читать стихотвор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дворовых и у школьных ребят навсегда засело в памяти, что в нашей паре я был ведущим, а Павлик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ведо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оглянулся: он сидел через проход позади меня, и у него были холодные, пустые глаз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а стала листать классный жур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Укажите, какое средство выразительности речи используется в предложении 18: «Проводив маму с отцом в очередную командировку, мы с бабушкой тут же, как заговорщики, собирались на экстренный совет»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льный 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опо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Admin</cp:lastModifiedBy>
  <dcterms:modified xsi:type="dcterms:W3CDTF">2017-11-08T13:26:06Z</dcterms:modified>
  <cp:revision>11</cp:revision>
  <dc:subject>урок</dc:subject>
  <dc:title>Презентация</dc:title>
</cp:coreProperties>
</file>