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DFDD5-96A7-4F02-B63A-A218A953BA8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59B24-7CDC-41F4-8324-B3ABBF2A2D6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28CC-7375-408E-BCED-F8B210DB5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C132-8DF4-49B7-8335-2DD4AFF98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7BB7-B79E-4D18-99A7-724B978D4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74C2-098D-47CE-9298-14A3B2B41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C8FEF-9AB0-4920-AA32-E91A5685B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79503-C224-4D6B-AF21-03AD5CC30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34E77-E1C6-47F4-829D-1D31CE065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AF1B2-1EB1-44C0-9E48-CAE4E75A9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7A28D-F4C4-494D-8B2A-346B250FE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7A5F6-527C-47EC-B59E-9DEF93F64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99CFA-25FE-4DB6-9C49-384B9D39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8C77-BB0A-4E70-A7AF-8A9C3AEFB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90FF5-7D8D-4DBA-B182-C8D9363B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C5C68-EED6-4695-BA14-4A4C906A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E2D69-8DA5-46BA-A31A-08731E955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A89C8-3CCC-4792-9FB2-D60827639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67263-E53D-4AD7-B4CE-5513265ED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3A90-EE83-477F-8BEC-EAE76D87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9182-794E-40BF-B515-70068981B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A0D4-AEF7-4975-A362-92A0E4D4F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EAF6-E95C-475C-96BF-72F133D86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B2B5-0237-49E5-8F23-7A194759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099D-1CDA-47C0-886F-812CAD69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9886-30BD-47E7-9292-E357C219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E5501-3D5D-4676-889D-C2DD6031E904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Глазина Е. А. СОШ № 62 г. Ьарнау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CF2DA-F7B7-431D-854B-3741356AD7B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417E3-6BF4-4B98-900F-21CDFB558574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Глазина Е. А. СОШ № 62 г. Ьарнау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45E8-CE10-4F8E-B235-2E8D4203BC1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Заголовок 1"/>
          <p:cNvSpPr/>
          <p:nvPr/>
        </p:nvSpPr>
        <p:spPr>
          <a:xfrm>
            <a:off x="755640" y="765000"/>
            <a:ext cx="770400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953735"/>
                </a:solidFill>
                <a:latin typeface="Times New Roman"/>
              </a:rPr>
              <a:t>ОГ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953735"/>
                </a:solidFill>
                <a:latin typeface="Times New Roman"/>
              </a:rPr>
              <a:t>Задание 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D7863-E7E8-4A06-BB04-C95EB50E9D9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Глазина Е. А. СОШ № 62 г. Ьарнау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 В каком слове правописание приставки зависит от ее значения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пере-»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 предобрый              2) пресечь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 президиум           4) премил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                           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BB3A9-FDCD-4F8D-88ED-1D880F1FF4C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Глазина Е. А. СОШ № 62 г. Ьарнау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 В каком слове правописание приставки определяется ее значением – «присоединение»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превратились         2) приказ          3) преследовать          4) приклеи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3F320-B285-479A-B95A-2A7195DE2B8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Глазина Е. А. СОШ № 62 г. Ьарнау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Укажите слово с неизменяемой приставко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 безголосый         2) премудрый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 несговорчивый            4) преодоле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AEB34-E5C4-415C-907E-5C3DA152384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Глазина Е. А. СОШ № 62 г. Ьарнау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 Укажите слово, в котором правописание приставки определяется ее значением – «пространственная близость»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 притворить (дверь)   2) преподавать            3) пришкольный            4) приплюсоват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9D930-D543-4331-9C67-900A6AA1EB8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Глазина Е. А. СОШ № 62 г. Ьарнау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йдите  слово с неизменяемой приставкой, в которой при произношении происходит озвончени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 озарили              2) изборождённое           3) отблески          4) взмахну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3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BAF14-FFF1-4040-A537-0F5C38D7BA0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Глазина Е. А. СОШ № 62 г. Ьарнау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Найдите  слово с неизменяемой приставкой, в которой при произношении происходит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оглушение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отблескам               2) ничего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3) подставив              4) показалось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9406F-8BF0-4FDE-9A89-2EB2BDC809C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Глазина Е. А. СОШ № 62 г. Ьарнау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100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 каком слове правописание приставки определяется её значением - «высшая степень качества»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еобразовать        2) престрашный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) превращать             4) преемни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836B1-2A6A-49B2-8AF1-D4F2B2E163C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Глазина Е. А. СОШ № 62 г. Ьарнау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468360" y="907920"/>
            <a:ext cx="8064360" cy="40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 можете использовать данное оформл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создания своих презентац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 в своей презентации вы должны указ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точник шаблона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анько Елена Алексеев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АОУ лицей №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. Иван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айт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ttp://elenaranko.ucoz.ru/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F127D-5CF6-4409-8F3B-EF1CDC0FF3C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Глазина Е. А. СОШ № 62 г. Ьарнау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Заголовок 1"/>
          <p:cNvSpPr/>
          <p:nvPr/>
        </p:nvSpPr>
        <p:spPr>
          <a:xfrm>
            <a:off x="539640" y="549360"/>
            <a:ext cx="8064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тернет – ресурс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3"/>
          <p:cNvSpPr/>
          <p:nvPr/>
        </p:nvSpPr>
        <p:spPr>
          <a:xfrm>
            <a:off x="684360" y="1628640"/>
            <a:ext cx="777528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http://energyru.com/vector-clipart/objects-and-things/226-svitki-pero-chernilnica-i-knigi-v-vektor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липарт (перо, чернильница, книг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http://img-fotki.yandex.ru/get/6622/42830165.110/0_91b80_5dd966c8_X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бук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http://s3.uploads.ru/5o8gm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рам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1918A-FC24-44C7-A655-F426D8618B0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Глазина Е. А. СОШ № 62 г. Ьарнау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48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404640"/>
            <a:ext cx="86868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84807"/>
                </a:solidFill>
                <a:latin typeface="Times New Roman"/>
              </a:rPr>
              <a:t>3.Укажите предложение, в котором средством выразительности речи является эпитет.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1) Я купался в счастье, в солнце и беззаботности довоенной жизни, которая уже стала забываться, отодвигаться в даль памяти, словно в театральные кулисы.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2) Может, эта книжка была маленьким островком мира в море войны?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3) Книга делала чудо: она разговаривала со мной разными голосами детей и взрослых.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4) Будто волшебная власть уносила меня в  другое пространство и время, и раскрывались безмерные дали, расступались облачные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небеса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                         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2ECE5-4349-4548-9CDF-8019ADFC32D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Глазина Е. А. СОШ № 62 г. Ьарнау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йти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предложение, в котором содержится олицетворение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 Я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чита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вою толстую библиотечную книгу очень долго – месяц или полтор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 Может, эта книжка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был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леньким островком мира в море войны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 Книга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делал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чудо: она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разговаривал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о мной разными голосами детей и взрослых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) Я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чита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книгу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наслаждался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ю, точно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глота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кусное морожено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                                     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DDD36-6617-4946-9CEB-305FB26DDAA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Глазина Е. А. СОШ № 62 г. Ьарнау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кажите предложение, в котором средством выразительности речи является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равн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2205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 Я читал свою толстую библиотечную книгу очень долго – месяц или полтор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 Может, эта книжка была маленьким островком мира в море войны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 Книга делала чудо: она разговаривала со мной разными голосами детей и взрослых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) Я читал книгу, наслаждался ею, точно глотал вкусное морожено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E722A-B213-4239-AA8B-0630889514C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Глазина Е. А. СОШ № 62 г. Ьарнау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з предложений 1–7 выпишите слово, в котором правописание приставки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пределяется её значением – «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приближение»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: ____________________________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A55E5-F8D1-497B-89E9-BB9EFDCA7D5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Глазина Е. А. СОШ № 62 г. Ьарнау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(1)Бабуля, это к тебе, – сказала Танечка, входя в квартиру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в сопровождении двух девочек и одного серьёзного мальчика. (2)Слепая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Анна Федотовна стояла на пороге кухни, не видя, но точно зная, что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ребятишки застенчиво жмутся у порога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(3)Проходите в комнату и рассказывайте, по какому делу пришли, 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сказала она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(4)Ваша внучка Таня рассказала, что у вас на войне убили сына и что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он вам писал письма. (5)А мы взяли почин: «Нет неизвестных героев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(6)И ещё она сказала, что вы ослепли от горя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(7)Мальчик выпалил всё одним духом и замолча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B292A-1C76-4241-BE3C-42688CB69FA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Глазина Е. А. СОШ № 62 г. Ьарнау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 В каком слове правописание приставки зависит от ее значения «присоединение»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 прибор            2) приусадебный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 прикрепить           4) приоткры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1FE51-CC74-4366-B226-9DCF7D8FFC5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Глазина Е. А. СОШ № 62 г. Ьарнау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В каком слове правописание  согласного на конце приставки зависит от звонкости/глухости  следующего согласного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дание               2) сбежа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 подготовить     4) безжалостн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BCB7A-F66A-4252-A31D-B36A509CE68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Глазина Е. А. СОШ № 62 г. Ьарнау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 В каком слове правописание приставки определяется правилом: «Если после приставки следует глухой согласный, то на конце её пишется буква, обозначающая глухой согласный звук»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 спрыгивает        2) неизвестно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 рассказывал            4) представля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27250-E55C-41AC-9321-2FFD28FE601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Глазина Е. А. СОШ № 62 г. Ьарнау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9T17:42:42Z</dcterms:created>
  <dc:creator>Елена</dc:creator>
  <dc:description/>
  <dc:language>en-US</dc:language>
  <cp:lastModifiedBy>User</cp:lastModifiedBy>
  <dcterms:modified xsi:type="dcterms:W3CDTF">2014-09-16T02:00:23Z</dcterms:modified>
  <cp:revision>20</cp:revision>
  <dc:subject/>
  <dc:title>Название презентации</dc:title>
</cp:coreProperties>
</file>