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774E-623F-4133-81A9-1AB1EA9F4B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E71E-C45C-4B96-9C41-51772C2BEE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C64-5D68-49BD-AA86-D152C9D0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C5E-ACAD-4A57-B5E8-A9A8DD66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9BC-D412-47A6-9D52-643EADF8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341-CFCE-45BC-9179-75A55F96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7F28-3AA3-406B-8E01-62A78518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CFFA-12F4-48F9-818A-86ECF357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184E-444A-462E-9CB3-3E479B8B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1A5D-AC11-464B-95E4-E8A3BD7D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FB50-5D68-432A-BEEF-B8FA2B2C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DE82-ED02-4465-8E2A-DEAFB609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4ACE-498A-4CEA-AE85-574DE80D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1F6-239C-4073-B808-BA9DE6A8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D410-A712-41E3-8615-0C05EECF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CA7F-D124-46AD-B612-3AB10268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4F06-40BA-4C19-B111-D2F1A14E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D96D-C181-4D3A-971D-C49F8727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DF8D-7816-492E-93EC-981734AD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910-FFD9-43E8-B820-2CA4C6D8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CF0-54BD-4951-8766-7EA339E7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8BD-2518-46D4-B5FB-F5FCBF63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F67-9D94-468E-A554-CD8ADB96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B66-CAB2-4FF7-AA7F-53953052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1B7-EE86-467E-9157-997C082A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0AC-E920-424C-97E2-E64E5BB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63CA-7BC7-4C06-9BD9-C083C0636E4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4404-EC27-4775-B048-9E5E7F39C6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4E42-E2EA-482F-80B5-073708DB1D8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B609-A9AA-4FF1-BD5F-CFAAB933BE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Заголовок 1"/>
          <p:cNvSpPr/>
          <p:nvPr/>
        </p:nvSpPr>
        <p:spPr>
          <a:xfrm>
            <a:off x="755640" y="765000"/>
            <a:ext cx="770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53735"/>
                </a:solidFill>
                <a:latin typeface="Times New Roman"/>
              </a:rPr>
              <a:t>ОГ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53735"/>
                </a:solidFill>
                <a:latin typeface="Times New Roman"/>
              </a:rPr>
              <a:t>Задание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8D72-0602-4DD6-B7B8-C01C06BE66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В каком слове правописание приставки зависит от ее значения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ере-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предобрый              2) пресечь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резидиум           4) преми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C233-A21C-4BF8-B027-D4D66B9419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В каком слове правописание приставки определяется ее значением – «присоединение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превратились         2) приказ          3) преследовать          4) прикле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4475-9C01-4769-B958-DF4654E502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Укажите слово с неизменяемой пристав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безголосый         2) премудрый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несговорчивый            4) преодол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1244-9C1E-4C6E-A55A-49C94793BE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Укажите слово, в котором правописание приставки определяется ее значением – «пространственная близость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притворить (дверь)   2) преподавать            3) пришкольный            4) приплюсо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ED34-15FC-430B-A413-53F4D22011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 слово с неизменяемой приставкой, в которой при произношении происходит озвонч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озарили              2) изборождённое           3) отблески          4) взмахну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69AC-AC85-4B8E-82D1-CDC2894225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йдите  слово с неизменяемой приставкой, в которой при произношении происходи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глуш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тблескам               2) ничего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) подставив              4) показалось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3C5D-65FD-47E9-B4ED-EA7BAC9E40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каком слове правописание приставки определяется её значением - «высшая степень качества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образовать        2) престрашный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превращать             4) преемн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C809-3438-448A-91A2-79CFFC7BF4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68360" y="907920"/>
            <a:ext cx="806436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можете использовать данное оформ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здания своих презента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 своей презентации вы должны указ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шаблон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://elenaranko.ucoz.ru/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204F-19FF-470E-8994-AD0A53029E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1"/>
          <p:cNvSpPr/>
          <p:nvPr/>
        </p:nvSpPr>
        <p:spPr>
          <a:xfrm>
            <a:off x="539640" y="549360"/>
            <a:ext cx="80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684360" y="1628640"/>
            <a:ext cx="77752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energyru.com/vector-clipart/objects-and-things/226-svitki-pero-chernilnica-i-knigi-v-vekto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липарт (перо, чернильница, кни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img-fotki.yandex.ru/get/6622/42830165.110/0_91b80_5dd966c8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ук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s3.uploads.ru/5o8gm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E54E-B727-4BED-A18B-0E4C43E1B4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404640"/>
            <a:ext cx="8686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Times New Roman"/>
              </a:rPr>
              <a:t>3.Укажите предложение, в котором средством выразительности речи является эпитет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) Я купался в счастье, в солнце и беззаботности довоенной жизни, которая уже стала забываться, отодвигаться в даль памяти, словно в театральные кулисы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) Может, эта книжка была маленьким островком мира в море войны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) Книга делала чудо: она разговаривала со мной разными голосами детей и взрослых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4) Будто волшебная власть уносила меня в  другое пространство и время, и раскрывались безмерные дали, расступались облачные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ебес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A534-9FE6-497C-8C34-8690B59D9D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едложение, в котором содержится олицетворе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ит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вою толстую библиотечную книгу очень долго – месяц или полто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Может, эта книжк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ы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леньким островком мира в море войны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Книг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ела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удо: о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зговарива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 мной разными голосами детей и взрослы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 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ит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нигу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слаждал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ю, точн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лот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кусное морожено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FC78-F05B-485D-A110-D9C04945C9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кажите предложение, в котором средством выразительности речи являе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 Я читал свою толстую библиотечную книгу очень долго – месяц или полто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Может, эта книжка была маленьким островком мира в море войны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Книга делала чудо: она разговаривала со мной разными голосами детей и взрослы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 Я читал книгу, наслаждался ею, точно глотал вкусное морожено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F919-741B-44BF-8F65-1E94008522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предложений 1–7 выпишите слово, в котором правописание пристав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яется её значением – «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иближение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________________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FB33-4EC2-4852-B291-31279B70E0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1)Бабуля, это к тебе, – сказала Танечка, входя в квартиру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сопровождении двух девочек и одного серьёзного мальчика. (2)Слепа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нна Федотовна стояла на пороге кухни, не видя, но точно зная, чт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ебятишки застенчиво жмутся у порог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3)Проходите в комнату и рассказывайте, по какому делу пришли, 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казала он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4)Ваша внучка Таня рассказала, что у вас на войне убили сына и чт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н вам писал письма. (5)А мы взяли почин: «Нет неизвестных героев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6)И ещё она сказала, что вы ослепли от гор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7)Мальчик выпалил всё одним духом и замолча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BF07-A771-4A1F-BD2D-47BF10A12A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В каком слове правописание приставки зависит от ее значения «присоединение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прибор            2) приусадебный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рикрепить           4) приоткры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6D95-935F-4684-A2C0-B4FBB4BE3D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В каком слове правописание  согласного на конце приставки зависит от звонкости/глухости  следующего согласног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ание               2) сбеж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одготовить     4) безжалост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F923-2994-46EA-9F9C-D991B8439E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В каком слове правописание приставки определяется правилом: «Если после приставки следует глухой согласный, то на конце её пишется буква, обозначающая глухой согласный звук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спрыгивает        2) неизвестно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рассказывал            4) представля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51C1-C154-4C20-B599-9DB7F7CD92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7:42:42Z</dcterms:created>
  <dc:creator>Елена</dc:creator>
  <dc:description/>
  <dc:language>en-US</dc:language>
  <cp:lastModifiedBy>User</cp:lastModifiedBy>
  <dcterms:modified xsi:type="dcterms:W3CDTF">2014-09-16T02:00:23Z</dcterms:modified>
  <cp:revision>20</cp:revision>
  <dc:subject/>
  <dc:title>Название презентации</dc:title>
</cp:coreProperties>
</file>