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52A-FE43-442F-B4E3-14F0DFE8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851-2F3A-46D5-B22C-AC180AC5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F2C-9B33-45D9-AD3B-0723A332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0A5-4737-43DB-A21F-9A28DD98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787-9A45-4253-B1DB-803E9E16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C9A-1DD0-4C6B-8FC4-1862354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F31-1E8D-4BA4-B5CA-FD497715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9C3-7876-4E2C-A232-CDFF6215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10B-3A00-4D85-B100-57FCD258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847-6330-48ED-8097-C3D59771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256-B01B-47B6-8224-7734803E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F6F-7A84-4F21-B1E5-7A81751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3167-006D-4E9B-B94F-1EBE31A84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a5babfbebf2d.png"/>
          <p:cNvPicPr/>
          <p:nvPr/>
        </p:nvPicPr>
        <p:blipFill>
          <a:blip r:embed="rId1"/>
          <a:stretch/>
        </p:blipFill>
        <p:spPr>
          <a:xfrm>
            <a:off x="928800" y="2832120"/>
            <a:ext cx="5221080" cy="329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487080"/>
            <a:ext cx="7529400" cy="24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Основа предлож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9720" y="3271320"/>
            <a:ext cx="27147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40d229f92be3.png"/>
          <p:cNvPicPr/>
          <p:nvPr/>
        </p:nvPicPr>
        <p:blipFill>
          <a:blip r:embed="rId2"/>
          <a:stretch/>
        </p:blipFill>
        <p:spPr>
          <a:xfrm>
            <a:off x="0" y="-139680"/>
            <a:ext cx="1770120" cy="2228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 rot="21288000">
            <a:off x="3822480" y="388584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ОГ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2000160" y="4386240"/>
            <a:ext cx="12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1" descr="67372407_67372128_0cb2c0928637.png"/>
          <p:cNvPicPr/>
          <p:nvPr/>
        </p:nvPicPr>
        <p:blipFill>
          <a:blip r:embed="rId3"/>
          <a:stretch/>
        </p:blipFill>
        <p:spPr>
          <a:xfrm>
            <a:off x="4786200" y="3201840"/>
            <a:ext cx="731880" cy="727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67372314_67371990_0cb2c0928637.png"/>
          <p:cNvPicPr/>
          <p:nvPr/>
        </p:nvPicPr>
        <p:blipFill>
          <a:blip r:embed="rId4"/>
          <a:stretch/>
        </p:blipFill>
        <p:spPr>
          <a:xfrm>
            <a:off x="2428920" y="4873680"/>
            <a:ext cx="8143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3" descr=""/>
          <p:cNvPicPr/>
          <p:nvPr/>
        </p:nvPicPr>
        <p:blipFill>
          <a:blip r:embed="rId5"/>
          <a:stretch/>
        </p:blipFill>
        <p:spPr>
          <a:xfrm>
            <a:off x="249120" y="450720"/>
            <a:ext cx="1311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Вспомогательная часть</a:t>
            </a:r>
            <a:r>
              <a:rPr b="0" lang="ru-RU" sz="3000" spc="-1" strike="noStrike">
                <a:solidFill>
                  <a:srgbClr val="ff0000"/>
                </a:solidFill>
                <a:latin typeface="Comic Sans MS"/>
              </a:rPr>
              <a:t> выражаетс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лаголом-связкой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бы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который не имеет лексического значения и в наст. вр. обычно отсутствует (</a:t>
            </a:r>
            <a:r>
              <a:rPr b="0" lang="ru-RU" sz="3000" spc="-1" strike="noStrike">
                <a:solidFill>
                  <a:srgbClr val="0070c0"/>
                </a:solidFill>
                <a:latin typeface="Comic Sans MS"/>
              </a:rPr>
              <a:t>нулевая связка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глаголами-связками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та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танови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дел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явля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чит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каз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называ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едставля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едставлять собой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и др.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Значение вспомогательной части могут иметь также глаголы движения, состояния: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ийти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приеха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вернуться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иде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000" spc="-1" strike="noStrike">
                <a:solidFill>
                  <a:srgbClr val="0070c0"/>
                </a:solidFill>
                <a:latin typeface="Comic Sans MS"/>
              </a:rPr>
              <a:t>стоять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28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1)В материальном мире большое не уместишь в мал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857160" y="3983040"/>
            <a:ext cx="447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omic Sans MS"/>
              </a:rPr>
              <a:t>Не умести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32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288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32)Хорошие всегда будут радов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14240" y="417744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  <a:ea typeface="Calibri"/>
              </a:rPr>
              <a:t>Хорошие будут ра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20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0001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20)Но в чем это заключает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785880" y="3745080"/>
            <a:ext cx="67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omic Sans MS"/>
                <a:ea typeface="Calibri"/>
              </a:rPr>
              <a:t>Это заключ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9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5840" y="1928520"/>
            <a:ext cx="85723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19)Человек должен быть заботли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571680" y="400608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omic Sans MS"/>
                <a:ea typeface="Calibri"/>
              </a:rPr>
              <a:t>Человек должен быть заботли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2888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11)Уважение – это приятие всего в человеке, взаимодействие с его человеческой Сутью с целью понять всё хорошее и усилить её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500040" y="5072040"/>
            <a:ext cx="807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</a:rPr>
              <a:t>Уважение – приятие, взаимо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2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21)Обычное непонимание людей нередко становится причиной обмана, оскорбления, унижения, предательства или даже преступ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785880" y="5148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  <a:ea typeface="Calibri"/>
              </a:rPr>
              <a:t>Непонимание становится прич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20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(20)Обидчивость - ведь очень мучительная черта характе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642960" y="4720320"/>
            <a:ext cx="600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omic Sans MS"/>
                <a:ea typeface="Calibri"/>
              </a:rPr>
              <a:t>Обидчивость – черта харак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285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11)Но от себя я бы поставила вопросительный знак рядом со словом «гордость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285920" y="4500720"/>
            <a:ext cx="519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omic Sans MS"/>
              </a:rPr>
              <a:t>Я бы постави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40d229f92be3.png"/>
          <p:cNvPicPr/>
          <p:nvPr/>
        </p:nvPicPr>
        <p:blipFill>
          <a:blip r:embed="rId2"/>
          <a:stretch/>
        </p:blipFill>
        <p:spPr>
          <a:xfrm>
            <a:off x="0" y="-14292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7240" y="357120"/>
            <a:ext cx="707256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ишит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мматическую основу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ения 1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288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6)Сочетание «портреты Репина» тоже не кажется нам двусмысленн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785880" y="4933440"/>
            <a:ext cx="751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  <a:ea typeface="Calibri"/>
              </a:rPr>
              <a:t>Сочетание не кажется двусмысл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Грамматическая ос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e867233cfcb9.png"/>
          <p:cNvPicPr/>
          <p:nvPr/>
        </p:nvPicPr>
        <p:blipFill>
          <a:blip r:embed="rId1"/>
          <a:srcRect l="54640" t="42756" r="-2358" b="16839"/>
          <a:stretch/>
        </p:blipFill>
        <p:spPr>
          <a:xfrm>
            <a:off x="4786200" y="11430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4" descr="e867233cfcb9.png"/>
          <p:cNvPicPr/>
          <p:nvPr/>
        </p:nvPicPr>
        <p:blipFill>
          <a:blip r:embed="rId2"/>
          <a:srcRect l="51870" t="41987" r="-5924" b="18556"/>
          <a:stretch/>
        </p:blipFill>
        <p:spPr>
          <a:xfrm>
            <a:off x="-214200" y="2000160"/>
            <a:ext cx="4722840" cy="407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 rot="693600">
            <a:off x="248760" y="3620880"/>
            <a:ext cx="351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одлежащ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 rot="19935000">
            <a:off x="5389200" y="2629080"/>
            <a:ext cx="28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67372314_67371990_0cb2c0928637.png"/>
          <p:cNvPicPr/>
          <p:nvPr/>
        </p:nvPicPr>
        <p:blipFill>
          <a:blip r:embed="rId3"/>
          <a:stretch/>
        </p:blipFill>
        <p:spPr>
          <a:xfrm>
            <a:off x="642960" y="4338720"/>
            <a:ext cx="11793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67372407_67372128_0cb2c0928637.png"/>
          <p:cNvPicPr/>
          <p:nvPr/>
        </p:nvPicPr>
        <p:blipFill>
          <a:blip r:embed="rId4"/>
          <a:stretch/>
        </p:blipFill>
        <p:spPr>
          <a:xfrm>
            <a:off x="5643720" y="1857240"/>
            <a:ext cx="9284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428840" y="164304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omic Sans MS"/>
              </a:rPr>
              <a:t>Успехов на экзамен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10" descr="67372696_67371990_0cb2c0928637_4.png"/>
          <p:cNvPicPr/>
          <p:nvPr/>
        </p:nvPicPr>
        <p:blipFill>
          <a:blip r:embed="rId1"/>
          <a:stretch/>
        </p:blipFill>
        <p:spPr>
          <a:xfrm>
            <a:off x="285840" y="1214280"/>
            <a:ext cx="1874880" cy="27702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5.png"/>
          <p:cNvPicPr/>
          <p:nvPr/>
        </p:nvPicPr>
        <p:blipFill>
          <a:blip r:embed="rId2"/>
          <a:stretch/>
        </p:blipFill>
        <p:spPr>
          <a:xfrm>
            <a:off x="6357960" y="4143240"/>
            <a:ext cx="976320" cy="1357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2" descr="+.png"/>
          <p:cNvPicPr/>
          <p:nvPr/>
        </p:nvPicPr>
        <p:blipFill>
          <a:blip r:embed="rId3"/>
          <a:stretch/>
        </p:blipFill>
        <p:spPr>
          <a:xfrm>
            <a:off x="7643880" y="4500720"/>
            <a:ext cx="685800" cy="7840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3"/>
          <p:cNvSpPr/>
          <p:nvPr/>
        </p:nvSpPr>
        <p:spPr>
          <a:xfrm>
            <a:off x="4714920" y="4429080"/>
            <a:ext cx="12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omic Sans MS"/>
              </a:rPr>
              <a:t>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длежащее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a5babfbebf2d.png"/>
          <p:cNvPicPr/>
          <p:nvPr/>
        </p:nvPicPr>
        <p:blipFill>
          <a:blip r:embed="rId1"/>
          <a:srcRect l="0" t="6412" r="5556" b="3850"/>
          <a:stretch/>
        </p:blipFill>
        <p:spPr>
          <a:xfrm>
            <a:off x="0" y="1071720"/>
            <a:ext cx="8786880" cy="5357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 rot="21381600">
            <a:off x="635760" y="1514160"/>
            <a:ext cx="3440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лавный член предложения, который обозначает предмет речи и отвечает на вопросы им. п. кто? или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 rot="21420000">
            <a:off x="4501080" y="1581840"/>
            <a:ext cx="357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Существитель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местоиме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инфинитив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другой частью речи в значении существитель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цельным словосоче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длежащ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6"/>
          <p:cNvSpPr/>
          <p:nvPr/>
        </p:nvSpPr>
        <p:spPr>
          <a:xfrm flipH="1">
            <a:off x="4284720" y="285840"/>
            <a:ext cx="1440" cy="6357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92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Имя существительное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Книга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-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источник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Местоимение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Я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грамотей и стихотворе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Имя прилагательное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Сытый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 голодного не разуме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Числительное          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Семеро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одного не жд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Причастие             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Побеждают тольк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верящие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Наречие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                 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Наконец пришло 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послезав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Междометие 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              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Далече грянул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ура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Словосочетание  </a:t>
            </a:r>
            <a:r>
              <a:rPr b="1" lang="ru-RU" sz="2400" spc="-1" strike="noStrike">
                <a:solidFill>
                  <a:srgbClr val="1f497d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У костра сидели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три мальчика</a:t>
            </a:r>
            <a:r>
              <a:rPr b="1" lang="ru-RU" sz="2000" spc="-1" strike="noStrike">
                <a:solidFill>
                  <a:srgbClr val="376092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казуем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7" descr="e867233cfcb9.png"/>
          <p:cNvPicPr/>
          <p:nvPr/>
        </p:nvPicPr>
        <p:blipFill>
          <a:blip r:embed="rId1"/>
          <a:srcRect l="32167" t="87776" r="34600" b="0"/>
          <a:stretch/>
        </p:blipFill>
        <p:spPr>
          <a:xfrm>
            <a:off x="0" y="1143000"/>
            <a:ext cx="4929120" cy="207180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e867233cfcb9.png"/>
          <p:cNvPicPr/>
          <p:nvPr/>
        </p:nvPicPr>
        <p:blipFill>
          <a:blip r:embed="rId2"/>
          <a:srcRect l="32167" t="87776" r="34600" b="0"/>
          <a:stretch/>
        </p:blipFill>
        <p:spPr>
          <a:xfrm>
            <a:off x="3929040" y="2928960"/>
            <a:ext cx="492912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7" descr="e867233cfcb9.png"/>
          <p:cNvPicPr/>
          <p:nvPr/>
        </p:nvPicPr>
        <p:blipFill>
          <a:blip r:embed="rId3"/>
          <a:srcRect l="32167" t="87776" r="34600" b="0"/>
          <a:stretch/>
        </p:blipFill>
        <p:spPr>
          <a:xfrm>
            <a:off x="0" y="4429080"/>
            <a:ext cx="4929120" cy="20718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e867233cfcb9.png"/>
          <p:cNvPicPr/>
          <p:nvPr/>
        </p:nvPicPr>
        <p:blipFill>
          <a:blip r:embed="rId4"/>
          <a:srcRect l="57464" t="17200" r="0" b="65155"/>
          <a:stretch/>
        </p:blipFill>
        <p:spPr>
          <a:xfrm>
            <a:off x="214200" y="1071720"/>
            <a:ext cx="728640" cy="357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1"/>
          <p:cNvSpPr/>
          <p:nvPr/>
        </p:nvSpPr>
        <p:spPr>
          <a:xfrm>
            <a:off x="500040" y="1428840"/>
            <a:ext cx="33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стое глаго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357800" y="3214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ставное глаго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428760" y="471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ставное им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4" descr="e867233cfcb9.png"/>
          <p:cNvPicPr/>
          <p:nvPr/>
        </p:nvPicPr>
        <p:blipFill>
          <a:blip r:embed="rId5"/>
          <a:srcRect l="57464" t="17200" r="0" b="65155"/>
          <a:stretch/>
        </p:blipFill>
        <p:spPr>
          <a:xfrm>
            <a:off x="4214880" y="2928960"/>
            <a:ext cx="72864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5" descr="e867233cfcb9.png"/>
          <p:cNvPicPr/>
          <p:nvPr/>
        </p:nvPicPr>
        <p:blipFill>
          <a:blip r:embed="rId6"/>
          <a:srcRect l="57464" t="17200" r="0" b="65155"/>
          <a:stretch/>
        </p:blipFill>
        <p:spPr>
          <a:xfrm>
            <a:off x="142920" y="4429080"/>
            <a:ext cx="728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остое глагольное сказуем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6"/>
          <p:cNvSpPr/>
          <p:nvPr/>
        </p:nvSpPr>
        <p:spPr>
          <a:xfrm>
            <a:off x="400068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>
            <a:off x="21420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2"/>
          <p:cNvSpPr/>
          <p:nvPr/>
        </p:nvSpPr>
        <p:spPr>
          <a:xfrm>
            <a:off x="214200" y="1214280"/>
            <a:ext cx="850104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5"/>
          <p:cNvSpPr/>
          <p:nvPr/>
        </p:nvSpPr>
        <p:spPr>
          <a:xfrm flipH="1">
            <a:off x="8714880" y="1214280"/>
            <a:ext cx="1800" cy="5430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214200" y="12859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Способ выражения сказуе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4000680" y="1285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 flipV="1">
            <a:off x="214200" y="1714680"/>
            <a:ext cx="8501040" cy="71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14200" y="1857240"/>
            <a:ext cx="36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Глагол в спрягаем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4071960" y="1857240"/>
            <a:ext cx="47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 много лет пиджак ношу. (Б.Окуджа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214200" y="27860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Глагол в форме сложного будущего времени или в сложной форме повелительного на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4071960" y="2786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 никогда так страстно не любил, так никогда любить уже не буду. (М.Цветаева)  Пусть задумчивый факел уронит благовонье пылающих смол. (Н.Гумил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214200" y="457200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Глагол в форме инфинитива в безличн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3"/>
          <p:cNvSpPr/>
          <p:nvPr/>
        </p:nvSpPr>
        <p:spPr>
          <a:xfrm>
            <a:off x="4000680" y="4572000"/>
            <a:ext cx="471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 бродить, не мять в кустах багряных лебеды и не искать следа. (С.Есе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35"/>
          <p:cNvSpPr/>
          <p:nvPr/>
        </p:nvSpPr>
        <p:spPr>
          <a:xfrm flipV="1">
            <a:off x="214200" y="2714760"/>
            <a:ext cx="8501040" cy="71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8"/>
          <p:cNvSpPr/>
          <p:nvPr/>
        </p:nvSpPr>
        <p:spPr>
          <a:xfrm>
            <a:off x="214200" y="450072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ставное глагольное сказуем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8c57285a55a9.png"/>
          <p:cNvPicPr/>
          <p:nvPr/>
        </p:nvPicPr>
        <p:blipFill>
          <a:blip r:embed="rId1"/>
          <a:srcRect l="3725" t="14281" r="4688" b="23237"/>
          <a:stretch/>
        </p:blipFill>
        <p:spPr>
          <a:xfrm>
            <a:off x="0" y="150012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071720" y="2286000"/>
            <a:ext cx="385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помогательный глагол (выражает грамматическое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+.png"/>
          <p:cNvPicPr/>
          <p:nvPr/>
        </p:nvPicPr>
        <p:blipFill>
          <a:blip r:embed="rId2"/>
          <a:stretch/>
        </p:blipFill>
        <p:spPr>
          <a:xfrm>
            <a:off x="4572000" y="3286080"/>
            <a:ext cx="571680" cy="6526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5072040" y="2143080"/>
            <a:ext cx="364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определенная форма глагола (выражает лексическое)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спомогательная часть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выражает  дополнительные лексические значения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400068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92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9"/>
          <p:cNvSpPr/>
          <p:nvPr/>
        </p:nvSpPr>
        <p:spPr>
          <a:xfrm>
            <a:off x="214200" y="1214280"/>
            <a:ext cx="0" cy="5429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2"/>
          <p:cNvSpPr/>
          <p:nvPr/>
        </p:nvSpPr>
        <p:spPr>
          <a:xfrm>
            <a:off x="214200" y="1214280"/>
            <a:ext cx="850104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5"/>
          <p:cNvSpPr/>
          <p:nvPr/>
        </p:nvSpPr>
        <p:spPr>
          <a:xfrm flipH="1">
            <a:off x="8714880" y="1214280"/>
            <a:ext cx="1800" cy="5430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214200" y="121428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Способ выражения вспомогательного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4000680" y="1285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mic Sans MS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9"/>
          <p:cNvSpPr/>
          <p:nvPr/>
        </p:nvSpPr>
        <p:spPr>
          <a:xfrm>
            <a:off x="214200" y="178596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214200" y="1857240"/>
            <a:ext cx="36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о, продолжение и конец действ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000680" y="1785960"/>
            <a:ext cx="47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ал читать, продолжал говорить,    кончил    петь,    перестал    разговарив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. д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14200" y="3143160"/>
            <a:ext cx="3857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тельность, возможность, необходимость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4000680" y="3214800"/>
            <a:ext cx="4643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хотел помочь, мог успе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.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214200" y="4572000"/>
            <a:ext cx="37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ую оценку действи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4000680" y="4714920"/>
            <a:ext cx="47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люблю 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5"/>
          <p:cNvSpPr/>
          <p:nvPr/>
        </p:nvSpPr>
        <p:spPr>
          <a:xfrm>
            <a:off x="179280" y="342900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8"/>
          <p:cNvSpPr/>
          <p:nvPr/>
        </p:nvSpPr>
        <p:spPr>
          <a:xfrm>
            <a:off x="250920" y="5013360"/>
            <a:ext cx="85010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ставное именное сказуем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8c57285a55a9.png"/>
          <p:cNvPicPr/>
          <p:nvPr/>
        </p:nvPicPr>
        <p:blipFill>
          <a:blip r:embed="rId1"/>
          <a:srcRect l="3725" t="14281" r="4688" b="23237"/>
          <a:stretch/>
        </p:blipFill>
        <p:spPr>
          <a:xfrm>
            <a:off x="0" y="150012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1071720" y="2286000"/>
            <a:ext cx="38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лагол-связка (выражает грамматическое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" descr="+.png"/>
          <p:cNvPicPr/>
          <p:nvPr/>
        </p:nvPicPr>
        <p:blipFill>
          <a:blip r:embed="rId2"/>
          <a:stretch/>
        </p:blipFill>
        <p:spPr>
          <a:xfrm>
            <a:off x="4572000" y="3286080"/>
            <a:ext cx="571680" cy="6526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072040" y="2143080"/>
            <a:ext cx="364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менная часть(выражает лексическое) зна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5:39:30Z</dcterms:created>
  <dc:creator>Admin</dc:creator>
  <dc:description/>
  <dc:language>en-US</dc:language>
  <cp:lastModifiedBy>Admin</cp:lastModifiedBy>
  <dcterms:modified xsi:type="dcterms:W3CDTF">2016-04-24T13:59:03Z</dcterms:modified>
  <cp:revision>35</cp:revision>
  <dc:subject/>
  <dc:title>Основа предложения</dc:title>
</cp:coreProperties>
</file>