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43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306-7E23-48CF-8178-3B055AB9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5D0-7EC2-4D94-B364-7E80F29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F64-7778-4E2F-BA3A-FC53F3DE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893-1AAA-4402-BD51-665939CB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64A-E76B-4085-8123-72B04CC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5F2-1CB9-42F5-A759-6DB61125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8A6-4FA4-439C-88FB-1A9F245F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544-56B5-49A2-962C-3CA170A7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EC1-0F33-4159-AC88-E450060B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850-2B17-4B6E-A477-FA2C6ED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A78-EA02-4A43-9BA7-94AED23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51B-A033-42DA-89DA-3923AB2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E2C-E184-4D54-90C0-A9DE84A1E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71680" y="500040"/>
            <a:ext cx="82152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Как  мне  жить  без теб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Без любви и твоих призна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Без твоих поцелуев и встреч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Разделило нас расстояние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Буду  много  дней я одн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Это время моих страда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Далеко ты сейчас, дале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Я живу одним ожиданьем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Не плачь, девчонка mp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264312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309920" y="857160"/>
            <a:ext cx="4834080" cy="50007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\Мои документы\Мои рисунки\i.jpeg4.jpeg"/>
          <p:cNvPicPr/>
          <p:nvPr/>
        </p:nvPicPr>
        <p:blipFill>
          <a:blip r:embed="rId1"/>
          <a:stretch/>
        </p:blipFill>
        <p:spPr>
          <a:xfrm>
            <a:off x="214200" y="285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Мои документы\Мои рисунки\i.jpeg10.jpeg"/>
          <p:cNvPicPr/>
          <p:nvPr/>
        </p:nvPicPr>
        <p:blipFill>
          <a:blip r:embed="rId2"/>
          <a:stretch/>
        </p:blipFill>
        <p:spPr>
          <a:xfrm>
            <a:off x="0" y="2286000"/>
            <a:ext cx="3643200" cy="203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Мои документы\Мои рисунки\i.jpeg"/>
          <p:cNvPicPr/>
          <p:nvPr/>
        </p:nvPicPr>
        <p:blipFill>
          <a:blip r:embed="rId3"/>
          <a:stretch/>
        </p:blipFill>
        <p:spPr>
          <a:xfrm>
            <a:off x="3071880" y="0"/>
            <a:ext cx="30718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Admin\Мои документы\Мои рисунки\i.jpeg3.jpeg"/>
          <p:cNvPicPr/>
          <p:nvPr/>
        </p:nvPicPr>
        <p:blipFill>
          <a:blip r:embed="rId4"/>
          <a:stretch/>
        </p:blipFill>
        <p:spPr>
          <a:xfrm>
            <a:off x="6143760" y="357120"/>
            <a:ext cx="3000240" cy="187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Documents and Settings\Admin\Мои документы\Мои рисунки\i.jpeg2.jpeg"/>
          <p:cNvPicPr/>
          <p:nvPr/>
        </p:nvPicPr>
        <p:blipFill>
          <a:blip r:embed="rId5"/>
          <a:stretch/>
        </p:blipFill>
        <p:spPr>
          <a:xfrm>
            <a:off x="6072120" y="2500200"/>
            <a:ext cx="3071880" cy="208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Documents and Settings\Admin\Мои документы\Мои рисунки\i.jpeg5.jpeg"/>
          <p:cNvPicPr/>
          <p:nvPr/>
        </p:nvPicPr>
        <p:blipFill>
          <a:blip r:embed="rId6"/>
          <a:stretch/>
        </p:blipFill>
        <p:spPr>
          <a:xfrm>
            <a:off x="0" y="476244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Admin\Мои документы\Мои рисунки\i.jpeg7.jpeg"/>
          <p:cNvPicPr/>
          <p:nvPr/>
        </p:nvPicPr>
        <p:blipFill>
          <a:blip r:embed="rId7"/>
          <a:stretch/>
        </p:blipFill>
        <p:spPr>
          <a:xfrm>
            <a:off x="6113520" y="4857840"/>
            <a:ext cx="3030480" cy="20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Admin\Мои документы\Мои рисунки\i.jpeg8.jpeg"/>
          <p:cNvPicPr/>
          <p:nvPr/>
        </p:nvPicPr>
        <p:blipFill>
          <a:blip r:embed="rId8"/>
          <a:stretch/>
        </p:blipFill>
        <p:spPr>
          <a:xfrm>
            <a:off x="3786120" y="2714760"/>
            <a:ext cx="2086200" cy="157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Documents and Settings\Admin\Мои документы\Мои рисунки\i.jpeg6.jpeg"/>
          <p:cNvPicPr/>
          <p:nvPr/>
        </p:nvPicPr>
        <p:blipFill>
          <a:blip r:embed="rId9"/>
          <a:stretch/>
        </p:blipFill>
        <p:spPr>
          <a:xfrm>
            <a:off x="3286080" y="4357800"/>
            <a:ext cx="2646360" cy="18874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03856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21472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6720" y="0"/>
            <a:ext cx="2357280" cy="32734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309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08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3643200"/>
            <a:ext cx="4295880" cy="32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4551480" y="3643200"/>
            <a:ext cx="4592520" cy="32148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000760" y="271476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Мои документы\Мои рисунки\183587252.jpg"/>
          <p:cNvPicPr/>
          <p:nvPr/>
        </p:nvPicPr>
        <p:blipFill>
          <a:blip r:embed="rId1"/>
          <a:stretch/>
        </p:blipFill>
        <p:spPr>
          <a:xfrm>
            <a:off x="2000160" y="1285920"/>
            <a:ext cx="5286600" cy="42289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-0.09526 C 0.04827 -0.12786 0.07136 -0.1741 0.09896 -0.1741 C 0.13976 -0.1741 0.17292 -0.12578 0.17292 -0.06451 C 0.17292 -0.04462 0.16962 -0.02659 0.16285 -0.0104 C 0.16407 -0.0104 0.03507 0.23283 0.03507 0.23491 C 0.03507 0.23283 -0.09392 -0.0104 -0.09271 -0.0104 C -0.09948 -0.02659 -0.1026 -0.04462 -0.1026 -0.06451 C -0.1026 -0.12578 -0.06962 -0.1741 -0.0276 -0.1741 C -0.00121 -0.1741 0.02188 -0.12786 0.03507 -0.09526 Z">
                                      <p:cBhvr>
                                        <p:cTn id="26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:\Documents and Settings\Admin\Мои документы\Мои рисунки\i.jpeg21.jpeg"/>
          <p:cNvPicPr/>
          <p:nvPr/>
        </p:nvPicPr>
        <p:blipFill>
          <a:blip r:embed="rId1"/>
          <a:stretch/>
        </p:blipFill>
        <p:spPr>
          <a:xfrm>
            <a:off x="4497480" y="0"/>
            <a:ext cx="4646520" cy="35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Admin\Мои документы\Мои рисунки\i.jpeg15.jpeg"/>
          <p:cNvPicPr/>
          <p:nvPr/>
        </p:nvPicPr>
        <p:blipFill>
          <a:blip r:embed="rId2"/>
          <a:stretch/>
        </p:blipFill>
        <p:spPr>
          <a:xfrm>
            <a:off x="0" y="3166920"/>
            <a:ext cx="4500720" cy="36910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371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5857920" cy="35002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Admin\Мои документы\Мои рисунки\i.jpeg20.jpeg"/>
          <p:cNvPicPr/>
          <p:nvPr/>
        </p:nvPicPr>
        <p:blipFill>
          <a:blip r:embed="rId1"/>
          <a:stretch/>
        </p:blipFill>
        <p:spPr>
          <a:xfrm>
            <a:off x="428760" y="642960"/>
            <a:ext cx="2857320" cy="366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Admin\Мои документы\Мои рисунки\i.jpeg19.jpeg"/>
          <p:cNvPicPr/>
          <p:nvPr/>
        </p:nvPicPr>
        <p:blipFill>
          <a:blip r:embed="rId2"/>
          <a:stretch/>
        </p:blipFill>
        <p:spPr>
          <a:xfrm>
            <a:off x="3627360" y="2857680"/>
            <a:ext cx="5159520" cy="36795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786200" y="3745080"/>
            <a:ext cx="4151520" cy="311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Admin\Мои документы\Мои рисунки\i.jpeg16.jpeg"/>
          <p:cNvPicPr/>
          <p:nvPr/>
        </p:nvPicPr>
        <p:blipFill>
          <a:blip r:embed="rId1"/>
          <a:stretch/>
        </p:blipFill>
        <p:spPr>
          <a:xfrm>
            <a:off x="5000760" y="571680"/>
            <a:ext cx="3948120" cy="30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Мои документы\Мои рисунки\i.jpeg17.jpeg"/>
          <p:cNvPicPr/>
          <p:nvPr/>
        </p:nvPicPr>
        <p:blipFill>
          <a:blip r:embed="rId2"/>
          <a:stretch/>
        </p:blipFill>
        <p:spPr>
          <a:xfrm>
            <a:off x="214200" y="1714680"/>
            <a:ext cx="4357800" cy="29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929120" y="4035600"/>
            <a:ext cx="4214880" cy="28224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Мои документы\Мои рисунки\i.jpeg14.jpeg"/>
          <p:cNvPicPr/>
          <p:nvPr/>
        </p:nvPicPr>
        <p:blipFill>
          <a:blip r:embed="rId1"/>
          <a:stretch/>
        </p:blipFill>
        <p:spPr>
          <a:xfrm>
            <a:off x="285840" y="285840"/>
            <a:ext cx="4071960" cy="303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Мои документы\Мои рисунки\i.jpeg22.jpeg"/>
          <p:cNvPicPr/>
          <p:nvPr/>
        </p:nvPicPr>
        <p:blipFill>
          <a:blip r:embed="rId2"/>
          <a:stretch/>
        </p:blipFill>
        <p:spPr>
          <a:xfrm>
            <a:off x="4643280" y="1214280"/>
            <a:ext cx="4000680" cy="301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Мои документы\Мои рисунки\336558808.jpg"/>
          <p:cNvPicPr/>
          <p:nvPr/>
        </p:nvPicPr>
        <p:blipFill>
          <a:blip r:embed="rId3"/>
          <a:stretch/>
        </p:blipFill>
        <p:spPr>
          <a:xfrm>
            <a:off x="1214280" y="3571920"/>
            <a:ext cx="258948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Мои документы\Мои рисунки\i.jpeg13.jpeg"/>
          <p:cNvPicPr/>
          <p:nvPr/>
        </p:nvPicPr>
        <p:blipFill>
          <a:blip r:embed="rId4"/>
          <a:stretch/>
        </p:blipFill>
        <p:spPr>
          <a:xfrm>
            <a:off x="5072040" y="4429080"/>
            <a:ext cx="3032280" cy="19400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\Мои документы\Мои рисунки\i.jpeg1.jpeg"/>
          <p:cNvPicPr/>
          <p:nvPr/>
        </p:nvPicPr>
        <p:blipFill>
          <a:blip r:embed="rId1"/>
          <a:stretch/>
        </p:blipFill>
        <p:spPr>
          <a:xfrm>
            <a:off x="0" y="0"/>
            <a:ext cx="400068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\Мои документы\Мои рисунки\i.jpeg11.jpeg"/>
          <p:cNvPicPr/>
          <p:nvPr/>
        </p:nvPicPr>
        <p:blipFill>
          <a:blip r:embed="rId2"/>
          <a:stretch/>
        </p:blipFill>
        <p:spPr>
          <a:xfrm>
            <a:off x="3214800" y="1785960"/>
            <a:ext cx="3949560" cy="279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Мои документы\Мои рисунки\i.jpeg12.jpeg"/>
          <p:cNvPicPr/>
          <p:nvPr/>
        </p:nvPicPr>
        <p:blipFill>
          <a:blip r:embed="rId3"/>
          <a:stretch/>
        </p:blipFill>
        <p:spPr>
          <a:xfrm>
            <a:off x="5143680" y="4319640"/>
            <a:ext cx="4000320" cy="25383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Мои документы\Мои рисунки\i.jpeg9.jpeg"/>
          <p:cNvPicPr/>
          <p:nvPr/>
        </p:nvPicPr>
        <p:blipFill>
          <a:blip r:embed="rId1"/>
          <a:stretch/>
        </p:blipFill>
        <p:spPr>
          <a:xfrm>
            <a:off x="357120" y="357120"/>
            <a:ext cx="4071960" cy="276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Admin\Мои документы\Мои рисунки\562212990.jpg"/>
          <p:cNvPicPr/>
          <p:nvPr/>
        </p:nvPicPr>
        <p:blipFill>
          <a:blip r:embed="rId2"/>
          <a:stretch/>
        </p:blipFill>
        <p:spPr>
          <a:xfrm>
            <a:off x="4929120" y="3500280"/>
            <a:ext cx="3660840" cy="29289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4:19:44Z</dcterms:created>
  <dc:creator>Admin</dc:creator>
  <dc:description/>
  <dc:language>en-US</dc:language>
  <cp:lastModifiedBy>Admin</cp:lastModifiedBy>
  <dcterms:modified xsi:type="dcterms:W3CDTF">2014-05-05T16:20:17Z</dcterms:modified>
  <cp:revision>20</cp:revision>
  <dc:subject/>
  <dc:title>Слайд 1</dc:title>
</cp:coreProperties>
</file>