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FEF3-2F57-4F8F-937C-AF73961D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4B89-5FFD-4AF3-BE6D-553264F1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F66F-EEB3-44AA-94E8-17D1F5E0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A301-401B-439F-940F-17F0680C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E6D9-9C56-4E2C-B38D-4F38B2E1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461-64DE-4C29-9669-80668ABF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9D60-A949-4D9F-80FB-7DB8ACDE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CE0B-339C-4132-8C68-91E1FAF0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EEF1-269D-48E0-AB6E-C2306E5E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2B51-58C7-4CC8-8623-62A122B7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5519-30DF-477F-A353-C5101927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CC20-D797-4081-8F46-7F6F82BA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A248-7AAF-4ACB-A2FD-BE88CF1ECFB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99800" y="3857760"/>
            <a:ext cx="83581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УБЛИЧНЫЙ ОТЧЕТ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280" y="4563720"/>
            <a:ext cx="6409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БОУ СРЕДНЕЙ ОБЩЕОБРАЗОВАТЕЛЬНОЙ ШКОЛЫ П.КОММУНИСТИЧЕСК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843280" y="5370480"/>
            <a:ext cx="36003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за 2013-2014 учебный год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6" descr="P1040456.JPG"/>
          <p:cNvPicPr/>
          <p:nvPr/>
        </p:nvPicPr>
        <p:blipFill>
          <a:blip r:embed="rId2"/>
          <a:stretch/>
        </p:blipFill>
        <p:spPr>
          <a:xfrm>
            <a:off x="133200" y="85680"/>
            <a:ext cx="4372200" cy="32799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P1030483.JPG"/>
          <p:cNvPicPr/>
          <p:nvPr/>
        </p:nvPicPr>
        <p:blipFill>
          <a:blip r:embed="rId3"/>
          <a:stretch/>
        </p:blipFill>
        <p:spPr>
          <a:xfrm>
            <a:off x="4138560" y="1335240"/>
            <a:ext cx="1938240" cy="1457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:\ВСЕ ФОТО\фото с зива\фотографии\игра югра\DCIM\100NIKON\DSCN0033.JPG"/>
          <p:cNvPicPr/>
          <p:nvPr/>
        </p:nvPicPr>
        <p:blipFill>
          <a:blip r:embed="rId4"/>
          <a:stretch/>
        </p:blipFill>
        <p:spPr>
          <a:xfrm>
            <a:off x="1852560" y="3103560"/>
            <a:ext cx="1963800" cy="1474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ВСЕ ФОТО\фото с зива\фотографии\игра югра\DCIM\100NIKON\DSCN3280.JPG"/>
          <p:cNvPicPr/>
          <p:nvPr/>
        </p:nvPicPr>
        <p:blipFill>
          <a:blip r:embed="rId5"/>
          <a:stretch/>
        </p:blipFill>
        <p:spPr>
          <a:xfrm>
            <a:off x="66600" y="2779560"/>
            <a:ext cx="1951200" cy="1468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http://kschool.ru/photo/images/photoalbum/20121125044822.jpg"/>
          <p:cNvPicPr/>
          <p:nvPr/>
        </p:nvPicPr>
        <p:blipFill>
          <a:blip r:embed="rId6"/>
          <a:stretch/>
        </p:blipFill>
        <p:spPr>
          <a:xfrm>
            <a:off x="3925800" y="208080"/>
            <a:ext cx="1852560" cy="1395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C:\фото для печати\100CANON\IMG_1280.JPG"/>
          <p:cNvPicPr/>
          <p:nvPr/>
        </p:nvPicPr>
        <p:blipFill>
          <a:blip r:embed="rId7"/>
          <a:stretch/>
        </p:blipFill>
        <p:spPr>
          <a:xfrm>
            <a:off x="3419640" y="2517840"/>
            <a:ext cx="2122200" cy="1420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WordArt 11" descr=""/>
          <p:cNvPicPr/>
          <p:nvPr/>
        </p:nvPicPr>
        <p:blipFill>
          <a:blip r:embed="rId2"/>
          <a:stretch/>
        </p:blipFill>
        <p:spPr>
          <a:xfrm>
            <a:off x="901800" y="165240"/>
            <a:ext cx="5121000" cy="4744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857160" y="571680"/>
            <a:ext cx="82868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12 педагогов школы приняли участие в </a:t>
            </a:r>
            <a:r>
              <a:rPr b="1" i="1" lang="ru-RU" sz="1800" spc="-1" strike="noStrike">
                <a:solidFill>
                  <a:srgbClr val="002060"/>
                </a:solidFill>
                <a:latin typeface="Bookman Old Style"/>
              </a:rPr>
              <a:t>муниципальном конкурсе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«Лучшая мультимедийная разработка учебного занятия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Фалина С.А., Кокшарова О.П., Виноградова Е.Ю., Вилочева Л.А., Назарова О.Н</a:t>
            </a: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.,  Ширяева Е.В.</a:t>
            </a: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, Пупырева М.С., Капац И.Н., Агафонова Н.С., Кузьминых Н.Н., Садовина Т.Ю., Меркушева Н.Н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857160" y="345132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Команда педагогов школы  стала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победительницей </a:t>
            </a:r>
            <a:r>
              <a:rPr b="1" i="1" lang="ru-RU" sz="1800" spc="-1" strike="noStrike">
                <a:solidFill>
                  <a:srgbClr val="002060"/>
                </a:solidFill>
                <a:latin typeface="Bookman Old Style"/>
              </a:rPr>
              <a:t>в 3х этапах интеллектуальной игры,</a:t>
            </a: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 организованной  межпоселенческой библиотекой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Вилочева Л.А., Назарова О.Н.,  </a:t>
            </a: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Ширяева Е.В.</a:t>
            </a: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, Пупырева М.С., Пацкова Н.А., Агафонова Н.С., Кордик И.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6" descr="загруженное (1).jpg"/>
          <p:cNvPicPr/>
          <p:nvPr/>
        </p:nvPicPr>
        <p:blipFill>
          <a:blip r:embed="rId3"/>
          <a:stretch/>
        </p:blipFill>
        <p:spPr>
          <a:xfrm>
            <a:off x="7143840" y="5500800"/>
            <a:ext cx="12142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7" descr="olimpiada_shkolnikov-ehmblema.jpg"/>
          <p:cNvPicPr/>
          <p:nvPr/>
        </p:nvPicPr>
        <p:blipFill>
          <a:blip r:embed="rId2"/>
          <a:stretch/>
        </p:blipFill>
        <p:spPr>
          <a:xfrm>
            <a:off x="428760" y="0"/>
            <a:ext cx="1214280" cy="1257480"/>
          </a:xfrm>
          <a:prstGeom prst="rect">
            <a:avLst/>
          </a:prstGeom>
          <a:ln w="0">
            <a:noFill/>
          </a:ln>
        </p:spPr>
      </p:pic>
      <p:pic>
        <p:nvPicPr>
          <p:cNvPr id="55" name="WordArt 11" descr=""/>
          <p:cNvPicPr/>
          <p:nvPr/>
        </p:nvPicPr>
        <p:blipFill>
          <a:blip r:embed="rId3"/>
          <a:stretch/>
        </p:blipFill>
        <p:spPr>
          <a:xfrm>
            <a:off x="1616040" y="268200"/>
            <a:ext cx="7193160" cy="87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571680" y="1143000"/>
          <a:ext cx="8429400" cy="5641920"/>
        </p:xfrm>
        <a:graphic>
          <a:graphicData uri="http://schemas.openxmlformats.org/drawingml/2006/table">
            <a:tbl>
              <a:tblPr/>
              <a:tblGrid>
                <a:gridCol w="436320"/>
                <a:gridCol w="1631880"/>
                <a:gridCol w="690840"/>
                <a:gridCol w="1672920"/>
                <a:gridCol w="1211400"/>
                <a:gridCol w="2786040"/>
              </a:tblGrid>
              <a:tr h="50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Фамилия, 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лас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редм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ест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едаго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Зубко Валер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форматика и И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кшаров Андрей Виталье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Волова Ольг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в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лочева Людмила Анатол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23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Казанцева Вик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тор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лочева Людмила Анатол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61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Зинковский Никол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мат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слова Ирина Львов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форматика и И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кшаров Андрей Виталье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Чайников Ар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тор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лочева Людмила Анатол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Кокшаров Ники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форматика и И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кшаров Андрей Виталье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Замашнюк Наталь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терату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Ширяева Елена Владими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Замашнюк Наталь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й язы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Ширяева Елена Владими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Зинковский Никола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еограф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результат (без мес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арова Ольг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71680" y="857160"/>
          <a:ext cx="8143560" cy="5762880"/>
        </p:xfrm>
        <a:graphic>
          <a:graphicData uri="http://schemas.openxmlformats.org/drawingml/2006/table">
            <a:tbl>
              <a:tblPr/>
              <a:tblGrid>
                <a:gridCol w="3071520"/>
                <a:gridCol w="1357560"/>
                <a:gridCol w="1714320"/>
                <a:gridCol w="2000160"/>
              </a:tblGrid>
              <a:tr h="39852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конкур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водных проектов уча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кова Н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016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танционная олимпиада «Родное слов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победителей и приз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участ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бедител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ьянцева А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икова А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ушканова В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нцева 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ер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ашова А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дометова А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ашнюк Н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нковсий Н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бедева Е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ушканова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лина С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афонова  Н.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дик И.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кушева  Н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иряева Е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76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нир имени Ломоносова по русскому язы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приз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ер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икова А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ушканова В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ашнюк Н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митина Д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на 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лина С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афонова  Н.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дик И.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кушева  Н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иряева Е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"/>
          <p:cNvSpPr/>
          <p:nvPr/>
        </p:nvSpPr>
        <p:spPr>
          <a:xfrm>
            <a:off x="571680" y="2160"/>
            <a:ext cx="85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Победители, призеры, участники конкурсов, фестивалей, соревнований </a:t>
            </a: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всероссийско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00040" y="785880"/>
          <a:ext cx="8143920" cy="2276280"/>
        </p:xfrm>
        <a:graphic>
          <a:graphicData uri="http://schemas.openxmlformats.org/drawingml/2006/table">
            <a:tbl>
              <a:tblPr/>
              <a:tblGrid>
                <a:gridCol w="3071880"/>
                <a:gridCol w="1357200"/>
                <a:gridCol w="1714680"/>
                <a:gridCol w="2000160"/>
              </a:tblGrid>
              <a:tr h="48744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нир имени Ломоносова по литерату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риз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убская Н., Лебедева 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иряева Е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нир «Ум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ац И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кшарова О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кушева Н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танционная олимпиада по английскому язы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пырева М.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довина Т.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танционная олимпиада по русскому языку « Океан знани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на 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лина С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571680" y="2160"/>
            <a:ext cx="85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Победители, призеры, участники конкурсов, фестивалей, соревнований </a:t>
            </a: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всероссийско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85840" y="1143000"/>
          <a:ext cx="8501040" cy="4105440"/>
        </p:xfrm>
        <a:graphic>
          <a:graphicData uri="http://schemas.openxmlformats.org/drawingml/2006/table">
            <a:tbl>
              <a:tblPr/>
              <a:tblGrid>
                <a:gridCol w="2895480"/>
                <a:gridCol w="1382760"/>
                <a:gridCol w="2111400"/>
                <a:gridCol w="2111400"/>
              </a:tblGrid>
              <a:tr h="48744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танционная олимпиада по английскому язы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риз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довина Т.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исследовательских проектов школь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бина 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кова 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ашова 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кова Н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на лучший материал, посвященный битве за Сталингра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афонов 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афонова Н.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детских творческих работ «Моя семь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афонов 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афонова 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дик И.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афонова Н.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импиада Э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.Виноградова Е.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rowSpan="2"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творческих работ «Родина негромкая мо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уре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митина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иряева Е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ираем профессию вмес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челов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кова Н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1"/>
          <p:cNvSpPr/>
          <p:nvPr/>
        </p:nvSpPr>
        <p:spPr>
          <a:xfrm>
            <a:off x="571680" y="2160"/>
            <a:ext cx="85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Победители, призеры, участники конкурсов, фестивалей, соревнований </a:t>
            </a: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всероссийско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57120" y="1000080"/>
          <a:ext cx="8429760" cy="5426280"/>
        </p:xfrm>
        <a:graphic>
          <a:graphicData uri="http://schemas.openxmlformats.org/drawingml/2006/table">
            <a:tbl>
              <a:tblPr/>
              <a:tblGrid>
                <a:gridCol w="2870280"/>
                <a:gridCol w="1371600"/>
                <a:gridCol w="2093760"/>
                <a:gridCol w="2094120"/>
              </a:tblGrid>
              <a:tr h="34776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конкур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чшее эссе по прав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кова О., 11 к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ашова А., 11 кл.(выпускн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лочева О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 rowSpan="3"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рисунков «Сибирское богатство!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мест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рш 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нько С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ч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ымбалова Е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 rowSpan="2"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рисунков  по пожарной темати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юлюпо 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нько С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40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ормите птиц зимой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ашова 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окопудова Л.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рисунков «Югра, вперед!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ушканова Т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«Лиде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нцева 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нковская Е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школьных проектов, посв.20 -летию Конституции 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енко 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ашнюк 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нько С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иряева Е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фотографий «Мир глазами дете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афонов 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янова И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571680" y="2160"/>
            <a:ext cx="85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Победители, призеры, участники конкурсов, фестивалей, соревнований </a:t>
            </a: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муниципально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571680" y="2160"/>
            <a:ext cx="85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Победители, призеры, участники конкурсов, фестивалей, соревнований </a:t>
            </a: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муниципально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14200" y="836640"/>
          <a:ext cx="8786880" cy="5878440"/>
        </p:xfrm>
        <a:graphic>
          <a:graphicData uri="http://schemas.openxmlformats.org/drawingml/2006/table">
            <a:tbl>
              <a:tblPr/>
              <a:tblGrid>
                <a:gridCol w="2992680"/>
                <a:gridCol w="1430280"/>
                <a:gridCol w="2181240"/>
                <a:gridCol w="2182680"/>
              </a:tblGrid>
              <a:tr h="27000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эмблем «Взгляд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довец 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нковская Е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се народы в гости к нам!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нковская Е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иняя птиц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отр строя и пес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агин В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опасное колес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ов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нковская Е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 rowSpan="2"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е ша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кова 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бина 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кова Н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митина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ымбалова Е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 rowSpan="2"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хивы нашей памя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пифанова 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ноградова Е.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афонов 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дик И.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стихов «Телевизор мой друг, телевизор мой враг!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н 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иряева Е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детских видеосюжет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кшаров 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талова 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нковская Е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-победитель районного конкурса СМИ и видеосюжетов по информационной безопас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ое объеди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нковская Е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рисунков «Имею прав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елов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нько С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ая класс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кашина 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теров 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н 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кушева Н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7T00:39:37Z</dcterms:created>
  <dc:creator>user5</dc:creator>
  <dc:description/>
  <dc:language>en-US</dc:language>
  <cp:lastModifiedBy>usor </cp:lastModifiedBy>
  <dcterms:modified xsi:type="dcterms:W3CDTF">2019-02-08T05:23:04Z</dcterms:modified>
  <cp:revision>516</cp:revision>
  <dc:subject/>
  <dc:title>Достижения школы</dc:title>
</cp:coreProperties>
</file>