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FFA-0370-4344-A074-0FD1C084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603-8DFD-4BBF-A34A-A70809AF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7C5-43F1-45D5-9F8B-A1EC1185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AD0-E20C-458A-B325-DDFB1B9D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4D0-2EBB-48F8-87AB-13F15A7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C69-A93D-4932-8DF0-189E5672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890-1D5F-4EFB-9BCB-9FA7A5E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C0A-2643-4BDC-BF79-A590CF6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D1C-B009-46EE-8BE1-4966F173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24B-DB59-455A-9B11-C704D9E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697-1D4C-43EF-B699-D97A3E5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772-D75A-4D30-A09E-FCB6AD9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A64-6763-4314-B7B1-233B62FD1D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99800" y="3857760"/>
            <a:ext cx="8358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УБЛИЧНЫЙ ОТЧЕТ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4563720"/>
            <a:ext cx="640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БОУ СРЕДНЕЙ ОБЩЕОБРАЗОВАТЕЛЬНОЙ ШКОЛЫ П.КОММУНИСТИ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843280" y="5370480"/>
            <a:ext cx="3600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а 2013-2014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P1040456.JPG"/>
          <p:cNvPicPr/>
          <p:nvPr/>
        </p:nvPicPr>
        <p:blipFill>
          <a:blip r:embed="rId2"/>
          <a:stretch/>
        </p:blipFill>
        <p:spPr>
          <a:xfrm>
            <a:off x="133200" y="85680"/>
            <a:ext cx="4372200" cy="3279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P1030483.JPG"/>
          <p:cNvPicPr/>
          <p:nvPr/>
        </p:nvPicPr>
        <p:blipFill>
          <a:blip r:embed="rId3"/>
          <a:stretch/>
        </p:blipFill>
        <p:spPr>
          <a:xfrm>
            <a:off x="4138560" y="1335240"/>
            <a:ext cx="1938240" cy="14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ВСЕ ФОТО\фото с зива\фотографии\игра югра\DCIM\100NIKON\DSCN0033.JPG"/>
          <p:cNvPicPr/>
          <p:nvPr/>
        </p:nvPicPr>
        <p:blipFill>
          <a:blip r:embed="rId4"/>
          <a:stretch/>
        </p:blipFill>
        <p:spPr>
          <a:xfrm>
            <a:off x="1852560" y="3103560"/>
            <a:ext cx="1963800" cy="147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ВСЕ ФОТО\фото с зива\фотографии\игра югра\DCIM\100NIKON\DSCN3280.JPG"/>
          <p:cNvPicPr/>
          <p:nvPr/>
        </p:nvPicPr>
        <p:blipFill>
          <a:blip r:embed="rId5"/>
          <a:stretch/>
        </p:blipFill>
        <p:spPr>
          <a:xfrm>
            <a:off x="66600" y="2779560"/>
            <a:ext cx="1951200" cy="146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http://kschool.ru/photo/images/photoalbum/20121125044822.jpg"/>
          <p:cNvPicPr/>
          <p:nvPr/>
        </p:nvPicPr>
        <p:blipFill>
          <a:blip r:embed="rId6"/>
          <a:stretch/>
        </p:blipFill>
        <p:spPr>
          <a:xfrm>
            <a:off x="3925800" y="208080"/>
            <a:ext cx="185256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фото для печати\100CANON\IMG_1280.JPG"/>
          <p:cNvPicPr/>
          <p:nvPr/>
        </p:nvPicPr>
        <p:blipFill>
          <a:blip r:embed="rId7"/>
          <a:stretch/>
        </p:blipFill>
        <p:spPr>
          <a:xfrm>
            <a:off x="3419640" y="2517840"/>
            <a:ext cx="2122200" cy="142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11" descr=""/>
          <p:cNvPicPr/>
          <p:nvPr/>
        </p:nvPicPr>
        <p:blipFill>
          <a:blip r:embed="rId2"/>
          <a:stretch/>
        </p:blipFill>
        <p:spPr>
          <a:xfrm>
            <a:off x="901800" y="165240"/>
            <a:ext cx="5121000" cy="474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71680"/>
            <a:ext cx="82868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12 педагогов школы приняли участие в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муниципальном конкурсе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«Лучшая мультимедийная разработка учебного занят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Фалина С.А., Кокшарова О.П., Виноградова Е.Ю., Вилочева Л.А., Назарова О.Н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.,  Ширяева Е.В.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, Пупырева М.С., Капац И.Н., Агафонова Н.С., Кузьминых Н.Н., Садовина Т.Ю., Меркушева Н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857160" y="3451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Команда педагогов школы  стала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победительницей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в 3х этапах интеллектуальной игры,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организованной  межпоселенческой библиотекой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Вилочева Л.А., Назарова О.Н., 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Ширяева Е.В.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, Пупырева М.С., Пацкова Н.А., Агафонова Н.С., Кордик И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загруженное (1).jpg"/>
          <p:cNvPicPr/>
          <p:nvPr/>
        </p:nvPicPr>
        <p:blipFill>
          <a:blip r:embed="rId3"/>
          <a:stretch/>
        </p:blipFill>
        <p:spPr>
          <a:xfrm>
            <a:off x="7143840" y="550080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olimpiada_shkolnikov-ehmblema.jpg"/>
          <p:cNvPicPr/>
          <p:nvPr/>
        </p:nvPicPr>
        <p:blipFill>
          <a:blip r:embed="rId2"/>
          <a:stretch/>
        </p:blipFill>
        <p:spPr>
          <a:xfrm>
            <a:off x="428760" y="0"/>
            <a:ext cx="1214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11" descr=""/>
          <p:cNvPicPr/>
          <p:nvPr/>
        </p:nvPicPr>
        <p:blipFill>
          <a:blip r:embed="rId3"/>
          <a:stretch/>
        </p:blipFill>
        <p:spPr>
          <a:xfrm>
            <a:off x="1616040" y="268200"/>
            <a:ext cx="719316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71680" y="1143000"/>
          <a:ext cx="8429400" cy="5641920"/>
        </p:xfrm>
        <a:graphic>
          <a:graphicData uri="http://schemas.openxmlformats.org/drawingml/2006/table">
            <a:tbl>
              <a:tblPr/>
              <a:tblGrid>
                <a:gridCol w="436320"/>
                <a:gridCol w="1631880"/>
                <a:gridCol w="690840"/>
                <a:gridCol w="1672920"/>
                <a:gridCol w="1211400"/>
                <a:gridCol w="2786040"/>
              </a:tblGrid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амилия,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даг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убко Вале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Волова Оль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Казанцев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инковский Никол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лова Ирина Льв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Чайников Ар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лочева Людмил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Кокшаров Ники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кшаров Андрей Виталь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амашнюк Натал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Ширяева Еле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амашнюк Натал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Ширяева Еле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Зинковский Никол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граф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результат (без мес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арова Ольг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71680" y="857160"/>
          <a:ext cx="8143560" cy="5762880"/>
        </p:xfrm>
        <a:graphic>
          <a:graphicData uri="http://schemas.openxmlformats.org/drawingml/2006/table">
            <a:tbl>
              <a:tblPr/>
              <a:tblGrid>
                <a:gridCol w="3071520"/>
                <a:gridCol w="1357560"/>
                <a:gridCol w="1714320"/>
                <a:gridCol w="2000160"/>
              </a:tblGrid>
              <a:tr h="39852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водных проектов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01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«Родное сло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ед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ьянце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ик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В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ц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омет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ий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ева Е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имени Ломоносова по рус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икова А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В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0040" y="785880"/>
          <a:ext cx="8143920" cy="2276280"/>
        </p:xfrm>
        <a:graphic>
          <a:graphicData uri="http://schemas.openxmlformats.org/drawingml/2006/table">
            <a:tbl>
              <a:tblPr/>
              <a:tblGrid>
                <a:gridCol w="3071880"/>
                <a:gridCol w="1357200"/>
                <a:gridCol w="1714680"/>
                <a:gridCol w="2000160"/>
              </a:tblGrid>
              <a:tr h="4874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имени Ломоносова по литера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убская Н., Лебедев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 «Ум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ац И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шарова О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англий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пырева М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ина Т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русскому языку « Океан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а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лина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5840" y="1143000"/>
          <a:ext cx="8501040" cy="4105440"/>
        </p:xfrm>
        <a:graphic>
          <a:graphicData uri="http://schemas.openxmlformats.org/drawingml/2006/table">
            <a:tbl>
              <a:tblPr/>
              <a:tblGrid>
                <a:gridCol w="2895480"/>
                <a:gridCol w="1382760"/>
                <a:gridCol w="2111400"/>
                <a:gridCol w="2111400"/>
              </a:tblGrid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ая олимпиада по английскому я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ри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ина Т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исследовательских проектов школь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н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на лучший материал, посвященный битве за Сталин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их творческих работ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а Н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импиада Э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Виноградова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творческих работ «Родина негромкая мо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уре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м профессию вме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всероссийс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57120" y="1000080"/>
          <a:ext cx="8429760" cy="5426280"/>
        </p:xfrm>
        <a:graphic>
          <a:graphicData uri="http://schemas.openxmlformats.org/drawingml/2006/table">
            <a:tbl>
              <a:tblPr/>
              <a:tblGrid>
                <a:gridCol w="2870280"/>
                <a:gridCol w="1371600"/>
                <a:gridCol w="2093760"/>
                <a:gridCol w="2094120"/>
              </a:tblGrid>
              <a:tr h="3477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н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е эссе по пра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кова О., 11 к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А., 11 кл.(выпуск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очева О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rowSpan="3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Сибирское богатство!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рш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мбалова Е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 по пожарной тема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люпо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ормите птиц зимо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ашов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опудова Л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Югра, вперед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шканова Т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«Лиде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цева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школьных проектов, посв.20 -летию Конституции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ашнюк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фотографий «Мир глазами дете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муниципаль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71680" y="216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Победители, призеры, участники конкурсов, фестивалей, соревнований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муниципаль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4200" y="836640"/>
          <a:ext cx="8786880" cy="5878440"/>
        </p:xfrm>
        <a:graphic>
          <a:graphicData uri="http://schemas.openxmlformats.org/drawingml/2006/table">
            <a:tbl>
              <a:tblPr/>
              <a:tblGrid>
                <a:gridCol w="2992680"/>
                <a:gridCol w="1430280"/>
                <a:gridCol w="2181240"/>
                <a:gridCol w="2182680"/>
              </a:tblGrid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эмблем «Взгля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овец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се народы в гости к нам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няя птиц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 строя и пес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гин В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е колес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ш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на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кова Н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митина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мбалова Е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rowSpan="2"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вы нашей пам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ифанова 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оградова Е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фонов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дик И.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тихов «Телевизор мой друг, телевизор мой враг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н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иря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детских видеосюже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шаров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алова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-победитель районного конкурса СМИ и видеосюжетов по информацион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ое объеди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нковская Е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Имею пра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нько С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ая класс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кашина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еров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н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Н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0:39:37Z</dcterms:created>
  <dc:creator>user5</dc:creator>
  <dc:description/>
  <dc:language>en-US</dc:language>
  <cp:lastModifiedBy>usor </cp:lastModifiedBy>
  <dcterms:modified xsi:type="dcterms:W3CDTF">2019-02-08T05:23:04Z</dcterms:modified>
  <cp:revision>516</cp:revision>
  <dc:subject/>
  <dc:title>Достижения школы</dc:title>
</cp:coreProperties>
</file>