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589-B3F4-4E2B-924C-A4F96D1C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FDD-26B6-4D3E-9F6F-10940776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887C-8CF8-48C5-B0F6-B5FFEEC5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22E-A9E7-4CC8-B282-AA64B9E0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6CA50-DA23-4EBB-8AB4-7597C164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2013E-CA6E-4C2F-BAA3-2AFA6010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F4CA2-6DD3-4C48-A139-C27286DC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094F8-C3EC-475F-80F4-C6321F52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400A1-6137-4CEB-878C-96076847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768B7-55F0-4B8F-9903-D8FD6E18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60EA1-45A4-4600-97E8-90CD9A2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5FB-4048-42A0-93FD-05B811B4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21639-76F6-41B0-8E08-E2B935E0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5B38A-61CC-44ED-94D2-30E0BD58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B0AC8-DFE5-4201-9A67-B2946E6C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94A27-C022-4DFD-820D-F4172E5A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B74B7-A4F4-4E3F-9284-5B82535C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DA3-9A9A-45A7-BC45-1878EF10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B35-9CDD-4ADE-9AB4-5B39FBB4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B33-C1A7-454E-B1BF-E67E2F60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1B3-0419-4641-BCA2-4B3971DA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307-0303-4DC1-8BA2-24E8026B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7BA-4E0C-4A59-AA7B-3AB4438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08C-913D-4244-AAE0-6275563E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0AE4-1BAA-4EEC-913E-04BFB0E7A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126D-A4FD-4012-8FEB-FAA4380FF1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ik-kuzbassa.narod.ru/Ekologiya-kuzbassa.htm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10301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22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3"/>
                </a:solidFill>
                <a:latin typeface="Tahoma"/>
              </a:rPr>
              <a:t>Хрустальные реки </a:t>
            </a:r>
            <a:br>
              <a:rPr sz="4000"/>
            </a:br>
            <a:r>
              <a:rPr b="1" lang="ru-RU" sz="4000" spc="-1" strike="noStrike">
                <a:solidFill>
                  <a:srgbClr val="0000b3"/>
                </a:solidFill>
                <a:latin typeface="Tahoma"/>
              </a:rPr>
              <a:t>Кузнецкого Алата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f5117"/>
                </a:solidFill>
                <a:latin typeface="Tahoma"/>
              </a:rPr>
              <a:t>Путешествие по родному кра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9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1030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0" y="620640"/>
            <a:ext cx="91440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За рекой, за кромкой леса красный шар встает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Тает белая завеса у прибрежных вод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от и Томь, вздохнув, устало под лучом косым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Засмеялась, заиграла серебром живым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Далеко летит над нею пересвист и звон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ряд ли выразить сумею, как я в мир влюблен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 избы дальние, селенья, в ранние дымки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 величавое теченье голубой реки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 чей-то голос в тихой роще, в солнце, в птичий рай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А сказать точней и проще – в свой любимый кра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b3"/>
                </a:solidFill>
                <a:latin typeface="Tahoma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b3"/>
                </a:solidFill>
                <a:latin typeface="Tahoma"/>
              </a:rPr>
              <a:t>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b3"/>
                </a:solidFill>
                <a:latin typeface="Tahoma"/>
              </a:rPr>
              <a:t>Небог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6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SDC13234"/>
          <p:cNvPicPr/>
          <p:nvPr/>
        </p:nvPicPr>
        <p:blipFill>
          <a:blip r:embed="rId1"/>
          <a:stretch/>
        </p:blipFill>
        <p:spPr>
          <a:xfrm>
            <a:off x="851040" y="549360"/>
            <a:ext cx="755964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771640" y="5877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ahoma"/>
              </a:rPr>
              <a:t>Томь -красав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2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http://lik-kuzbassa.narod.ru/Kraevedenie.files/map-kar-eko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99880"/>
            <a:ext cx="4392360" cy="6337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4910040" y="1125360"/>
            <a:ext cx="406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Рек в Кузбассе много. Они плавно несут свои воды среди низменностей и возвышенностей, придавая местности особую прелесть и своеобраз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ода – краса всей прир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Аудио_0001.wma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В июне 2017 года мы, учащиеся 7 класса МБОУ «Тальжинская ООШ», посетили Кузнецкий Алатау. Совершали  мини – походы по прекрасным уголкам Кузнецкого Алатау.  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   Хрустальные воды горных рек: Алгуя, Азамаса, Казыра – завораживали своим течением. Тайга приветливо встречала нас и поражала своим разнотравьем. Природа Кузнецкого Алатау восхитила своей уникальностью и красо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1030037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395280" y="599760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ahoma"/>
              </a:rPr>
              <a:t>Бежит по камушкам речка Алгуй, сверкает на солнце прозрачная вода, завораживает нас своим течени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1030035"/>
          <p:cNvPicPr/>
          <p:nvPr/>
        </p:nvPicPr>
        <p:blipFill>
          <a:blip r:embed="rId1"/>
          <a:stretch/>
        </p:blipFill>
        <p:spPr>
          <a:xfrm>
            <a:off x="0" y="0"/>
            <a:ext cx="9117000" cy="5084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11280" y="52182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У  Казыра   характер    непредсказуемый:  то спокойный, то буйный,  то настороженный, то весёл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P103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20560" y="282600"/>
            <a:ext cx="7364520" cy="5522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P1030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DC13307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95280" y="57326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ahoma"/>
              </a:rPr>
              <a:t>Чистота и прозрачность Азамаса поразили нас! Каждый камешек, каждая веточка отчётливо вырисовывались на дне  горной реч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9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4:57:22Z</dcterms:created>
  <dc:creator>Администратор</dc:creator>
  <dc:description/>
  <dc:language>en-US</dc:language>
  <cp:lastModifiedBy>КомпЛавка Бардина 9</cp:lastModifiedBy>
  <dcterms:modified xsi:type="dcterms:W3CDTF">2019-02-09T13:03:56Z</dcterms:modified>
  <cp:revision>22</cp:revision>
  <dc:subject/>
  <dc:title>Слайд 1</dc:title>
</cp:coreProperties>
</file>