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9C9-0377-4F28-996B-49AD2EF4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207-1F90-46D0-B4AC-B7E5FD28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E54-60F2-4E67-9D57-37BF7719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92E-E9E6-49BE-9F36-18AEC8A6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73C2-0387-485A-B295-643A5F14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B2DAF-1881-4D6D-9E02-2B2F6841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65864-54B1-4175-9791-BA402D19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2942C-F313-425C-91D0-E280E82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711C-79BB-4FF6-BB60-FE697FBD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78978-457A-494F-B05F-9CFD1149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9FA28-DAF5-4B79-AD50-52C10D26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03D-4085-4797-9C53-C503CEC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03841-666C-416D-BC55-D965715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D2DD4-A439-4386-9326-60093D1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03C0-EA70-4A13-A6E6-18593C4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8B61E-1B26-4830-88C0-B8425657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C2301-042D-439A-8B61-8CAD25A7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D87-E2D1-48B0-8233-6EE6ED6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CEA-A6E1-42AE-BBA2-8C734AF1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788-FD74-4A9B-9943-A81F0AAE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5AB-D875-42D4-A725-081B0A0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28D-F835-4BAB-8F27-2F38E00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D72-3B90-46EE-B87C-FF5EBB0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F6A-6A74-4B5E-A263-D985057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4AD1-30C7-4DF8-AA6E-F338D0690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97E-FDD6-4813-9EF0-DAD106DA8F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ik-kuzbassa.narod.ru/Ekologiya-kuzbassa.htm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1030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22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3"/>
                </a:solidFill>
                <a:latin typeface="Tahoma"/>
              </a:rPr>
              <a:t>Хрустальные реки </a:t>
            </a:r>
            <a:br>
              <a:rPr sz="4000"/>
            </a:br>
            <a:r>
              <a:rPr b="1" lang="ru-RU" sz="4000" spc="-1" strike="noStrike">
                <a:solidFill>
                  <a:srgbClr val="0000b3"/>
                </a:solidFill>
                <a:latin typeface="Tahoma"/>
              </a:rPr>
              <a:t>Кузнецкого Алата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f5117"/>
                </a:solidFill>
                <a:latin typeface="Tahoma"/>
              </a:rPr>
              <a:t>Путешествие по родному кра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9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1030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0" y="620640"/>
            <a:ext cx="91440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За рекой, за кромкой леса красный шар встает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Тает белая завеса у прибрежных вод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от и Томь, вздохнув, устало под лучом косым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Засмеялась, заиграла серебром живым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Далеко летит над нею пересвист и звон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ряд ли выразить сумею, как я в мир влюблен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 избы дальние, селенья, в ранние дымки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 величавое теченье голубой реки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 чей-то голос в тихой роще, в солнце, в птичий рай. </a:t>
            </a:r>
            <a:br>
              <a:rPr sz="2800"/>
            </a:b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А сказать точней и проще – в свой любимый кра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3"/>
                </a:solidFill>
                <a:latin typeface="Tahoma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3"/>
                </a:solidFill>
                <a:latin typeface="Tahoma"/>
              </a:rPr>
              <a:t>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b3"/>
                </a:solidFill>
                <a:latin typeface="Tahoma"/>
              </a:rPr>
              <a:t>Небог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6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DC13234"/>
          <p:cNvPicPr/>
          <p:nvPr/>
        </p:nvPicPr>
        <p:blipFill>
          <a:blip r:embed="rId1"/>
          <a:stretch/>
        </p:blipFill>
        <p:spPr>
          <a:xfrm>
            <a:off x="851040" y="549360"/>
            <a:ext cx="755964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771640" y="5877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ahoma"/>
              </a:rPr>
              <a:t>Томь -красав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lik-kuzbassa.narod.ru/Kraevedenie.files/map-kar-eko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9880"/>
            <a:ext cx="4392360" cy="6337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4910040" y="1125360"/>
            <a:ext cx="4067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Рек в Кузбассе много. Они плавно несут свои воды среди низменностей и возвышенностей, придавая местности особую прелесть и своеобраз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b3"/>
                </a:solidFill>
                <a:latin typeface="Tahoma"/>
              </a:rPr>
              <a:t>Вода – краса всей прир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Аудио_0001.wma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В июне 2017 года мы, учащиеся 7 класса МБОУ «Тальжинская ООШ», посетили Кузнецкий Алатау. Совершали  мини – походы по прекрасным уголкам Кузнецкого Алатау.  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 Хрустальные воды горных рек: Алгуя, Азамаса, Казыра – завораживали своим течением. Тайга приветливо встречала нас и поражала своим разнотравьем. Природа Кузнецкого Алатау восхитила своей уникальностью и красо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1030037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95280" y="599760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ahoma"/>
              </a:rPr>
              <a:t>Бежит по камушкам речка Алгуй, сверкает на солнце прозрачная вода, завораживает нас своим те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1030035"/>
          <p:cNvPicPr/>
          <p:nvPr/>
        </p:nvPicPr>
        <p:blipFill>
          <a:blip r:embed="rId1"/>
          <a:stretch/>
        </p:blipFill>
        <p:spPr>
          <a:xfrm>
            <a:off x="0" y="0"/>
            <a:ext cx="9117000" cy="5084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11280" y="52182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У  Казыра   характер    непредсказуемый:  то спокойный, то буйный,  то настороженный, то весёл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103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20560" y="282600"/>
            <a:ext cx="7364520" cy="5522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103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DC13307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95280" y="57326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ahoma"/>
              </a:rPr>
              <a:t>Чистота и прозрачность Азамаса поразили нас! Каждый камешек, каждая веточка отчётливо вырисовывались на дне  горной ре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9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4:57:22Z</dcterms:created>
  <dc:creator>Администратор</dc:creator>
  <dc:description/>
  <dc:language>en-US</dc:language>
  <cp:lastModifiedBy>КомпЛавка Бардина 9</cp:lastModifiedBy>
  <dcterms:modified xsi:type="dcterms:W3CDTF">2019-02-09T13:03:56Z</dcterms:modified>
  <cp:revision>22</cp:revision>
  <dc:subject/>
  <dc:title>Слайд 1</dc:title>
</cp:coreProperties>
</file>