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2DF-3EBB-41D5-A0C3-B098CE79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8AF-CBD1-4983-9F39-50E55400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C85-C217-4740-9294-689A1832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FA9-98D5-478A-B981-FDF3234D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25D-262E-407A-A5AB-B9AF9555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A40-FBA2-4583-A74E-942054DA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916-471F-4A16-8B3A-2FAAB997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996-51F7-462E-8595-03240959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833-CC2B-4BBB-88FE-38A8ABC9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1E8-918A-4986-9075-55DF35A0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162-E47F-4345-8F8A-CD47F230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1AE-A0DC-4D2A-A002-F0DBE9F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B056-C849-4E75-83AA-2C7B26A31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0T17:06:19Z</dcterms:created>
  <dc:creator>Наталья</dc:creator>
  <dc:description/>
  <dc:language>en-US</dc:language>
  <cp:lastModifiedBy>Наталья</cp:lastModifiedBy>
  <dcterms:modified xsi:type="dcterms:W3CDTF">2019-02-10T17:07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