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E09-6CA0-45E1-94C6-54260A4B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2F9-5B2B-4BA3-AF0C-416445F3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85B-2E20-46B9-B579-89E16573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2AA-D18E-44D8-A895-A169F9B9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608-4E6C-4300-9E0C-9EB6E5E7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504-85CB-4241-985C-CF563F3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4BC-C620-41D5-BD74-4D86D64A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1B9-A3D4-442D-A4A0-F3105328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85C-F08B-49BD-B80F-722DEDE3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831-7459-4BD6-B5DB-08A8838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CC8-9707-4394-9DA1-96293EA8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C0D-5C89-45BC-A68E-8BAD780B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7D44-6F2F-43A2-9C09-FE8E4465E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17:06:19Z</dcterms:created>
  <dc:creator>Наталья</dc:creator>
  <dc:description/>
  <dc:language>en-US</dc:language>
  <cp:lastModifiedBy>Наталья</cp:lastModifiedBy>
  <dcterms:modified xsi:type="dcterms:W3CDTF">2019-02-10T17:07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