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E5D-A46C-4B8C-956C-C41C1A91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F3B-4EA8-4259-AD9B-DE2849DA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A0B-7163-4D09-B059-B8F35231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245-7486-4E2B-95C3-3DCE1A08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CD6F-A1CA-4F1E-AA4E-BDBB0072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1F52-22F8-4D66-8CDB-71108EFE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F64A-1F8B-4C76-82BD-EFF25F25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7B02-54E0-468A-A281-12197D86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1247-1C02-41D8-90F9-2B6CD537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6361-CEF7-4F4E-92EE-3B60E6BD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DAB8-2A54-482B-A4E0-E58FC045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F10-F966-4AD8-AB6F-613EF68D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2F79-57F8-4659-962D-1FE6A244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2820-A3A9-44CA-97A2-0F7967D8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64CA-3B0E-48BF-BC7E-9826128F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2A8F-7DD7-48FE-87A8-C21FBD3B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90E8-395E-483D-BCCB-0D82BF4E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BD4-9987-4881-A997-71295185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CDE-C9CC-4081-9360-022968D8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5CD-D1F6-4BD9-B05F-5E2B79F6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EF6-AA1B-4C2F-930B-125327A8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8DE-7280-4F72-AA38-9E12BCB2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6F1-44BE-4B27-BA8E-5BE4B535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0A6-A05B-48E6-BE4B-5EF31B65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49E4-2359-4F2E-BA33-F5171D352C2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81DA-04DA-463F-BE00-A5B53D0EB2A7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 Black"/>
              </a:rPr>
              <a:t>Формирование навыков продуктивной самостоятельной деятельности обучающихся при изучении </a:t>
            </a:r>
            <a:br>
              <a:rPr sz="4000"/>
            </a:br>
            <a:r>
              <a:rPr b="1" lang="ru-RU" sz="4000" spc="-1" strike="noStrike">
                <a:solidFill>
                  <a:srgbClr val="009900"/>
                </a:solidFill>
                <a:latin typeface="Arial Black"/>
              </a:rPr>
              <a:t>английского языка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9900"/>
                </a:solidFill>
                <a:latin typeface="Arial Black"/>
              </a:rPr>
              <a:t>МАСТЕР – КЛАС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4384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«Хватит России отмерять годы от Сотворения мира, а надобно, как и другие», </a:t>
            </a:r>
            <a:br>
              <a:rPr sz="3200"/>
            </a:b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- писал  ПЕТР </a:t>
            </a:r>
            <a:r>
              <a:rPr b="0" lang="en-US" sz="3200" spc="-1" strike="noStrike">
                <a:solidFill>
                  <a:srgbClr val="00cc00"/>
                </a:solidFill>
                <a:latin typeface="Arial Black"/>
              </a:rPr>
              <a:t>I </a:t>
            </a:r>
            <a:br>
              <a:rPr sz="3200"/>
            </a:b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В </a:t>
            </a:r>
            <a:r>
              <a:rPr b="0" lang="ru-RU" sz="4000" spc="-1" strike="noStrike">
                <a:solidFill>
                  <a:srgbClr val="00cc00"/>
                </a:solidFill>
                <a:latin typeface="Arial Black"/>
              </a:rPr>
              <a:t>1699</a:t>
            </a: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 году издан указ </a:t>
            </a:r>
            <a:br>
              <a:rPr sz="3200"/>
            </a:b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«О праздновании Нового года», повелев встречать праздник не </a:t>
            </a:r>
            <a:br>
              <a:rPr sz="3200"/>
            </a:b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1 сентября, а </a:t>
            </a:r>
            <a:r>
              <a:rPr b="0" lang="ru-RU" sz="4000" spc="-1" strike="noStrike">
                <a:solidFill>
                  <a:srgbClr val="00cc00"/>
                </a:solidFill>
                <a:latin typeface="Arial Black"/>
              </a:rPr>
              <a:t>1 января</a:t>
            </a: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. </a:t>
            </a:r>
            <a:br>
              <a:rPr sz="3200"/>
            </a:b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Именно тогда наши предки впервые украсили свои дома</a:t>
            </a:r>
            <a:r>
              <a:rPr b="0" lang="ru-RU" sz="4400" spc="-1" strike="noStrike">
                <a:solidFill>
                  <a:srgbClr val="00cc00"/>
                </a:solidFill>
                <a:latin typeface="Arial Black"/>
              </a:rPr>
              <a:t> новогодней ёлкой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Picture 4" descr="PICT0078"/>
          <p:cNvPicPr/>
          <p:nvPr/>
        </p:nvPicPr>
        <p:blipFill>
          <a:blip r:embed="rId1"/>
          <a:stretch/>
        </p:blipFill>
        <p:spPr>
          <a:xfrm>
            <a:off x="0" y="-954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1f08"/>
                </a:solidFill>
                <a:latin typeface="Arial Black"/>
              </a:rPr>
              <a:t>Red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rial Black"/>
              </a:rPr>
              <a:t>Yellow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 Black"/>
              </a:rPr>
              <a:t>Blue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Arial Black"/>
              </a:rPr>
              <a:t>Green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8b17"/>
                </a:solidFill>
                <a:latin typeface="Arial Black"/>
              </a:rPr>
              <a:t>Orange</a:t>
            </a:r>
            <a:r>
              <a:rPr b="0" lang="ru-RU" sz="6600" spc="-1" strike="noStrike">
                <a:solidFill>
                  <a:srgbClr val="ff8b17"/>
                </a:solidFill>
                <a:latin typeface="Arial Black"/>
              </a:rPr>
              <a:t> 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71629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21T10:24:5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