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040-2769-40EC-A8DB-7E44142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4B9-E9A3-4785-9D43-CF348C03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595-AF72-4EC9-A1E0-5C7A6450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23B-1D29-47A4-A469-6542FDC8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FF4-C4F0-4843-8589-6C53A1A4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E153-420B-4C90-BAE0-FF007D15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B6F-2CE4-47F0-8109-22534521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6284-CDB8-4CA9-A174-901EE5DB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8776-0CBA-43ED-ABE3-58FECD3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DB0F-FD49-42F2-92BF-25579A7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EBC-E9D9-45F7-83C1-DB06AF3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788-5D4D-441E-9E91-0BA203A5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868-92B5-4987-9568-0D807E1B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C4BC-BB88-4863-A558-7C38618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041A-B753-4E93-9485-97C2D02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1E1-47DD-4FFA-A51B-423107B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70D-E5D0-4922-948D-B57F268B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FC4-1894-43D0-95E7-9A365FF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B93-86D5-485B-BC43-E00F623D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734-00B8-4BCD-97E5-2D5B823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823-2D1C-44F8-8D62-D958AD8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042-AEFE-4361-A502-59C2FED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66-30A2-410F-A150-23B527D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11B-83C8-4712-ACEB-2688EE7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1AC7-F321-4B43-A278-9460F18A38F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68BB-6693-475B-90A8-946F5D951C5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Формирование навыков продуктивной самостоятельной деятельности обучающихся при изучении 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rial Black"/>
              </a:rPr>
              <a:t>английского язык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9900"/>
                </a:solidFill>
                <a:latin typeface="Arial Black"/>
              </a:rPr>
              <a:t>МАСТЕР – КЛАС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384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«Хватит России отмерять годы от Сотворения мира, а надобно, как и другие»,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- писал  ПЕТР </a:t>
            </a: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I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В </a:t>
            </a:r>
            <a:r>
              <a:rPr b="0" lang="ru-RU" sz="4000" spc="-1" strike="noStrike">
                <a:solidFill>
                  <a:srgbClr val="00cc00"/>
                </a:solidFill>
                <a:latin typeface="Arial Black"/>
              </a:rPr>
              <a:t>1699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 году издан указ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«О праздновании Нового года», повелев встречать праздник не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1 сентября, а </a:t>
            </a:r>
            <a:r>
              <a:rPr b="0" lang="ru-RU" sz="4000" spc="-1" strike="noStrike">
                <a:solidFill>
                  <a:srgbClr val="00cc00"/>
                </a:solidFill>
                <a:latin typeface="Arial Black"/>
              </a:rPr>
              <a:t>1 января</a:t>
            </a: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. 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Arial Black"/>
              </a:rPr>
              <a:t>Именно тогда наши предки впервые украсили свои дома</a:t>
            </a:r>
            <a:r>
              <a:rPr b="0" lang="ru-RU" sz="4400" spc="-1" strike="noStrike">
                <a:solidFill>
                  <a:srgbClr val="00cc00"/>
                </a:solidFill>
                <a:latin typeface="Arial Black"/>
              </a:rPr>
              <a:t> новогодней ёлко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Picture 4" descr="PICT0078"/>
          <p:cNvPicPr/>
          <p:nvPr/>
        </p:nvPicPr>
        <p:blipFill>
          <a:blip r:embed="rId1"/>
          <a:stretch/>
        </p:blipFill>
        <p:spPr>
          <a:xfrm>
            <a:off x="0" y="-954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1f08"/>
                </a:solidFill>
                <a:latin typeface="Arial Black"/>
              </a:rPr>
              <a:t>Red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 Black"/>
              </a:rPr>
              <a:t>Blu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00"/>
                </a:solidFill>
                <a:latin typeface="Arial Black"/>
              </a:rPr>
              <a:t>Green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8b17"/>
                </a:solidFill>
                <a:latin typeface="Arial Black"/>
              </a:rPr>
              <a:t>Orange</a:t>
            </a:r>
            <a:r>
              <a:rPr b="0" lang="ru-RU" sz="6600" spc="-1" strike="noStrike">
                <a:solidFill>
                  <a:srgbClr val="ff8b17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7162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1T10:24:5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