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0F4-07C9-4C60-B86E-D80A93BF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C13-4CB6-4767-BD97-7A5E7CC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564-66A5-4573-8FC2-8A5A902F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56D-0A01-4799-962A-334DDF59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483A-A3C8-4910-B6DD-F4F46816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F166-13AC-40AC-B892-DF27533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F6D6-4DE9-4206-AD9E-D3D90417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4977-14D7-46A1-9940-524D15D1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694E-57BA-4DD3-BF3E-C9E91D8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EB97-C85E-443D-A954-795202D5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CE4F-3D62-4418-BDB8-493C456A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2A4-078E-4324-9A56-27656ECE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E427-FB2A-4FF1-B627-5DC15F6B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7DA1-2905-4285-A01E-44982373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CC75-6642-4209-A913-15FE19D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169D-B48D-40EE-8B39-1DFBA119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B822-6C94-4E8E-84C2-5DC63B07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50FA-455B-4923-A6A2-CAC84C69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32F8-FAE1-4728-88A7-D7FD5B86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BC21-EC95-45E8-A471-C9A4A53A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6D35-EFB5-4648-971A-065243C1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63C4-75CC-48DD-B870-0A4E1802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711-616E-43CA-B113-4CD5C60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5522-3D83-4889-856F-7CFC6166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DDFC-BC11-4AD9-A62D-FB3B98F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56494-B468-4148-8543-F57515E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ABC7-F844-42C0-99B7-01BA4F56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1E72-23BC-4797-BD62-08AB815D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4EE6-E69C-4125-A328-FC798B43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8E5C-5B31-4163-8E73-3D230734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200E1-7FB9-4BBF-AB33-F444FFC8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78A1C-64A4-467F-8B7E-CBB1352D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ADD8F-8580-4663-A428-05F10835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972-0FC3-479E-BF90-CE30C848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733719-A427-41B0-AA4C-1A295D23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D793C-52C3-4B46-9F03-60D91DFB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1265C-74A2-4E15-93D1-5E0F3ED7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B19DF-6782-4D67-99A3-71CF750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B985B-A827-4681-84E5-DC8D886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7E6B1-63D6-4FF2-BFA5-8233A61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149EF-F96A-4801-8F92-B5EDC052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5B8B2-7174-425F-A2F5-77C27B9B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EA6F3-C015-468B-8C96-A57497DC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23BAC-37C2-41C1-BA3D-69AD4512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063-736E-4E0C-A002-1A9A6483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4B895-B170-4E94-9F9F-12F00C25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18C2-2D81-49F1-812F-0CC98CF2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5625-E73F-4A60-9DF4-BDA8C08E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6DCA1-B014-4730-899C-BDDD4981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D8EA-CC4E-43F2-97F8-23344632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BF2CF-D1C0-4E43-91C5-636FDE0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1D056-880E-4266-82A2-C35F961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BCB72-BB17-4E18-9793-0DB1F40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56344-12FD-4500-8719-03BE923F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1C0D-4E4F-40ED-946F-F14CEB97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1D8-2F90-4DA7-B086-98E5B20B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5ED9-7F1D-43BA-ADC3-31E19900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073F9-36CA-45C4-A042-A1B171A3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B43AE-58D8-471D-BBA3-C9059E13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9FE93-70DD-4E50-9523-DEE47E8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1EFD6-375E-41D4-B475-3F12579D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3A1E7-6656-4233-B2ED-EBD04FEB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B7BE-F560-46BA-85E8-2E9C06ED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6EAD4-160B-417E-A055-16C35839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BB080-EA05-47CE-B226-17436204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F02B1-1AA2-4478-974B-BAF579A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FB9-0C17-4F3C-816C-0CAA1A0C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009F3-0E7C-4BFD-9D55-19F444AC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64D78-8338-484F-956F-8C3B2E6B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0328F-AB0A-4279-9CDE-2F1C2A64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DD3AF-EC3E-4545-8AFF-7D78F6D6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FFCA-F6EB-43F4-9057-57C30693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80CBB-BEF3-42DF-8793-00AB7367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67D7-3244-42F7-A789-204B4B95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DF2E7-03BE-4C94-8662-ADE8DA7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31DC-8311-4613-B8B6-0F1F614F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5241-6FAA-4FFD-BFA0-ED36033F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AF9-780C-479A-9214-E1F5D966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00A78-8CCA-4EE2-A810-720B57E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C5793-2977-4C15-B0F4-4ACDCF24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3A4A3-34D6-44E5-ABCC-A9132EF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B9476-7D69-4463-9EEA-8A1292F9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7F018-5E01-4AB7-A845-4BB069F3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B7D-13DD-411D-96BD-F5F2E110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734C-229E-4A77-B8D7-10F8599AEA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BC34-2188-4814-98B9-875413D7E3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DC36-2963-486B-9593-F0014151737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901F-8C5E-4613-B6D0-499B57C7F4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6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EDD4-5E46-4596-8D26-CAB35792F5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4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9DFF-C36B-4D61-9882-3AA88E4B3E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7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7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6C3-E65B-4CA7-8758-EA3211D014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file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АСТЕРОИД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9640" y="236232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Астеро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тероид - небольшое планетоподобное тело Солнечной системы (малая планета). Название «астероид» происходит от греческих слов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"aster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звезда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"eidos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 означает «звездоподобный», или имеющий вид звез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1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8" descr="file045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14508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>
              <a:alpha val="1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званы эти объекты были так потому, что даже в самые мощные телескопы они, в отличие от планет с хорошо различимым диском и даже деталями на нем, были видны лишь как маленькие блестящие точ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малыми планетами их назвали потому, что они, подобно Земле и другим крупным планетам Солнечной системы, движутся па орбитам вокруг нашего Светил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7360" y="-5156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560" y="4149360"/>
            <a:ext cx="889308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Церер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самый большой астероид, который был обнаружен первым. Он был открыт итальянским астрономом Джузеппе Пиацци 1 января 1801 г. и назван в честь римской богини плодород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Паллад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- второй по величине астероид, обнаруженный также вторым. Это было сделано немецким астрономом Генрихом Ольберсом 28 марта 1802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Юнон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- открыт К. Гардингом в 1804 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9" name="Picture 9" descr="0101"/>
          <p:cNvPicPr/>
          <p:nvPr/>
        </p:nvPicPr>
        <p:blipFill>
          <a:blip r:embed="rId1"/>
          <a:stretch/>
        </p:blipFill>
        <p:spPr>
          <a:xfrm>
            <a:off x="1763640" y="26028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41400" y="-3760200"/>
            <a:ext cx="82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424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да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тероид главного пояса, изображения которого получены с помощью космического аппарата "Галилео" 28 августа 1993 г. Эти изображения позволили обнаружить маленький спутник Иды, названный впоследствии Дактил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иль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астероид, изображения которого получены с помощью космического аппарата "НИАР" в ию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97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2" descr="0109"/>
          <p:cNvPicPr/>
          <p:nvPr/>
        </p:nvPicPr>
        <p:blipFill>
          <a:blip r:embed="rId1"/>
          <a:stretch/>
        </p:blipFill>
        <p:spPr>
          <a:xfrm>
            <a:off x="2124000" y="3645000"/>
            <a:ext cx="392760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3" descr="file053"/>
          <p:cNvPicPr/>
          <p:nvPr/>
        </p:nvPicPr>
        <p:blipFill>
          <a:blip r:embed="rId1"/>
          <a:stretch/>
        </p:blipFill>
        <p:spPr>
          <a:xfrm>
            <a:off x="0" y="-255600"/>
            <a:ext cx="9144000" cy="71136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исследованиях астероидов еще остается много неясного и даже загадочного. Это общие проблемы, относящиеся к происхождению и эволюции твердого вещества в главном и других астероидных поясах и связанные с возникновением всей Солнечной систе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все-таки, вероятно, только путем сбора и накопления подробной и точной информации о каждом из астероидов, а затем с помощью ее обобщения возможно постепенное уточнение понимания природы этих тел и основных закономерностей их эволю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46080"/>
            <a:ext cx="6715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6:52:33Z</dcterms:created>
  <dc:creator>дом</dc:creator>
  <dc:description/>
  <dc:language>en-US</dc:language>
  <cp:lastModifiedBy>viktor</cp:lastModifiedBy>
  <dcterms:modified xsi:type="dcterms:W3CDTF">2016-08-28T12:39:11Z</dcterms:modified>
  <cp:revision>3</cp:revision>
  <dc:subject/>
  <dc:title>Астероид</dc:title>
</cp:coreProperties>
</file>