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7E2-31B4-404E-8468-BBA96FD1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5F7-9B50-4CBD-B971-8BED3885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FCF-0C65-4DC3-BC28-9C094B3F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BEE-1C75-42E5-B85C-26F4FA82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5C84-588E-4375-B0E3-C7DD3B8D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D035-38DC-4D71-902C-061A5935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8573-0C21-4AFF-9B88-7385464C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B342-6258-42C5-BB62-2275F92B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43D3-1E8E-468A-BD3B-1466D59F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3517-D79C-406E-900A-7F1E8936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1367-A902-402F-A902-541DBDD5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7CA-F85B-4DE6-9A04-2B26AC75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4704-F0C2-456C-A7AC-FC9F2003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4286-E171-45A6-8874-EFDF3A5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C289-7ED9-44FF-BE7D-60BE4309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0FD7-10AB-4436-8BC0-2E90D09E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FE0F-7A41-4ADC-BFCF-C9AB93FD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8396-241E-4973-BEB5-0A749ED7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17162-A3C0-48E2-B112-BC819D3E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4CF4C-3DFE-43B5-A0B9-B345F813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0F36-4958-4BAD-9A4D-4BDC635E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EF7A-7CD8-4D16-9DAA-CAA64EEA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6D4-233A-475E-9E09-F5EFCA48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6B9E-46EA-4FD8-94E1-466CE76B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5A66-C7D5-4316-B6BB-13DCB2AA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675DA-F9F9-4FDC-8392-3DE0C613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E6F2-B249-453A-B9BD-F4ECF782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1F75-6568-4669-AF90-EBB98147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425A-5179-43BB-9F0A-6E9FE7AF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AAD2-6EBD-43E3-A5BB-6204A9FC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2CE5F-B47E-46FF-AF4E-F20F2ADB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D6D53-41D0-4190-8489-84257461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9FE52-0630-4469-90D8-41B1279B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0DC-6215-428A-A719-A0D32E41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EA8925-0915-4D47-8230-F38988F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FBC02-AE27-4079-A9DA-FCD4BFA0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73F06-AD1C-4D64-A77C-E62D2EF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5C36E5-2C27-4613-A96C-54729C50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741E7-230B-428B-9BB3-B683376A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CF473-D0AB-4DB6-B73A-1F04A2FD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D13CBF-8FA4-408F-AE7B-4282C922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18F4A-735E-4D99-B699-A8DF35EB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AF66D-34A0-46CD-9F11-C6621D66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B619E-4701-4067-BB76-3FF4D759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96A-DDEE-4AEC-AA81-0561122B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88AB3-6B65-4790-94FF-301E3F44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E7FC5-81D0-49EF-9E8E-0E88F2FF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2D73F-ABCB-415E-977B-2D991A4D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72DC2-6A1F-4EFD-8938-848A15FE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3DD0-9693-4FF5-BFA8-4595B59B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3C6DF-8522-4A63-89C0-3D072EC3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25DD-779B-42C8-84B5-CD06523A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D7856-1BD4-4CFF-B504-7CC825EC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AE862-C74C-40DD-9759-DAB95063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06775-EAFD-4F53-88B5-632B8FAD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446-2F77-4EDA-8386-293084F3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98603-7F1E-4B48-9A6B-60D5A591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03316-76EF-49AC-A736-A3D3DA20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D9786-8A47-4CD1-A588-3A688C0E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C6470-A545-4FEB-85EC-5CA4684E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49F0E-368E-4CD7-AB10-E603B7DC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B1B1F-B250-409F-9776-7467FA13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FFB67-5518-4EEA-A9DC-14A8A5D0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D0EC7-5A8E-4231-9CF7-F8D5D274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40649-9F6A-4E5F-8F99-8BE02B00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72F7F-17DF-4D82-93F9-1D4E583A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85F-BC05-483B-91D4-94215A7A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9B30B-3380-4057-ADB0-0CBCC84A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AFCCB-0C98-42F7-AA15-BF9917B6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E2E42-A7E8-478A-A76C-98EC357D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29A5E-4821-41C9-8F6C-5372D30B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A4BA4-BBD5-4C50-BD35-B5F520C5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7ED5B-F1C7-45A0-A87A-6B1983A5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86B30-EE2C-4C07-A830-2CEC0B36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97243-E8C2-42C1-B1C5-229B2F67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8E10C-EBE3-4D68-B2A1-E9BF1A5A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5927-DBFE-4B02-9A35-8D459C15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5A0-5610-4034-9CD9-36DCFD26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46A3E-8FC5-4699-88B9-12F4F4E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5B388-AE93-4383-A4E4-65CE68BC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BFC6B-63FC-4457-BEA2-2E9AA53D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AD107-7657-48CF-B474-5717F913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41CF8-4418-4C89-AF07-C9C83F3F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996-29FB-4128-888F-95CBDCB1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1496-B49F-4C9D-9322-DD2E2E6C26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BBB3-D4F6-46BA-A5E4-039A8C398B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B8FB-59AB-4F63-97D9-B8CFABC0BAC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459F-067D-482A-8C13-4192EB4D92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8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6F26-561E-40A0-9716-E6789F19A0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34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78F8-2684-4647-A016-96060583F68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7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7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DE3D-69E9-4E1D-983B-7C5411B2A2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file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АСТЕРОИДЫ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99640" y="236232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Астеро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тероид - небольшое планетоподобное тело Солнечной системы (малая планета). Название «астероид» происходит от греческих слов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"aster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звезда 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"eidos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 означает «звездоподобный», или имеющий вид звез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1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8" descr="file045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14508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>
              <a:alpha val="1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званы эти объекты были так потому, что даже в самые мощные телескопы они, в отличие от планет с хорошо различимым диском и даже деталями на нем, были видны лишь как маленькие блестящие точ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малыми планетами их назвали потому, что они, подобно Земле и другим крупным планетам Солнечной системы, движутся па орбитам вокруг нашего Светил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7360" y="-5156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560" y="4149360"/>
            <a:ext cx="889308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Церер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самый большой астероид, который был обнаружен первым. Он был открыт итальянским астрономом Джузеппе Пиацци 1 января 1801 г. и назван в честь римской богини плодород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Паллад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- второй по величине астероид, обнаруженный также вторым. Это было сделано немецким астрономом Генрихом Ольберсом 28 марта 1802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Юнон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- открыт К. Гардингом в 1804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9" name="Picture 9" descr="0101"/>
          <p:cNvPicPr/>
          <p:nvPr/>
        </p:nvPicPr>
        <p:blipFill>
          <a:blip r:embed="rId1"/>
          <a:stretch/>
        </p:blipFill>
        <p:spPr>
          <a:xfrm>
            <a:off x="1763640" y="26028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41400" y="-3760200"/>
            <a:ext cx="828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424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да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стероид главного пояса, изображения которого получены с помощью космического аппарата "Галилео" 28 августа 1993 г. Эти изображения позволили обнаружить маленький спутник Иды, названный впоследствии Дактил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тиль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астероид, изображения которого получены с помощью космического аппарата "НИАР" в ию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97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2" descr="0109"/>
          <p:cNvPicPr/>
          <p:nvPr/>
        </p:nvPicPr>
        <p:blipFill>
          <a:blip r:embed="rId1"/>
          <a:stretch/>
        </p:blipFill>
        <p:spPr>
          <a:xfrm>
            <a:off x="2124000" y="3645000"/>
            <a:ext cx="392760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3" descr="file053"/>
          <p:cNvPicPr/>
          <p:nvPr/>
        </p:nvPicPr>
        <p:blipFill>
          <a:blip r:embed="rId1"/>
          <a:stretch/>
        </p:blipFill>
        <p:spPr>
          <a:xfrm>
            <a:off x="0" y="-255600"/>
            <a:ext cx="9144000" cy="71136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исследованиях астероидов еще остается много неясного и даже загадочного. Это общие проблемы, относящиеся к происхождению и эволюции твердого вещества в главном и других астероидных поясах и связанные с возникновением всей Солнечной систе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все-таки, вероятно, только путем сбора и накопления подробной и точной информации о каждом из астероидов, а затем с помощью ее обобщения возможно постепенное уточнение понимания природы этих тел и основных закономерностей их эволю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46080"/>
            <a:ext cx="6715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6:52:33Z</dcterms:created>
  <dc:creator>дом</dc:creator>
  <dc:description/>
  <dc:language>en-US</dc:language>
  <cp:lastModifiedBy>viktor</cp:lastModifiedBy>
  <dcterms:modified xsi:type="dcterms:W3CDTF">2016-08-28T12:39:11Z</dcterms:modified>
  <cp:revision>3</cp:revision>
  <dc:subject/>
  <dc:title>Астероид</dc:title>
</cp:coreProperties>
</file>