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242B-9203-4131-8963-F5BBA0E72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5041-7C41-4366-A804-833E951E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B2BB-1A60-4020-99D9-1EDE3C3C6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AC52-D392-41DC-8D57-A12AEBAB4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4811-605B-4FFC-BE53-309F19A1C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EB72-20C1-4FBC-ADDD-FAC9E75A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FD81-B395-4C18-894E-946128D2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9495-C922-4FA7-8C1B-B5551A08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F7FA-87E6-4301-96A3-C1A23E89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6F39-DDC5-4287-AD91-1E76F060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AD9B-57F8-488D-BB0F-0145C78E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B8E4-7B89-4994-9686-168300A6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9359-5F34-4743-B7AD-22C3D641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DC80-C4BC-430B-9F93-344B38F0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51D0-82E4-4082-9438-12B8CAA7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C983-D0C9-4043-9E56-D4619746E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0B24-F0DC-46B1-BC16-1791403AB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24832-2EF2-442A-86EF-51E18C1E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16DF2-7D28-4DC4-BB48-D98CF3B4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84C27-3BFC-4EC5-9A0F-99EF12BF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3EE6C-BBB6-4F73-B74D-5F6DED81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B3331-853A-45C6-878A-80F3D01F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BE2A-1310-42E3-8A78-2AD778C6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7918E-3916-4E4D-9151-FA78CC24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5E6CB-4472-4BC8-B796-302C05D6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DED6A-49EB-4AE1-9FAE-06F98F84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8E278-65C8-4689-B5B1-FF20D610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51E44-FCDE-4CC0-B454-2D668C4D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410CA-EE25-432C-B895-BBE125F0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5CB86-42D7-4942-8F42-3D88EA65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EFFE1E-975F-46E1-AEE2-54E838EE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2AA9C7-E696-4DEC-99A2-A40A49D1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35BB1F-93E0-4DA5-A0B6-F6BF331E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9E0A-287E-4112-81AA-C7611188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BA2D0C-5887-44F2-9972-D3AF8CC6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5E1F82-52F9-434A-A3E3-DF321720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1A4076-9067-41BF-B23E-34C5DBB8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CC6848-6FEB-4F39-924D-97CC5794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EAFB6A-3BC3-4C4E-B7BC-0DDF50D6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1ECF66-EE62-4E93-997F-0831C9F2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4AA238-BD44-4656-8BE0-AC1BD3A6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4EC1FC-1D1A-49BB-8231-2F0329697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DCB021-309B-49FD-A79B-2E6211AB8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F3026-12E1-401D-B3BF-EC25362C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3ECD-1CA0-43D8-A603-EB71B822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12437-FEF3-4688-A43B-E2DB7B39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4840B-4F4F-4C56-BD5B-FD47F5DF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042B0-435A-4D22-8111-7067285F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6743B-4ECB-4507-A032-AB580DAA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16D7F-80D1-4DA5-91EF-7D506455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3357B-9DE8-4822-ACF9-BFE576C2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2BF93-C4C5-4640-ABD7-0F91AC9C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1AFD3-0AE1-4CC6-8BB2-CD259BF8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5CCCA-8523-4E6A-9EA9-B97B964F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F57ED-922D-4545-AD13-581C79CF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794F-677D-4675-9799-C1FA0B2B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3E917-73CB-441D-A126-61B3887D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0B912-1F53-40B8-8A69-57D8EB81B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705BF-44F8-4F3B-AA2C-764AD26B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25A06-6751-486E-939B-F5626FF0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D6CD4-A291-4398-AD0F-08225FCC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75665-F93B-43DB-8ED1-BC228B3D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0A87F-8231-4BC2-8162-928DF67F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C6DE6-97B4-43EA-B8B8-379D0E9B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44CA0-CE2B-41BA-B729-6980B2FB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F2C70-42E3-459F-8460-E2AD9832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5CF7-79B2-4912-8E88-2872562D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551E1-D0C6-4A0F-A4E6-C82C8C37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221A9-1862-4DD5-8122-09F6BB82D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C6888-F8A5-4C1E-846B-2768D9A3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11FB0-D870-431F-B0F5-0D4634E5F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84B30-BB42-48B6-945B-87EA4738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D3AB0-EA4D-4666-99A9-1321F14F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31DB2-A8C2-43F0-BFE7-0CD9DDCC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7F745-E80C-4A63-8E73-6A1AF388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33503-CF8A-49DF-91E5-F8C143F0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B5FF1-A357-41D3-BFDD-75F3DC95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03DC-FA51-430B-BB48-49043401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C55C3-DE4C-4CB1-8654-BCADD18B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85AEB-082D-4D69-89E1-0DE241CD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112DA-81C6-4A9A-A205-84434EBE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6D3B3-E1FC-41DA-8E47-0BB4B6794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EC5A8-3BED-4F91-93CE-48B8AA33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E439-0B41-44C5-87E9-555B234E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31E8-406F-4FD5-BC5A-05B3B1AE4D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379A-D049-4456-A799-DAFF19A55C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92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AF2B-540C-4FBE-AAD8-A07A6B6762D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E849-DF95-4F17-9492-976A82A4FBA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86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7820-D421-499B-AFBA-9FFE2AF2CA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34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1003-ACA4-48FA-9D5E-9F4DCA57FCB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78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79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E343-B5B2-4C6C-84C8-05B5500A99D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5" descr="file0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АСТЕРОИДЫ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99640" y="2362320"/>
            <a:ext cx="7272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Астерои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тероид - небольшое планетоподобное тело Солнечной системы (малая планета). Название «астероид» происходит от греческих слов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"aster"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звезда и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"eidos"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вид и означает «звездоподобный», или имеющий вид звез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6" descr="1"/>
          <p:cNvPicPr/>
          <p:nvPr/>
        </p:nvPicPr>
        <p:blipFill>
          <a:blip r:embed="rId1"/>
          <a:stretch/>
        </p:blipFill>
        <p:spPr>
          <a:xfrm>
            <a:off x="179280" y="1557360"/>
            <a:ext cx="4537080" cy="45370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6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8" descr="file045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8640"/>
            <a:ext cx="14508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0c0c0">
              <a:alpha val="1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званы эти объекты были так потому, что даже в самые мощные телескопы они, в отличие от планет с хорошо различимым диском и даже деталями на нем, были видны лишь как маленькие блестящие точ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 малыми планетами их назвали потому, что они, подобно Земле и другим крупным планетам Солнечной системы, движутся па орбитам вокруг нашего Светила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7360" y="-515664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0560" y="4149360"/>
            <a:ext cx="889308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Церера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- самый большой астероид, который был обнаружен первым. Он был открыт итальянским астрономом Джузеппе Пиацци 1 января 1801 г. и назван в честь римской богини плодород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Паллада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- второй по величине астероид, обнаруженный также вторым. Это было сделано немецким астрономом Генрихом Ольберсом 28 марта 1802 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Юнона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- открыт К. Гардингом в 1804 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39" name="Picture 9" descr="0101"/>
          <p:cNvPicPr/>
          <p:nvPr/>
        </p:nvPicPr>
        <p:blipFill>
          <a:blip r:embed="rId1"/>
          <a:stretch/>
        </p:blipFill>
        <p:spPr>
          <a:xfrm>
            <a:off x="1763640" y="260280"/>
            <a:ext cx="4897440" cy="3673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41400" y="-3760200"/>
            <a:ext cx="828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8360" y="333000"/>
            <a:ext cx="84247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да 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астероид главного пояса, изображения которого получены с помощью космического аппарата "Галилео" 28 августа 1993 г. Эти изображения позволили обнаружить маленький спутник Иды, названный впоследствии Дактил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атильд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астероид, изображения которого получены с помощью космического аппарата "НИАР" в ию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97 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12" descr="0109"/>
          <p:cNvPicPr/>
          <p:nvPr/>
        </p:nvPicPr>
        <p:blipFill>
          <a:blip r:embed="rId1"/>
          <a:stretch/>
        </p:blipFill>
        <p:spPr>
          <a:xfrm>
            <a:off x="2124000" y="3645000"/>
            <a:ext cx="3927600" cy="2946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13" descr="file053"/>
          <p:cNvPicPr/>
          <p:nvPr/>
        </p:nvPicPr>
        <p:blipFill>
          <a:blip r:embed="rId1"/>
          <a:stretch/>
        </p:blipFill>
        <p:spPr>
          <a:xfrm>
            <a:off x="0" y="-255600"/>
            <a:ext cx="9144000" cy="711360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ключе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7210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исследованиях астероидов еще остается много неясного и даже загадочного. Это общие проблемы, относящиеся к происхождению и эволюции твердого вещества в главном и других астероидных поясах и связанные с возникновением всей Солнечной систем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 все-таки, вероятно, только путем сбора и накопления подробной и точной информации о каждом из астероидов, а затем с помощью ее обобщения возможно постепенное уточнение понимания природы этих тел и основных закономерностей их эволю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2"/>
          <p:cNvSpPr/>
          <p:nvPr/>
        </p:nvSpPr>
        <p:spPr>
          <a:xfrm>
            <a:off x="155520" y="46080"/>
            <a:ext cx="67150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5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5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5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16:52:33Z</dcterms:created>
  <dc:creator>дом</dc:creator>
  <dc:description/>
  <dc:language>en-US</dc:language>
  <cp:lastModifiedBy>viktor</cp:lastModifiedBy>
  <dcterms:modified xsi:type="dcterms:W3CDTF">2016-08-28T12:39:11Z</dcterms:modified>
  <cp:revision>3</cp:revision>
  <dc:subject/>
  <dc:title>Астероид</dc:title>
</cp:coreProperties>
</file>