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C90-0DE0-4CC0-B2FB-EC2ECF66DA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732D-EF52-47F2-B253-B81FAA952ED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F14-2EE2-430E-9A19-0CFDF583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E6C-6893-45F5-9EC1-BA3F4A1C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A2C-7666-44B2-B379-DDB09268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A84-3A5D-4FC1-A45A-DE05B39A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7ED-ADF1-45F3-959D-2EC6A819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C63B-3F9C-4FCA-B285-7F09FEE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DB76-B4ED-4340-B308-D24D018F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0C0-3333-40CD-BD6C-D8C26383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94CC-E9D3-467B-9C10-621EBD08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423-6F2C-4FC5-9EDD-8DF73567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F30E-81AA-4DDB-8775-33E4D22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7C0-854F-40FF-9F2D-0265696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09CF-67F6-4FBD-94C3-8B5FF5E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ED01-72AC-4E14-8EE1-8EED3BF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5561-01A6-4205-BEC6-4378DBE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154E-619C-484D-A1B5-BDFD0BDA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8E56-02BC-4E65-AB3F-55ADB708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CF7-07D8-4A17-96FC-91073F41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08F-1861-40CD-B17C-9B7E7FBB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C43-BE0A-4104-8199-E07ADD13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C57-361A-451A-AF24-E8160D3C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87F-DF28-4E7A-8DF5-1B36C13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223-B58E-4C6D-B198-F8B16E8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A22-C250-4FA5-A414-E02D6B92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CFFD-1172-4DB8-AE22-E53F33E0C4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962-B7C4-4150-9442-8D4C5AFA005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9656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Агния Львовна Барто</a:t>
            </a:r>
            <a:br>
              <a:rPr sz="4800"/>
            </a:b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4.02.1906-1.05.1981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4" descr="C:\Users\Пользователь_03\Desktop\22741204c51b48b15e7908f0859badd7.jpg"/>
          <p:cNvPicPr/>
          <p:nvPr/>
        </p:nvPicPr>
        <p:blipFill>
          <a:blip r:embed="rId1"/>
          <a:stretch/>
        </p:blipFill>
        <p:spPr>
          <a:xfrm>
            <a:off x="642960" y="2643120"/>
            <a:ext cx="6389640" cy="3733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71960" y="404640"/>
            <a:ext cx="3524400" cy="573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БАРТО, АГНИЯ ЛЬВОВНА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(настоящая фамилия Волова)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(1906–1981), русская поэтесса.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Родилась 4 (17) февраля 1906 года в  Москве в семье врача- ветеринара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олучила хорошее домашнее воспитание.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Отец Лев Николаевич чрезвычайно любил писателя Л.Н.Толстого. Когда Агнии исполнился год, отец подарил своей маленькой дочке книжку  для взрослых: «Как живёт и работает Лев Николаевич Толстой»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A00092DC"/>
          <p:cNvPicPr/>
          <p:nvPr/>
        </p:nvPicPr>
        <p:blipFill>
          <a:blip r:embed="rId1"/>
          <a:stretch/>
        </p:blipFill>
        <p:spPr>
          <a:xfrm>
            <a:off x="357120" y="642960"/>
            <a:ext cx="350064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529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357120" y="357120"/>
            <a:ext cx="3786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В 1925 были опубликованы ее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ервые стихотворения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Китайчонок Ван Ли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и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Мишка-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Воришка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. За ними последовали 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Первое мая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Братишки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после публикации которых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К.И.Чуковский отметил талант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Барто как детского поэта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Агния Барто написала сценарии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Кинофильмов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Подкидыш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, </a:t>
            </a: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Алеша Птицын вырабатывает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характер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, 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i="1" lang="ru-RU" sz="2100" spc="-1" strike="noStrike">
                <a:solidFill>
                  <a:srgbClr val="2f1311"/>
                </a:solidFill>
                <a:latin typeface="Arial Narrow"/>
              </a:rPr>
              <a:t>10 000 мальчиков</a:t>
            </a:r>
            <a:r>
              <a:rPr b="1" i="1" lang="en-US" sz="2100" spc="-1" strike="noStrike">
                <a:solidFill>
                  <a:srgbClr val="2f1311"/>
                </a:solidFill>
                <a:latin typeface="Arial Narrow"/>
              </a:rPr>
              <a:t>”</a:t>
            </a:r>
            <a:r>
              <a:rPr b="1" lang="ru-RU" sz="2100" spc="-1" strike="noStrike">
                <a:solidFill>
                  <a:srgbClr val="2f1311"/>
                </a:solidFill>
                <a:latin typeface="Arial Narrow"/>
              </a:rPr>
              <a:t> 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6" descr="C:\Users\Пользователь_03\Desktop\466417.jpg"/>
          <p:cNvPicPr/>
          <p:nvPr/>
        </p:nvPicPr>
        <p:blipFill>
          <a:blip r:embed="rId1"/>
          <a:stretch/>
        </p:blipFill>
        <p:spPr>
          <a:xfrm>
            <a:off x="4214880" y="1500120"/>
            <a:ext cx="314316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5"/>
          <p:cNvSpPr/>
          <p:nvPr/>
        </p:nvSpPr>
        <p:spPr>
          <a:xfrm>
            <a:off x="285840" y="285840"/>
            <a:ext cx="371484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b725"/>
                </a:solidFill>
                <a:latin typeface="Arial Narrow"/>
              </a:rPr>
              <a:t>Агния Львовна Барто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жила по «всемирному закону нашей жизни», сформированному ещё Корнеем Ивановичем Чуковским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«Если хочешь быть любимым – люби!».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Она любила детвору, писала для ребят весёлые стихи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Многие стихи Агния Барто посвятила дочери Татьяне. А с появлением внука Володи написала ряд стихотворений:  «Вовка - добрая душа»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C:\Users\Пользователь_03\Desktop\таня.jpg"/>
          <p:cNvPicPr/>
          <p:nvPr/>
        </p:nvPicPr>
        <p:blipFill>
          <a:blip r:embed="rId1"/>
          <a:stretch/>
        </p:blipFill>
        <p:spPr>
          <a:xfrm>
            <a:off x="4357800" y="28584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Пользователь_03\Desktop\вовка.jpg"/>
          <p:cNvPicPr/>
          <p:nvPr/>
        </p:nvPicPr>
        <p:blipFill>
          <a:blip r:embed="rId2"/>
          <a:stretch/>
        </p:blipFill>
        <p:spPr>
          <a:xfrm>
            <a:off x="4357800" y="3571920"/>
            <a:ext cx="26431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C:\Users\Пользователь_03\Desktop\снегирь.jpg"/>
          <p:cNvPicPr/>
          <p:nvPr/>
        </p:nvPicPr>
        <p:blipFill>
          <a:blip r:embed="rId1"/>
          <a:stretch/>
        </p:blipFill>
        <p:spPr>
          <a:xfrm>
            <a:off x="4429080" y="1214280"/>
            <a:ext cx="3214800" cy="39294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3"/>
          <p:cNvSpPr/>
          <p:nvPr/>
        </p:nvSpPr>
        <p:spPr>
          <a:xfrm>
            <a:off x="428760" y="357120"/>
            <a:ext cx="435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Большое место в её творчестве занимают стихи на морально-бытовые темы, в которых высмеивается дурное поведение детей: </a:t>
            </a:r>
            <a:r>
              <a:rPr b="1" lang="ru-RU" sz="2200" spc="-1" strike="noStrike">
                <a:solidFill>
                  <a:srgbClr val="99ff33"/>
                </a:solidFill>
                <a:latin typeface="Arial Narrow"/>
              </a:rPr>
              <a:t>«Девочка - рёвушка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66ff"/>
                </a:solidFill>
                <a:latin typeface="Arial Narrow"/>
              </a:rPr>
              <a:t>«Девочка чумазая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66ffff"/>
                </a:solidFill>
                <a:latin typeface="Arial Narrow"/>
              </a:rPr>
              <a:t>«Снегирь»,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«Болтунья»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и другие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Она поднимала на смех и тем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амым осуждала некоторые человеческие недостатки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лень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враньё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глупость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 Narrow"/>
              </a:rPr>
              <a:t>-зазнайство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580000" y="5516640"/>
            <a:ext cx="2070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071960" y="428760"/>
            <a:ext cx="32148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годы Великой Отечественной войн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Барто находилась в Свердловске,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ыезжала на фронт с чтением своих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тихов, выступала на радио, писала дл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газет. За сборник </a:t>
            </a:r>
            <a:r>
              <a:rPr b="1" i="1" lang="ru-RU" sz="2200" spc="-1" strike="noStrike">
                <a:solidFill>
                  <a:srgbClr val="2f1311"/>
                </a:solidFill>
                <a:latin typeface="Arial Narrow"/>
              </a:rPr>
              <a:t>Стихи детям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 Барто была присуждена Государственная премия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C:\Users\Пользователь_03\Desktop\WzR6oGIQNHA.jpg"/>
          <p:cNvPicPr/>
          <p:nvPr/>
        </p:nvPicPr>
        <p:blipFill>
          <a:blip r:embed="rId1"/>
          <a:stretch/>
        </p:blipFill>
        <p:spPr>
          <a:xfrm>
            <a:off x="428760" y="285840"/>
            <a:ext cx="3071520" cy="3786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500040" y="4357800"/>
            <a:ext cx="67150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течение многих лет Барто возглавляла Ассоциацию деятелей литературы и искусства для детей, была членом международного Андерсеновского жюр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В 1976 ей была присуждена Международная премия им. Х.К.Андерсена.</a:t>
            </a:r>
            <a:r>
              <a:rPr b="1" lang="en-US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Стихи Барто переведены на многие языки</a:t>
            </a:r>
            <a:r>
              <a:rPr b="1" lang="en-US" sz="22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2f1311"/>
                </a:solidFill>
                <a:latin typeface="Arial Narrow"/>
              </a:rPr>
              <a:t>мира. Умерла Барто в Москве 1 апреля 1981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6000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4:18:33Z</dcterms:created>
  <dc:creator>Ерзылёв Сергей Александрович</dc:creator>
  <dc:description/>
  <dc:language>en-US</dc:language>
  <cp:lastModifiedBy>Пользователь_03</cp:lastModifiedBy>
  <dcterms:modified xsi:type="dcterms:W3CDTF">2015-09-26T11:06:04Z</dcterms:modified>
  <cp:revision>10</cp:revision>
  <dc:subject/>
  <dc:title>Агния Барто</dc:title>
</cp:coreProperties>
</file>