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745-090B-4C3D-B93F-1A68F693B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4E55-2F07-4F2A-9822-4E992C0EB95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112-FF2D-4DC8-9CCC-D6F34956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720-6BD0-4A19-AE80-73CC9799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879-AC40-4418-AB1F-D363D9C3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276-B723-4285-8D66-6B1F03D3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1229-7447-44C0-9AE9-3609A092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871D-6D79-40D7-AC68-ED5397B8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4575-A01A-44B8-8B9B-F71281B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940E-F7AA-476C-99DD-CB37286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3DE-59AC-40F7-910A-15BD73A1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12EF-8DFD-456C-B9D0-72645309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55CC-9DE5-4855-A0CB-2069843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0BB-8113-45BE-9B77-C9FB9AF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03C-DD48-4E84-924B-8DA2FC0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04F2-750E-44B8-9078-A1C522B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0659-F825-4D13-B99D-FF15DCD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3408-6041-4A44-B669-7F68CAB8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56A4-58F4-45B6-9EF7-D6BF49DF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40E-5776-4CED-BBE3-092A3F2B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E3A-2F91-4859-90F6-D16A06E2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7C2-0502-4731-966A-F180E3A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7CB-B4E2-4CEA-8114-DCC0415A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92A-21DD-4E74-9044-2B470E2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939-4123-40C4-BD1D-98770B0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EB1-8E9E-4703-AB94-8569BEF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95B-22C6-4CAE-988D-0B72785FDE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FD2-EDFF-4AA7-8DA5-9C4B33596DC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9656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Агния Львовна Барто</a:t>
            </a:r>
            <a:br>
              <a:rPr sz="4800"/>
            </a:b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4.02.1906-1.05.1981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4" descr="C:\Users\Пользователь_03\Desktop\22741204c51b48b15e7908f0859badd7.jpg"/>
          <p:cNvPicPr/>
          <p:nvPr/>
        </p:nvPicPr>
        <p:blipFill>
          <a:blip r:embed="rId1"/>
          <a:stretch/>
        </p:blipFill>
        <p:spPr>
          <a:xfrm>
            <a:off x="642960" y="2643120"/>
            <a:ext cx="6389640" cy="3733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71960" y="404640"/>
            <a:ext cx="3524400" cy="573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БАРТО, АГНИЯ ЛЬВОВНА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(настоящая фамилия Волова)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(1906–1981), русская поэтесса.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Родилась 4 (17) февраля 1906 года в  Москве в семье врача- ветеринара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олучила хорошее домашнее воспитание.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Отец Лев Николаевич чрезвычайно любил писателя Л.Н.Толстого. Когда Агнии исполнился год, отец подарил своей маленькой дочке книжку  для взрослых: «Как живёт и работает Лев Николаевич Толстой»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A00092DC"/>
          <p:cNvPicPr/>
          <p:nvPr/>
        </p:nvPicPr>
        <p:blipFill>
          <a:blip r:embed="rId1"/>
          <a:stretch/>
        </p:blipFill>
        <p:spPr>
          <a:xfrm>
            <a:off x="357120" y="642960"/>
            <a:ext cx="350064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529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357120" y="357120"/>
            <a:ext cx="3786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В 1925 были опубликованы ее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ервые стихотворения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Китайчонок Ван Ли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и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Мишка-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Воришка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. За ними последовали 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Первое мая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Братишки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осле публикации которых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К.И.Чуковский отметил талант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Барто как детского поэта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Агния Барто написала сценарии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Кинофильмов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Подкидыш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Алеша Птицын вырабатывает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характер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,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10 000 мальчиков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6" descr="C:\Users\Пользователь_03\Desktop\466417.jpg"/>
          <p:cNvPicPr/>
          <p:nvPr/>
        </p:nvPicPr>
        <p:blipFill>
          <a:blip r:embed="rId1"/>
          <a:stretch/>
        </p:blipFill>
        <p:spPr>
          <a:xfrm>
            <a:off x="4214880" y="1500120"/>
            <a:ext cx="314316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5"/>
          <p:cNvSpPr/>
          <p:nvPr/>
        </p:nvSpPr>
        <p:spPr>
          <a:xfrm>
            <a:off x="285840" y="285840"/>
            <a:ext cx="371484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b725"/>
                </a:solidFill>
                <a:latin typeface="Arial Narrow"/>
              </a:rPr>
              <a:t>Агния Львовна Барто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жила по «всемирному закону нашей жизни», сформированному ещё Корнеем Ивановичем Чуковским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«Если хочешь быть любимым – люби!».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Она любила детвору, писала для ребят весёлые стихи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Многие стихи Агния Барто посвятила дочери Татьяне. А с появлением внука Володи написала ряд стихотворений:  «Вовка - добрая душа»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C:\Users\Пользователь_03\Desktop\таня.jpg"/>
          <p:cNvPicPr/>
          <p:nvPr/>
        </p:nvPicPr>
        <p:blipFill>
          <a:blip r:embed="rId1"/>
          <a:stretch/>
        </p:blipFill>
        <p:spPr>
          <a:xfrm>
            <a:off x="4357800" y="28584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Пользователь_03\Desktop\вовка.jpg"/>
          <p:cNvPicPr/>
          <p:nvPr/>
        </p:nvPicPr>
        <p:blipFill>
          <a:blip r:embed="rId2"/>
          <a:stretch/>
        </p:blipFill>
        <p:spPr>
          <a:xfrm>
            <a:off x="4357800" y="3571920"/>
            <a:ext cx="2643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C:\Users\Пользователь_03\Desktop\снегирь.jpg"/>
          <p:cNvPicPr/>
          <p:nvPr/>
        </p:nvPicPr>
        <p:blipFill>
          <a:blip r:embed="rId1"/>
          <a:stretch/>
        </p:blipFill>
        <p:spPr>
          <a:xfrm>
            <a:off x="4429080" y="1214280"/>
            <a:ext cx="3214800" cy="39294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3"/>
          <p:cNvSpPr/>
          <p:nvPr/>
        </p:nvSpPr>
        <p:spPr>
          <a:xfrm>
            <a:off x="428760" y="357120"/>
            <a:ext cx="435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Большое место в её творчестве занимают стихи на морально-бытовые темы, в которых высмеивается дурное поведение детей: </a:t>
            </a:r>
            <a:r>
              <a:rPr b="1" lang="ru-RU" sz="2200" spc="-1" strike="noStrike">
                <a:solidFill>
                  <a:srgbClr val="99ff33"/>
                </a:solidFill>
                <a:latin typeface="Arial Narrow"/>
              </a:rPr>
              <a:t>«Девочка - рёвушка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66ff"/>
                </a:solidFill>
                <a:latin typeface="Arial Narrow"/>
              </a:rPr>
              <a:t>«Девочка чумазая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Arial Narrow"/>
              </a:rPr>
              <a:t>«Снегирь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«Болтунья»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и другие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Она поднимала на смех и тем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амым осуждала некоторые человеческие недостатки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лень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враньё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глупость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зазнайство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580000" y="5516640"/>
            <a:ext cx="2070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071960" y="428760"/>
            <a:ext cx="32148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годы Великой Отечественной войн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Барто находилась в Свердловске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ыезжала на фронт с чтением своих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тихов, выступала на радио, писала дл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газет. За сборник </a:t>
            </a:r>
            <a:r>
              <a:rPr b="1" i="1" lang="ru-RU" sz="2200" spc="-1" strike="noStrike">
                <a:solidFill>
                  <a:srgbClr val="2f1311"/>
                </a:solidFill>
                <a:latin typeface="Arial Narrow"/>
              </a:rPr>
              <a:t>Стихи детям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Барто была присуждена Государственная премия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C:\Users\Пользователь_03\Desktop\WzR6oGIQNHA.jpg"/>
          <p:cNvPicPr/>
          <p:nvPr/>
        </p:nvPicPr>
        <p:blipFill>
          <a:blip r:embed="rId1"/>
          <a:stretch/>
        </p:blipFill>
        <p:spPr>
          <a:xfrm>
            <a:off x="428760" y="285840"/>
            <a:ext cx="3071520" cy="3786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500040" y="4357800"/>
            <a:ext cx="67150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течение многих лет Барто возглавляла Ассоциацию деятелей литературы и искусства для детей, была членом международного Андерсеновского жюр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1976 ей была присуждена Международная премия им. Х.К.Андерсена.</a:t>
            </a:r>
            <a:r>
              <a:rPr b="1" lang="en-US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тихи Барто переведены на многие языки</a:t>
            </a:r>
            <a:r>
              <a:rPr b="1" lang="en-US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мира. Умерла Барто в Москве 1 апреля 1981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6000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4:18:33Z</dcterms:created>
  <dc:creator>Ерзылёв Сергей Александрович</dc:creator>
  <dc:description/>
  <dc:language>en-US</dc:language>
  <cp:lastModifiedBy>Пользователь_03</cp:lastModifiedBy>
  <dcterms:modified xsi:type="dcterms:W3CDTF">2015-09-26T11:06:04Z</dcterms:modified>
  <cp:revision>10</cp:revision>
  <dc:subject/>
  <dc:title>Агния Барто</dc:title>
</cp:coreProperties>
</file>