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CB3C-1B3A-497D-8083-F53D9B0617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8F5B-9869-4B47-9F0B-2ED36F1A9FD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622-81A7-4BE8-8770-FCA1891D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842-641E-46D0-ACED-88BC0826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332B-DCC6-40FB-8DAB-8CE51F82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AC1-929B-41C6-8554-4258F54D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B1E2-9359-4173-B4E7-C96C4EC5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6DDC-0114-4266-AED2-1EC274A1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C871-25F1-4E82-8D58-B12DF891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A052-0C06-4EFF-A562-3613E4A2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7DB4-68FA-407A-A488-5E7E1EB4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B588-9586-4865-918F-E6D0706C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3D02-4908-4306-8B04-7CF1FC1C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9DB-1E96-4C30-8457-2BED2B69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9D9A-DE03-439E-8F79-79E100BE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D2AA-D3B1-47C4-899F-EEB4BB17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DFBA-1247-4939-9C74-9D59FF30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AC06-7D47-4767-9E65-6C9C475D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B1FB-7A71-43E5-A05E-7D6B0F66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7AB-F2E8-4F42-84E3-425C8277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16B-148B-4557-884C-915C5954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288-78EA-4B0B-84E8-2ABF7872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456-1528-41F9-88D9-E4B8D65A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F44-E830-488A-9548-309A146A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3E2-53E0-4548-A154-8BD9B583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646-3767-46BD-AC2A-6298C03B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96E5-A708-4275-9BF4-1EB32FE9BD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135B-B9F0-496A-AD64-C6F070BB16F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69656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Агния Львовна Барто</a:t>
            </a:r>
            <a:br>
              <a:rPr sz="4800"/>
            </a:b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4.02.1906-1.05.1981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4" descr="C:\Users\Пользователь_03\Desktop\22741204c51b48b15e7908f0859badd7.jpg"/>
          <p:cNvPicPr/>
          <p:nvPr/>
        </p:nvPicPr>
        <p:blipFill>
          <a:blip r:embed="rId1"/>
          <a:stretch/>
        </p:blipFill>
        <p:spPr>
          <a:xfrm>
            <a:off x="642960" y="2643120"/>
            <a:ext cx="6389640" cy="3733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71960" y="404640"/>
            <a:ext cx="3524400" cy="573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БАРТО, АГНИЯ ЛЬВОВНА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(настоящая фамилия Волова)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(1906–1981), русская поэтесса.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Родилась 4 (17) февраля 1906 года в  Москве в семье врача- ветеринара .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Получила хорошее домашнее воспитание.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Отец Лев Николаевич чрезвычайно любил писателя Л.Н.Толстого. Когда Агнии исполнился год, отец подарил своей маленькой дочке книжку  для взрослых: «Как живёт и работает Лев Николаевич Толстой» .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5" descr="A00092DC"/>
          <p:cNvPicPr/>
          <p:nvPr/>
        </p:nvPicPr>
        <p:blipFill>
          <a:blip r:embed="rId1"/>
          <a:stretch/>
        </p:blipFill>
        <p:spPr>
          <a:xfrm>
            <a:off x="357120" y="642960"/>
            <a:ext cx="350064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5290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357120" y="357120"/>
            <a:ext cx="37861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В 1925 были опубликованы ее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первые стихотворения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Китайчонок Ван Ли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 и 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Мишка-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Воришка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. За ними последовали 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Первое мая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, 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Братишки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,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после публикации которых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К.И.Чуковский отметил талант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Барто как детского поэта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.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Агния Барто написала сценарии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Кинофильмов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Подкидыш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, 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Алеша Птицын вырабатывает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характер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 ,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10 000 мальчиков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 .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6" descr="C:\Users\Пользователь_03\Desktop\466417.jpg"/>
          <p:cNvPicPr/>
          <p:nvPr/>
        </p:nvPicPr>
        <p:blipFill>
          <a:blip r:embed="rId1"/>
          <a:stretch/>
        </p:blipFill>
        <p:spPr>
          <a:xfrm>
            <a:off x="4214880" y="1500120"/>
            <a:ext cx="314316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5"/>
          <p:cNvSpPr/>
          <p:nvPr/>
        </p:nvSpPr>
        <p:spPr>
          <a:xfrm>
            <a:off x="285840" y="285840"/>
            <a:ext cx="3714840" cy="57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2b725"/>
                </a:solidFill>
                <a:latin typeface="Arial Narrow"/>
              </a:rPr>
              <a:t>Агния Львовна Барто 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жила по «всемирному закону нашей жизни», сформированному ещё Корнеем Ивановичем Чуковским: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Arial Narrow"/>
              </a:rPr>
              <a:t>«Если хочешь быть любимым – люби!».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Она любила детвору, писала для ребят весёлые стихи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Многие стихи Агния Барто посвятила дочери Татьяне. А с появлением внука Володи написала ряд стихотворений:  «Вовка - добрая душа»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5" descr="C:\Users\Пользователь_03\Desktop\таня.jpg"/>
          <p:cNvPicPr/>
          <p:nvPr/>
        </p:nvPicPr>
        <p:blipFill>
          <a:blip r:embed="rId1"/>
          <a:stretch/>
        </p:blipFill>
        <p:spPr>
          <a:xfrm>
            <a:off x="4357800" y="285840"/>
            <a:ext cx="2500200" cy="3071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Пользователь_03\Desktop\вовка.jpg"/>
          <p:cNvPicPr/>
          <p:nvPr/>
        </p:nvPicPr>
        <p:blipFill>
          <a:blip r:embed="rId2"/>
          <a:stretch/>
        </p:blipFill>
        <p:spPr>
          <a:xfrm>
            <a:off x="4357800" y="3571920"/>
            <a:ext cx="264312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C:\Users\Пользователь_03\Desktop\снегирь.jpg"/>
          <p:cNvPicPr/>
          <p:nvPr/>
        </p:nvPicPr>
        <p:blipFill>
          <a:blip r:embed="rId1"/>
          <a:stretch/>
        </p:blipFill>
        <p:spPr>
          <a:xfrm>
            <a:off x="4429080" y="1214280"/>
            <a:ext cx="3214800" cy="39294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3"/>
          <p:cNvSpPr/>
          <p:nvPr/>
        </p:nvSpPr>
        <p:spPr>
          <a:xfrm>
            <a:off x="428760" y="357120"/>
            <a:ext cx="4357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Большое место в её творчестве занимают стихи на морально-бытовые темы, в которых высмеивается дурное поведение детей: </a:t>
            </a:r>
            <a:r>
              <a:rPr b="1" lang="ru-RU" sz="2200" spc="-1" strike="noStrike">
                <a:solidFill>
                  <a:srgbClr val="99ff33"/>
                </a:solidFill>
                <a:latin typeface="Arial Narrow"/>
              </a:rPr>
              <a:t>«Девочка - рёвушка»,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ff66ff"/>
                </a:solidFill>
                <a:latin typeface="Arial Narrow"/>
              </a:rPr>
              <a:t>«Девочка чумазая»,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66ffff"/>
                </a:solidFill>
                <a:latin typeface="Arial Narrow"/>
              </a:rPr>
              <a:t>«Снегирь»,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Arial Narrow"/>
              </a:rPr>
              <a:t>«Болтунья»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и другие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Она поднимала на смех и тем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самым осуждала некоторые человеческие недостатки: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 Narrow"/>
              </a:rPr>
              <a:t>-лень,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 Narrow"/>
              </a:rPr>
              <a:t>-враньё,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 Narrow"/>
              </a:rPr>
              <a:t>-глупость,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 Narrow"/>
              </a:rPr>
              <a:t>-зазнайство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580000" y="5516640"/>
            <a:ext cx="2070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4071960" y="428760"/>
            <a:ext cx="321480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В годы Великой Отечественной войны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Барто находилась в Свердловске,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выезжала на фронт с чтением своих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стихов, выступала на радио, писала для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газет. За сборник </a:t>
            </a:r>
            <a:r>
              <a:rPr b="1" i="1" lang="ru-RU" sz="2200" spc="-1" strike="noStrike">
                <a:solidFill>
                  <a:srgbClr val="2f1311"/>
                </a:solidFill>
                <a:latin typeface="Arial Narrow"/>
              </a:rPr>
              <a:t>Стихи детям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Барто была присуждена Государственная премия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4" descr="C:\Users\Пользователь_03\Desktop\WzR6oGIQNHA.jpg"/>
          <p:cNvPicPr/>
          <p:nvPr/>
        </p:nvPicPr>
        <p:blipFill>
          <a:blip r:embed="rId1"/>
          <a:stretch/>
        </p:blipFill>
        <p:spPr>
          <a:xfrm>
            <a:off x="428760" y="285840"/>
            <a:ext cx="3071520" cy="37861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500040" y="4357800"/>
            <a:ext cx="67150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В течение многих лет Барто возглавляла Ассоциацию деятелей литературы и искусства для детей, была членом международного Андерсеновского жюри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В 1976 ей была присуждена Международная премия им. Х.К.Андерсена.</a:t>
            </a:r>
            <a:r>
              <a:rPr b="1" lang="en-US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Стихи Барто переведены на многие языки</a:t>
            </a:r>
            <a:r>
              <a:rPr b="1" lang="en-US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мира. Умерла Барто в Москве 1 апреля 1981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6000">
    <p:push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4:18:33Z</dcterms:created>
  <dc:creator>Ерзылёв Сергей Александрович</dc:creator>
  <dc:description/>
  <dc:language>en-US</dc:language>
  <cp:lastModifiedBy>Пользователь_03</cp:lastModifiedBy>
  <dcterms:modified xsi:type="dcterms:W3CDTF">2015-09-26T11:06:04Z</dcterms:modified>
  <cp:revision>10</cp:revision>
  <dc:subject/>
  <dc:title>Агния Барто</dc:title>
</cp:coreProperties>
</file>