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22D-D6CE-4970-B9FB-1D02C696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BC7-4C87-4793-AE5F-C13A68D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A5D-D3D6-4987-BAE5-A17A91FE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077-D9CB-4127-B61A-B4F32618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9AD8-15B8-4CAC-A300-6758BB29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EE14-9F11-444E-BE43-53C7C137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D499-9850-473C-9470-A0FDCC0B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A0FD-C45A-4AFE-A71E-AFA352BE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69BC-E529-4403-9341-F43E8A7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E9F-B27B-432F-8355-6659946A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4B49-8B6E-478D-AF29-0BC6B28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1B3-E6EF-495A-979F-1CBFED51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EF5-84B2-45BC-B506-2F832A0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C32-7AC9-47F1-B2F1-E082220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DB69-7070-4B5C-9274-CD156C3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1A2C-115B-4BC0-8BB5-B9E77F19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CAC0-FBE2-45EB-BE53-1D0BDAA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C81-4C2C-4746-A8CA-0CEE565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0B7-4DBE-40E9-8E31-0537CD6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00F-696E-4DFB-AF32-4669147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7E5-22A6-4091-8D32-036C7C0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C3A-4ED7-45EB-90DC-763EDC7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F82-43B4-4D31-9214-04D5F28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B87-A8D6-415B-9235-ADF1A5E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372-95F5-48A3-BC6D-15A6FEC32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F30-BDAB-415A-B1AC-F6ACF4CD8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Антон Павлович Чех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каз о писате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лся с Сахалина Чехов морским путем – Из Владивостока, через Гонконг, Сингапур, Коломбо, Суэцкий пролив, Константинополь, в Одес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чатления от поездки воплотились в рассказах «Гусев», «В ссылке», «Убий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елихо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арте 1892 года Чехов приехал в свою новую усадьбу Мелихово, в полутора десятках верст от станции Лопасня Московско-Курской железной дор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Дом Чехова"/>
          <p:cNvPicPr/>
          <p:nvPr/>
        </p:nvPicPr>
        <p:blipFill>
          <a:blip r:embed="rId1"/>
          <a:stretch/>
        </p:blipFill>
        <p:spPr>
          <a:xfrm>
            <a:off x="571680" y="2060640"/>
            <a:ext cx="39290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воспоминаний брата Михаи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 первых же дней, как мы поселились в Мелихове, все кругом узнали, что Антон Павлович – врач. Приходили, привозили больных в телегах и далеко увозили самого писателя к больным. С самого раннего утра перед его домом  уже стояли бабы и дети и ждали от него врачебной помощи. Он выходил, выстукивал, выслушив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хов принимал участие во всех местных делах, не подразделяя их на мелкие и крупные – будь то борьба с холерой, рытье колодца, строительство школы или проведение шоссе, открытие почтового отделения на станции Лопас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Хорошо, если бы каждый из нас оставлял после себя школу, колодезь или что-нибудь вроде, чтобы жизнь не проходила и не уходила в вечность бесслед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Чехов"/>
          <p:cNvPicPr/>
          <p:nvPr/>
        </p:nvPicPr>
        <p:blipFill>
          <a:blip r:embed="rId1"/>
          <a:stretch/>
        </p:blipFill>
        <p:spPr>
          <a:xfrm>
            <a:off x="5397480" y="222084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здоровья писателя ухудшалось. Врачи советовали перебраться поближе к морю, на ю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хов купил и обустроил дачу в Ялте и подолгу жил т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1" descr="Чехов в Ялте"/>
          <p:cNvPicPr/>
          <p:nvPr/>
        </p:nvPicPr>
        <p:blipFill>
          <a:blip r:embed="rId1"/>
          <a:stretch/>
        </p:blipFill>
        <p:spPr>
          <a:xfrm>
            <a:off x="5397480" y="2125800"/>
            <a:ext cx="2540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Я все похварываю, начинаю уже стариться, скучаю здесь в Ялте и чувствую, как мимо меня уходит жизнь и как я не вижу много такого что, как литератор, должен бы виде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Sunrise"/>
          <p:cNvPicPr/>
          <p:nvPr/>
        </p:nvPicPr>
        <p:blipFill>
          <a:blip r:embed="rId1"/>
          <a:stretch/>
        </p:blipFill>
        <p:spPr>
          <a:xfrm>
            <a:off x="2411280" y="4032360"/>
            <a:ext cx="46818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лету 1904 года здоровье его настолько ухудшилось, что врачи настаивали на немедленном отъезде на курорт в Баденвейлер (Германия). Чехов выехал туда вместе с ж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урорте он сначала почувствовал себя лучше, даже мечтал о путешествии по Ита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внезапно состояние резко ухудшилось. Ночью он проснулся от удушья и попросил послать за врачом. Врач констатировал упадок сердечной деятельности. Введение камфоры не помогло, больной стал бредить. Чехов умер в 3 часа ночи с 1 на 2 ию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835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он Павлович Чехов – из тех писателей, которые входят в нашу жизнь с детства и остаются навсегда. Вы, конечно, помните приключения чеховской «Каштанки». Такой рассказ мог написать только человек, любящий людей, любящий животных, любящий жизнь. Эта любовь Чехова была очень деятельной. Он был врачом и помог многим людям справиться с болезнью; он был писателем, и его рассказы и книги помогали и помогают справляться со сложностями жизни, помогают посмотреть на себя со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Чехов"/>
          <p:cNvPicPr/>
          <p:nvPr/>
        </p:nvPicPr>
        <p:blipFill>
          <a:blip r:embed="rId1"/>
          <a:stretch/>
        </p:blipFill>
        <p:spPr>
          <a:xfrm>
            <a:off x="5367240" y="1700280"/>
            <a:ext cx="32292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траницы биографии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 Павлович Чехов родился в Таганроге 17 января 1860 года. Дед писателя был крепостным крестьянином, который выкупил себя с семьей на волю. Отец был владельцем бакалейной лавки. В семье Чеховых было пятеро детей: четыре сына и дочь. Отец стремился дать детям религиозное воспитание, бил их, заставляя петь в церковном х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Чехов"/>
          <p:cNvPicPr/>
          <p:nvPr/>
        </p:nvPicPr>
        <p:blipFill>
          <a:blip r:embed="rId1"/>
          <a:stretch/>
        </p:blipFill>
        <p:spPr>
          <a:xfrm>
            <a:off x="5508720" y="1125360"/>
            <a:ext cx="3095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08720"/>
            <a:ext cx="795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азания отца часто были жестоки . И это выработало у Чехова нетерпимость к несправедливости, обостренное чувство собственного достоинства. Мать была очень мягкой, и ее доброта часто была для детей защитой от гнева отца.  Позднее Антон Павлович писал: «Талант в нас со стороны отца, а душа – со стороны мат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360" y="836280"/>
            <a:ext cx="51897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Антону было 16 лет, отец разорился и бежал от долговой тюрьмы в Москву. Антон должен был остаться в Таганроге, зарабатывать уроками средства на жизнь и на ученье и высылать небольшие денежные переводы сем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9 году, закончив гимназию, Чехов приезжает в Москву и становится студентом медицинского факультета университ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Домики"/>
          <p:cNvPicPr/>
          <p:nvPr/>
        </p:nvPicPr>
        <p:blipFill>
          <a:blip r:embed="rId1"/>
          <a:stretch/>
        </p:blipFill>
        <p:spPr>
          <a:xfrm>
            <a:off x="468360" y="1052640"/>
            <a:ext cx="270504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й путь Чехова начинается в 1880-е годы. Первые произведения были опубликованы на страницах юмористических журналов «Стрекоза», «Осколки», «Будильник», «Зритель». В течение 5 лет Чехов написал около 400 произведений, которые составили основу его сборников «Сказки Мельпомены» и «Пестрые рассказ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атель становится известным, добивается литературной славы. 7 октября 1888 года Чехову присуждена академическая Пушкинская премия за сборник «В сумерк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На Сахалин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890 году Чехов предпринимает путешествие на Сахалин, бывший в то время каторжным остро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здка стала неожиданностью даже для близких родственников писателя. Сам он так объяснял причины своего отъезда: «Поездка – это непрерывный полугодовой труд, физический и умственный, а для меня это необходимо, так как я стал уже лениться. Надо себя «дрессировать»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512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ешествие было сопряжено с огромными трудностями: нужно было проделать путь через всю Сибирь, в том числе 4000 верст на лошад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ахалине Чехов за 3 месяца единолично сделал перепись всего населения острова, заполнив более 8000 карточек, он беседовал буквально с каждым, в доме или камере тюрьмы.Несмотря на запрет встречаться с политическими ссыльными, Чехов говорил и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wall_sm13"/>
          <p:cNvPicPr/>
          <p:nvPr/>
        </p:nvPicPr>
        <p:blipFill>
          <a:blip r:embed="rId1"/>
          <a:stretch/>
        </p:blipFill>
        <p:spPr>
          <a:xfrm>
            <a:off x="5724360" y="1773360"/>
            <a:ext cx="3173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24:06Z</dcterms:created>
  <dc:creator>Геннадий Шумило</dc:creator>
  <dc:description/>
  <dc:language>en-US</dc:language>
  <cp:lastModifiedBy>Ионас</cp:lastModifiedBy>
  <dcterms:modified xsi:type="dcterms:W3CDTF">2015-09-29T17:50:45Z</dcterms:modified>
  <cp:revision>6</cp:revision>
  <dc:subject/>
  <dc:title>Антон Павлович Чехов</dc:title>
</cp:coreProperties>
</file>