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532-013D-44E4-940B-3BE8C0F1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7A2-9AF5-4EAF-8576-B6FDC7FF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95A-D457-4879-A2EF-77C18D11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3D94-D02F-4F94-AA88-583AC9E8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E0EE-DE2A-4BA6-A7B2-E54200A5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A5B2-64A7-4D20-9C05-3C65A053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5344-18FF-415D-925A-FCEFE5B3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6C61-900B-4234-B25E-4095B585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90AE-8F83-403E-8F15-B59520AE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37A9-1ACA-404C-8AAD-CE9504B3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5FEB-6762-4E98-9C4E-29B65DDB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FE4-537F-4DB7-9210-EC957A72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CB1E-945B-4874-AC10-7505A356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99D5-C74F-4F6A-BEA9-B073F798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AE3B-3E6E-46F2-843F-5C869C46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0B7F-68F5-4EC5-9307-0FBD7DE3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FFD7-CC44-41DA-913F-A64EDC4D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20EF-00C9-4000-8C68-EF6ACA15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C5B4-E024-46B5-8B87-525598BE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991E-A3FA-4CD8-AE14-A731461C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2AC-C5E1-47FE-ADFA-5FEB1401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8E92-AF55-472B-B893-15074702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2103-12AC-4492-8714-B8FC1050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3236-6A87-4BEA-BF1F-9A6FC078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4467-01AE-42C9-B436-4BD9FE7187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C665-72C0-4D65-99B6-C2060317A8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26d18"/>
                </a:solidFill>
                <a:latin typeface="Times New Roman"/>
              </a:rPr>
              <a:t>Антон Павлович Чехов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каз о писател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вращался с Сахалина Чехов морским путем – Из Владивостока, через Гонконг, Сингапур, Коломбо, Суэцкий пролив, Константинополь, в Одесс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печатления от поездки воплотились в рассказах «Гусев», «В ссылке», «Убийств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Мелихово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марте 1892 года Чехов приехал в свою новую усадьбу Мелихово, в полутора десятках верст от станции Лопасня Московско-Курской железной доро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6" descr="Дом Чехова"/>
          <p:cNvPicPr/>
          <p:nvPr/>
        </p:nvPicPr>
        <p:blipFill>
          <a:blip r:embed="rId1"/>
          <a:stretch/>
        </p:blipFill>
        <p:spPr>
          <a:xfrm>
            <a:off x="571680" y="2060640"/>
            <a:ext cx="392904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воспоминаний брата Михаил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 первых же дней, как мы поселились в Мелихове, все кругом узнали, что Антон Павлович – врач. Приходили, привозили больных в телегах и далеко увозили самого писателя к больным. С самого раннего утра перед его домом  уже стояли бабы и дети и ждали от него врачебной помощи. Он выходил, выстукивал, выслушивал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хов принимал участие во всех местных делах, не подразделяя их на мелкие и крупные – будь то борьба с холерой, рытье колодца, строительство школы или проведение шоссе, открытие почтового отделения на станции Лопас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Хорошо, если бы каждый из нас оставлял после себя школу, колодезь или что-нибудь вроде, чтобы жизнь не проходила и не уходила в вечность бесследно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7" descr="Чехов"/>
          <p:cNvPicPr/>
          <p:nvPr/>
        </p:nvPicPr>
        <p:blipFill>
          <a:blip r:embed="rId1"/>
          <a:stretch/>
        </p:blipFill>
        <p:spPr>
          <a:xfrm>
            <a:off x="5397480" y="2220840"/>
            <a:ext cx="25401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В Ялт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здоровья писателя ухудшалось. Врачи советовали перебраться поближе к морю, на ю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хов купил и обустроил дачу в Ялте и подолгу жил та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1" descr="Чехов в Ялте"/>
          <p:cNvPicPr/>
          <p:nvPr/>
        </p:nvPicPr>
        <p:blipFill>
          <a:blip r:embed="rId1"/>
          <a:stretch/>
        </p:blipFill>
        <p:spPr>
          <a:xfrm>
            <a:off x="5397480" y="2125800"/>
            <a:ext cx="25401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В Ялт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Я все похварываю, начинаю уже стариться, скучаю здесь в Ялте и чувствую, как мимо меня уходит жизнь и как я не вижу много такого что, как литератор, должен бы видет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5" descr="Sunrise"/>
          <p:cNvPicPr/>
          <p:nvPr/>
        </p:nvPicPr>
        <p:blipFill>
          <a:blip r:embed="rId1"/>
          <a:stretch/>
        </p:blipFill>
        <p:spPr>
          <a:xfrm>
            <a:off x="2411280" y="4032360"/>
            <a:ext cx="468180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лету 1904 года здоровье его настолько ухудшилось, что врачи настаивали на немедленном отъезде на курорт в Баденвейлер (Германия). Чехов выехал туда вместе с же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курорте он сначала почувствовал себя лучше, даже мечтал о путешествии по Итал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 внезапно состояние резко ухудшилось. Ночью он проснулся от удушья и попросил послать за врачом. Врач констатировал упадок сердечной деятельности. Введение камфоры не помогло, больной стал бредить. Чехов умер в 3 часа ночи с 1 на 2 июл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3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835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тон Павлович Чехов – из тех писателей, которые входят в нашу жизнь с детства и остаются навсегда. Вы, конечно, помните приключения чеховской «Каштанки». Такой рассказ мог написать только человек, любящий людей, любящий животных, любящий жизнь. Эта любовь Чехова была очень деятельной. Он был врачом и помог многим людям справиться с болезнью; он был писателем, и его рассказы и книги помогали и помогают справляться со сложностями жизни, помогают посмотреть на себя со сторо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7" descr="Чехов"/>
          <p:cNvPicPr/>
          <p:nvPr/>
        </p:nvPicPr>
        <p:blipFill>
          <a:blip r:embed="rId1"/>
          <a:stretch/>
        </p:blipFill>
        <p:spPr>
          <a:xfrm>
            <a:off x="5367240" y="1700280"/>
            <a:ext cx="32292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Страницы биографии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4824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он Павлович Чехов родился в Таганроге 17 января 1860 года. Дед писателя был крепостным крестьянином, который выкупил себя с семьей на волю. Отец был владельцем бакалейной лавки. В семье Чеховых было пятеро детей: четыре сына и дочь. Отец стремился дать детям религиозное воспитание, бил их, заставляя петь в церковном хо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Чехов"/>
          <p:cNvPicPr/>
          <p:nvPr/>
        </p:nvPicPr>
        <p:blipFill>
          <a:blip r:embed="rId1"/>
          <a:stretch/>
        </p:blipFill>
        <p:spPr>
          <a:xfrm>
            <a:off x="5508720" y="1125360"/>
            <a:ext cx="30956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08720"/>
            <a:ext cx="795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казания отца часто были жестоки . И это выработало у Чехова нетерпимость к несправедливости, обостренное чувство собственного достоинства. Мать была очень мягкой, и ее доброта часто была для детей защитой от гнева отца.  Позднее Антон Павлович писал: «Талант в нас со стороны отца, а душа – со стороны матер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92360" y="836280"/>
            <a:ext cx="51897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гда Антону было 16 лет, отец разорился и бежал от долговой тюрьмы в Москву. Антон должен был остаться в Таганроге, зарабатывать уроками средства на жизнь и на ученье и высылать небольшие денежные переводы семь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79 году, закончив гимназию, Чехов приезжает в Москву и становится студентом медицинского факультета университ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Домики"/>
          <p:cNvPicPr/>
          <p:nvPr/>
        </p:nvPicPr>
        <p:blipFill>
          <a:blip r:embed="rId1"/>
          <a:stretch/>
        </p:blipFill>
        <p:spPr>
          <a:xfrm>
            <a:off x="468360" y="1052640"/>
            <a:ext cx="2705040" cy="26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ий путь Чехова начинается в 1880-е годы. Первые произведения были опубликованы на страницах юмористических журналов «Стрекоза», «Осколки», «Будильник», «Зритель». В течение 5 лет Чехов написал около 400 произведений, которые составили основу его сборников «Сказки Мельпомены» и «Пестрые рассказ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атель становится известным, добивается литературной славы. 7 октября 1888 года Чехову присуждена академическая Пушкинская премия за сборник «В сумерках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На Сахалин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890 году Чехов предпринимает путешествие на Сахалин, бывший в то время каторжным остров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ездка стала неожиданностью даже для близких родственников писателя. Сам он так объяснял причины своего отъезда: «Поездка – это непрерывный полугодовой труд, физический и умственный, а для меня это необходимо, так как я стал уже лениться. Надо себя «дрессировать»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512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тешествие было сопряжено с огромными трудностями: нужно было проделать путь через всю Сибирь, в том числе 4000 верст на лошад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ахалине Чехов за 3 месяца единолично сделал перепись всего населения острова, заполнив более 8000 карточек, он беседовал буквально с каждым, в доме или камере тюрьмы.Несмотря на запрет встречаться с политическими ссыльными, Чехов говорил и с ни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9" descr="wall_sm13"/>
          <p:cNvPicPr/>
          <p:nvPr/>
        </p:nvPicPr>
        <p:blipFill>
          <a:blip r:embed="rId1"/>
          <a:stretch/>
        </p:blipFill>
        <p:spPr>
          <a:xfrm>
            <a:off x="5724360" y="1773360"/>
            <a:ext cx="31734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0:24:06Z</dcterms:created>
  <dc:creator>Геннадий Шумило</dc:creator>
  <dc:description/>
  <dc:language>en-US</dc:language>
  <cp:lastModifiedBy>Ионас</cp:lastModifiedBy>
  <dcterms:modified xsi:type="dcterms:W3CDTF">2015-09-29T17:50:45Z</dcterms:modified>
  <cp:revision>6</cp:revision>
  <dc:subject/>
  <dc:title>Антон Павлович Чехов</dc:title>
</cp:coreProperties>
</file>