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7FA-78BA-408B-85BE-D2545313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B11-B5FC-4862-8B90-984335F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51D-10E0-4849-9BDA-56CA7D06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3A7-CC1C-4F79-916E-74BE9DDE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3BCB-FC72-4078-B30C-6DAABE4A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975C-4081-4007-A5AA-CA92F4F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2224-1292-4423-A820-02816258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668D-A8EB-424F-9B4A-C0885030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754A-2A8B-4534-B37A-37792948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892-D682-4DD6-9290-04E75B76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4AA-230C-4F6B-8EE6-C7D6CAD2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D2F-993B-4F59-B321-A77D93B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FFBF-2AE2-4373-93BE-DC11997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526-BE03-46F6-8F9F-3B87209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8857-3007-43CE-AFC2-4E28AE6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E0B4-56BD-4B63-B0D1-304602E7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8EF9-FFEB-4B1A-A85E-9F6906BB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CE4-84CC-4324-B2A9-F34AD470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B02-CC91-411C-8E23-A4213DBC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82C-31BC-4B3F-B805-E41E718E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A6E-4B2D-455F-BD32-0D7EC13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55D-04B8-448B-9345-176936FE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3C1-A38E-4AED-B24B-56BBED7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E22-F65C-4A38-A15B-173578F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AA9F-6CBD-4949-AAD7-CD264267C1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67BC-F040-43CD-8F0D-C14FE6794F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Антон Павлович Чехов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каз о писате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лся с Сахалина Чехов морским путем – Из Владивостока, через Гонконг, Сингапур, Коломбо, Суэцкий пролив, Константинополь, в Одес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чатления от поездки воплотились в рассказах «Гусев», «В ссылке», «Убий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Мелихо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марте 1892 года Чехов приехал в свою новую усадьбу Мелихово, в полутора десятках верст от станции Лопасня Московско-Курской железной доро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Дом Чехова"/>
          <p:cNvPicPr/>
          <p:nvPr/>
        </p:nvPicPr>
        <p:blipFill>
          <a:blip r:embed="rId1"/>
          <a:stretch/>
        </p:blipFill>
        <p:spPr>
          <a:xfrm>
            <a:off x="571680" y="2060640"/>
            <a:ext cx="39290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воспоминаний брата Михаи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 первых же дней, как мы поселились в Мелихове, все кругом узнали, что Антон Павлович – врач. Приходили, привозили больных в телегах и далеко увозили самого писателя к больным. С самого раннего утра перед его домом  уже стояли бабы и дети и ждали от него врачебной помощи. Он выходил, выстукивал, выслушив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хов принимал участие во всех местных делах, не подразделяя их на мелкие и крупные – будь то борьба с холерой, рытье колодца, строительство школы или проведение шоссе, открытие почтового отделения на станции Лопас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Хорошо, если бы каждый из нас оставлял после себя школу, колодезь или что-нибудь вроде, чтобы жизнь не проходила и не уходила в вечность бесслед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Чехов"/>
          <p:cNvPicPr/>
          <p:nvPr/>
        </p:nvPicPr>
        <p:blipFill>
          <a:blip r:embed="rId1"/>
          <a:stretch/>
        </p:blipFill>
        <p:spPr>
          <a:xfrm>
            <a:off x="5397480" y="2220840"/>
            <a:ext cx="25401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 Ялт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здоровья писателя ухудшалось. Врачи советовали перебраться поближе к морю, на ю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хов купил и обустроил дачу в Ялте и подолгу жил т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1" descr="Чехов в Ялте"/>
          <p:cNvPicPr/>
          <p:nvPr/>
        </p:nvPicPr>
        <p:blipFill>
          <a:blip r:embed="rId1"/>
          <a:stretch/>
        </p:blipFill>
        <p:spPr>
          <a:xfrm>
            <a:off x="5397480" y="2125800"/>
            <a:ext cx="2540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 Ялт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Я все похварываю, начинаю уже стариться, скучаю здесь в Ялте и чувствую, как мимо меня уходит жизнь и как я не вижу много такого что, как литератор, должен бы виде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Sunrise"/>
          <p:cNvPicPr/>
          <p:nvPr/>
        </p:nvPicPr>
        <p:blipFill>
          <a:blip r:embed="rId1"/>
          <a:stretch/>
        </p:blipFill>
        <p:spPr>
          <a:xfrm>
            <a:off x="2411280" y="4032360"/>
            <a:ext cx="46818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лету 1904 года здоровье его настолько ухудшилось, что врачи настаивали на немедленном отъезде на курорт в Баденвейлер (Германия). Чехов выехал туда вместе с ж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урорте он сначала почувствовал себя лучше, даже мечтал о путешествии по Ита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внезапно состояние резко ухудшилось. Ночью он проснулся от удушья и попросил послать за врачом. Врач констатировал упадок сердечной деятельности. Введение камфоры не помогло, больной стал бредить. Чехов умер в 3 часа ночи с 1 на 2 ию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835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он Павлович Чехов – из тех писателей, которые входят в нашу жизнь с детства и остаются навсегда. Вы, конечно, помните приключения чеховской «Каштанки». Такой рассказ мог написать только человек, любящий людей, любящий животных, любящий жизнь. Эта любовь Чехова была очень деятельной. Он был врачом и помог многим людям справиться с болезнью; он был писателем, и его рассказы и книги помогали и помогают справляться со сложностями жизни, помогают посмотреть на себя со ст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Чехов"/>
          <p:cNvPicPr/>
          <p:nvPr/>
        </p:nvPicPr>
        <p:blipFill>
          <a:blip r:embed="rId1"/>
          <a:stretch/>
        </p:blipFill>
        <p:spPr>
          <a:xfrm>
            <a:off x="5367240" y="1700280"/>
            <a:ext cx="32292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траницы биографии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82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он Павлович Чехов родился в Таганроге 17 января 1860 года. Дед писателя был крепостным крестьянином, который выкупил себя с семьей на волю. Отец был владельцем бакалейной лавки. В семье Чеховых было пятеро детей: четыре сына и дочь. Отец стремился дать детям религиозное воспитание, бил их, заставляя петь в церковном х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Чехов"/>
          <p:cNvPicPr/>
          <p:nvPr/>
        </p:nvPicPr>
        <p:blipFill>
          <a:blip r:embed="rId1"/>
          <a:stretch/>
        </p:blipFill>
        <p:spPr>
          <a:xfrm>
            <a:off x="5508720" y="1125360"/>
            <a:ext cx="3095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08720"/>
            <a:ext cx="795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азания отца часто были жестоки . И это выработало у Чехова нетерпимость к несправедливости, обостренное чувство собственного достоинства. Мать была очень мягкой, и ее доброта часто была для детей защитой от гнева отца.  Позднее Антон Павлович писал: «Талант в нас со стороны отца, а душа – со стороны матер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360" y="836280"/>
            <a:ext cx="51897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Антону было 16 лет, отец разорился и бежал от долговой тюрьмы в Москву. Антон должен был остаться в Таганроге, зарабатывать уроками средства на жизнь и на ученье и высылать небольшие денежные переводы сем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9 году, закончив гимназию, Чехов приезжает в Москву и становится студентом медицинского факультета университ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Домики"/>
          <p:cNvPicPr/>
          <p:nvPr/>
        </p:nvPicPr>
        <p:blipFill>
          <a:blip r:embed="rId1"/>
          <a:stretch/>
        </p:blipFill>
        <p:spPr>
          <a:xfrm>
            <a:off x="468360" y="1052640"/>
            <a:ext cx="270504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й путь Чехова начинается в 1880-е годы. Первые произведения были опубликованы на страницах юмористических журналов «Стрекоза», «Осколки», «Будильник», «Зритель». В течение 5 лет Чехов написал около 400 произведений, которые составили основу его сборников «Сказки Мельпомены» и «Пестрые рассказ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атель становится известным, добивается литературной славы. 7 октября 1888 года Чехову присуждена академическая Пушкинская премия за сборник «В сумерка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На Сахалин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890 году Чехов предпринимает путешествие на Сахалин, бывший в то время каторжным остро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ездка стала неожиданностью даже для близких родственников писателя. Сам он так объяснял причины своего отъезда: «Поездка – это непрерывный полугодовой труд, физический и умственный, а для меня это необходимо, так как я стал уже лениться. Надо себя «дрессировать»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512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ешествие было сопряжено с огромными трудностями: нужно было проделать путь через всю Сибирь, в том числе 4000 верст на лошад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ахалине Чехов за 3 месяца единолично сделал перепись всего населения острова, заполнив более 8000 карточек, он беседовал буквально с каждым, в доме или камере тюрьмы.Несмотря на запрет встречаться с политическими ссыльными, Чехов говорил и с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wall_sm13"/>
          <p:cNvPicPr/>
          <p:nvPr/>
        </p:nvPicPr>
        <p:blipFill>
          <a:blip r:embed="rId1"/>
          <a:stretch/>
        </p:blipFill>
        <p:spPr>
          <a:xfrm>
            <a:off x="5724360" y="1773360"/>
            <a:ext cx="3173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0:24:06Z</dcterms:created>
  <dc:creator>Геннадий Шумило</dc:creator>
  <dc:description/>
  <dc:language>en-US</dc:language>
  <cp:lastModifiedBy>Ионас</cp:lastModifiedBy>
  <dcterms:modified xsi:type="dcterms:W3CDTF">2015-09-29T17:50:45Z</dcterms:modified>
  <cp:revision>6</cp:revision>
  <dc:subject/>
  <dc:title>Антон Павлович Чехов</dc:title>
</cp:coreProperties>
</file>