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97D-C71B-4F29-8DEC-A6CEA321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FBCA-E5B1-4AB3-A2D0-78BD2A151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6C5-D0B2-41CA-B660-0870DD37F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F3F-5372-4F34-8FB7-8EFE38DB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D59F-889E-45F2-9151-FC7357572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F89-FAAC-4FCD-B417-A2F1E0DA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638D-FDEC-4D13-8500-92A69AAC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6E4-B254-42CF-A13F-ABDB7FD5F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7B80-0661-4819-B90A-94B563C3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920-B820-4CE2-921F-2CB88688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731-A820-45DD-B3AE-BA23CFC5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478-65DD-4A6A-A306-91F3715B7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969-5C26-4E87-ACFC-36FBC989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C8E-892A-4741-AE15-9DDA7F144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452-2F36-4186-BD4D-28BB1EF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AE9-C7E4-4597-8B14-37963D4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CF9-7F8E-442D-933B-BC512C1F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6CE-1B23-4839-B2E2-D06E5D2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6D1-B313-4897-8783-9A595FED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268-DF39-4926-918C-A2A5C9D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DAB-8BF6-42D6-B8C6-7D777D7D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6B2-FDD4-4A00-ADF0-9266428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1A1-D3CA-49C4-A3FB-07A41A8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0B9-8297-44E3-AFD9-1C40A56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7A4-1A84-49E9-94BE-91039DE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B42-E3DA-49C4-B029-34B7EA3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3A63-FD39-4C90-8E63-FFFDA1542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trolab.ru/" TargetMode="External"/><Relationship Id="rId2" Type="http://schemas.openxmlformats.org/officeDocument/2006/relationships/hyperlink" Target="http://fargalaxy.al.ru/" TargetMode="External"/><Relationship Id="rId3" Type="http://schemas.openxmlformats.org/officeDocument/2006/relationships/hyperlink" Target="http://space.rin.ru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533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Ч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т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 та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е ко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е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15636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о кометах: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astrolab.r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argalaxy.al.ru 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space.rin.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F:\ELENA\PowerPoint\Materiali dla prezentacij\KOSMOS\west.jpg"/>
          <p:cNvPicPr/>
          <p:nvPr/>
        </p:nvPicPr>
        <p:blipFill>
          <a:blip r:embed="rId4"/>
          <a:stretch/>
        </p:blipFill>
        <p:spPr>
          <a:xfrm>
            <a:off x="4648320" y="228600"/>
            <a:ext cx="4270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191120" y="160020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равнению с размерами нашей планеты, размеры ядра кометы, как правило, относительно небольшие – обычно несколько километров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го размера обычно бывают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19720" y="31240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вот хвост кометы, когда она совсем близко подлетает к Солнцу, может растянуться на миллионы и даже десятки и сотни миллионов кило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D:\Elena\Materiali dla prezent\hb3_26_97-50mmreflectlake.jpg"/>
          <p:cNvPicPr/>
          <p:nvPr/>
        </p:nvPicPr>
        <p:blipFill>
          <a:blip r:embed="rId1"/>
          <a:stretch/>
        </p:blipFill>
        <p:spPr>
          <a:xfrm>
            <a:off x="0" y="1130400"/>
            <a:ext cx="3860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14479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ычно их делят на короткопереодические и долгопереодические кометы. Это значит, что некоторые кометы – короткопереодические -  прилетают к Солнцу относительно часто – хотя бы один раз за 200 л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Documents and Settings\abc1\Desktop\ELENA\PowerPoint\Moi\Kosmos\Kometi\06002.jp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16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3049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всего комет известно людя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7200" y="7621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омам известно довольно много ком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28600" y="487692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строномам известно 72 кометы обегающие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лнце за период меньший чем 30 л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еще известно более 200 комет которые пролетают вокруг Солнца довольно ред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2280" y="342900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долгопереодические прилетают к Солнцу, по нашим Земным понятиям очень редко. Например комета Хейла-Боппа (это она на этой фотографии) пролетает мимо Земли примерно один раз в 2000 лет. Она пролетала в 1997 году и в следующий раз прилетит только в 4100 году. А есть такие кометы, которые прилетают раз в 7000 лет и даже еще реж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0" y="5788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а самом деле комет конечно гораздо больше. Ведь люди могут заметить их только тогда, когда они начинают приближаться к Земле. И как знать, вдруг и ты когда-нибудь откроешь какую-нибудь комету. Если будешь внимательно смотреть на небо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5562720" y="685800"/>
            <a:ext cx="358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ая известная – это комета Галлея, прилетающая к Солнцу каждые 76 лет.  Когда эта комета в прошлый раз пролетала мимо Земли   ученые – астрономы направили к ней исследовательские космические аппараты, которые сделали много фотографий кометы, взяли пробы ее вещест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5715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этой кометы в 1758 году предсказал Эдмонд Галлей за 53 года до того, как это событие на самом деле произошло. И когда комета на самом деле появилась люди назвали ее в честь Галлея. До Галлея люди и не подозревали, что появляющееся на небе каждые 76 лет небесное тело – не разные кометы, а одна и та ж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4920" y="495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ледующий раз комета Галлея будет пролетать мимо Земли в 2061 год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" descr="F:\ELENA\PowerPoint\Materiali dla prezentacij\KOSMOS\Halley1986.jpg"/>
          <p:cNvPicPr/>
          <p:nvPr/>
        </p:nvPicPr>
        <p:blipFill>
          <a:blip r:embed="rId1"/>
          <a:stretch/>
        </p:blipFill>
        <p:spPr>
          <a:xfrm>
            <a:off x="0" y="0"/>
            <a:ext cx="5638680" cy="3929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0" y="4038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 комета интересна тем, что ее ядро очень темное – темнее чем каменный уголь. Комета Галлея является одним из самых темных объектов в Солнечной Системе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ая комета самая извест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witaly\My Documents\Lena\Prezentacii\Moi\Kosmos\Kometi\10007.jpg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85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жет ли Земля столкнуться с комет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1066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ая вероятность есть, но она очень и очень мала. Кроме того, для Земли было-бы неприятно столкнуться именно с ядром кометы, а вот через кометные хвосты Земля пролетает регулярно. И в таких случаях с Земли можно увидеть очень захватывающее явление – метеоритный дожд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920" y="31240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которые ученые предполагают, что гибель динозавров была вызвана столкновением Земли и ядра не слишком большой ко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304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огда, обычно раз в несколько лет, на ночном небе становится видно новое небесное тело, напоминающее вытянутый комок светящегося тумана. Сначала оно становится все ярче и ярче, а затем начинает бледнеть. Затем, через несколько дней, а иногда и недель, оно исчезает совсем. Так с нашей Земли мы видим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Documents and Settings\witaly\My Documents\Lena\Prezentacii\Moi\Kosmos\Kometi\06008.jpg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jpeg\solar system\Comet.jpg"/>
          <p:cNvPicPr/>
          <p:nvPr/>
        </p:nvPicPr>
        <p:blipFill>
          <a:blip r:embed="rId1"/>
          <a:stretch/>
        </p:blipFill>
        <p:spPr>
          <a:xfrm>
            <a:off x="0" y="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396252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вечные странники. По своей собственной орбите они кружат вокруг Солнца, то приближаясь к нему, то наоборот удаляясь от не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242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3809880" y="3429000"/>
            <a:ext cx="4952880" cy="3024360"/>
            <a:chOff x="3809880" y="3429000"/>
            <a:chExt cx="4952880" cy="3024360"/>
          </a:xfrm>
        </p:grpSpPr>
        <p:pic>
          <p:nvPicPr>
            <p:cNvPr id="57" name="Picture 4" descr="F:\jpeg\solar system\Comet tail.jpg"/>
            <p:cNvPicPr/>
            <p:nvPr/>
          </p:nvPicPr>
          <p:blipFill>
            <a:blip r:embed="rId2"/>
            <a:stretch/>
          </p:blipFill>
          <p:spPr>
            <a:xfrm>
              <a:off x="4057200" y="3962520"/>
              <a:ext cx="46227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6781680" y="3429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рбита Юпите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809880" y="350532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тбита коме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5955840" y="48769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Солнц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7029360" y="5105520"/>
              <a:ext cx="4950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H="1">
              <a:off x="7854480" y="3733920"/>
              <a:ext cx="247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4883040" y="3809880"/>
              <a:ext cx="49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4343400" y="1522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такое коме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жду прилетами одной и той же кометы к Солнцу иногда могут проходить сотни земных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114800" y="9144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небесные тела, одна из составных частей нашей Солнечной систе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876920" y="1981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мо слово «комета» можно перевести как «косматая звезд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F:\ELENA\PowerPoint\Materiali dla prezentacij\KOSMOS\history_jotto.jpg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7"/>
          <p:cNvSpPr/>
          <p:nvPr/>
        </p:nvSpPr>
        <p:spPr>
          <a:xfrm>
            <a:off x="5715000" y="914400"/>
            <a:ext cx="3429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 на этот гобелен «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Поклонение трёх святых цар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флорентийского художника Джотто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(1266/67 -1337)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заднем плане отчетливо видна звезда с хвостом. Искусствоведы и ученые полагают, что это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ком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Галле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 средних веков некоторые богословы считают, что звезда, появившаяся на Востоке в момент рождения Иисуса Христа была именно пролетавшей мимо Земли кометой Галлея. Хотя, это не более, чем одна из верс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0" y="662940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 сайта: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http://encyclopedia.astrologer.ru/cgi-bin/index?V/vifleemskaya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1522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 люди раньше относились к комета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2286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в целом в средние века люди очень боялись этого явления и думали, что с появлением на небе кометы на землю обрушатся разные неприятности. И возникающие эпидемии страшных болезней, и проливные дожди с градом, которые уничтожали посевы, люди объясняли именно появлением в небе новой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Documents and Settings\witaly\My Documents\Lena\Prezentacii\Moi\Kosmos\Kometi\06002.jpg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witaly\My Documents\Lena\Prezentacii\Moi\Kosmos\Kometi\06009.jpg"/>
          <p:cNvPicPr/>
          <p:nvPr/>
        </p:nvPicPr>
        <p:blipFill>
          <a:blip r:embed="rId1"/>
          <a:stretch/>
        </p:blipFill>
        <p:spPr>
          <a:xfrm>
            <a:off x="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657600" y="914400"/>
            <a:ext cx="548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дали от Солнца комета почти ничем не отличается от обычного астероида – она выглядит просто огромным снежком из замерзшего льда, космической пыли и кусочков различных горных пород (например железа). Надо сказать, что лед из которого состоят кометы не совсем наш, земной лед – ее лед – это замерзшая смесь из разных газов, (метана, аммиака, углекислого газа) и некоторого количества воды. Этот снежок – ядро комет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962520" y="2286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у кометы внутри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F:\jpeg\solar system\Comet nucleus.jpg"/>
          <p:cNvPicPr/>
          <p:nvPr/>
        </p:nvPicPr>
        <p:blipFill>
          <a:blip r:embed="rId2"/>
          <a:stretch/>
        </p:blipFill>
        <p:spPr>
          <a:xfrm>
            <a:off x="5587920" y="3263760"/>
            <a:ext cx="3556080" cy="3594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28600" y="38098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тем, по мере приближения к Солнцу газ начинает испаряться и у кометы появляется как-бы газовое одеяло. Астрономы называют его ко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48006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олько подлетев к Солнцу еще ближе комета обзаводится своим замечательным хвост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чему комета светится, а все остальные астероиды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114800" y="4876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очие астероиды состоят в основном из каменистых и железных пород, которые отражают свет гораздо хуже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:\Documents and Settings\witaly\My Documents\Lena\Prezentacii\Moi\Kosmos\Kometi\06007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4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bc1\Desktop\ELENA\PowerPoint\Moi\Kosmos\Kometi\10000.jpg"/>
          <p:cNvPicPr/>
          <p:nvPr/>
        </p:nvPicPr>
        <p:blipFill>
          <a:blip r:embed="rId2"/>
          <a:stretch/>
        </p:blipFill>
        <p:spPr>
          <a:xfrm>
            <a:off x="0" y="3967200"/>
            <a:ext cx="3753000" cy="28908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1600200"/>
            <a:ext cx="480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мом деле сама комета не светится. Она как и остальные небесные тела входящие в Солнечную систему только отражает свет. Но поскольку она состоит в основном из льда, от которого свет отражается почти так же хорошо как от зеркала, то с Земли кажется будто комета свет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jpeg\solar system\Comet tail.jpg"/>
          <p:cNvPicPr/>
          <p:nvPr/>
        </p:nvPicPr>
        <p:blipFill>
          <a:blip r:embed="rId1"/>
          <a:stretch/>
        </p:blipFill>
        <p:spPr>
          <a:xfrm>
            <a:off x="3962520" y="838080"/>
            <a:ext cx="4647960" cy="2713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04920" y="1522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ткуда у кометы берется хвос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838080"/>
            <a:ext cx="3733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ы уже знаешь, что ядро кометы состоит из комьев льда, пыли и прочего космического мусора. Пока комета находится далеко о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а, за пределами орбиты Юпитера, она так и выглядит – большой – пребольшой комок ледяной гряз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3962520"/>
            <a:ext cx="541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чем ближе она приближается к Солнцу, тем больш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е ее нагревает. Постепенно лед начинает подтаивать и вместе с пылью и грязью отлетать от кометы - испаряться. Так и образуется у кометы хвост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2362320" y="2895120"/>
            <a:ext cx="4038120" cy="762480"/>
            <a:chOff x="2362320" y="2895120"/>
            <a:chExt cx="4038120" cy="762480"/>
          </a:xfrm>
        </p:grpSpPr>
        <p:sp>
          <p:nvSpPr>
            <p:cNvPr id="90" name="Line 6"/>
            <p:cNvSpPr/>
            <p:nvPr/>
          </p:nvSpPr>
          <p:spPr>
            <a:xfrm flipH="1" flipV="1">
              <a:off x="2362320" y="2895120"/>
              <a:ext cx="251136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V="1">
              <a:off x="4873680" y="3200400"/>
              <a:ext cx="1526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6485040" y="4724280"/>
            <a:ext cx="265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ближе комета подлетает к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у, тем длиннее становится ее хвос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6019920" y="3048120"/>
            <a:ext cx="10666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 flipH="1" flipV="1">
            <a:off x="7772400" y="2285640"/>
            <a:ext cx="9144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85800" y="6095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Хвост кометы всегда направлен «от Солнца»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и поэтому, когда комета удаляется – получается, что она летит хвостом в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7010280" y="609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бита Юпи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8000640" y="838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ELENA\PowerPoint\Materiali dla prezentacij\KOSMOS\Heila-Bopa.jpg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30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52280" y="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хвостов может быть у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дивительно, но иногда у кометы хвост не один, а целых два. Или даже три. Это происходит потому, что ядро кометы состоит из разных частиц и Солнечный ветер по разному сгоняет с него пыль, газ и вкрапления металло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 фотографии комета Хейли-Боппа, пролетавшая мимо Солнца в 1997 году. У нее, как видишь, как раз два хвоста.                                                               Ярко белый – это отлетающая пыль, а синий – газ, испаряющийся с ядр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40:36Z</dcterms:created>
  <dc:creator>wl</dc:creator>
  <dc:description/>
  <dc:language>en-US</dc:language>
  <cp:lastModifiedBy>viktor</cp:lastModifiedBy>
  <dcterms:modified xsi:type="dcterms:W3CDTF">2016-08-28T12:44:45Z</dcterms:modified>
  <cp:revision>21</cp:revision>
  <dc:subject/>
  <dc:title>PowerPoint Presentation</dc:title>
</cp:coreProperties>
</file>