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F02C-0BF0-4134-81B2-DEB3866A6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C6CB-3618-4E75-91F9-210C2920F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5264-F51D-4ECE-BE5A-6B1ED970A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13DF-94A0-4180-ADD3-AB9B1C74E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A9A4-A737-4F2A-8BF8-A459739FE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738C-AF4B-461A-A9E3-A7E5C8390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62DE-3BCE-4C21-8441-D06C220F2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9C7C-27D7-402F-AA1F-1F1C390E3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00F2-0322-406D-9A7D-3DF0AB8F9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5A53-3FA6-4493-BBB8-B1780C642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5C48-DFED-4601-B81E-63B7D2A38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CFBF-009E-4F64-B8FE-866871B71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FAA9-89AF-4E2C-9EB9-8691F1537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DF5F-FDE0-45F5-AF08-7642D8D8A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CB7B-BA36-44EE-8FD1-3E5CFCB2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B25A-B913-4BA5-BF7F-925C9170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7C96-3252-428E-9513-048590D4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D866-70BB-4568-B375-7B87E2C7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22DC-2E7C-46E7-BADB-13B6E015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9EFE-AE6C-409B-AA7E-DC3B60B8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FC12-AF9D-43DB-AE4B-8C66D51B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030A-DBBE-4BBE-8D57-2B0996CA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B3C6-55ED-4A43-9FE8-6ED45EB1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A58A-83F8-411C-A834-21464251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04AD-1009-4A00-AF4F-291641BE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8DA5-40DA-4199-85BC-2EE899A2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438B-745C-459A-AFB3-AC9D384EE7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strolab.ru/" TargetMode="External"/><Relationship Id="rId2" Type="http://schemas.openxmlformats.org/officeDocument/2006/relationships/hyperlink" Target="http://fargalaxy.al.ru/" TargetMode="External"/><Relationship Id="rId3" Type="http://schemas.openxmlformats.org/officeDocument/2006/relationships/hyperlink" Target="http://space.rin.ru/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533520"/>
            <a:ext cx="480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Ч</a:t>
            </a: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то</a:t>
            </a: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 та</a:t>
            </a: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ко</a:t>
            </a: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е ко</a:t>
            </a: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ме</a:t>
            </a: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т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0" y="6156360"/>
            <a:ext cx="1905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Сайты о кометах:                             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www.astrolab.ru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ww.fargalaxy.al.ru </a:t>
            </a:r>
            <a:br>
              <a:rPr sz="1000"/>
            </a:b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space.rin.ru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F:\ELENA\PowerPoint\Materiali dla prezentacij\KOSMOS\west.jpg"/>
          <p:cNvPicPr/>
          <p:nvPr/>
        </p:nvPicPr>
        <p:blipFill>
          <a:blip r:embed="rId4"/>
          <a:stretch/>
        </p:blipFill>
        <p:spPr>
          <a:xfrm>
            <a:off x="4648320" y="228600"/>
            <a:ext cx="4270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4191120" y="1600200"/>
            <a:ext cx="4724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 сравнению с размерами нашей планеты, размеры ядра кометы, как правило, относительно небольшие – обычно несколько километров в диаметр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0" y="228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Какого размера обычно бывают комет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419720" y="3124080"/>
            <a:ext cx="434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 вот хвост кометы, когда она совсем близко подлетает к Солнцу, может растянуться на миллионы и даже десятки и сотни миллионов километр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D:\Elena\Materiali dla prezent\hb3_26_97-50mmreflectlake.jpg"/>
          <p:cNvPicPr/>
          <p:nvPr/>
        </p:nvPicPr>
        <p:blipFill>
          <a:blip r:embed="rId1"/>
          <a:stretch/>
        </p:blipFill>
        <p:spPr>
          <a:xfrm>
            <a:off x="0" y="1130400"/>
            <a:ext cx="386064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6"/>
          <p:cNvSpPr/>
          <p:nvPr/>
        </p:nvSpPr>
        <p:spPr>
          <a:xfrm>
            <a:off x="0" y="1447920"/>
            <a:ext cx="4343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ычно их делят на короткопереодические и долгопереодические кометы. Это значит, что некоторые кометы – короткопереодические -  прилетают к Солнцу относительно часто – хотя бы один раз за 200 лет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7" descr="C:\Documents and Settings\abc1\Desktop\ELENA\PowerPoint\Moi\Kosmos\Kometi\06002.jpg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32162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304920" y="228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Сколько всего комет известно людя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457200" y="7621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строномам известно довольно много коме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28600" y="4876920"/>
            <a:ext cx="876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строномам известно 72 кометы обегающие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лнце за период меньший чем 30 лет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 еще известно более 200 комет которые пролетают вокруг Солнца довольно редк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152280" y="3429000"/>
            <a:ext cx="8763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 долгопереодические прилетают к Солнцу, по нашим Земным понятиям очень редко. Например комета Хейла-Боппа (это она на этой фотографии) пролетает мимо Земли примерно один раз в 2000 лет. Она пролетала в 1997 году и в следующий раз прилетит только в 4100 году. А есть такие кометы, которые прилетают раз в 7000 лет и даже еще реж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0" y="57880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 на самом деле комет конечно гораздо больше. Ведь люди могут заметить их только тогда, когда они начинают приближаться к Земле. И как знать, вдруг и ты когда-нибудь откроешь какую-нибудь комету. Если будешь внимательно смотреть на небо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7"/>
          <p:cNvSpPr/>
          <p:nvPr/>
        </p:nvSpPr>
        <p:spPr>
          <a:xfrm>
            <a:off x="5562720" y="685800"/>
            <a:ext cx="3581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амая известная – это комета Галлея, прилетающая к Солнцу каждые 76 лет.  Когда эта комета в прошлый раз пролетала мимо Земли   ученые – астрономы направили к ней исследовательские космические аппараты, которые сделали много фотографий кометы, взяли пробы ее веществ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0" y="571500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явление этой кометы в 1758 году предсказал Эдмонд Галлей за 53 года до того, как это событие на самом деле произошло. И когда комета на самом деле появилась люди назвали ее в честь Галлея. До Галлея люди и не подозревали, что появляющееся на небе каждые 76 лет небесное тело – не разные кометы, а одна и та же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04920" y="495288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следующий раз комета Галлея будет пролетать мимо Земли в 2061 году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0" descr="F:\ELENA\PowerPoint\Materiali dla prezentacij\KOSMOS\Halley1986.jpg"/>
          <p:cNvPicPr/>
          <p:nvPr/>
        </p:nvPicPr>
        <p:blipFill>
          <a:blip r:embed="rId1"/>
          <a:stretch/>
        </p:blipFill>
        <p:spPr>
          <a:xfrm>
            <a:off x="0" y="0"/>
            <a:ext cx="5638680" cy="39290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1"/>
          <p:cNvSpPr/>
          <p:nvPr/>
        </p:nvSpPr>
        <p:spPr>
          <a:xfrm>
            <a:off x="0" y="40384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та комета интересна тем, что ее ядро очень темное – темнее чем каменный уголь. Комета Галлея является одним из самых темных объектов в Солнечной Системе.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80880" y="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Какая комета самая известна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witaly\My Documents\Lena\Prezentacii\Moi\Kosmos\Kometi\10007.jpg"/>
          <p:cNvPicPr/>
          <p:nvPr/>
        </p:nvPicPr>
        <p:blipFill>
          <a:blip r:embed="rId1"/>
          <a:stretch/>
        </p:blipFill>
        <p:spPr>
          <a:xfrm>
            <a:off x="3505320" y="2590920"/>
            <a:ext cx="5105160" cy="34858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304920" y="228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Может ли Земля столкнуться с комето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57200" y="1066680"/>
            <a:ext cx="845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ая вероятность есть, но она очень и очень мала. Кроме того, для Земли было-бы неприятно столкнуться именно с ядром кометы, а вот через кометные хвосты Земля пролетает регулярно. И в таких случаях с Земли можно увидеть очень захватывающее явление – метеоритный дождь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04920" y="3124080"/>
            <a:ext cx="2971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которые ученые предполагают, что гибель динозавров была вызвана столкновением Земли и ядра не слишком большой коме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52280" y="304920"/>
            <a:ext cx="8991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ногда, обычно раз в несколько лет, на ночном небе становится видно новое небесное тело, напоминающее вытянутый комок светящегося тумана. Сначала оно становится все ярче и ярче, а затем начинает бледнеть. Затем, через несколько дней, а иногда и недель, оно исчезает совсем. Так с нашей Земли мы видим комет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C:\Documents and Settings\witaly\My Documents\Lena\Prezentacii\Moi\Kosmos\Kometi\06008.jpg"/>
          <p:cNvPicPr/>
          <p:nvPr/>
        </p:nvPicPr>
        <p:blipFill>
          <a:blip r:embed="rId1"/>
          <a:stretch/>
        </p:blipFill>
        <p:spPr>
          <a:xfrm>
            <a:off x="1295280" y="2209680"/>
            <a:ext cx="647712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:\jpeg\solar system\Comet.jpg"/>
          <p:cNvPicPr/>
          <p:nvPr/>
        </p:nvPicPr>
        <p:blipFill>
          <a:blip r:embed="rId1"/>
          <a:stretch/>
        </p:blipFill>
        <p:spPr>
          <a:xfrm>
            <a:off x="0" y="0"/>
            <a:ext cx="4038480" cy="29685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152280" y="3962520"/>
            <a:ext cx="3733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меты – это вечные странники. По своей собственной орбите они кружат вокруг Солнца, то приближаясь к нему, то наоборот удаляясь от него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724280" y="32767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12"/>
          <p:cNvGrpSpPr/>
          <p:nvPr/>
        </p:nvGrpSpPr>
        <p:grpSpPr>
          <a:xfrm>
            <a:off x="3809880" y="3429000"/>
            <a:ext cx="4952880" cy="3024360"/>
            <a:chOff x="3809880" y="3429000"/>
            <a:chExt cx="4952880" cy="3024360"/>
          </a:xfrm>
        </p:grpSpPr>
        <p:pic>
          <p:nvPicPr>
            <p:cNvPr id="57" name="Picture 4" descr="F:\jpeg\solar system\Comet tail.jpg"/>
            <p:cNvPicPr/>
            <p:nvPr/>
          </p:nvPicPr>
          <p:blipFill>
            <a:blip r:embed="rId2"/>
            <a:stretch/>
          </p:blipFill>
          <p:spPr>
            <a:xfrm>
              <a:off x="4057200" y="3962520"/>
              <a:ext cx="4622760" cy="24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5"/>
            <p:cNvSpPr/>
            <p:nvPr/>
          </p:nvSpPr>
          <p:spPr>
            <a:xfrm>
              <a:off x="6781680" y="342900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Орбита Юпитер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7"/>
            <p:cNvSpPr/>
            <p:nvPr/>
          </p:nvSpPr>
          <p:spPr>
            <a:xfrm>
              <a:off x="3809880" y="3505320"/>
              <a:ext cx="239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Отбита комет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8"/>
            <p:cNvSpPr/>
            <p:nvPr/>
          </p:nvSpPr>
          <p:spPr>
            <a:xfrm>
              <a:off x="5955840" y="4876920"/>
              <a:ext cx="123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Verdana"/>
                </a:rPr>
                <a:t>Солнц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9"/>
            <p:cNvSpPr/>
            <p:nvPr/>
          </p:nvSpPr>
          <p:spPr>
            <a:xfrm>
              <a:off x="7029360" y="5105520"/>
              <a:ext cx="49500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0"/>
            <p:cNvSpPr/>
            <p:nvPr/>
          </p:nvSpPr>
          <p:spPr>
            <a:xfrm flipH="1">
              <a:off x="7854480" y="3733920"/>
              <a:ext cx="2473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11"/>
            <p:cNvSpPr/>
            <p:nvPr/>
          </p:nvSpPr>
          <p:spPr>
            <a:xfrm>
              <a:off x="4883040" y="3809880"/>
              <a:ext cx="495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Text Box 13"/>
          <p:cNvSpPr/>
          <p:nvPr/>
        </p:nvSpPr>
        <p:spPr>
          <a:xfrm>
            <a:off x="4343400" y="152280"/>
            <a:ext cx="480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Что такое комета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0" y="5562720"/>
            <a:ext cx="38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ежду прилетами одной и той же кометы к Солнцу иногда могут проходить сотни земных ле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4114800" y="914400"/>
            <a:ext cx="487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меты – это небесные тела, одна из составных частей нашей Солнечной систем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4876920" y="198108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амо слово «комета» можно перевести как «косматая звезда»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26" descr="F:\ELENA\PowerPoint\Materiali dla prezentacij\KOSMOS\history_jotto.jpg"/>
          <p:cNvPicPr/>
          <p:nvPr/>
        </p:nvPicPr>
        <p:blipFill>
          <a:blip r:embed="rId1"/>
          <a:stretch/>
        </p:blipFill>
        <p:spPr>
          <a:xfrm>
            <a:off x="0" y="6858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027"/>
          <p:cNvSpPr/>
          <p:nvPr/>
        </p:nvSpPr>
        <p:spPr>
          <a:xfrm>
            <a:off x="5715000" y="914400"/>
            <a:ext cx="3429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смотри на этот гобелен «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Поклонение трёх святых царей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»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флорентийского художника Джотто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(1266/67 -1337)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заднем плане отчетливо видна звезда с хвостом. Искусствоведы и ученые полагают, что это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комет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Галле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 средних веков некоторые богословы считают, что звезда, появившаяся на Востоке в момент рождения Иисуса Христа была именно пролетавшей мимо Земли кометой Галлея. Хотя, это не более, чем одна из верси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28"/>
          <p:cNvSpPr/>
          <p:nvPr/>
        </p:nvSpPr>
        <p:spPr>
          <a:xfrm>
            <a:off x="0" y="6629400"/>
            <a:ext cx="7315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С сайта: 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http://encyclopedia.astrologer.ru/cgi-bin/index?V/vifleemskaya.htm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029"/>
          <p:cNvSpPr/>
          <p:nvPr/>
        </p:nvSpPr>
        <p:spPr>
          <a:xfrm>
            <a:off x="609480" y="15228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Как люди раньше относились к кометам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80880" y="228600"/>
            <a:ext cx="8382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 в целом в средние века люди очень боялись этого явления и думали, что с появлением на небе кометы на землю обрушатся разные неприятности. И возникающие эпидемии страшных болезней, и проливные дожди с градом, которые уничтожали посевы, люди объясняли именно появлением в небе новой комет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C:\Documents and Settings\witaly\My Documents\Lena\Prezentacii\Moi\Kosmos\Kometi\06002.jpg"/>
          <p:cNvPicPr/>
          <p:nvPr/>
        </p:nvPicPr>
        <p:blipFill>
          <a:blip r:embed="rId1"/>
          <a:stretch/>
        </p:blipFill>
        <p:spPr>
          <a:xfrm>
            <a:off x="1143000" y="2057400"/>
            <a:ext cx="69343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Documents and Settings\witaly\My Documents\Lena\Prezentacii\Moi\Kosmos\Kometi\06009.jpg"/>
          <p:cNvPicPr/>
          <p:nvPr/>
        </p:nvPicPr>
        <p:blipFill>
          <a:blip r:embed="rId1"/>
          <a:stretch/>
        </p:blipFill>
        <p:spPr>
          <a:xfrm>
            <a:off x="0" y="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3657600" y="914400"/>
            <a:ext cx="54864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дали от Солнца комета почти ничем не отличается от обычного астероида – она выглядит просто огромным снежком из замерзшего льда, космической пыли и кусочков различных горных пород (например железа). Надо сказать, что лед из которого состоят кометы не совсем наш, земной лед – ее лед – это замерзшая смесь из разных газов, (метана, аммиака, углекислого газа) и некоторого количества воды. Этот снежок – ядро кометы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962520" y="228600"/>
            <a:ext cx="495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Что у кометы внутри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F:\jpeg\solar system\Comet nucleus.jpg"/>
          <p:cNvPicPr/>
          <p:nvPr/>
        </p:nvPicPr>
        <p:blipFill>
          <a:blip r:embed="rId2"/>
          <a:stretch/>
        </p:blipFill>
        <p:spPr>
          <a:xfrm>
            <a:off x="5587920" y="3263760"/>
            <a:ext cx="3556080" cy="35942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9"/>
          <p:cNvSpPr/>
          <p:nvPr/>
        </p:nvSpPr>
        <p:spPr>
          <a:xfrm>
            <a:off x="228600" y="3809880"/>
            <a:ext cx="518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тем, по мере приближения к Солнцу газ начинает испаряться и у кометы появляется как-бы газовое одеяло. Астрономы называют его ком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28600" y="4800600"/>
            <a:ext cx="518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 только подлетев к Солнцу еще ближе комета обзаводится своим замечательным хвосто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22860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очему комета светится, а все остальные астероиды не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114800" y="4876920"/>
            <a:ext cx="464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 прочие астероиды состоят в основном из каменистых и железных пород, которые отражают свет гораздо хуже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C:\Documents and Settings\witaly\My Documents\Lena\Prezentacii\Moi\Kosmos\Kometi\06007.jpg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3349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abc1\Desktop\ELENA\PowerPoint\Moi\Kosmos\Kometi\10000.jpg"/>
          <p:cNvPicPr/>
          <p:nvPr/>
        </p:nvPicPr>
        <p:blipFill>
          <a:blip r:embed="rId2"/>
          <a:stretch/>
        </p:blipFill>
        <p:spPr>
          <a:xfrm>
            <a:off x="0" y="3967200"/>
            <a:ext cx="3753000" cy="28908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0" y="1600200"/>
            <a:ext cx="4800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самом деле сама комета не светится. Она как и остальные небесные тела входящие в Солнечную систему только отражает свет. Но поскольку она состоит в основном из льда, от которого свет отражается почти так же хорошо как от зеркала, то с Земли кажется будто комета светит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F:\jpeg\solar system\Comet tail.jpg"/>
          <p:cNvPicPr/>
          <p:nvPr/>
        </p:nvPicPr>
        <p:blipFill>
          <a:blip r:embed="rId1"/>
          <a:stretch/>
        </p:blipFill>
        <p:spPr>
          <a:xfrm>
            <a:off x="3962520" y="838080"/>
            <a:ext cx="4647960" cy="2713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04920" y="152280"/>
            <a:ext cx="609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Откуда у кометы берется хвост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52280" y="838080"/>
            <a:ext cx="373392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ы уже знаешь, что ядро кометы состоит из комьев льда, пыли и прочего космического мусора. Пока комета находится далеко от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лнца, за пределами орбиты Юпитера, она так и выглядит – большой – пребольшой комок ледяной гряз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85800" y="3962520"/>
            <a:ext cx="5410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 чем ближе она приближается к Солнцу, тем больше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лнце ее нагревает. Постепенно лед начинает подтаивать и вместе с пылью и грязью отлетать от кометы - испаряться. Так и образуется у кометы хвост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16"/>
          <p:cNvGrpSpPr/>
          <p:nvPr/>
        </p:nvGrpSpPr>
        <p:grpSpPr>
          <a:xfrm>
            <a:off x="2362320" y="2895120"/>
            <a:ext cx="4038120" cy="762480"/>
            <a:chOff x="2362320" y="2895120"/>
            <a:chExt cx="4038120" cy="762480"/>
          </a:xfrm>
        </p:grpSpPr>
        <p:sp>
          <p:nvSpPr>
            <p:cNvPr id="90" name="Line 6"/>
            <p:cNvSpPr/>
            <p:nvPr/>
          </p:nvSpPr>
          <p:spPr>
            <a:xfrm flipH="1" flipV="1">
              <a:off x="2362320" y="2895120"/>
              <a:ext cx="251136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7"/>
            <p:cNvSpPr/>
            <p:nvPr/>
          </p:nvSpPr>
          <p:spPr>
            <a:xfrm flipV="1">
              <a:off x="4873680" y="3200400"/>
              <a:ext cx="152676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Rectangle 11"/>
          <p:cNvSpPr/>
          <p:nvPr/>
        </p:nvSpPr>
        <p:spPr>
          <a:xfrm>
            <a:off x="6485040" y="4724280"/>
            <a:ext cx="265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ем ближе комета подлетает к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лнцу, тем длиннее становится ее хвос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2"/>
          <p:cNvSpPr/>
          <p:nvPr/>
        </p:nvSpPr>
        <p:spPr>
          <a:xfrm flipV="1">
            <a:off x="6019920" y="3048120"/>
            <a:ext cx="1066680" cy="1676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4"/>
          <p:cNvSpPr/>
          <p:nvPr/>
        </p:nvSpPr>
        <p:spPr>
          <a:xfrm flipH="1" flipV="1">
            <a:off x="7772400" y="2285640"/>
            <a:ext cx="914400" cy="251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685800" y="609588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Хвост кометы всегда направлен «от Солнца»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и поэтому, когда комета удаляется – получается, что она летит хвостом впере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7010280" y="60948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бита Юпит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8"/>
          <p:cNvSpPr/>
          <p:nvPr/>
        </p:nvSpPr>
        <p:spPr>
          <a:xfrm flipH="1">
            <a:off x="8000640" y="8380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F:\ELENA\PowerPoint\Materiali dla prezentacij\KOSMOS\Heila-Bopa.jpg"/>
          <p:cNvPicPr/>
          <p:nvPr/>
        </p:nvPicPr>
        <p:blipFill>
          <a:blip r:embed="rId1"/>
          <a:stretch/>
        </p:blipFill>
        <p:spPr>
          <a:xfrm>
            <a:off x="1676520" y="1676520"/>
            <a:ext cx="5790960" cy="3830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152280" y="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Сколько хвостов может быть у комет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0" y="6094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дивительно, но иногда у кометы хвост не один, а целых два. Или даже три. Это происходит потому, что ядро кометы состоит из разных частиц и Солнечный ветер по разному сгоняет с него пыль, газ и вкрапления металлов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0" y="5715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это фотографии комета Хейли-Боппа, пролетавшая мимо Солнца в 1997 году. У нее, как видишь, как раз два хвоста.                                                               Ярко белый – это отлетающая пыль, а синий – газ, испаряющийся с ядра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1:40:36Z</dcterms:created>
  <dc:creator>wl</dc:creator>
  <dc:description/>
  <dc:language>en-US</dc:language>
  <cp:lastModifiedBy>viktor</cp:lastModifiedBy>
  <dcterms:modified xsi:type="dcterms:W3CDTF">2016-08-28T12:44:45Z</dcterms:modified>
  <cp:revision>21</cp:revision>
  <dc:subject/>
  <dc:title>PowerPoint Presentation</dc:title>
</cp:coreProperties>
</file>