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0440-9CE1-4C0E-B4AA-B9A06B0CCF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3220-D6F9-4E6D-99CC-175186B033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FDDB-17C5-420D-BEDF-4D9CC0932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D4414-6302-4AEB-BCBE-7F7491D2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3FEF-B48D-4DDF-A6EF-217F443C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E66BE-0809-4461-9679-D17AF73C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CDC5-4FA5-4F9A-AF96-7499AC97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0450-7CCC-4A2D-950A-90CF57A6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A3D2-E2C6-420B-A04B-15DB6103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E1F4-7B59-4507-A9E1-5DB86752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5F6B-0265-42E4-93DD-1B0960C1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C21F-6C04-461B-97CF-B383A65D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1CC5-1563-4702-9226-584CD97C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D1FB-6FDC-44BF-8582-8A7A48A1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564D-1127-42CB-8C56-7E571007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D8DF-185C-41BA-A232-3B9E7CDB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DE35-5C77-4F54-8247-A82987EC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A639-31D5-4978-83B1-B25A8D7A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6D13-0052-4DAA-9423-2CB8008B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546F-84E6-4BBC-8BA3-D9A9D20C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8D0C-C8D8-43C9-AC87-0852F679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2295A-DF92-408A-A759-CA29D589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52828-9766-49B3-9155-A6993EC7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DCB2-3F68-4536-8C4D-A9E5B650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CF6A-00B7-4B3E-B3BB-EDBB920D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1F21-A2EA-4CAA-9076-59FBF2C8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7C78-19AC-48BA-88C9-28969E0C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8A9B-4C5C-445F-A9F1-AF644FB889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F160-8318-4199-9B9D-FA8F63A9E4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1B7E-B1F0-463F-8163-9859FB98E8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17468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95480" y="107316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565440" y="1197000"/>
            <a:ext cx="181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Г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826920" y="2276640"/>
            <a:ext cx="7488360" cy="158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755640" y="2421000"/>
            <a:ext cx="75614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мплексный подход к оценке метапредметны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276640" y="54936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БОУ Лицей№165 имени 65-летия «ГА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4356000" y="4365720"/>
            <a:ext cx="3961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566160" y="59500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. Новгород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14FF-CD63-4E4E-BAB1-1423817511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324000" y="170028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аботы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чащихся, выполняющиеся в ходе обучения (домашние задания, мини-проекты и презентации, формализованные письменные задания – разнообразные тексты, отчеты о наблюдениях и экспериментах, различные словники, памятки, дневники, собранные массивы данных, подборки информационных материалов, поздравительные открытки и т.п., а также разнообразные инициативные творческие работы – иллюстрированные сочинения, плакаты, постеры, поделки и т.п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индивидуальная и совместна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деятельность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чащихся в ходе выполнения рабо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татистические данные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основанные на ясно выраженных показателях и или/дескрипторах и получаемые в ходе целенаправленных наблюдений или мини-исследов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езультаты тестирования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результаты устных и письменных проверочных работ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250920" y="404640"/>
            <a:ext cx="864216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сточниками информации для оцени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остигаемых   метапредметных образова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езультатов служ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596C-3249-4F79-B4D1-61098B4740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539640" y="404640"/>
            <a:ext cx="8136000" cy="151164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систему провероч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чебно-методических материалов входя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1692360" y="1952640"/>
            <a:ext cx="5472000" cy="8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артовая диагнос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692360" y="2924280"/>
            <a:ext cx="5472000" cy="8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истематизированное 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комендуемых учебных задач и ситу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1692360" y="3933720"/>
            <a:ext cx="5472000" cy="8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тоговые проверочные работы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1692360" y="4941720"/>
            <a:ext cx="5472000" cy="8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ртфель дост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361A-B210-4177-9FD1-C026666C47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108000" y="333360"/>
            <a:ext cx="90360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ортфель достиже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527280" y="155736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усски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тератур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остранны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10200" y="1557360"/>
            <a:ext cx="31338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ктанты, изложения,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записи монологов, диал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невники чит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ллюстрированные авторские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525840" y="260028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6010200" y="2602080"/>
            <a:ext cx="31338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матические дик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ни-исследования и мини-проек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дели, решения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525840" y="364500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кружающий мир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010200" y="3645000"/>
            <a:ext cx="31338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невники наблю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ни-исследования и мини-прое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вью, творческие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525840" y="465300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у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6010200" y="4653000"/>
            <a:ext cx="31338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-, фото- и видео-матери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дукты собственного твор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4210200" y="98100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4246560" y="94464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ки детски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3525840" y="569592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99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Физ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уль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6010200" y="5697360"/>
            <a:ext cx="3133800" cy="90036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ео-матери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невники наблюдений и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ые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79280" y="249228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мерны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0" y="3068640"/>
            <a:ext cx="3456000" cy="3670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борки детски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стар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иагно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атериалы теку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ки: листы наблюд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ий, оценочные л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и материа- лы тематически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и матер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лы итогового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стижения во внеучеб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"/>
          <p:cNvPicPr/>
          <p:nvPr/>
        </p:nvPicPr>
        <p:blipFill>
          <a:blip r:embed="rId1"/>
          <a:stretch/>
        </p:blipFill>
        <p:spPr>
          <a:xfrm>
            <a:off x="142920" y="944640"/>
            <a:ext cx="169236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F40A-939B-4403-A000-FE5A23AB30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250920" y="404640"/>
            <a:ext cx="8424720" cy="86364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620640"/>
            <a:ext cx="88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истема оценки метапредметных результатов (УУД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84360" y="2060640"/>
            <a:ext cx="7777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2917800" y="148428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нутренняя 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 flipH="1">
            <a:off x="2050560" y="1989000"/>
            <a:ext cx="1008360" cy="86364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4211640" y="1989000"/>
            <a:ext cx="0" cy="122400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5435640" y="1989000"/>
            <a:ext cx="1081080" cy="935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22360" y="2924280"/>
            <a:ext cx="26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ка шко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силохо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источник информаци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ст, беседа, наблюд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276720" y="3357720"/>
            <a:ext cx="237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ка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 источни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иагнос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 контрольные работы, срезовые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блюд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052680" y="3016080"/>
            <a:ext cx="240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амо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источник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амонаблюд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очные лис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сты самооцен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39F7-B3B1-49F2-8F7F-F49CB4ECEC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539640" y="404640"/>
            <a:ext cx="813600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чебные действия (по В. В. Давыд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116000" y="2133720"/>
            <a:ext cx="74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1116000" y="1557360"/>
            <a:ext cx="6985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нятие учебной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образование учебной задачи с целью обнаружения всеобщего отношения изучаемого объ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оделирование выделенного отношения в предметной, графической или буквен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образование модели от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троение системы частных задач, решаемых общим спосо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нтроль за выполнением учебн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ка усвоения общего способа как результата решения данной учебной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D03F-B601-45A3-9C85-49569DAB94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826920" y="1197000"/>
            <a:ext cx="78156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ониторинг 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это систематическая и регулярная процедура сбора данных по различным, важным образовательным аспектам для принятия оптимальных управленческих решений по повышению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A623-BB5A-45F2-A0C0-29602C3D68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4222800" y="134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23"/>
          <p:cNvSpPr/>
          <p:nvPr/>
        </p:nvSpPr>
        <p:spPr>
          <a:xfrm>
            <a:off x="539640" y="404640"/>
            <a:ext cx="813600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Цель мониторинга уров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формированности УУ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24"/>
          <p:cNvSpPr/>
          <p:nvPr/>
        </p:nvSpPr>
        <p:spPr>
          <a:xfrm>
            <a:off x="539640" y="2060640"/>
            <a:ext cx="8136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лучение объективной информации о состоянии и динамике уровня сформированности универсальных учебных действий у младших школьников в условиях реализации ФГОС нового поко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083C-E795-4454-A9C7-ECE08A4A62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12"/>
          <p:cNvSpPr/>
          <p:nvPr/>
        </p:nvSpPr>
        <p:spPr>
          <a:xfrm>
            <a:off x="539640" y="404640"/>
            <a:ext cx="813600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Задачи мониторин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13"/>
          <p:cNvSpPr/>
          <p:nvPr/>
        </p:nvSpPr>
        <p:spPr>
          <a:xfrm>
            <a:off x="611280" y="191628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1. Отработка механизмов сбора информации об уров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формированности У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2. Выявление и анализ факторов, способствующих формированию У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3. Апробация технологических карт и методик оценки уровня сформированности У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4. Формирование банка методических материалов для организации и проведения мониторинга уровня сформированности УУД на ступени начально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5. Обеспечение преемственности и единообразия в процедурах оценки качества результатов начального и среднего школьного образования в условиях внедрения ФГ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6. Разработка и апробация системы критериев и показателей уровня сформированности УУД у обучающихся на начальной ступени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418C-5D6D-4744-BF9C-C3B535C4A0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539640" y="404640"/>
            <a:ext cx="813600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ъекты мониторин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755640" y="269712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. Универсальные учеб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. Педагогические технологии, использу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начально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D09C-E3CD-441E-8556-03F77C9123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39640" y="404640"/>
            <a:ext cx="813600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зультаты наблюдения за уров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формированности компонентов УД у учщихся __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989000"/>
          <a:ext cx="8569080" cy="3743640"/>
        </p:xfrm>
        <a:graphic>
          <a:graphicData uri="http://schemas.openxmlformats.org/drawingml/2006/table">
            <a:tbl>
              <a:tblPr/>
              <a:tblGrid>
                <a:gridCol w="952560"/>
                <a:gridCol w="950760"/>
                <a:gridCol w="952560"/>
                <a:gridCol w="954000"/>
                <a:gridCol w="949320"/>
                <a:gridCol w="954000"/>
                <a:gridCol w="952560"/>
                <a:gridCol w="951120"/>
                <a:gridCol w="952200"/>
              </a:tblGrid>
              <a:tr h="814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. И. учащ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ий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вание У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ование мо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р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е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ных зада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 роль за выпол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ем 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ус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я общего спосо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E231-0A64-4CEA-BDF7-234098F261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95280" y="1628640"/>
            <a:ext cx="83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пособстовать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поддержанию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сей системы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еспечить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преемственность в сис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епрерывн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риентировать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образовательный процесс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остижение планируемых результатов ОО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существлять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управление образовательным процес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539640" y="620640"/>
            <a:ext cx="7993080" cy="1008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истема оценки призв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9EF9-8837-4232-94FD-4AC13DC541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87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ровни сформированности учебно- познавательного интер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39640" y="1741320"/>
          <a:ext cx="7920000" cy="4567320"/>
        </p:xfrm>
        <a:graphic>
          <a:graphicData uri="http://schemas.openxmlformats.org/drawingml/2006/table">
            <a:tbl>
              <a:tblPr/>
              <a:tblGrid>
                <a:gridCol w="622440"/>
                <a:gridCol w="1520640"/>
                <a:gridCol w="2306880"/>
                <a:gridCol w="3470040"/>
              </a:tblGrid>
              <a:tr h="89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-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диагностический при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диагностические при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интерес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 практически не обнаруживается (исключение: положительные реакции на яркий и забавный материал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личное или отрицательное отношение к решению любых учебных задач; более охотно выполняет привычные действия, чем осваивает новы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на новизн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ительные реакции возникают только на новый материал, касающийся конкретных фактов (но не теории)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вляется, задаёт вопросы о новом фактическом материале; включается в выполнение задания, связанного с ним, однако длительной устойчивой активности не проявля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379C-C37C-45F8-B589-3852F81B71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11280" y="404640"/>
          <a:ext cx="7921440" cy="6218280"/>
        </p:xfrm>
        <a:graphic>
          <a:graphicData uri="http://schemas.openxmlformats.org/drawingml/2006/table">
            <a:tbl>
              <a:tblPr/>
              <a:tblGrid>
                <a:gridCol w="620640"/>
                <a:gridCol w="1520640"/>
                <a:gridCol w="2310120"/>
                <a:gridCol w="3470040"/>
              </a:tblGrid>
              <a:tr h="155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опытст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ительные реакции возникают на новый теоретический материал (но не на способы решения задач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вляется и задаёт вопросы достаточно часто; включается в выполнение заданий часто, но интерес быстро пропада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ый учебный интере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на способы решения новой частной единичной задачи (но не системы задач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ается в процесс решения задачи, пытается самостоятельно найти способ решения и довести задание до конца; после решения задачи интерес исчерпывае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ый учебно-познавательный интере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на общий способ решения целой системы задач (но не выходит за пределы изучаемого материала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отно включается в процесс выполнения, работает длительно и устойчиво, принимает предложения найти новые применения найденному способ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ённый учебно-познавательный интере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независимо от внешних требований и выходит за рамки изучаемого материала. Непременно ориентирован на общие способы решения системы зада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ется постоянной характеристикой ученика; ученик проявляет выраженное творческое отношение к общему способу решения задач, стремится получить дополнительные сведения, имеется мотивированная избирательность интерес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6A92-EF06-4A6D-B8A8-8E6ACF3374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ровни сформированности целеполаг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50920" y="1197000"/>
          <a:ext cx="8642160" cy="5530680"/>
        </p:xfrm>
        <a:graphic>
          <a:graphicData uri="http://schemas.openxmlformats.org/drawingml/2006/table">
            <a:tbl>
              <a:tblPr/>
              <a:tblGrid>
                <a:gridCol w="637920"/>
                <a:gridCol w="1397160"/>
                <a:gridCol w="2797200"/>
                <a:gridCol w="380988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диагностический при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диагностические при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цел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ъявляемое требование осознаётся лишь частично. Включаясь в работу, быстро отвлекается или ведет себя хаотично, не знает, что именно надо делать. Может принимать лишь простейшие (не предполагающие промежуточных целей) треб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о различает учебные задачи разного типа, отсутствует реакция на новизну задачи, не может выделять промежуточные цели, нуждается в пооперационном контроле со стороны учителя, не может ответить на вопросы о том, что он собирается делать или что сдела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практической зада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ет и выполняет только практические задачи (но не теоретические), в теоретических задачах не ориентируе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знаёт, что надо делать и что он уже сделал в процессе решения практической задачи и может ответить на соответствующие вопросы; выделяет промежуточные цели; в отношении теоретических задач не может дать отчёта о своих действиях и не может осуществлять целенаправленных действи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C8EC-4C0D-4EA1-80E7-743BF8CCD0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95280" y="601560"/>
          <a:ext cx="8353440" cy="6137280"/>
        </p:xfrm>
        <a:graphic>
          <a:graphicData uri="http://schemas.openxmlformats.org/drawingml/2006/table">
            <a:tbl>
              <a:tblPr/>
              <a:tblGrid>
                <a:gridCol w="619200"/>
                <a:gridCol w="1349280"/>
                <a:gridCol w="2698920"/>
                <a:gridCol w="3686040"/>
              </a:tblGrid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определение познавательной задачи в практическу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ет познавательную задачу, осознаёт её требование, но в процессе её решения подменяет познавательную задачу практичес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отно включается в решение познавательной задачи и отвечает на вопросы о её содержании; возникшая познавательная цель крайне неустойчива; при выполнении задания ориентируется лишь на практическую его часть и фактически не достигает познавательной це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познавательной це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ая познавательная цель сохраняется при выполнении учебных действий и регулирует весь процесс их выполнения; чётко выполняется требование познавательной зада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отно осуществляет решение познавательной задачи, не изменяя её (не подменяя практической задачей и не выходя за её требования), чётко может дать отчёт о своих действиях после выполнения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определение практической задачи в познавательну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кнувшись с новой практической задачей, самостоятельно формулирует познавательную цель и строит действия в соответствии с н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озможность решить новую практическую задачу объясняет именно отсутствием адекватных способов; чётко осознаёт свою цель и структуру найденного способа и может дать о них отч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постановка новых учебных ц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формулирует новые познавательные цели без какой-либо стимуляции извне, в том числе и со стороны новой практической задачи; цели выходят за пределы требований программ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обственной инициативе выдвигает содержательные гипотезы; учебная деятельность приобретает форму активного исследования, активность направлена на содержание способов действия и их применение в различных услов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A475-402F-40DA-BC1F-749BED1E86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ровни сформированности учебных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79280" y="1341360"/>
          <a:ext cx="8713800" cy="5394240"/>
        </p:xfrm>
        <a:graphic>
          <a:graphicData uri="http://schemas.openxmlformats.org/drawingml/2006/table">
            <a:tbl>
              <a:tblPr/>
              <a:tblGrid>
                <a:gridCol w="663840"/>
                <a:gridCol w="1757160"/>
                <a:gridCol w="3008520"/>
                <a:gridCol w="3284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-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диагностический при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диагностические при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учебных действий как целостных единиц деятель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ожет выполнять учебные действия как таковые, может выполнять лишь отдельные операции без их внутренней связи друг с другом или копировать внешнюю форму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сознаёт содержание учебных действий и не может дать отчёта о них; ни самостоятельно, ни с помощью учителя (за исключением прямого показа) не способен выполнять учебные действия; навыки образуются с трудом и оказываются крайне неустойчивы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учебных действий в сотрудничестве с учител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йствий и их операционный состав осознаются; приступает к выполнению действий, однако без внешней помощи организовать свои действия и довести их до конца не может; в сотрудничестве с учителем работает относительно успеш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дать отчёт о своих действиях, но затрудняется в их практическом воплощении; помощь учителя принимается сравнительно легко; эффективно работает при пооперационном контроле; самостоятельные учебные действия практически отсутствую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32DC-E6B0-48CE-A3D7-E4F26C8618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826920" y="907920"/>
          <a:ext cx="7632720" cy="4849920"/>
        </p:xfrm>
        <a:graphic>
          <a:graphicData uri="http://schemas.openxmlformats.org/drawingml/2006/table">
            <a:tbl>
              <a:tblPr/>
              <a:tblGrid>
                <a:gridCol w="581040"/>
                <a:gridCol w="1540080"/>
                <a:gridCol w="2635200"/>
                <a:gridCol w="2876400"/>
              </a:tblGrid>
              <a:tr h="256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ный перенос учебны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ёнок самостоятельно применяет усвоенный способ действия к решению новой задачи, однако не способен внести в него даже небольшие изменения, чтобы приноровить его к условиям конкретной зада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енный способ применяет «слепо», не соотнося его с условиями задачи; такое соотнесение и перестройку действия может осуществлять лишь с помощью учителя, а не самостоятельно; при неизменности условий способен успешно выполнять действия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кватный перенос учебны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ет обнаружить несоответствие новой задачи и усвоенного способа; пытается самостоятельно перестроить известный ему способ. однако может это правильно сделать только при помощи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точно полно анализирует условия задачи и чётко соотносит их с известными способами; легко принимает косвенную помощь учителя; осознает и готов описать причины своих затруднений и особенности нового способа действ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6402-1A1B-4129-8439-6AF31ADAE9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11280" y="692280"/>
          <a:ext cx="7848360" cy="5473440"/>
        </p:xfrm>
        <a:graphic>
          <a:graphicData uri="http://schemas.openxmlformats.org/drawingml/2006/table">
            <a:tbl>
              <a:tblPr/>
              <a:tblGrid>
                <a:gridCol w="598320"/>
                <a:gridCol w="1582920"/>
                <a:gridCol w="2708280"/>
                <a:gridCol w="2958840"/>
              </a:tblGrid>
              <a:tr h="31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е построение учебны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я новую задачу, самостоятельно строит новый способ действия или модифицирует известный ему способ, делает это постепенно, шаг за шагом и в конце без какой-либо помощи извне правильно решает задач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и оценивает свои действия, на всех этапах решения задачи может дать отчёт о них; нахождение нового способа осуществляется медленно, неуверенно, с частым обращением к повторному анализу условий задачи, но на всех этапах полностью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ение учебны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рается на принципы построения способов действия и решает новую задачу «с хода», выводя новый способ из этого принципа, а не из модификации известного частного способ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ладевая новым способом, осознаёт не только его состав, но и принципы его построения (т.е. то, на чём он основан), осознаёт сходство между различными модификациями и их связи с условиями задач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BC9C-46AD-49D3-B3D4-F1BC9B4ABD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ровни сформированности действия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50920" y="1341360"/>
          <a:ext cx="8713800" cy="5394240"/>
        </p:xfrm>
        <a:graphic>
          <a:graphicData uri="http://schemas.openxmlformats.org/drawingml/2006/table">
            <a:tbl>
              <a:tblPr/>
              <a:tblGrid>
                <a:gridCol w="569880"/>
                <a:gridCol w="1736640"/>
                <a:gridCol w="3160800"/>
                <a:gridCol w="32464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диагностический при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диагностические при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контро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действия не контролируются, не соотносятся со схемой; допущенные ошибки не замечаются и не исправляются даже в отношении многократно повторённы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меет обнаружить и исправить ошибку даже по просьбе учителя в отношении неоднократно повторённых действий; часто допускает одни и те же ошибки; некритически относится к исправленным ошибкам в своих работах и не замечает ошибок других уче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на уровне непроизвольного вним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ношении многократно повторённых действий может, хотя и не систематически, неосознанно фиксировать факт расхождения действий и непроизвольно запомненной схемы; заметив и исправив ошибку, не может обосновать свои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я как бы неосознанно, предугадывает правильное направление действий; часто допускает одни и те же ошибки; сделанные ошибки исправляет неуверенно; в малознакомых действиях ошибки допускает чаще, чем в знакомых, и не исправля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5011-7458-4B29-A8B7-24F8AC35AC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11280" y="620640"/>
          <a:ext cx="7993080" cy="5965920"/>
        </p:xfrm>
        <a:graphic>
          <a:graphicData uri="http://schemas.openxmlformats.org/drawingml/2006/table">
            <a:tbl>
              <a:tblPr/>
              <a:tblGrid>
                <a:gridCol w="522360"/>
                <a:gridCol w="1595160"/>
                <a:gridCol w="2897280"/>
                <a:gridCol w="2978280"/>
              </a:tblGrid>
              <a:tr h="25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ый контроль на уровне произвольного вним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нового действия введённая его схема осознаётся, однако затруднено одновременное выполнение учебных действий и их соотнесение со схемой; ретроспективно такое соотнесение проделывает, ошибки исправляет и обосновыва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цессе решения задачи не использует усвоенную схему, а после её решения, в особенности по просьбе учителя может соотнести его со схемой, найти и исправить ошибки; в многократно повторённых действиях ошибок не допускает или легко их исправля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ый контроль на уровне произвольного вним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осредственно в процессе выполнения действия ученик ориентируется на усвоенную им обобщённую его схему и успешно соотносит с ней процесс решения задачи, почти не допуская ошиб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ные ошибки обнаруживаются и исправляются самостоятельно, правильно объясняет свои действия; осознанно контролирует процесс решения задачи другими учениками; столкнувшись с новой задачей, не может скорректировать применяемую схему, не контролирует её адекватность новым условия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3C2F-3BA3-4996-BBCF-7F5AF0DEF1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68360" y="692280"/>
          <a:ext cx="8207280" cy="5473440"/>
        </p:xfrm>
        <a:graphic>
          <a:graphicData uri="http://schemas.openxmlformats.org/drawingml/2006/table">
            <a:tbl>
              <a:tblPr/>
              <a:tblGrid>
                <a:gridCol w="538200"/>
                <a:gridCol w="1596960"/>
                <a:gridCol w="2924280"/>
                <a:gridCol w="3147840"/>
              </a:tblGrid>
              <a:tr h="23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ый рефлексивный контрол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я новую задачу, успешно применяет к ней старую, неадекватную схему, однако с помощью учителя обнаруживает неадекватность схемы новым условиям и пытается внести в действие корректив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, соответствующие схеме, выполняются уверенно и безошибочно. Без помощи учителя не может обнаружить несоответствие усвоенной схемы новым условия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ый рефлексивный контрол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я новую задачу, самостоятельно обнаруживает ошибки, вызванные несоответствием схемы и новых условий задачи, и самостоятельно вносит коррективы в схему, совершая действия безошибоч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шно контролирует не только соответствие выполняемых действий их схеме, но и соответствие самой схемы изменившимся условиям задачи; в ряде случаев вносит коррекции в схему действий ещё до начала их фактического выполн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D7E4-04AB-45A3-AAA4-FF489B16CC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09480" y="1600200"/>
            <a:ext cx="792504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ивание является постоянным процессом, естественным образом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интегрированным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в образовательную практ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ивание является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критериальным.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сновными критериями оценивания выступают планируемые результ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иваться с помощью отметки могут только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результаты деятельности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ученика и процесс их формирования, но не личные качества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истема оценивания выстраивается таким образом, чтобы учащиеся включались в контрольно-оценочную деятельность, приобретая навыки и привычку к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амооценке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взаимооценке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– за счет выбора процедур, форм, содержания оценоч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611280" y="620640"/>
            <a:ext cx="7993080" cy="1008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щие принципы нов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цен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DC69-97D7-48AB-8BC5-716EBD66AA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ровни сформированности действия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39640" y="1413000"/>
          <a:ext cx="8064720" cy="4321080"/>
        </p:xfrm>
        <a:graphic>
          <a:graphicData uri="http://schemas.openxmlformats.org/drawingml/2006/table">
            <a:tbl>
              <a:tblPr/>
              <a:tblGrid>
                <a:gridCol w="463680"/>
                <a:gridCol w="1170000"/>
                <a:gridCol w="3154320"/>
                <a:gridCol w="3276720"/>
              </a:tblGrid>
              <a:tr h="24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оцен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не умеет, не пытается, и не испытывает потребности в оценке своих действий ни самостоятельно, ни даже по просьбе учител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цело полагается на отметку учителя, воспринимает ее некритически (даже в случае явного занижения), не воспринимает аргументацию оценки; не может оценить свои возможности относительно решения поставленной задач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ная ретроспективная оцен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не умеет, не пытается оценить свои действия, но испытывает потребность в получении внешней оценки своих действий, ориентирован на отметки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таясь по просьбе учителя оценить свои действия, ориентируется не на их содержание, а на внешние особенности решения задач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C88C-87BB-4B61-9D1C-DB5BEE3FD0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4360" y="765000"/>
          <a:ext cx="7848360" cy="5400720"/>
        </p:xfrm>
        <a:graphic>
          <a:graphicData uri="http://schemas.openxmlformats.org/drawingml/2006/table">
            <a:tbl>
              <a:tblPr/>
              <a:tblGrid>
                <a:gridCol w="450720"/>
                <a:gridCol w="1138320"/>
                <a:gridCol w="3070080"/>
                <a:gridCol w="3189240"/>
              </a:tblGrid>
              <a:tr h="23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кватная ретроспективная оцен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ет самостоятельно оценить свои действия и содержательно обосновать правильность или ошибочность результата, соотнося его со схемой действ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и относится к отметкам учителя (в том числе и к завышенным); не может оценить своих возможностей перед решением новой задачи и не пытается этого делать; может оценить действия других уче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ная прогностическая оцен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упая к решению новой задачи, пытается оценить свои возможности относительно её решения, однако при этом учитывает лишь факт её знакомости или незнакомости, а не возможности изменения известных ему способов действ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но и аргументировано оценивает уже решённые им задачи; пытаясь оценивать свои возможности в решении новых задач, часто допускает ошибки, учитывает лишь внешние признаки задачи, а не её структуру; не может этого сделать до решения задачи даже с помощью учител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4A15-69BA-4937-90A0-1C2ACEE14F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9640" y="907920"/>
          <a:ext cx="8064720" cy="4897440"/>
        </p:xfrm>
        <a:graphic>
          <a:graphicData uri="http://schemas.openxmlformats.org/drawingml/2006/table">
            <a:tbl>
              <a:tblPr/>
              <a:tblGrid>
                <a:gridCol w="463680"/>
                <a:gridCol w="1170000"/>
                <a:gridCol w="3154320"/>
                <a:gridCol w="3276720"/>
              </a:tblGrid>
              <a:tr h="262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о-адекватная прогностическая оцен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упая к решению новой задачи, может с помощью учителя, но не самостоятельно, оценить свои возможности в её решении, учитывая возможное изменение известных ему способов действ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с помощью учителя, но не самостоятельно, обосновать свою возможность или невозможность решить стоящую перед ним задачу, опираясь на анализ известных ему способов действия; делает это неуверенно, с труд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-адекватная прогностическая оцен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упая к решению новой задачи, может самостоятельно оценить свои возможности в её решении, учитывая возможное изменение известных ему способов действ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обосновывает ещё до решения задачи свою возможность или невозможность её решать, исходя из чёткого осознания специфики усвоенных им способов и их вариаций, а также границ их примене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7CF8-2D6C-411B-9131-457F26712F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906120" y="475920"/>
            <a:ext cx="733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зультаты мониторинга уровня сформирова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понентов учебной деятельности у учащихся 1 и 2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БОУ Лицея №165 имени 65-летия «ГА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ериод с сентября по май 2012-2013 учебн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95280" y="2205000"/>
          <a:ext cx="8280360" cy="4316400"/>
        </p:xfrm>
        <a:graphic>
          <a:graphicData uri="http://schemas.openxmlformats.org/drawingml/2006/table">
            <a:tbl>
              <a:tblPr/>
              <a:tblGrid>
                <a:gridCol w="1157400"/>
                <a:gridCol w="863640"/>
                <a:gridCol w="660240"/>
                <a:gridCol w="585720"/>
                <a:gridCol w="593640"/>
                <a:gridCol w="623880"/>
                <a:gridCol w="636840"/>
                <a:gridCol w="788760"/>
                <a:gridCol w="623880"/>
                <a:gridCol w="889200"/>
                <a:gridCol w="85716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полугод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полугод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й ин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й ин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 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–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–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2138-020C-463E-8802-9E64917F19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39640" y="981000"/>
          <a:ext cx="8209080" cy="5386320"/>
        </p:xfrm>
        <a:graphic>
          <a:graphicData uri="http://schemas.openxmlformats.org/drawingml/2006/table">
            <a:tbl>
              <a:tblPr/>
              <a:tblGrid>
                <a:gridCol w="770040"/>
                <a:gridCol w="743040"/>
                <a:gridCol w="744480"/>
                <a:gridCol w="743040"/>
                <a:gridCol w="744480"/>
                <a:gridCol w="743040"/>
                <a:gridCol w="744480"/>
                <a:gridCol w="743040"/>
                <a:gridCol w="744480"/>
                <a:gridCol w="744480"/>
                <a:gridCol w="744480"/>
              </a:tblGrid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2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2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–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-  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–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–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–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–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9BBC-65E5-408F-B069-951FF1E2EC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словные обо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900000" y="1988280"/>
            <a:ext cx="72961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Д – положительная динами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УП – устойчивые показа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Д – отрицательная динам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 таблице в ячейках первая цифра – это уровень сформированности компонента, а второе число – количество человек, которое находится на этом уров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1BF6-D097-450A-9BD0-756C120468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324000" y="476280"/>
            <a:ext cx="8569080" cy="115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Фрагмент листа самооцен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26920" y="2060640"/>
          <a:ext cx="7705800" cy="4232160"/>
        </p:xfrm>
        <a:graphic>
          <a:graphicData uri="http://schemas.openxmlformats.org/drawingml/2006/table">
            <a:tbl>
              <a:tblPr/>
              <a:tblGrid>
                <a:gridCol w="2205360"/>
                <a:gridCol w="1376280"/>
                <a:gridCol w="1374840"/>
                <a:gridCol w="1374480"/>
                <a:gridCol w="137484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тика и орфоэп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ение гласных и согласных звук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ждение в слове ударных и безударных гласных звук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ение мягких и твердых согласных звуков, определение парных и непарных по твердости—мягкости согласных звук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BD5C-4A52-4618-BC32-FA6801635A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324000" y="476280"/>
            <a:ext cx="8569080" cy="252108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сточник для внутренней и внешней 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етапредметных результатов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мплекс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900000" y="35002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Цель проведения комплексной р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пределение сформированности умения переносить знания и способы учебных действий, полученных в одних предметах, на другие учебные ситуации и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A131-FBC3-46F5-A7E6-52544ACB58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611280" y="2492280"/>
            <a:ext cx="828036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мплексный подход к оценке результатов образования (оценка предметных, метапредметных и личностных результатов общего образ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324000" y="476280"/>
            <a:ext cx="849600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тличительная особенность новой системы оце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достижения планиру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B6D0-9057-4E95-8887-450CDCC4F5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539640" y="404640"/>
            <a:ext cx="7920000" cy="1440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ланируемые результа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ри основные группы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76360" y="5589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79280" y="1943280"/>
            <a:ext cx="2519640" cy="15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иен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ностно-смыслова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оциальных ролях и меж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остных отношени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951280" y="1952640"/>
            <a:ext cx="2519280" cy="15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937120" y="1952640"/>
            <a:ext cx="2698920" cy="117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179280" y="3645000"/>
            <a:ext cx="252108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остное, профес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ональное, жизн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79280" y="4508640"/>
            <a:ext cx="2519640" cy="865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ь между целью (ре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ультатом)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ее моти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179280" y="5481720"/>
            <a:ext cx="2519640" cy="1150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2987640" y="3645000"/>
            <a:ext cx="252108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ация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2987640" y="4473720"/>
            <a:ext cx="2521080" cy="863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чевые навыки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2"/>
          <p:cNvSpPr/>
          <p:nvPr/>
        </p:nvSpPr>
        <p:spPr>
          <a:xfrm>
            <a:off x="2987640" y="5445000"/>
            <a:ext cx="2519280" cy="1211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учебные, в т.ч. – знак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-символические, логичес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е, постановка и ре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5940360" y="3238560"/>
            <a:ext cx="1944720" cy="514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8132760" y="334656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6012000" y="3213000"/>
            <a:ext cx="17287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Основы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научных зн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5940360" y="3860640"/>
            <a:ext cx="2055960" cy="14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5973840" y="3886200"/>
            <a:ext cx="2017800" cy="137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Опыт «предметной» деятельности по 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8172360" y="3357720"/>
            <a:ext cx="4143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9"/>
          <p:cNvSpPr/>
          <p:nvPr/>
        </p:nvSpPr>
        <p:spPr>
          <a:xfrm>
            <a:off x="8136000" y="371628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8172360" y="3716280"/>
            <a:ext cx="4683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и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1"/>
          <p:cNvSpPr/>
          <p:nvPr/>
        </p:nvSpPr>
        <p:spPr>
          <a:xfrm>
            <a:off x="8132760" y="406548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8172360" y="4076640"/>
            <a:ext cx="4320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8136000" y="443700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8172360" y="4437000"/>
            <a:ext cx="4320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5"/>
          <p:cNvSpPr/>
          <p:nvPr/>
        </p:nvSpPr>
        <p:spPr>
          <a:xfrm>
            <a:off x="8132760" y="478620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8172360" y="4797360"/>
            <a:ext cx="3970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Е/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7"/>
          <p:cNvSpPr/>
          <p:nvPr/>
        </p:nvSpPr>
        <p:spPr>
          <a:xfrm>
            <a:off x="8132760" y="536256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8172360" y="5373720"/>
            <a:ext cx="4683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у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9"/>
          <p:cNvSpPr/>
          <p:nvPr/>
        </p:nvSpPr>
        <p:spPr>
          <a:xfrm>
            <a:off x="8132760" y="5686560"/>
            <a:ext cx="431640" cy="25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8136000" y="5697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З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1"/>
          <p:cNvSpPr/>
          <p:nvPr/>
        </p:nvSpPr>
        <p:spPr>
          <a:xfrm>
            <a:off x="8132760" y="601020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8172360" y="6021360"/>
            <a:ext cx="4683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е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8132760" y="6370560"/>
            <a:ext cx="431640" cy="25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8136000" y="6381720"/>
            <a:ext cx="4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и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5"/>
          <p:cNvSpPr/>
          <p:nvPr/>
        </p:nvSpPr>
        <p:spPr>
          <a:xfrm>
            <a:off x="6264360" y="5445000"/>
            <a:ext cx="1476360" cy="108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6"/>
          <p:cNvSpPr/>
          <p:nvPr/>
        </p:nvSpPr>
        <p:spPr>
          <a:xfrm>
            <a:off x="5940360" y="5626080"/>
            <a:ext cx="208764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5977080" y="5661000"/>
            <a:ext cx="205092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Предметные и метапредметные действия с учебным материа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8"/>
          <p:cNvSpPr/>
          <p:nvPr/>
        </p:nvSpPr>
        <p:spPr>
          <a:xfrm>
            <a:off x="8132760" y="5073480"/>
            <a:ext cx="431640" cy="2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8172360" y="5084640"/>
            <a:ext cx="4683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A867-7FFC-42BF-B903-24E292A843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539640" y="404640"/>
            <a:ext cx="7920000" cy="86364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етапредмет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95280" y="1844640"/>
            <a:ext cx="840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сновным объектом оценки являются регулятивные, коммуникативные и познавательные 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собност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обучающегося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нимат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и сохранять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чебную цель и задачи: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преобразовывать практическую задачу в познавательную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е планировать деятельност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искать средства её осуществления, умение контролировать и оценивать свои действия и т. 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е осуществлять информационный поиск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сбор и выделение существенной информации из различных информационных источ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е использовать знаково-символические средства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для создания моделей изучаемых объектов, схем решения различных зада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собность к осуществлению логических операций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сравнения, анализа, обобщения и т. 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е сотрудничат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с педагогом и сверстниками при решении учебных проблем, принимать на себя ответственность за результаты свои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A513-233B-41A6-B0C0-618E9FC440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007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B9CB-89F3-4F83-BFB8-849EAABFC1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70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079B-979D-4D6A-8D7E-DCE9E40A37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468360" y="230040"/>
            <a:ext cx="82072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6:58:50Z</dcterms:created>
  <dc:creator>Ольга</dc:creator>
  <dc:description/>
  <dc:language>en-US</dc:language>
  <cp:lastModifiedBy>viktor</cp:lastModifiedBy>
  <dcterms:modified xsi:type="dcterms:W3CDTF">2018-11-03T20:08:39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