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D35A-42A1-4F8F-97CD-9E38D1B0FF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DE62-6A45-4825-ABE1-D574186DBD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9041-107F-439B-B033-E59971AC37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A3E75-287D-4801-90B1-5E1BE37A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20B94-A9B4-42F9-A271-29EF4135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4CF90-EC96-4762-A8A9-DCA17BD3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B2C2D-FB25-4BEE-9733-B7DECFE0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EA7C-DAFC-487C-BD21-23CB7CDE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714E-E11F-424D-BE91-72806656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A05C-C38B-4661-819D-2512A9A9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013C-8204-492F-995B-B69F1289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37F4-41F0-4648-AF2A-74C8877E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3F96-424E-46FF-85FD-4FE52C8A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6952-8D14-47E6-862F-E230824F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71455-5EE0-499D-993C-6BB87B18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23D5-C182-4FA2-A68C-51C7EEE4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6B56-6596-4659-ACA3-5F4E7B4E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618C-DAAA-4020-8052-DFDC38A8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0D62-D43D-404C-8160-E527F254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2D96-339D-4997-BE28-641013B5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6D63A-0DEB-4C4B-9DCE-87861CE7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6EAFA-FA9E-4D25-93B8-6AD49737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0194F-E244-4786-97FD-10677B01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F0E0D-8080-4B06-AC43-F2B2A4DF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51C8D-E935-44D2-8AC8-C36B575B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52D31-58BC-4729-8CA8-9DC02AE9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81523-8C6D-4929-85B9-38965FF3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A34E-1B70-49D7-ADE9-C3EA1014B53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87D1-F08F-4D01-8446-3B5A62356E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268A-65F5-437F-BC76-9AFE0CF280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17468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95480" y="1073160"/>
            <a:ext cx="69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565440" y="1197000"/>
            <a:ext cx="181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ФГ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826920" y="2276640"/>
            <a:ext cx="7488360" cy="158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755640" y="2421000"/>
            <a:ext cx="75614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омплексный подход к оценке метапредметных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276640" y="54936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БОУ Лицей№165 имени 65-летия «ГАЗ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4356000" y="4365720"/>
            <a:ext cx="3961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3566160" y="59500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. Новгород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45F9-EA2B-4D3A-B89B-2E656B8B42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324000" y="170028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работы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чащихся, выполняющиеся в ходе обучения (домашние задания, мини-проекты и презентации, формализованные письменные задания – разнообразные тексты, отчеты о наблюдениях и экспериментах, различные словники, памятки, дневники, собранные массивы данных, подборки информационных материалов, поздравительные открытки и т.п., а также разнообразные инициативные творческие работы – иллюстрированные сочинения, плакаты, постеры, поделки и т.п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индивидуальная и совместна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деятельность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чащихся в ходе выполнения рабо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татистические данные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основанные на ясно выраженных показателях и или/дескрипторах и получаемые в ходе целенаправленных наблюдений или мини-исследова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результаты тестирования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(результаты устных и письменных проверочных работ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250920" y="404640"/>
            <a:ext cx="8642160" cy="1224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сточниками информации для оцени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остигаемых   метапредметных образовате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езультатов служ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12D2-4024-468F-BF40-3AA51C7A7DF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539640" y="404640"/>
            <a:ext cx="8136000" cy="151164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систему проверочных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чебно-методических материалов входя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1692360" y="1952640"/>
            <a:ext cx="5472000" cy="828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артовая диагнос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1692360" y="2924280"/>
            <a:ext cx="5472000" cy="828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истематизированное 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комендуемых учебных задач и ситу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1692360" y="3933720"/>
            <a:ext cx="5472000" cy="828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тоговые проверочные работы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1692360" y="4941720"/>
            <a:ext cx="5472000" cy="828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ртфель дости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6C88-7339-4CD7-B1C3-FBECA1BF954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"/>
          <p:cNvSpPr/>
          <p:nvPr/>
        </p:nvSpPr>
        <p:spPr>
          <a:xfrm>
            <a:off x="108000" y="333360"/>
            <a:ext cx="903600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ортфель достиже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527280" y="1557360"/>
            <a:ext cx="24480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усский яз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итературн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ностранный яз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10200" y="1557360"/>
            <a:ext cx="31338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иктанты, изложения,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удиозаписи монологов, диал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невники чит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ллюстрированные авторские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525840" y="2600280"/>
            <a:ext cx="24480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6010200" y="2602080"/>
            <a:ext cx="31338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матические дикта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ни-исследования и мини-проект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дели, решения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удиозаписи устных отв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525840" y="3645000"/>
            <a:ext cx="24480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кружающий мир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6010200" y="3645000"/>
            <a:ext cx="31338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невники наблю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ни-исследования и мини-прое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вью, творческие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удиозаписи устных отв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525840" y="4653000"/>
            <a:ext cx="24480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у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З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6010200" y="4653000"/>
            <a:ext cx="31338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удио-, фото- и видео-материа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дукты собственного твор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удиозаписи устных отв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4210200" y="98100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4246560" y="94464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ки детски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3525840" y="5695920"/>
            <a:ext cx="2448000" cy="9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99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Физ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уль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6010200" y="5697360"/>
            <a:ext cx="3133800" cy="90036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ео-материа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невники наблюдений и само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ые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79280" y="249228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мерный со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0" y="3068640"/>
            <a:ext cx="3456000" cy="3670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24"/>
              </a:spcAft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борки детски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зультаты стар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иагно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атериалы теку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ценки: листы наблюд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ий, оценочные ли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зультаты и материа- лы тематически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зультаты и матер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лы итогового 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остижения во внеучеб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"/>
          <p:cNvPicPr/>
          <p:nvPr/>
        </p:nvPicPr>
        <p:blipFill>
          <a:blip r:embed="rId1"/>
          <a:stretch/>
        </p:blipFill>
        <p:spPr>
          <a:xfrm>
            <a:off x="142920" y="944640"/>
            <a:ext cx="169236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94AC-547A-40D2-9E0D-A5DB430FEF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250920" y="404640"/>
            <a:ext cx="8424720" cy="86364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620640"/>
            <a:ext cx="88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истема оценки метапредметных результатов (УУД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84360" y="2060640"/>
            <a:ext cx="77770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2917800" y="148428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нутренняя 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 flipH="1">
            <a:off x="2050560" y="1989000"/>
            <a:ext cx="1008360" cy="86364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4211640" y="1989000"/>
            <a:ext cx="0" cy="122400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5435640" y="1989000"/>
            <a:ext cx="1081080" cy="935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22360" y="2924280"/>
            <a:ext cx="26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ценка шко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силохол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источник информаци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ст, беседа, наблюд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3276720" y="3357720"/>
            <a:ext cx="237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ценка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 источни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иагнос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 контрольные работы, срезовые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блюд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052680" y="3016080"/>
            <a:ext cx="240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амо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источник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амонаблюд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ценочные лис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исты самооцен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75AB-434A-4E0C-B25F-EC3CCA006F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539640" y="404640"/>
            <a:ext cx="8136000" cy="79236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чебные действия (по В. В. Давыд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1116000" y="2133720"/>
            <a:ext cx="74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1116000" y="1557360"/>
            <a:ext cx="6985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нятие учебной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образование учебной задачи с целью обнаружения всеобщего отношения изучаемого объ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оделирование выделенного отношения в предметной, графической или буквенной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образование модели отно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строение системы частных задач, решаемых общим способ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нтроль за выполнением учебных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ценка усвоения общего способа как результата решения данной учебной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AD7F-7F56-4277-ABF9-2898CD69B3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826920" y="1197000"/>
            <a:ext cx="78156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ониторинг –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это систематическая и регулярная процедура сбора данных по различным, важным образовательным аспектам для принятия оптимальных управленческих решений по повышению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D3B8-2C65-471C-B735-FAFE5C631D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4222800" y="134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23"/>
          <p:cNvSpPr/>
          <p:nvPr/>
        </p:nvSpPr>
        <p:spPr>
          <a:xfrm>
            <a:off x="539640" y="404640"/>
            <a:ext cx="8136000" cy="1224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Цель мониторинга уров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формированности УУ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24"/>
          <p:cNvSpPr/>
          <p:nvPr/>
        </p:nvSpPr>
        <p:spPr>
          <a:xfrm>
            <a:off x="539640" y="2060640"/>
            <a:ext cx="8136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лучение объективной информации о состоянии и динамике уровня сформированности универсальных учебных действий у младших школьников в условиях реализации ФГОС нового поко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6DBE-8105-46BD-A713-51F57C0A7C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612"/>
          <p:cNvSpPr/>
          <p:nvPr/>
        </p:nvSpPr>
        <p:spPr>
          <a:xfrm>
            <a:off x="539640" y="404640"/>
            <a:ext cx="8136000" cy="1224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Задачи мониторинг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13"/>
          <p:cNvSpPr/>
          <p:nvPr/>
        </p:nvSpPr>
        <p:spPr>
          <a:xfrm>
            <a:off x="611280" y="191628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1. Отработка механизмов сбора информации об уров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формированности У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2. Выявление и анализ факторов, способствующих формированию У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3. Апробация технологических карт и методик оценки уровня сформированности У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4. Формирование банка методических материалов для организации и проведения мониторинга уровня сформированности УУД на ступени начально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5. Обеспечение преемственности и единообразия в процедурах оценки качества результатов начального и среднего школьного образования в условиях внедрения ФГ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6. Разработка и апробация системы критериев и показателей уровня сформированности УУД у обучающихся на начальной ступени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BBCF-1C8F-4523-A1C9-8757331798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539640" y="404640"/>
            <a:ext cx="8136000" cy="1224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бъекты мониторинг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755640" y="269712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1. Универсальные учебны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. Педагогические технологии, используе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начальной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5CD7-E38B-4062-9C19-6824BC56CD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39640" y="404640"/>
            <a:ext cx="8136000" cy="1224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езультаты наблюдения за уров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формированности компонентов УД у учщихся __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989000"/>
          <a:ext cx="8569080" cy="3743640"/>
        </p:xfrm>
        <a:graphic>
          <a:graphicData uri="http://schemas.openxmlformats.org/drawingml/2006/table">
            <a:tbl>
              <a:tblPr/>
              <a:tblGrid>
                <a:gridCol w="952560"/>
                <a:gridCol w="950760"/>
                <a:gridCol w="952560"/>
                <a:gridCol w="954000"/>
                <a:gridCol w="949320"/>
                <a:gridCol w="954000"/>
                <a:gridCol w="952560"/>
                <a:gridCol w="951120"/>
                <a:gridCol w="952200"/>
              </a:tblGrid>
              <a:tr h="814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. И. учащ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ые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ий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вание У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зование мо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р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е 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ных зада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 роль за выпол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ем 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ус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я общего спосо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F76E-2E7C-40B6-BBAD-1F5274D5CE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95280" y="1628640"/>
            <a:ext cx="83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пособстовать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поддержанию еди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сей системы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беспечить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преемственность в сист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епрерывного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риентировать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образовательный процесс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остижение планируемых результатов ОО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существлять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управление образовательным процес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539640" y="620640"/>
            <a:ext cx="7993080" cy="1008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истема оценки призв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C9E2-ED23-4A7C-94C0-AADB58D6F4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87"/>
          <p:cNvSpPr/>
          <p:nvPr/>
        </p:nvSpPr>
        <p:spPr>
          <a:xfrm>
            <a:off x="324000" y="404640"/>
            <a:ext cx="8569080" cy="79236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ровни сформированности учебно- познавательного интер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39640" y="1741320"/>
          <a:ext cx="7920000" cy="4567320"/>
        </p:xfrm>
        <a:graphic>
          <a:graphicData uri="http://schemas.openxmlformats.org/drawingml/2006/table">
            <a:tbl>
              <a:tblPr/>
              <a:tblGrid>
                <a:gridCol w="622440"/>
                <a:gridCol w="1520640"/>
                <a:gridCol w="2306880"/>
                <a:gridCol w="3470040"/>
              </a:tblGrid>
              <a:tr h="89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-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диагностический призн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диагностические призна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интерес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 практически не обнаруживается (исключение: положительные реакции на яркий и забавный материал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личное или отрицательное отношение к решению любых учебных задач; более охотно выполняет привычные действия, чем осваивает новы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на новизн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ительные реакции возникают только на новый материал, касающийся конкретных фактов (но не теории)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вляется, задаёт вопросы о новом фактическом материале; включается в выполнение задания, связанного с ним, однако длительной устойчивой активности не проявля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CA03-9CDC-49C2-BDDA-3E34EA319F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11280" y="404640"/>
          <a:ext cx="7921440" cy="6218280"/>
        </p:xfrm>
        <a:graphic>
          <a:graphicData uri="http://schemas.openxmlformats.org/drawingml/2006/table">
            <a:tbl>
              <a:tblPr/>
              <a:tblGrid>
                <a:gridCol w="620640"/>
                <a:gridCol w="1520640"/>
                <a:gridCol w="2310120"/>
                <a:gridCol w="3470040"/>
              </a:tblGrid>
              <a:tr h="155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опытств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ительные реакции возникают на новый теоретический материал (но не на способы решения задач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вляется и задаёт вопросы достаточно часто; включается в выполнение заданий часто, но интерес быстро пропада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ый учебный интере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на способы решения новой частной единичной задачи (но не системы задач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ается в процесс решения задачи, пытается самостоятельно найти способ решения и довести задание до конца; после решения задачи интерес исчерпывает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йчивый учебно-познавательный интере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на общий способ решения целой системы задач (но не выходит за пределы изучаемого материала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отно включается в процесс выполнения, работает длительно и устойчиво, принимает предложения найти новые применения найденному способ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бщённый учебно-познавательный интере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независимо от внешних требований и выходит за рамки изучаемого материала. Непременно ориентирован на общие способы решения системы задач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ляется постоянной характеристикой ученика; ученик проявляет выраженное творческое отношение к общему способу решения задач, стремится получить дополнительные сведения, имеется мотивированная избирательность интерес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4A4E-A079-42AF-B54A-A4476AA7E8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24000" y="404640"/>
            <a:ext cx="8569080" cy="79236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ровни сформированности целеполаг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50920" y="1197000"/>
          <a:ext cx="8642160" cy="5530680"/>
        </p:xfrm>
        <a:graphic>
          <a:graphicData uri="http://schemas.openxmlformats.org/drawingml/2006/table">
            <a:tbl>
              <a:tblPr/>
              <a:tblGrid>
                <a:gridCol w="637920"/>
                <a:gridCol w="1397160"/>
                <a:gridCol w="2797200"/>
                <a:gridCol w="380988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диагностический призн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диагностические призна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цел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ъявляемое требование осознаётся лишь частично. Включаясь в работу, быстро отвлекается или ведет себя хаотично, не знает, что именно надо делать. Может принимать лишь простейшие (не предполагающие промежуточных целей) требо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хо различает учебные задачи разного типа, отсутствует реакция на новизну задачи, не может выделять промежуточные цели, нуждается в пооперационном контроле со стороны учителя, не может ответить на вопросы о том, что он собирается делать или что сдела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практической задач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имает и выполняет только практические задачи (но не теоретические), в теоретических задачах не ориентирует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знаёт, что надо делать и что он уже сделал в процессе решения практической задачи и может ответить на соответствующие вопросы; выделяет промежуточные цели; в отношении теоретических задач не может дать отчёта о своих действиях и не может осуществлять целенаправленных действи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D949-A230-4471-9481-6EBE9CF4A52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95280" y="601560"/>
          <a:ext cx="8353440" cy="6137280"/>
        </p:xfrm>
        <a:graphic>
          <a:graphicData uri="http://schemas.openxmlformats.org/drawingml/2006/table">
            <a:tbl>
              <a:tblPr/>
              <a:tblGrid>
                <a:gridCol w="619200"/>
                <a:gridCol w="1349280"/>
                <a:gridCol w="2698920"/>
                <a:gridCol w="3686040"/>
              </a:tblGrid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определение познавательной задачи в практическу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имает познавательную задачу, осознаёт её требование, но в процессе её решения подменяет познавательную задачу практическ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отно включается в решение познавательной задачи и отвечает на вопросы о её содержании; возникшая познавательная цель крайне неустойчива; при выполнении задания ориентируется лишь на практическую его часть и фактически не достигает познавательной це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познавательной це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ая познавательная цель сохраняется при выполнении учебных действий и регулирует весь процесс их выполнения; чётко выполняется требование познавательной зада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отно осуществляет решение познавательной задачи, не изменяя её (не подменяя практической задачей и не выходя за её требования), чётко может дать отчёт о своих действиях после выполнения зад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определение практической задачи в познавательну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кнувшись с новой практической задачей, самостоятельно формулирует познавательную цель и строит действия в соответствии с н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озможность решить новую практическую задачу объясняет именно отсутствием адекватных способов; чётко осознаёт свою цель и структуру найденного способа и может дать о них отче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постановка новых учебных ц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формулирует новые познавательные цели без какой-либо стимуляции извне, в том числе и со стороны новой практической задачи; цели выходят за пределы требований программ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обственной инициативе выдвигает содержательные гипотезы; учебная деятельность приобретает форму активного исследования, активность направлена на содержание способов действия и их применение в различных услови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ABD3-9C40-4A9E-AF82-43132D56341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324000" y="404640"/>
            <a:ext cx="8569080" cy="79236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ровни сформированности учебных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79280" y="1341360"/>
          <a:ext cx="8713800" cy="5394240"/>
        </p:xfrm>
        <a:graphic>
          <a:graphicData uri="http://schemas.openxmlformats.org/drawingml/2006/table">
            <a:tbl>
              <a:tblPr/>
              <a:tblGrid>
                <a:gridCol w="663840"/>
                <a:gridCol w="1757160"/>
                <a:gridCol w="3008520"/>
                <a:gridCol w="3284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-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диагностический призн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диагностические призна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учебных действий как целостных единиц деятель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ожет выполнять учебные действия как таковые, может выполнять лишь отдельные операции без их внутренней связи друг с другом или копировать внешнюю форму действ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сознаёт содержание учебных действий и не может дать отчёта о них; ни самостоятельно, ни с помощью учителя (за исключением прямого показа) не способен выполнять учебные действия; навыки образуются с трудом и оказываются крайне неустойчивы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учебных действий в сотрудничестве с учител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йствий и их операционный состав осознаются; приступает к выполнению действий, однако без внешней помощи организовать свои действия и довести их до конца не может; в сотрудничестве с учителем работает относительно успеш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дать отчёт о своих действиях, но затрудняется в их практическом воплощении; помощь учителя принимается сравнительно легко; эффективно работает при пооперационном контроле; самостоятельные учебные действия практически отсутствую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B422-B4D5-4D33-854A-3AB8E172A0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826920" y="907920"/>
          <a:ext cx="7632720" cy="4849920"/>
        </p:xfrm>
        <a:graphic>
          <a:graphicData uri="http://schemas.openxmlformats.org/drawingml/2006/table">
            <a:tbl>
              <a:tblPr/>
              <a:tblGrid>
                <a:gridCol w="581040"/>
                <a:gridCol w="1540080"/>
                <a:gridCol w="2635200"/>
                <a:gridCol w="2876400"/>
              </a:tblGrid>
              <a:tr h="256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декватный перенос учебных действ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ёнок самостоятельно применяет усвоенный способ действия к решению новой задачи, однако не способен внести в него даже небольшие изменения, чтобы приноровить его к условиям конкретной задач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енный способ применяет «слепо», не соотнося его с условиями задачи; такое соотнесение и перестройку действия может осуществлять лишь с помощью учителя, а не самостоятельно; при неизменности условий способен успешно выполнять действия самостоятель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кватный перенос учебных действ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ет обнаружить несоответствие новой задачи и усвоенного способа; пытается самостоятельно перестроить известный ему способ. однако может это правильно сделать только при помощи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точно полно анализирует условия задачи и чётко соотносит их с известными способами; легко принимает косвенную помощь учителя; осознает и готов описать причины своих затруднений и особенности нового способа действ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19CA-3947-4AAA-92FC-20BC66B0194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11280" y="692280"/>
          <a:ext cx="7848360" cy="5473440"/>
        </p:xfrm>
        <a:graphic>
          <a:graphicData uri="http://schemas.openxmlformats.org/drawingml/2006/table">
            <a:tbl>
              <a:tblPr/>
              <a:tblGrid>
                <a:gridCol w="598320"/>
                <a:gridCol w="1582920"/>
                <a:gridCol w="2708280"/>
                <a:gridCol w="2958840"/>
              </a:tblGrid>
              <a:tr h="31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е построение учебных действ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я новую задачу, самостоятельно строит новый способ действия или модифицирует известный ему способ, делает это постепенно, шаг за шагом и в конце без какой-либо помощи извне правильно решает задач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ически оценивает свои действия, на всех этапах решения задачи может дать отчёт о них; нахождение нового способа осуществляется медленно, неуверенно, с частым обращением к повторному анализу условий задачи, но на всех этапах полностью самостоятель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бщение учебных действ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рается на принципы построения способов действия и решает новую задачу «с хода», выводя новый способ из этого принципа, а не из модификации известного частного способ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ладевая новым способом, осознаёт не только его состав, но и принципы его построения (т.е. то, на чём он основан), осознаёт сходство между различными модификациями и их связи с условиями задач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DA9D-A516-439E-8092-8DDD721DBC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324000" y="404640"/>
            <a:ext cx="8569080" cy="79236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ровни сформированности действия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50920" y="1341360"/>
          <a:ext cx="8713800" cy="5394240"/>
        </p:xfrm>
        <a:graphic>
          <a:graphicData uri="http://schemas.openxmlformats.org/drawingml/2006/table">
            <a:tbl>
              <a:tblPr/>
              <a:tblGrid>
                <a:gridCol w="569880"/>
                <a:gridCol w="1736640"/>
                <a:gridCol w="3160800"/>
                <a:gridCol w="32464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диагностический призн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диагностические призна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контро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действия не контролируются, не соотносятся со схемой; допущенные ошибки не замечаются и не исправляются даже в отношении многократно повторённых действ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меет обнаружить и исправить ошибку даже по просьбе учителя в отношении неоднократно повторённых действий; часто допускает одни и те же ошибки; некритически относится к исправленным ошибкам в своих работах и не замечает ошибок других учени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на уровне непроизвольного вним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ношении многократно повторённых действий может, хотя и не систематически, неосознанно фиксировать факт расхождения действий и непроизвольно запомненной схемы; заметив и исправив ошибку, не может обосновать своих действ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я как бы неосознанно, предугадывает правильное направление действий; часто допускает одни и те же ошибки; сделанные ошибки исправляет неуверенно; в малознакомых действиях ошибки допускает чаще, чем в знакомых, и не исправля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CC86-04E3-4DCC-AEEC-12D38DE3284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11280" y="620640"/>
          <a:ext cx="7993080" cy="5965920"/>
        </p:xfrm>
        <a:graphic>
          <a:graphicData uri="http://schemas.openxmlformats.org/drawingml/2006/table">
            <a:tbl>
              <a:tblPr/>
              <a:tblGrid>
                <a:gridCol w="522360"/>
                <a:gridCol w="1595160"/>
                <a:gridCol w="2897280"/>
                <a:gridCol w="2978280"/>
              </a:tblGrid>
              <a:tr h="25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ый контроль на уровне произвольного вним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ыполнении нового действия введённая его схема осознаётся, однако затруднено одновременное выполнение учебных действий и их соотнесение со схемой; ретроспективно такое соотнесение проделывает, ошибки исправляет и обосновыва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цессе решения задачи не использует усвоенную схему, а после её решения, в особенности по просьбе учителя может соотнести его со схемой, найти и исправить ошибки; в многократно повторённых действиях ошибок не допускает или легко их исправля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ый контроль на уровне произвольного вним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осредственно в процессе выполнения действия ученик ориентируется на усвоенную им обобщённую его схему и успешно соотносит с ней процесс решения задачи, почти не допуская ошиб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ные ошибки обнаруживаются и исправляются самостоятельно, правильно объясняет свои действия; осознанно контролирует процесс решения задачи другими учениками; столкнувшись с новой задачей, не может скорректировать применяемую схему, не контролирует её адекватность новым условия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76A5-5F6B-4735-A107-48220298A0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68360" y="692280"/>
          <a:ext cx="8207280" cy="5473440"/>
        </p:xfrm>
        <a:graphic>
          <a:graphicData uri="http://schemas.openxmlformats.org/drawingml/2006/table">
            <a:tbl>
              <a:tblPr/>
              <a:tblGrid>
                <a:gridCol w="538200"/>
                <a:gridCol w="1596960"/>
                <a:gridCol w="2924280"/>
                <a:gridCol w="3147840"/>
              </a:tblGrid>
              <a:tr h="23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ый рефлексивный контрол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я новую задачу, успешно применяет к ней старую, неадекватную схему, однако с помощью учителя обнаруживает неадекватность схемы новым условиям и пытается внести в действие корректив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, соответствующие схеме, выполняются уверенно и безошибочно. Без помощи учителя не может обнаружить несоответствие усвоенной схемы новым условия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ый рефлексивный контроль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я новую задачу, самостоятельно обнаруживает ошибки, вызванные несоответствием схемы и новых условий задачи, и самостоятельно вносит коррективы в схему, совершая действия безошибоч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шно контролирует не только соответствие выполняемых действий их схеме, но и соответствие самой схемы изменившимся условиям задачи; в ряде случаев вносит коррекции в схему действий ещё до начала их фактического выполн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D4C3-CB5A-45DB-A38A-D02D8DFE1C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09480" y="1600200"/>
            <a:ext cx="792504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ценивание является постоянным процессом, естественным образом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интегрированным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в образовательную практ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ценивание является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критериальным.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сновными критериями оценивания выступают планируемые результа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цениваться с помощью отметки могут только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результаты деятельности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ученика и процесс их формирования, но не личные качества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истема оценивания выстраивается таким образом, чтобы учащиеся включались в контрольно-оценочную деятельность, приобретая навыки и привычку к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амооценке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взаимооценке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– за счет выбора процедур, форм, содержания оценочн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611280" y="620640"/>
            <a:ext cx="7993080" cy="1008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бщие принципы нов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цен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D91B-383F-4E0F-BE93-CA065447EF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324000" y="404640"/>
            <a:ext cx="8569080" cy="79236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ровни сформированности действия оц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539640" y="1413000"/>
          <a:ext cx="8064720" cy="4321080"/>
        </p:xfrm>
        <a:graphic>
          <a:graphicData uri="http://schemas.openxmlformats.org/drawingml/2006/table">
            <a:tbl>
              <a:tblPr/>
              <a:tblGrid>
                <a:gridCol w="463680"/>
                <a:gridCol w="1170000"/>
                <a:gridCol w="3154320"/>
                <a:gridCol w="3276720"/>
              </a:tblGrid>
              <a:tr h="249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оцен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 не умеет, не пытается, и не испытывает потребности в оценке своих действий ни самостоятельно, ни даже по просьбе учител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цело полагается на отметку учителя, воспринимает ее некритически (даже в случае явного занижения), не воспринимает аргументацию оценки; не может оценить свои возможности относительно решения поставленной задач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декватная ретроспективная оцен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 не умеет, не пытается оценить свои действия, но испытывает потребность в получении внешней оценки своих действий, ориентирован на отметки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таясь по просьбе учителя оценить свои действия, ориентируется не на их содержание, а на внешние особенности решения задач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5ACC-6532-43E1-BE85-94D3C0679D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84360" y="765000"/>
          <a:ext cx="7848360" cy="5400720"/>
        </p:xfrm>
        <a:graphic>
          <a:graphicData uri="http://schemas.openxmlformats.org/drawingml/2006/table">
            <a:tbl>
              <a:tblPr/>
              <a:tblGrid>
                <a:gridCol w="450720"/>
                <a:gridCol w="1138320"/>
                <a:gridCol w="3070080"/>
                <a:gridCol w="3189240"/>
              </a:tblGrid>
              <a:tr h="234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кватная ретроспективная оцен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ет самостоятельно оценить свои действия и содержательно обосновать правильность или ошибочность результата, соотнося его со схемой действ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ически относится к отметкам учителя (в том числе и к завышенным); не может оценить своих возможностей перед решением новой задачи и не пытается этого делать; может оценить действия других учени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декватная прогностическая оцен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тупая к решению новой задачи, пытается оценить свои возможности относительно её решения, однако при этом учитывает лишь факт её знакомости или незнакомости, а не возможности изменения известных ему способов действ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бодно и аргументировано оценивает уже решённые им задачи; пытаясь оценивать свои возможности в решении новых задач, часто допускает ошибки, учитывает лишь внешние признаки задачи, а не её структуру; не может этого сделать до решения задачи даже с помощью учител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D81D-EB3F-45C9-922D-CF990854F3A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9640" y="907920"/>
          <a:ext cx="8064720" cy="4897440"/>
        </p:xfrm>
        <a:graphic>
          <a:graphicData uri="http://schemas.openxmlformats.org/drawingml/2006/table">
            <a:tbl>
              <a:tblPr/>
              <a:tblGrid>
                <a:gridCol w="463680"/>
                <a:gridCol w="1170000"/>
                <a:gridCol w="3154320"/>
                <a:gridCol w="3276720"/>
              </a:tblGrid>
              <a:tr h="262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о-адекватная прогностическая оцен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тупая к решению новой задачи, может с помощью учителя, но не самостоятельно, оценить свои возможности в её решении, учитывая возможное изменение известных ему способов действ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с помощью учителя, но не самостоятельно, обосновать свою возможность или невозможность решить стоящую перед ним задачу, опираясь на анализ известных ему способов действия; делает это неуверенно, с трудо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о-адекватная прогностическая оцен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тупая к решению новой задачи, может самостоятельно оценить свои возможности в её решении, учитывая возможное изменение известных ему способов действ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обосновывает ещё до решения задачи свою возможность или невозможность её решать, исходя из чёткого осознания специфики усвоенных им способов и их вариаций, а также границ их применен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457B-CE9C-4459-89D0-CC77BB8F99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906120" y="475920"/>
            <a:ext cx="733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зультаты мониторинга уровня сформирова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понентов учебной деятельности у учащихся 1 и 2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БОУ Лицея №165 имени 65-летия «ГАЗ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период с сентября по май 2012-2013 учебног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95280" y="2205000"/>
          <a:ext cx="8280360" cy="4316400"/>
        </p:xfrm>
        <a:graphic>
          <a:graphicData uri="http://schemas.openxmlformats.org/drawingml/2006/table">
            <a:tbl>
              <a:tblPr/>
              <a:tblGrid>
                <a:gridCol w="1157400"/>
                <a:gridCol w="863640"/>
                <a:gridCol w="660240"/>
                <a:gridCol w="585720"/>
                <a:gridCol w="593640"/>
                <a:gridCol w="623880"/>
                <a:gridCol w="636840"/>
                <a:gridCol w="788760"/>
                <a:gridCol w="623880"/>
                <a:gridCol w="889200"/>
                <a:gridCol w="85716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полугод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полугод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й ин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й ин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 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 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- 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–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–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45FE-BFB3-4B53-92C8-BC512287F1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39640" y="981000"/>
          <a:ext cx="8209080" cy="5386320"/>
        </p:xfrm>
        <a:graphic>
          <a:graphicData uri="http://schemas.openxmlformats.org/drawingml/2006/table">
            <a:tbl>
              <a:tblPr/>
              <a:tblGrid>
                <a:gridCol w="770040"/>
                <a:gridCol w="743040"/>
                <a:gridCol w="744480"/>
                <a:gridCol w="743040"/>
                <a:gridCol w="744480"/>
                <a:gridCol w="743040"/>
                <a:gridCol w="744480"/>
                <a:gridCol w="743040"/>
                <a:gridCol w="744480"/>
                <a:gridCol w="744480"/>
                <a:gridCol w="744480"/>
              </a:tblGrid>
              <a:tr h="126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 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2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1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 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-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2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 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–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-  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–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-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–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 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–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-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–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9050-E977-49CE-BB16-A8030DB75D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24000" y="404640"/>
            <a:ext cx="8569080" cy="79236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словные обо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900000" y="1988280"/>
            <a:ext cx="72961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Д – положительная динами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УП – устойчивые показа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Д – отрицательная динам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 таблице в ячейках первая цифра – это уровень сформированности компонента, а второе число – количество человек, которое находится на этом уров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E44A-F545-420D-8504-524525D604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324000" y="476280"/>
            <a:ext cx="8569080" cy="115236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Фрагмент листа самооцен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826920" y="2060640"/>
          <a:ext cx="7705800" cy="4232160"/>
        </p:xfrm>
        <a:graphic>
          <a:graphicData uri="http://schemas.openxmlformats.org/drawingml/2006/table">
            <a:tbl>
              <a:tblPr/>
              <a:tblGrid>
                <a:gridCol w="2205360"/>
                <a:gridCol w="1376280"/>
                <a:gridCol w="1374840"/>
                <a:gridCol w="1374480"/>
                <a:gridCol w="137484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етика и орфоэп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ение гласных и согласных звук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ждение в слове ударных и безударных гласных звук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ение мягких и твердых согласных звуков, определение парных и непарных по твердости—мягкости согласных звук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441F-4C0D-45BE-B877-98C9756526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324000" y="476280"/>
            <a:ext cx="8569080" cy="252108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Источник для внутренней и внешней оц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етапредметных результатов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омплекс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900000" y="350028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Цель проведения комплексной рабо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пределение сформированности умения переносить знания и способы учебных действий, полученных в одних предметах, на другие учебные ситуации и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668E-B0E7-4361-B4A6-26015ECDCD9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611280" y="2492280"/>
            <a:ext cx="828036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омплексный подход к оценке результатов образования (оценка предметных, метапредметных и личностных результатов общего образо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324000" y="476280"/>
            <a:ext cx="8496000" cy="1224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тличительная особенность новой системы оцен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достижения планиру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D56E-9F93-4CA4-B463-4F022598264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539640" y="404640"/>
            <a:ext cx="7920000" cy="144000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ланируемые результа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ри основные группы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76360" y="5589720"/>
            <a:ext cx="57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179280" y="1943280"/>
            <a:ext cx="2519640" cy="15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иент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нностно-смыслова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социальных ролях и меж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остных отношения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951280" y="1952640"/>
            <a:ext cx="2519280" cy="15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937120" y="1952640"/>
            <a:ext cx="2698920" cy="1177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179280" y="3645000"/>
            <a:ext cx="252108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остное, профес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ональное, жизне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79280" y="4508640"/>
            <a:ext cx="2519640" cy="865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язь между целью (ре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ультатом)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ее мотив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179280" y="5481720"/>
            <a:ext cx="2519640" cy="1150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2987640" y="3645000"/>
            <a:ext cx="252108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ация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2987640" y="4473720"/>
            <a:ext cx="2521080" cy="863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чевые навыки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2"/>
          <p:cNvSpPr/>
          <p:nvPr/>
        </p:nvSpPr>
        <p:spPr>
          <a:xfrm>
            <a:off x="2987640" y="5445000"/>
            <a:ext cx="2519280" cy="1211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учебные, в т.ч. – знак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-символические, логичес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е, постановка и реш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5940360" y="3238560"/>
            <a:ext cx="1944720" cy="514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8132760" y="334656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6012000" y="3213000"/>
            <a:ext cx="17287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Основы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научных зн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5940360" y="3860640"/>
            <a:ext cx="2055960" cy="14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5973840" y="3886200"/>
            <a:ext cx="2017800" cy="137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Опыт «предметной» деятельности по 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8172360" y="3357720"/>
            <a:ext cx="4143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9"/>
          <p:cNvSpPr/>
          <p:nvPr/>
        </p:nvSpPr>
        <p:spPr>
          <a:xfrm>
            <a:off x="8136000" y="371628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8172360" y="3716280"/>
            <a:ext cx="4683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и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1"/>
          <p:cNvSpPr/>
          <p:nvPr/>
        </p:nvSpPr>
        <p:spPr>
          <a:xfrm>
            <a:off x="8132760" y="406548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8172360" y="4076640"/>
            <a:ext cx="4320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3"/>
          <p:cNvSpPr/>
          <p:nvPr/>
        </p:nvSpPr>
        <p:spPr>
          <a:xfrm>
            <a:off x="8136000" y="443700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8172360" y="4437000"/>
            <a:ext cx="4320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5"/>
          <p:cNvSpPr/>
          <p:nvPr/>
        </p:nvSpPr>
        <p:spPr>
          <a:xfrm>
            <a:off x="8132760" y="478620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8172360" y="4797360"/>
            <a:ext cx="3970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Е/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7"/>
          <p:cNvSpPr/>
          <p:nvPr/>
        </p:nvSpPr>
        <p:spPr>
          <a:xfrm>
            <a:off x="8132760" y="536256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8172360" y="5373720"/>
            <a:ext cx="4683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у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9"/>
          <p:cNvSpPr/>
          <p:nvPr/>
        </p:nvSpPr>
        <p:spPr>
          <a:xfrm>
            <a:off x="8132760" y="5686560"/>
            <a:ext cx="431640" cy="25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8136000" y="5697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З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1"/>
          <p:cNvSpPr/>
          <p:nvPr/>
        </p:nvSpPr>
        <p:spPr>
          <a:xfrm>
            <a:off x="8132760" y="601020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8172360" y="6021360"/>
            <a:ext cx="4683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е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8132760" y="6370560"/>
            <a:ext cx="431640" cy="25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8136000" y="6381720"/>
            <a:ext cx="4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и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5"/>
          <p:cNvSpPr/>
          <p:nvPr/>
        </p:nvSpPr>
        <p:spPr>
          <a:xfrm>
            <a:off x="6264360" y="5445000"/>
            <a:ext cx="1476360" cy="108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6"/>
          <p:cNvSpPr/>
          <p:nvPr/>
        </p:nvSpPr>
        <p:spPr>
          <a:xfrm>
            <a:off x="5940360" y="5626080"/>
            <a:ext cx="208764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5977080" y="5661000"/>
            <a:ext cx="205092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Предметные и метапредметные действия с учебным материал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8"/>
          <p:cNvSpPr/>
          <p:nvPr/>
        </p:nvSpPr>
        <p:spPr>
          <a:xfrm>
            <a:off x="8132760" y="5073480"/>
            <a:ext cx="431640" cy="2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9"/>
          <p:cNvSpPr/>
          <p:nvPr/>
        </p:nvSpPr>
        <p:spPr>
          <a:xfrm>
            <a:off x="8172360" y="5084640"/>
            <a:ext cx="4683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F038-A0FA-466B-8C2D-2E9F4B1D794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539640" y="404640"/>
            <a:ext cx="7920000" cy="86364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етапредмет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395280" y="1844640"/>
            <a:ext cx="840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сновным объектом оценки являются регулятивные, коммуникативные и познавательные У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пособность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обучающегося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нимать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и сохранять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чебную цель и задачи: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преобразовывать практическую задачу в познавательную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е планировать деятельность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искать средства её осуществления, умение контролировать и оценивать свои действия и т. д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е осуществлять информационный поиск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сбор и выделение существенной информации из различных информационных источ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е использовать знаково-символические средства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для создания моделей изучаемых объектов, схем решения различных задач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пособность к осуществлению логических операций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сравнения, анализа, обобщения и т. д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е сотрудничать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с педагогом и сверстниками при решении учебных проблем, принимать на себя ответственность за результаты своих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4A00-27CB-4868-80B5-0114AA24C9C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007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1A4C-5CAD-4472-9169-DBDF2272E1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70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6F7B-D30A-4EC2-B553-0697C376656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468360" y="230040"/>
            <a:ext cx="820728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4T16:58:50Z</dcterms:created>
  <dc:creator>Ольга</dc:creator>
  <dc:description/>
  <dc:language>en-US</dc:language>
  <cp:lastModifiedBy>viktor</cp:lastModifiedBy>
  <dcterms:modified xsi:type="dcterms:W3CDTF">2018-11-03T20:08:39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