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0C46-B408-4FF0-A991-A9A720C0A8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49D4-AF1B-481C-8C74-0A8F49D7B2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CE9B-ECAB-44EF-B666-B1265633A1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87159-803F-4477-929F-9640EDF9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C9218-8DA2-4BF0-BF6B-E795D355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C820F-A62A-47DE-973F-E277FABC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C985F-6AC4-48CD-9F9F-E80E2D9C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7728-B338-4824-8CFD-76DA4468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740D-0F21-4600-ACF7-ED053C8D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573F-0A53-430B-A6B8-F201049C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BAEF-E83A-4ED4-A2CC-5EC4758D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285F-B7F3-45A0-A031-1B41E360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66FE-C2A3-450D-B2C5-3C2EFE0C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E2DA-C61F-45E8-83C2-E9DBD039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3EE92-E970-42A9-8815-36E6100C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FBEA-38A2-4C6F-8D40-957460AA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A269-5CD4-40B5-A4AB-6A095A9A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191A-9E40-4A0A-9348-FEF2B2EC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44AD-86DB-4597-8D77-27602F66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32C6-B063-4285-9F36-571BC9D8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644A1-73F6-4F62-8DCF-2D3E2C17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84334-6F8C-49EC-91DD-2B76C7A0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3ED6C-F395-4DDF-B4A9-995CFB0D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182ED-6F96-4E31-BA6F-5CA0375C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96945-72FB-407C-83FA-BA51CB1E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6C5A7-E8B6-4599-86F1-68A04B94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86235-9233-47CA-9542-0E98AED7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03FB-2BCE-46C1-9BE6-29408261E3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C553-C248-4F46-9C3E-09BE8CB10E2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BC08-017C-4BDA-B758-255D8DE79B0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17468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95480" y="1073160"/>
            <a:ext cx="693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3565440" y="1197000"/>
            <a:ext cx="181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ФГ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826920" y="2276640"/>
            <a:ext cx="7488360" cy="158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755640" y="2421000"/>
            <a:ext cx="75614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омплексный подход к оценке метапредметных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276640" y="549360"/>
            <a:ext cx="48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БОУ Лицей№165 имени 65-летия «ГАЗ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4356000" y="4365720"/>
            <a:ext cx="3961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3566160" y="595008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. Новгород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49C2-8C98-4E32-ABF7-CDE9A43ED8B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324000" y="170028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работы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учащихся, выполняющиеся в ходе обучения (домашние задания, мини-проекты и презентации, формализованные письменные задания – разнообразные тексты, отчеты о наблюдениях и экспериментах, различные словники, памятки, дневники, собранные массивы данных, подборки информационных материалов, поздравительные открытки и т.п., а также разнообразные инициативные творческие работы – иллюстрированные сочинения, плакаты, постеры, поделки и т.п.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индивидуальная и совместная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деятельность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учащихся в ходе выполнения рабо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татистические данные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, основанные на ясно выраженных показателях и или/дескрипторах и получаемые в ходе целенаправленных наблюдений или мини-исследован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результаты тестирования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(результаты устных и письменных проверочных работ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250920" y="404640"/>
            <a:ext cx="8642160" cy="122400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сточниками информации для оцени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достигаемых   метапредметных образовате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езультатов служ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8B11-967D-45AF-9634-BCBEA7F72CD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539640" y="404640"/>
            <a:ext cx="8136000" cy="151164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 систему проверочных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чебно-методических материалов входя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1692360" y="1952640"/>
            <a:ext cx="5472000" cy="828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тартовая диагнос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1692360" y="2924280"/>
            <a:ext cx="5472000" cy="828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истематизированное опис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екомендуемых учебных задач и ситуа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1692360" y="3933720"/>
            <a:ext cx="5472000" cy="828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тоговые проверочные работы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1692360" y="4941720"/>
            <a:ext cx="5472000" cy="828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ртфель дости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9C56-27E2-4A41-84BD-A94E7FC582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"/>
          <p:cNvSpPr/>
          <p:nvPr/>
        </p:nvSpPr>
        <p:spPr>
          <a:xfrm>
            <a:off x="108000" y="333360"/>
            <a:ext cx="9036000" cy="576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ортфель достижен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527280" y="1557360"/>
            <a:ext cx="24480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усский яз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итературн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ностранный яз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10200" y="1557360"/>
            <a:ext cx="31338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иктанты, изложения, соч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удиозаписи монологов, диал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невники чит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ллюстрированные авторские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риалы самоанализа и рефлек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3525840" y="2600280"/>
            <a:ext cx="24480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6010200" y="2602080"/>
            <a:ext cx="31338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матические дикта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ни-исследования и мини-проект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дели, решения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удиозаписи устных отв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риалы самоанализа и рефлек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525840" y="3645000"/>
            <a:ext cx="24480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кружающий мир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6010200" y="3645000"/>
            <a:ext cx="31338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невники наблю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ни-исследования и мини-прое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вью, творческие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удиозаписи устных отв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риалы самоанализа и рефлек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3525840" y="4653000"/>
            <a:ext cx="24480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у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З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6010200" y="4653000"/>
            <a:ext cx="31338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удио-, фото- и видео-материа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дукты собственного твор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удиозаписи устных отв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риалы самоанализа и рефлек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4210200" y="98100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4246560" y="94464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орки детски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3525840" y="5695920"/>
            <a:ext cx="24480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99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Физ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уль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6010200" y="5697360"/>
            <a:ext cx="3133800" cy="90036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ео-материа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невники наблюдений и само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ые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риалы самоанализа и рефлек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79280" y="249228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мерный со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0" y="3068640"/>
            <a:ext cx="3456000" cy="3670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24"/>
              </a:spcAft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ыборки детски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езультаты стар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иагно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buClr>
                <a:srgbClr val="0000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атериалы теку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ценки: листы наблюд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ий, оценочные ли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buClr>
                <a:srgbClr val="0000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езультаты и материа- лы тематически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buClr>
                <a:srgbClr val="0000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езультаты и матер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лы итогового контр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buClr>
                <a:srgbClr val="0000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остижения во внеучеб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"/>
          <p:cNvPicPr/>
          <p:nvPr/>
        </p:nvPicPr>
        <p:blipFill>
          <a:blip r:embed="rId1"/>
          <a:stretch/>
        </p:blipFill>
        <p:spPr>
          <a:xfrm>
            <a:off x="142920" y="944640"/>
            <a:ext cx="169236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A96C-A818-419D-8852-A33BE6A3734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250920" y="404640"/>
            <a:ext cx="8424720" cy="86364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0" y="620640"/>
            <a:ext cx="88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истема оценки метапредметных результатов (УУД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84360" y="2060640"/>
            <a:ext cx="77770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2917800" y="148428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нутренняя 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 flipH="1">
            <a:off x="2050560" y="1989000"/>
            <a:ext cx="1008360" cy="86364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4211640" y="1989000"/>
            <a:ext cx="0" cy="122400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5435640" y="1989000"/>
            <a:ext cx="1081080" cy="935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22360" y="2924280"/>
            <a:ext cx="268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ценка шко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силохол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(источник информаци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ест, беседа, наблюд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3276720" y="3357720"/>
            <a:ext cx="237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ценка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( источник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иагнос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 контрольные работы, срезовые раб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блюд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052680" y="3016080"/>
            <a:ext cx="240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амо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(источник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амонаблюд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ценочные лис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исты самооцен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8F8F-02D7-4532-AFE4-81B01BAD29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539640" y="404640"/>
            <a:ext cx="8136000" cy="79236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чебные действия (по В. В. Давыд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1116000" y="2133720"/>
            <a:ext cx="74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1116000" y="1557360"/>
            <a:ext cx="69850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нятие учебной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еобразование учебной задачи с целью обнаружения всеобщего отношения изучаемого объ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оделирование выделенного отношения в предметной, графической или буквенной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еобразование модели отно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строение системы частных задач, решаемых общим способ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нтроль за выполнением учебных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ценка усвоения общего способа как результата решения данной учебной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151A-C58D-483D-B136-194709507E4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826920" y="1197000"/>
            <a:ext cx="78156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Мониторинг –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это систематическая и регулярная процедура сбора данных по различным, важным образовательным аспектам для принятия оптимальных управленческих решений по повышению качества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2A58-9027-43F5-BAE5-202B0CBE6AA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4222800" y="134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23"/>
          <p:cNvSpPr/>
          <p:nvPr/>
        </p:nvSpPr>
        <p:spPr>
          <a:xfrm>
            <a:off x="539640" y="404640"/>
            <a:ext cx="8136000" cy="122400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Цель мониторинга уров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формированности УУ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24"/>
          <p:cNvSpPr/>
          <p:nvPr/>
        </p:nvSpPr>
        <p:spPr>
          <a:xfrm>
            <a:off x="539640" y="2060640"/>
            <a:ext cx="81360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лучение объективной информации о состоянии и динамике уровня сформированности универсальных учебных действий у младших школьников в условиях реализации ФГОС нового поко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3A91-795D-4A8E-A8A3-ED2B63EEA2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612"/>
          <p:cNvSpPr/>
          <p:nvPr/>
        </p:nvSpPr>
        <p:spPr>
          <a:xfrm>
            <a:off x="539640" y="404640"/>
            <a:ext cx="8136000" cy="122400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Задачи мониторинг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13"/>
          <p:cNvSpPr/>
          <p:nvPr/>
        </p:nvSpPr>
        <p:spPr>
          <a:xfrm>
            <a:off x="611280" y="1916280"/>
            <a:ext cx="79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1. Отработка механизмов сбора информации об уров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формированности УУ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2. Выявление и анализ факторов, способствующих формированию УУ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3. Апробация технологических карт и методик оценки уровня сформированности УУ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4. Формирование банка методических материалов для организации и проведения мониторинга уровня сформированности УУД на ступени начально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5. Обеспечение преемственности и единообразия в процедурах оценки качества результатов начального и среднего школьного образования в условиях внедрения ФГ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6. Разработка и апробация системы критериев и показателей уровня сформированности УУД у обучающихся на начальной ступени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0968-2C09-4A82-8451-75A39FD1048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539640" y="404640"/>
            <a:ext cx="8136000" cy="122400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бъекты мониторинг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755640" y="2697120"/>
            <a:ext cx="77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1. Универсальные учебные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. Педагогические технологии, используе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начальной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B9C3-0889-4B0E-8B11-E636CBE1FFE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539640" y="404640"/>
            <a:ext cx="8136000" cy="122400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езультаты наблюдения за уровн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формированности компонентов УД у учщихся __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989000"/>
          <a:ext cx="8569080" cy="3743640"/>
        </p:xfrm>
        <a:graphic>
          <a:graphicData uri="http://schemas.openxmlformats.org/drawingml/2006/table">
            <a:tbl>
              <a:tblPr/>
              <a:tblGrid>
                <a:gridCol w="952560"/>
                <a:gridCol w="950760"/>
                <a:gridCol w="952560"/>
                <a:gridCol w="954000"/>
                <a:gridCol w="949320"/>
                <a:gridCol w="954000"/>
                <a:gridCol w="952560"/>
                <a:gridCol w="951120"/>
                <a:gridCol w="952200"/>
              </a:tblGrid>
              <a:tr h="814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. И. учащ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бные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ий 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б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ование У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р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бразование мо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р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е сис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ных зада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 роль за выпол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ем 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усв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я общего спосо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C145-3BDA-47EC-825F-22CA618DDA3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95280" y="1628640"/>
            <a:ext cx="835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пособстовать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поддержанию еди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сей системы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беспечить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преемственность в сист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непрерывного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риентировать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образовательный процесс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достижение планируемых результатов ОО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существлять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управление образовательным процес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539640" y="620640"/>
            <a:ext cx="7993080" cy="100800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истема оценки призва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D1A8-3878-4321-9433-1E86FA1362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87"/>
          <p:cNvSpPr/>
          <p:nvPr/>
        </p:nvSpPr>
        <p:spPr>
          <a:xfrm>
            <a:off x="324000" y="404640"/>
            <a:ext cx="8569080" cy="79236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ровни сформированности учебно- познавательного интер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39640" y="1741320"/>
          <a:ext cx="7920000" cy="4567320"/>
        </p:xfrm>
        <a:graphic>
          <a:graphicData uri="http://schemas.openxmlformats.org/drawingml/2006/table">
            <a:tbl>
              <a:tblPr/>
              <a:tblGrid>
                <a:gridCol w="622440"/>
                <a:gridCol w="1520640"/>
                <a:gridCol w="2306880"/>
                <a:gridCol w="3470040"/>
              </a:tblGrid>
              <a:tr h="89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-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уров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 диагностический призн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е диагностические призна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интерес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 практически не обнаруживается (исключение: положительные реакции на яркий и забавный материал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личное или отрицательное отношение к решению любых учебных задач; более охотно выполняет привычные действия, чем осваивает новы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 на новизн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ительные реакции возникают только на новый материал, касающийся конкретных фактов (но не теории).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вляется, задаёт вопросы о новом фактическом материале; включается в выполнение задания, связанного с ним, однако длительной устойчивой активности не проявля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BC27-6893-47EF-911E-8957FF64B57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611280" y="404640"/>
          <a:ext cx="7921440" cy="6218280"/>
        </p:xfrm>
        <a:graphic>
          <a:graphicData uri="http://schemas.openxmlformats.org/drawingml/2006/table">
            <a:tbl>
              <a:tblPr/>
              <a:tblGrid>
                <a:gridCol w="620640"/>
                <a:gridCol w="1520640"/>
                <a:gridCol w="2310120"/>
                <a:gridCol w="3470040"/>
              </a:tblGrid>
              <a:tr h="155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бопытств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ительные реакции возникают на новый теоретический материал (но не на способы решения задач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вляется и задаёт вопросы достаточно часто; включается в выполнение заданий часто, но интерес быстро пропада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тивный учебный интере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на способы решения новой частной единичной задачи (но не системы задач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ается в процесс решения задачи, пытается самостоятельно найти способ решения и довести задание до конца; после решения задачи интерес исчерпывает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ойчивый учебно-познавательный интере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на общий способ решения целой системы задач (но не выходит за пределы изучаемого материала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отно включается в процесс выполнения, работает длительно и устойчиво, принимает предложения найти новые применения найденному способ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бщённый учебно-познавательный интере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независимо от внешних требований и выходит за рамки изучаемого материала. Непременно ориентирован на общие способы решения системы задач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вляется постоянной характеристикой ученика; ученик проявляет выраженное творческое отношение к общему способу решения задач, стремится получить дополнительные сведения, имеется мотивированная избирательность интерес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1146-AA19-47BF-AB87-7408669F5D0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24000" y="404640"/>
            <a:ext cx="8569080" cy="79236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ровни сформированности целеполаг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50920" y="1197000"/>
          <a:ext cx="8642160" cy="5530680"/>
        </p:xfrm>
        <a:graphic>
          <a:graphicData uri="http://schemas.openxmlformats.org/drawingml/2006/table">
            <a:tbl>
              <a:tblPr/>
              <a:tblGrid>
                <a:gridCol w="637920"/>
                <a:gridCol w="1397160"/>
                <a:gridCol w="2797200"/>
                <a:gridCol w="3809880"/>
              </a:tblGrid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уров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 диагностический призн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е диагностические призна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цел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ъявляемое требование осознаётся лишь частично. Включаясь в работу, быстро отвлекается или ведет себя хаотично, не знает, что именно надо делать. Может принимать лишь простейшие (не предполагающие промежуточных целей) требо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хо различает учебные задачи разного типа, отсутствует реакция на новизну задачи, не может выделять промежуточные цели, нуждается в пооперационном контроле со стороны учителя, не может ответить на вопросы о том, что он собирается делать или что сдела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практической задач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имает и выполняет только практические задачи (но не теоретические), в теоретических задачах не ориентирует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знаёт, что надо делать и что он уже сделал в процессе решения практической задачи и может ответить на соответствующие вопросы; выделяет промежуточные цели; в отношении теоретических задач не может дать отчёта о своих действиях и не может осуществлять целенаправленных действий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3CFA-3DE1-48B2-9CB4-07D0B3E09A9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95280" y="601560"/>
          <a:ext cx="8353440" cy="6137280"/>
        </p:xfrm>
        <a:graphic>
          <a:graphicData uri="http://schemas.openxmlformats.org/drawingml/2006/table">
            <a:tbl>
              <a:tblPr/>
              <a:tblGrid>
                <a:gridCol w="619200"/>
                <a:gridCol w="1349280"/>
                <a:gridCol w="2698920"/>
                <a:gridCol w="3686040"/>
              </a:tblGrid>
              <a:tr h="179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определение познавательной задачи в практическу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имает познавательную задачу, осознаёт её требование, но в процессе её решения подменяет познавательную задачу практическ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отно включается в решение познавательной задачи и отвечает на вопросы о её содержании; возникшая познавательная цель крайне неустойчива; при выполнении задания ориентируется лишь на практическую его часть и фактически не достигает познавательной цел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познавательной цел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ая познавательная цель сохраняется при выполнении учебных действий и регулирует весь процесс их выполнения; чётко выполняется требование познавательной задач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отно осуществляет решение познавательной задачи, не изменяя её (не подменяя практической задачей и не выходя за её требования), чётко может дать отчёт о своих действиях после выполнения зад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определение практической задачи в познавательну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кнувшись с новой практической задачей, самостоятельно формулирует познавательную цель и строит действия в соответствии с н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озможность решить новую практическую задачу объясняет именно отсутствием адекватных способов; чётко осознаёт свою цель и структуру найденного способа и может дать о них отче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постановка новых учебных цел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 формулирует новые познавательные цели без какой-либо стимуляции извне, в том числе и со стороны новой практической задачи; цели выходят за пределы требований программ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обственной инициативе выдвигает содержательные гипотезы; учебная деятельность приобретает форму активного исследования, активность направлена на содержание способов действия и их применение в различных условия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D010-1FEF-4E3D-985F-D4FD2DAB5F3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324000" y="404640"/>
            <a:ext cx="8569080" cy="79236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ровни сформированности учебных 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79280" y="1341360"/>
          <a:ext cx="8713800" cy="5394240"/>
        </p:xfrm>
        <a:graphic>
          <a:graphicData uri="http://schemas.openxmlformats.org/drawingml/2006/table">
            <a:tbl>
              <a:tblPr/>
              <a:tblGrid>
                <a:gridCol w="663840"/>
                <a:gridCol w="1757160"/>
                <a:gridCol w="3008520"/>
                <a:gridCol w="32842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-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уров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 диагностический призн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е диагностические призна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учебных действий как целостных единиц деятель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ожет выполнять учебные действия как таковые, может выполнять лишь отдельные операции без их внутренней связи друг с другом или копировать внешнюю форму действ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сознаёт содержание учебных действий и не может дать отчёта о них; ни самостоятельно, ни с помощью учителя (за исключением прямого показа) не способен выполнять учебные действия; навыки образуются с трудом и оказываются крайне неустойчивы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учебных действий в сотрудничестве с учител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действий и их операционный состав осознаются; приступает к выполнению действий, однако без внешней помощи организовать свои действия и довести их до конца не может; в сотрудничестве с учителем работает относительно успеш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дать отчёт о своих действиях, но затрудняется в их практическом воплощении; помощь учителя принимается сравнительно легко; эффективно работает при пооперационном контроле; самостоятельные учебные действия практически отсутствую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77E6-65E4-446E-957E-4BC7CD7CCAF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826920" y="907920"/>
          <a:ext cx="7632720" cy="4849920"/>
        </p:xfrm>
        <a:graphic>
          <a:graphicData uri="http://schemas.openxmlformats.org/drawingml/2006/table">
            <a:tbl>
              <a:tblPr/>
              <a:tblGrid>
                <a:gridCol w="581040"/>
                <a:gridCol w="1540080"/>
                <a:gridCol w="2635200"/>
                <a:gridCol w="2876400"/>
              </a:tblGrid>
              <a:tr h="256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декватный перенос учебных действ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ёнок самостоятельно применяет усвоенный способ действия к решению новой задачи, однако не способен внести в него даже небольшие изменения, чтобы приноровить его к условиям конкретной задач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военный способ применяет «слепо», не соотнося его с условиями задачи; такое соотнесение и перестройку действия может осуществлять лишь с помощью учителя, а не самостоятельно; при неизменности условий способен успешно выполнять действия самостоятель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кватный перенос учебных действ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ет обнаружить несоответствие новой задачи и усвоенного способа; пытается самостоятельно перестроить известный ему способ. однако может это правильно сделать только при помощи учите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точно полно анализирует условия задачи и чётко соотносит их с известными способами; легко принимает косвенную помощь учителя; осознает и готов описать причины своих затруднений и особенности нового способа действ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5626-4F3E-412B-8D9F-68BDCF360FF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611280" y="692280"/>
          <a:ext cx="7848360" cy="5473440"/>
        </p:xfrm>
        <a:graphic>
          <a:graphicData uri="http://schemas.openxmlformats.org/drawingml/2006/table">
            <a:tbl>
              <a:tblPr/>
              <a:tblGrid>
                <a:gridCol w="598320"/>
                <a:gridCol w="1582920"/>
                <a:gridCol w="2708280"/>
                <a:gridCol w="2958840"/>
              </a:tblGrid>
              <a:tr h="31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е построение учебных действ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ая новую задачу, самостоятельно строит новый способ действия или модифицирует известный ему способ, делает это постепенно, шаг за шагом и в конце без какой-либо помощи извне правильно решает задач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ически оценивает свои действия, на всех этапах решения задачи может дать отчёт о них; нахождение нового способа осуществляется медленно, неуверенно, с частым обращением к повторному анализу условий задачи, но на всех этапах полностью самостоятель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бщение учебных действ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рается на принципы построения способов действия и решает новую задачу «с хода», выводя новый способ из этого принципа, а не из модификации известного частного способ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ладевая новым способом, осознаёт не только его состав, но и принципы его построения (т.е. то, на чём он основан), осознаёт сходство между различными модификациями и их связи с условиями задач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6A10-36BE-4EFF-B996-01E2A4565BA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324000" y="404640"/>
            <a:ext cx="8569080" cy="79236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ровни сформированности действия конт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250920" y="1341360"/>
          <a:ext cx="8713800" cy="5394240"/>
        </p:xfrm>
        <a:graphic>
          <a:graphicData uri="http://schemas.openxmlformats.org/drawingml/2006/table">
            <a:tbl>
              <a:tblPr/>
              <a:tblGrid>
                <a:gridCol w="569880"/>
                <a:gridCol w="1736640"/>
                <a:gridCol w="3160800"/>
                <a:gridCol w="32464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уров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 диагностический призн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е диагностические призна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контро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действия не контролируются, не соотносятся со схемой; допущенные ошибки не замечаются и не исправляются даже в отношении многократно повторённых действ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меет обнаружить и исправить ошибку даже по просьбе учителя в отношении неоднократно повторённых действий; часто допускает одни и те же ошибки; некритически относится к исправленным ошибкам в своих работах и не замечает ошибок других ученик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на уровне непроизвольного вним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ношении многократно повторённых действий может, хотя и не систематически, неосознанно фиксировать факт расхождения действий и непроизвольно запомненной схемы; заметив и исправив ошибку, не может обосновать своих действ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я как бы неосознанно, предугадывает правильное направление действий; часто допускает одни и те же ошибки; сделанные ошибки исправляет неуверенно; в малознакомых действиях ошибки допускает чаще, чем в знакомых, и не исправля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D2A1-E914-49D0-A1F5-D7F8846172E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11280" y="620640"/>
          <a:ext cx="7993080" cy="5965920"/>
        </p:xfrm>
        <a:graphic>
          <a:graphicData uri="http://schemas.openxmlformats.org/drawingml/2006/table">
            <a:tbl>
              <a:tblPr/>
              <a:tblGrid>
                <a:gridCol w="522360"/>
                <a:gridCol w="1595160"/>
                <a:gridCol w="2897280"/>
                <a:gridCol w="2978280"/>
              </a:tblGrid>
              <a:tr h="25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ьный контроль на уровне произвольного вним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ыполнении нового действия введённая его схема осознаётся, однако затруднено одновременное выполнение учебных действий и их соотнесение со схемой; ретроспективно такое соотнесение проделывает, ошибки исправляет и обосновыва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оцессе решения задачи не использует усвоенную схему, а после её решения, в особенности по просьбе учителя может соотнести его со схемой, найти и исправить ошибки; в многократно повторённых действиях ошибок не допускает или легко их исправля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ьный контроль на уровне произвольного вним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осредственно в процессе выполнения действия ученик ориентируется на усвоенную им обобщённую его схему и успешно соотносит с ней процесс решения задачи, почти не допуская ошибо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ные ошибки обнаруживаются и исправляются самостоятельно, правильно объясняет свои действия; осознанно контролирует процесс решения задачи другими учениками; столкнувшись с новой задачей, не может скорректировать применяемую схему, не контролирует её адекватность новым условия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E278-075B-4B41-8E2F-EF54A05F575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68360" y="692280"/>
          <a:ext cx="8207280" cy="5473440"/>
        </p:xfrm>
        <a:graphic>
          <a:graphicData uri="http://schemas.openxmlformats.org/drawingml/2006/table">
            <a:tbl>
              <a:tblPr/>
              <a:tblGrid>
                <a:gridCol w="538200"/>
                <a:gridCol w="1596960"/>
                <a:gridCol w="2924280"/>
                <a:gridCol w="3147840"/>
              </a:tblGrid>
              <a:tr h="23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ьный рефлексивный контрол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ая новую задачу, успешно применяет к ней старую, неадекватную схему, однако с помощью учителя обнаруживает неадекватность схемы новым условиям и пытается внести в действие корректив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, соответствующие схеме, выполняются уверенно и безошибочно. Без помощи учителя не может обнаружить несоответствие усвоенной схемы новым условия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ьный рефлексивный контроль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ая новую задачу, самостоятельно обнаруживает ошибки, вызванные несоответствием схемы и новых условий задачи, и самостоятельно вносит коррективы в схему, совершая действия безошибоч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пешно контролирует не только соответствие выполняемых действий их схеме, но и соответствие самой схемы изменившимся условиям задачи; в ряде случаев вносит коррекции в схему действий ещё до начала их фактического выполн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AA07-0DDC-4893-9031-FCB30471217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09480" y="1600200"/>
            <a:ext cx="792504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ценивание является постоянным процессом, естественным образом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интегрированным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в образовательную практ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ценивание является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критериальным.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сновными критериями оценивания выступают планируемые результа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цениваться с помощью отметки могут только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результаты деятельности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ученика и процесс их формирования, но не личные качества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истема оценивания выстраивается таким образом, чтобы учащиеся включались в контрольно-оценочную деятельность, приобретая навыки и привычку к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амооценке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взаимооценке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 оценочной деятельности реализуется заложенный в стандарте принцип распределения ответственности между различными участниками образовательного процесса – за счет выбора процедур, форм, содержания оценочн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611280" y="620640"/>
            <a:ext cx="7993080" cy="100800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бщие принципы нов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цен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A630-0FF7-4E7F-9973-125D1F068AE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"/>
          <p:cNvSpPr/>
          <p:nvPr/>
        </p:nvSpPr>
        <p:spPr>
          <a:xfrm>
            <a:off x="324000" y="404640"/>
            <a:ext cx="8569080" cy="79236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ровни сформированности действия оце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539640" y="1413000"/>
          <a:ext cx="8064720" cy="4321080"/>
        </p:xfrm>
        <a:graphic>
          <a:graphicData uri="http://schemas.openxmlformats.org/drawingml/2006/table">
            <a:tbl>
              <a:tblPr/>
              <a:tblGrid>
                <a:gridCol w="463680"/>
                <a:gridCol w="1170000"/>
                <a:gridCol w="3154320"/>
                <a:gridCol w="3276720"/>
              </a:tblGrid>
              <a:tr h="249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оцен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 не умеет, не пытается, и не испытывает потребности в оценке своих действий ни самостоятельно, ни даже по просьбе учител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цело полагается на отметку учителя, воспринимает ее некритически (даже в случае явного занижения), не воспринимает аргументацию оценки; не может оценить свои возможности относительно решения поставленной задач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декватная ретроспективная оцен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 не умеет, не пытается оценить свои действия, но испытывает потребность в получении внешней оценки своих действий, ориентирован на отметки учите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ытаясь по просьбе учителя оценить свои действия, ориентируется не на их содержание, а на внешние особенности решения задач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8F6A-81FB-46B1-BD10-A86B4472AEA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684360" y="765000"/>
          <a:ext cx="7848360" cy="5400720"/>
        </p:xfrm>
        <a:graphic>
          <a:graphicData uri="http://schemas.openxmlformats.org/drawingml/2006/table">
            <a:tbl>
              <a:tblPr/>
              <a:tblGrid>
                <a:gridCol w="450720"/>
                <a:gridCol w="1138320"/>
                <a:gridCol w="3070080"/>
                <a:gridCol w="3189240"/>
              </a:tblGrid>
              <a:tr h="234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кватная ретроспективная оцен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ет самостоятельно оценить свои действия и содержательно обосновать правильность или ошибочность результата, соотнося его со схемой действи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ически относится к отметкам учителя (в том числе и к завышенным); не может оценить своих возможностей перед решением новой задачи и не пытается этого делать; может оценить действия других ученик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декватная прогностическая оцен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тупая к решению новой задачи, пытается оценить свои возможности относительно её решения, однако при этом учитывает лишь факт её знакомости или незнакомости, а не возможности изменения известных ему способов действи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бодно и аргументировано оценивает уже решённые им задачи; пытаясь оценивать свои возможности в решении новых задач, часто допускает ошибки, учитывает лишь внешние признаки задачи, а не её структуру; не может этого сделать до решения задачи даже с помощью учител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835C-A5AA-4631-9EA9-C142F607E7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39640" y="907920"/>
          <a:ext cx="8064720" cy="4897440"/>
        </p:xfrm>
        <a:graphic>
          <a:graphicData uri="http://schemas.openxmlformats.org/drawingml/2006/table">
            <a:tbl>
              <a:tblPr/>
              <a:tblGrid>
                <a:gridCol w="463680"/>
                <a:gridCol w="1170000"/>
                <a:gridCol w="3154320"/>
                <a:gridCol w="3276720"/>
              </a:tblGrid>
              <a:tr h="262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ьно-адекватная прогностическая оцен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тупая к решению новой задачи, может с помощью учителя, но не самостоятельно, оценить свои возможности в её решении, учитывая возможное изменение известных ему способов действи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с помощью учителя, но не самостоятельно, обосновать свою возможность или невозможность решить стоящую перед ним задачу, опираясь на анализ известных ему способов действия; делает это неуверенно, с трудо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ьно-адекватная прогностическая оцен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тупая к решению новой задачи, может самостоятельно оценить свои возможности в её решении, учитывая возможное изменение известных ему способов действи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 обосновывает ещё до решения задачи свою возможность или невозможность её решать, исходя из чёткого осознания специфики усвоенных им способов и их вариаций, а также границ их применени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A427-650E-4412-9612-9773D7DE01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906120" y="475920"/>
            <a:ext cx="733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зультаты мониторинга уровня сформирова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понентов учебной деятельности у учащихся 1 и 2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БОУ Лицея №165 имени 65-летия «ГАЗ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период с сентября по май 2012-2013 учебного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95280" y="2205000"/>
          <a:ext cx="8280360" cy="4316400"/>
        </p:xfrm>
        <a:graphic>
          <a:graphicData uri="http://schemas.openxmlformats.org/drawingml/2006/table">
            <a:tbl>
              <a:tblPr/>
              <a:tblGrid>
                <a:gridCol w="1157400"/>
                <a:gridCol w="863640"/>
                <a:gridCol w="660240"/>
                <a:gridCol w="585720"/>
                <a:gridCol w="593640"/>
                <a:gridCol w="623880"/>
                <a:gridCol w="636840"/>
                <a:gridCol w="788760"/>
                <a:gridCol w="623880"/>
                <a:gridCol w="889200"/>
                <a:gridCol w="85716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полугод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полугод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й ин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й ин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1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 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 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- 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–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–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2513-6237-4674-A0E9-CAFFF13A2D0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39640" y="981000"/>
          <a:ext cx="8209080" cy="5386320"/>
        </p:xfrm>
        <a:graphic>
          <a:graphicData uri="http://schemas.openxmlformats.org/drawingml/2006/table">
            <a:tbl>
              <a:tblPr/>
              <a:tblGrid>
                <a:gridCol w="770040"/>
                <a:gridCol w="743040"/>
                <a:gridCol w="744480"/>
                <a:gridCol w="743040"/>
                <a:gridCol w="744480"/>
                <a:gridCol w="743040"/>
                <a:gridCol w="744480"/>
                <a:gridCol w="743040"/>
                <a:gridCol w="744480"/>
                <a:gridCol w="744480"/>
                <a:gridCol w="744480"/>
              </a:tblGrid>
              <a:tr h="126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 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1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1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2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1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 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-1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2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1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–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-  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–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-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–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–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–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CAA1-DBE7-49A1-986E-E39FA9DB114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24000" y="404640"/>
            <a:ext cx="8569080" cy="79236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словные обозна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900000" y="1988280"/>
            <a:ext cx="72961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ПД – положительная динами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УП – устойчивые показа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Д – отрицательная динам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В таблице в ячейках первая цифра – это уровень сформированности компонента, а второе число – количество человек, которое находится на этом уров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F9A9-D212-4923-9ECA-7FC0FCC8DC8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324000" y="476280"/>
            <a:ext cx="8569080" cy="115236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Фрагмент листа самооцен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826920" y="2060640"/>
          <a:ext cx="7705800" cy="4232160"/>
        </p:xfrm>
        <a:graphic>
          <a:graphicData uri="http://schemas.openxmlformats.org/drawingml/2006/table">
            <a:tbl>
              <a:tblPr/>
              <a:tblGrid>
                <a:gridCol w="2205360"/>
                <a:gridCol w="1376280"/>
                <a:gridCol w="1374840"/>
                <a:gridCol w="1374480"/>
                <a:gridCol w="137484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етика и орфоэп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ение гласных и согласных звуков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ждение в слове ударных и безударных гласных звуков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ение мягких и твердых согласных звуков, определение парных и непарных по твердости—мягкости согласных звуков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DF4F-EF95-4ED9-BD9A-BC47CF60C49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324000" y="476280"/>
            <a:ext cx="8569080" cy="252108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Источник для внутренней и внешней оце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метапредметных результатов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омплекс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900000" y="350028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Цель проведения комплексной рабо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пределение сформированности умения переносить знания и способы учебных действий, полученных в одних предметах, на другие учебные ситуации и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B0AE-48DF-4014-9A77-C1B0253A27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611280" y="2492280"/>
            <a:ext cx="828036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омплексный подход к оценке результатов образования (оценка предметных, метапредметных и личностных результатов общего образо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324000" y="476280"/>
            <a:ext cx="8496000" cy="122400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тличительная особенность новой системы оцен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достижения планируем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0902-E948-4646-B39F-A6FBB5BFB70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"/>
          <p:cNvSpPr/>
          <p:nvPr/>
        </p:nvSpPr>
        <p:spPr>
          <a:xfrm>
            <a:off x="539640" y="404640"/>
            <a:ext cx="7920000" cy="144000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ланируемые результа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три основные группы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76360" y="5589720"/>
            <a:ext cx="57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179280" y="1943280"/>
            <a:ext cx="2519640" cy="15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иент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нностно-смыслова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социальных ролях и меж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остных отношения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951280" y="1952640"/>
            <a:ext cx="2519280" cy="15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937120" y="1952640"/>
            <a:ext cx="2698920" cy="1177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179280" y="3645000"/>
            <a:ext cx="252108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остное, профес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ональное, жизне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179280" y="4508640"/>
            <a:ext cx="2519640" cy="865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язь между целью (ре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ультатом)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ее мотив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179280" y="5481720"/>
            <a:ext cx="2519640" cy="1150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2987640" y="3645000"/>
            <a:ext cx="252108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ганизация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2987640" y="4473720"/>
            <a:ext cx="2521080" cy="863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чевые навыки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2"/>
          <p:cNvSpPr/>
          <p:nvPr/>
        </p:nvSpPr>
        <p:spPr>
          <a:xfrm>
            <a:off x="2987640" y="5445000"/>
            <a:ext cx="2519280" cy="1211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учебные, в т.ч. – знак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-символические, логичес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е, постановка и реш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5940360" y="3238560"/>
            <a:ext cx="1944720" cy="514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4"/>
          <p:cNvSpPr/>
          <p:nvPr/>
        </p:nvSpPr>
        <p:spPr>
          <a:xfrm>
            <a:off x="8132760" y="334656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6012000" y="3213000"/>
            <a:ext cx="17287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Основы сист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научных зн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6"/>
          <p:cNvSpPr/>
          <p:nvPr/>
        </p:nvSpPr>
        <p:spPr>
          <a:xfrm>
            <a:off x="5940360" y="3860640"/>
            <a:ext cx="2055960" cy="14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5973840" y="3886200"/>
            <a:ext cx="2017800" cy="1372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Опыт «предметной» деятельности по получен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8172360" y="3357720"/>
            <a:ext cx="4143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9"/>
          <p:cNvSpPr/>
          <p:nvPr/>
        </p:nvSpPr>
        <p:spPr>
          <a:xfrm>
            <a:off x="8136000" y="371628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8172360" y="3716280"/>
            <a:ext cx="4683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и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1"/>
          <p:cNvSpPr/>
          <p:nvPr/>
        </p:nvSpPr>
        <p:spPr>
          <a:xfrm>
            <a:off x="8132760" y="406548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8172360" y="4076640"/>
            <a:ext cx="43200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3"/>
          <p:cNvSpPr/>
          <p:nvPr/>
        </p:nvSpPr>
        <p:spPr>
          <a:xfrm>
            <a:off x="8136000" y="443700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8172360" y="4437000"/>
            <a:ext cx="43200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5"/>
          <p:cNvSpPr/>
          <p:nvPr/>
        </p:nvSpPr>
        <p:spPr>
          <a:xfrm>
            <a:off x="8132760" y="478620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8172360" y="4797360"/>
            <a:ext cx="3970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Е/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7"/>
          <p:cNvSpPr/>
          <p:nvPr/>
        </p:nvSpPr>
        <p:spPr>
          <a:xfrm>
            <a:off x="8132760" y="536256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8172360" y="5373720"/>
            <a:ext cx="4683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у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9"/>
          <p:cNvSpPr/>
          <p:nvPr/>
        </p:nvSpPr>
        <p:spPr>
          <a:xfrm>
            <a:off x="8132760" y="5686560"/>
            <a:ext cx="431640" cy="252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8136000" y="56973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З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1"/>
          <p:cNvSpPr/>
          <p:nvPr/>
        </p:nvSpPr>
        <p:spPr>
          <a:xfrm>
            <a:off x="8132760" y="601020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8172360" y="6021360"/>
            <a:ext cx="4683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е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8132760" y="6370560"/>
            <a:ext cx="431640" cy="252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8136000" y="6381720"/>
            <a:ext cx="4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и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5"/>
          <p:cNvSpPr/>
          <p:nvPr/>
        </p:nvSpPr>
        <p:spPr>
          <a:xfrm>
            <a:off x="6264360" y="5445000"/>
            <a:ext cx="1476360" cy="108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6"/>
          <p:cNvSpPr/>
          <p:nvPr/>
        </p:nvSpPr>
        <p:spPr>
          <a:xfrm>
            <a:off x="5940360" y="5626080"/>
            <a:ext cx="208764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7"/>
          <p:cNvSpPr/>
          <p:nvPr/>
        </p:nvSpPr>
        <p:spPr>
          <a:xfrm>
            <a:off x="5977080" y="5661000"/>
            <a:ext cx="205092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Предметные и метапредметные действия с учебным материал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8"/>
          <p:cNvSpPr/>
          <p:nvPr/>
        </p:nvSpPr>
        <p:spPr>
          <a:xfrm>
            <a:off x="8132760" y="5073480"/>
            <a:ext cx="431640" cy="2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9"/>
          <p:cNvSpPr/>
          <p:nvPr/>
        </p:nvSpPr>
        <p:spPr>
          <a:xfrm>
            <a:off x="8172360" y="5084640"/>
            <a:ext cx="4683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о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C040-A543-4B0B-9114-9A93FE60346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539640" y="404640"/>
            <a:ext cx="7920000" cy="86364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етапредмет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395280" y="1844640"/>
            <a:ext cx="840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сновным объектом оценки являются регулятивные, коммуникативные и познавательные У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пособность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обучающегося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нимать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и сохранять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чебную цель и задачи: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преобразовывать практическую задачу в познавательную,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мение планировать деятельность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, искать средства её осуществления, умение контролировать и оценивать свои действия и т. д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мение осуществлять информационный поиск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, сбор и выделение существенной информации из различных информационных источ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мение использовать знаково-символические средства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для создания моделей изучаемых объектов, схем решения различных задач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пособность к осуществлению логических операций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сравнения, анализа, обобщения и т. д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мение сотрудничать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с педагогом и сверстниками при решении учебных проблем, принимать на себя ответственность за результаты своих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73EB-36AF-4832-8F76-6496F743B12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0072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1DA9-9AAE-4398-8446-CCE157F928E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704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2C1F-DC9B-4DF4-A3BF-340D51254CF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468360" y="230040"/>
            <a:ext cx="820728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4T16:58:50Z</dcterms:created>
  <dc:creator>Ольга</dc:creator>
  <dc:description/>
  <dc:language>en-US</dc:language>
  <cp:lastModifiedBy>viktor</cp:lastModifiedBy>
  <dcterms:modified xsi:type="dcterms:W3CDTF">2018-11-03T20:08:39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