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35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C2AC-BFC3-470B-BA3A-B5B655D0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600-0684-4501-8259-F499F359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DA8-7855-469E-AFD7-393B9C0C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737-CD11-4535-A7A3-37555B35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B4A-E6AB-4661-B72E-8D8FA8D5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102-24EF-4459-81B5-73D208EC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156-75AA-4535-B141-2C03F289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6A3A-81AB-47AB-A188-F104C087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CBC-0113-4887-BF0E-C43EB80B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B3D-3A6F-4541-AB31-20F1083B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7AE-59BE-478E-AA21-4CA2C6FF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B5A-FC5A-4DF8-94F5-4FADC936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393A-09D9-4B61-B452-527FFC8A0E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для урока окружающий мир «Главные особенности космоса» или классного часа ко дню Космонав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ормирование представления о космос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знакомить учащихся с наукой астрономией, с профессией космонав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ать ученикам представление о том, что такое космический корабль, орбитальная станция, Вселенная, галактика, невесомость, открытый космос, спускаемый аппара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расширить их представления о звездах, планет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знакомить детей с биографией первого космонавта – Ю. Гагарина; историей освоения космос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оспитывать стремление всегда достигать поставленной цели, быть самостоятельным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развивать приемы анализа, синтеза, сравнения, зрительную память, воображ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учить детей вдумчиво и внимательно слуш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85480" y="5000400"/>
            <a:ext cx="86439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рабль пилотировал советский космонавт Юрий Алексеевич Гагари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н был первым человеком, который собственными глазами увидел, что Земля действительно круглая, действительно большей частью покрыта водой и действительно великолеп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928960" y="357120"/>
            <a:ext cx="3357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космонавт  Юрий Гагарин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643280" y="857160"/>
            <a:ext cx="3786480" cy="55548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285840" y="157176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осмическом корабле Восток-1 старший лейтенант Юрий Алексеевич Гагарин один раз облетел вокруг Зем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готовятся космонавты к полет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71320" y="5857560"/>
            <a:ext cx="80722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тренировок космонавтов используют тренажер – центрифугу.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7953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28760" y="5214600"/>
            <a:ext cx="82864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этой огромной, 18-метровой кегле создаются перегрузки, которые космонавт испытывает во время полета. Сама она вращается по кругу, голова ее тоже вращается, внутри головы вращается кабина, а внутри кабины вращается кресло с космонав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643040" y="642960"/>
            <a:ext cx="605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13840" y="9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проводятся тренировки под водой, станцию вместе с платформой, подготавливаемыми космонавтами и водолазами опускают под воду, в гидробассей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286160" y="285840"/>
            <a:ext cx="411336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050560" y="5373360"/>
            <a:ext cx="597564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 работают в гидробассей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20760" y="1143000"/>
            <a:ext cx="4489200" cy="3571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5000760" y="1143000"/>
            <a:ext cx="35226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0040" y="1714320"/>
            <a:ext cx="4038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е более 30 лет все космонавты готовясь к полету, к невесомости, тренируются в, так называемой, "летающей лаборатории". Это основной тренажер для отработки навыков работы в отсутствии притяжения к Зем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929120" y="714240"/>
            <a:ext cx="2952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живут космонавты в ракет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мосе нет воздуха, чтобы дышать, там нет воды, тем более там нет еды. Всё это загружается в космический корабль на земле и затем расходуется в полёте. В космосе ничего нет, кроме пустоты и солнечного света. Именно свет питает космический корабль через солнечные батар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1305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13840" y="1000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орабле, все предметы, в том числе животные, находятся в состоянии невесомости. На земле все предметы обладают весом, они притягиваются к земной поверхности. В космосе этого нет. Внутри космического корабля все предметы закреплены на специальных держателя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аче бы они все л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Admin\Рабочий стол\Новая папка (3)\m13.jpg"/>
          <p:cNvPicPr/>
          <p:nvPr/>
        </p:nvPicPr>
        <p:blipFill>
          <a:blip r:embed="rId1"/>
          <a:stretch/>
        </p:blipFill>
        <p:spPr>
          <a:xfrm>
            <a:off x="4572000" y="357120"/>
            <a:ext cx="403704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429080" y="428760"/>
            <a:ext cx="4500720" cy="6000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56760" y="1785960"/>
            <a:ext cx="37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ежда космонавта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афандр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космонавты     надевают при запуске и спуске ракеты, когда выходят в открытый космо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28800" y="5643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ulimChe"/>
                <a:ea typeface="GulimChe"/>
              </a:rPr>
              <a:t>О КОСМОС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viki\AppData\Local\Microsoft\Windows\Temporary Internet Files\Content.IE5\M4P7N6CI\MCj04303170000[1].wmf"/>
          <p:cNvPicPr/>
          <p:nvPr/>
        </p:nvPicPr>
        <p:blipFill>
          <a:blip r:embed="rId1"/>
          <a:stretch/>
        </p:blipFill>
        <p:spPr>
          <a:xfrm>
            <a:off x="1643040" y="142920"/>
            <a:ext cx="57150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-147636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571400" y="5571720"/>
            <a:ext cx="697212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запуске и спуске  ракеты космонавты ложатся в специальное «Лож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428840" y="571680"/>
            <a:ext cx="65008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едят космонавт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5500800" y="1714680"/>
            <a:ext cx="3238560" cy="2428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0" y="5357880"/>
            <a:ext cx="87868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ят космонавты продукты питания, которые хранятся в консервированном виде. Перед использованием консервы и тюбики разогревают, а пакеты с первым и вторым блюдами, разводят в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следования в космо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ологические(выращивают растения, проводят различные опыты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дицинские наблюдения(влияние космоса на организм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ические наблюдения(обеспечивают космическую и радиотелевизионную связь, изучает поверхность земли, сообщают о местах где обнаружены полезные ископаемы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4110120" cy="4110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791160" cy="40748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714240" y="35712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смонавты сообщают о стихийных бедствиях: о пожарах в ле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258920" y="333360"/>
            <a:ext cx="73850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местах в горах, где могут произойти снежные  обва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560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14800" y="357120"/>
            <a:ext cx="40384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штормах на мор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786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700360" y="404640"/>
            <a:ext cx="446544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чняют прогноз по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000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28440" y="5286240"/>
            <a:ext cx="71434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ди помнят о тех, кто первыми побывал в космосе. В Москве открыт памятник первому живому существу, покорившему космос, собаке Лай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857240" y="642960"/>
            <a:ext cx="55371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2560" y="1000080"/>
            <a:ext cx="450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с давних времен люди стали думать над вопросами: «Что такое космос? Если жизнь на других планетах кроме планеты Земля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огда ученые и конструкторы создали первый космический корабль «Восток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смический корабль – это сложная техническая система. И прежде чем посадить в него человека технику надо провер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5000760" y="642960"/>
            <a:ext cx="3733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9720" y="6214680"/>
            <a:ext cx="735804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авлен памятник первому космонавту Юрию Гагарин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14240" y="214200"/>
            <a:ext cx="78584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7840" y="1000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за 48 лет со дня первого полета человека в космос, в космосе побывало100 космонавтов, среди которых 3 женщи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71680" y="571680"/>
            <a:ext cx="4122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13840" y="71424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чем человек полетел в космос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 побывали живот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ой в космос отправилась  собака Лай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 время люди ещё очень мало знали о космосе, а космические аппараты ещё не умели возвращать с орбиты. Поэтому Лайка навсегда осталась в космическом пространст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849920" y="500040"/>
            <a:ext cx="3983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214880" y="1500120"/>
            <a:ext cx="3838680" cy="221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28760" y="4500720"/>
            <a:ext cx="8215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з 3 года после неудачного  полета собаки Лайки, в космос отправляются уже две собаки – Белка и Стрел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мосе они пробыли  всего один день и  удачно приземлились на Зем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1214280" y="1285920"/>
            <a:ext cx="2286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840" y="4857840"/>
            <a:ext cx="82152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ме России космосом интересовались так же и американцы. Они так же использовали животных для испытания новой ракетной техники. Первой в Америке, на ракете «Рэд-Стоун», в космос полетела обезья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571840" y="100008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480" y="4357440"/>
            <a:ext cx="864396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удачного полета в космос животных, стала открытой дорога человеку к звёздам. Через 8 месяцев на таком же космическом корабле, на котором летали собаки Белка и Стрелка , в космос отправился и челов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 апреля 1961 года в 6:07 с космодрома Байконур стартовала ракета-носитель "Восток«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первые в мире космический корабль с человеком на борту ворвался в простор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ленно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Мои документы\Рисунки\Фото\Космос. Фото\00018791.jpg"/>
          <p:cNvPicPr/>
          <p:nvPr/>
        </p:nvPicPr>
        <p:blipFill>
          <a:blip r:embed="rId1"/>
          <a:stretch/>
        </p:blipFill>
        <p:spPr>
          <a:xfrm>
            <a:off x="2071800" y="428760"/>
            <a:ext cx="530856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-541440" y="-233208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7:50:45Z</dcterms:created>
  <dc:creator>Admin</dc:creator>
  <dc:description/>
  <dc:language>en-US</dc:language>
  <cp:lastModifiedBy>viktor</cp:lastModifiedBy>
  <dcterms:modified xsi:type="dcterms:W3CDTF">2018-11-23T19:53:16Z</dcterms:modified>
  <cp:revision>78</cp:revision>
  <dc:subject/>
  <dc:title>Слайд 1</dc:title>
</cp:coreProperties>
</file>