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FA3-2581-4A96-BB7A-FEE0A805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4DD-E46F-471B-81EC-AFB52DE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BDD-CA52-4655-BE0D-342D57E6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F2E-CD80-4CF9-9CCB-E9E0CC3F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4D3-616F-4304-B795-4908712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B4F-469F-4842-A759-4FC2B32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224-D783-4E59-816A-B6674172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1F1-E161-475F-819A-4D89A30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442-4BD3-4ED8-86BE-843C4743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4CA-CBC7-4370-98B5-0D7F276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EE8-DD2F-4FC8-8D33-557E273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8B3-D3DC-496F-9D31-0489E76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4C9-2F8D-465E-8535-7559E4DC3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для урока окружающий мир «Главные особенности космоса» или классного часа ко дню Космонав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рмирование представления о космос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знакомить учащихся с наукой астрономией, с профессией космонав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ть ученикам представление о том, что такое космический корабль, орбитальная станция, Вселенная, галактика, невесомость, открытый космос, спускаемый аппара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сширить их представления о звездах, планет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знакомить детей с биографией первого космонавта – Ю. Гагарина; историей освоения космо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итывать стремление всегда достигать поставленной цели, быть самостоятельны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вать приемы анализа, синтеза, сравнения, зрительную память, вообра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чить детей вдумчиво и внимательно слу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я в космо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ческие(выращивают растения, проводят различные опыт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цинские наблюдения(влияние космоса на организ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ические наблюдения(обеспечивают космическую и радиотелевизионную связь, изучает поверхность земли, сообщают о местах где обнаружены полезные ископаем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110120" cy="4110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791160" cy="4074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1424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монавты сообщают о стихийных бедствиях: о пожарах в ле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58920" y="333360"/>
            <a:ext cx="7385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местах в горах, где могут произойти снежные  обва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56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14800" y="357120"/>
            <a:ext cx="4038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штормах на мор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8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700360" y="404640"/>
            <a:ext cx="4465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яют прогноз по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0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28440" y="528624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ди помнят о тех, кто первыми побывал в космосе. В Москве открыт памятник первому живому существу, покорившему космос, собаке Лай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537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9720" y="6214680"/>
            <a:ext cx="7358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влен памятник первому космонавту Юрию Гагарин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858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784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за 48 лет со дня первого полета человека в космос, в космосе побывало100 космонавтов, среди которых 3 женщ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412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541440" y="-233208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viktor</cp:lastModifiedBy>
  <dcterms:modified xsi:type="dcterms:W3CDTF">2018-11-23T19:53:16Z</dcterms:modified>
  <cp:revision>78</cp:revision>
  <dc:subject/>
  <dc:title>Слайд 1</dc:title>
</cp:coreProperties>
</file>