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png" ContentType="image/png"/>
  <Override PartName="/ppt/media/image19.jpeg" ContentType="image/jpeg"/>
  <Override PartName="/ppt/media/image22.jpeg" ContentType="image/jpeg"/>
  <Override PartName="/ppt/media/image21.jpeg" ContentType="image/jpeg"/>
  <Override PartName="/ppt/media/image2.wmf" ContentType="image/x-wmf"/>
  <Override PartName="/ppt/media/image28.jpeg" ContentType="image/jpeg"/>
  <Override PartName="/ppt/media/image7.jpeg" ContentType="image/jpeg"/>
  <Override PartName="/ppt/media/image34.jpeg" ContentType="image/jpeg"/>
  <Override PartName="/ppt/media/image6.png" ContentType="image/png"/>
  <Override PartName="/ppt/media/image29.jpeg" ContentType="image/jpeg"/>
  <Override PartName="/ppt/media/image8.jpeg" ContentType="image/jpeg"/>
  <Override PartName="/ppt/media/image5.png" ContentType="image/png"/>
  <Override PartName="/ppt/media/image35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23.jpeg" ContentType="image/jpe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F9C7-A744-432A-AC75-87946C172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CBD5-E2F7-47E7-B963-E11E785AF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482D-9865-4CE9-A810-B1F74EEC2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CCC1-0695-43F2-BA4A-B67514572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D0AF-540A-4077-8B23-17212E6B5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6E82-7808-45C0-8272-E45E06F59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350D-406B-42D4-8D23-EFED134C4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5A0D-3D8F-4682-B310-BFE32BC25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C541-0CDB-40E4-A19A-0D49BE8B8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4734-3486-4ADA-89FB-F69CE93F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0545-172D-4D30-9D6B-920B9B57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5830-AC66-4A5A-B291-1BA542B2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D633F-7DA7-4252-B302-3CE18DDCA2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ентация для урока окружающий мир «Главные особенности космоса» или классного часа ко дню Космонавти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Цель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формирование представления о космосе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ознакомить учащихся с наукой астрономией, с профессией космонавт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дать ученикам представление о том, что такое космический корабль, орбитальная станция, Вселенная, галактика, невесомость, открытый космос, спускаемый аппарат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расширить их представления о звездах, планетах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познакомить детей с биографией первого космонавта – Ю. Гагарина; историей освоения космос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воспитывать стремление всегда достигать поставленной цели, быть самостоятельными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развивать приемы анализа, синтеза, сравнения, зрительную память, воображени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учить детей вдумчиво и внимательно слуша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85480" y="5000400"/>
            <a:ext cx="864396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орабль пилотировал советский космонавт Юрий Алексеевич Гагарин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н был первым человеком, который собственными глазами увидел, что Земля действительно круглая, действительно большей частью покрыта водой и действительно великолепн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2928960" y="357120"/>
            <a:ext cx="335772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вый космонавт  Юрий Гагарин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4643280" y="857160"/>
            <a:ext cx="3786480" cy="55548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4"/>
          <p:cNvSpPr/>
          <p:nvPr/>
        </p:nvSpPr>
        <p:spPr>
          <a:xfrm>
            <a:off x="285840" y="1571760"/>
            <a:ext cx="3929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космическом корабле Восток-1 старший лейтенант Юрий Алексеевич Гагарин один раз облетел вокруг Зем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 готовятся космонавты к полетам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71320" y="5857560"/>
            <a:ext cx="807228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ля тренировок космонавтов используют тренажер – центрифугу.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500040" y="1357200"/>
            <a:ext cx="795348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28760" y="5214600"/>
            <a:ext cx="828648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этой огромной, 18-метровой кегле создаются перегрузки, которые космонавт испытывает во время полета. Сама она вращается по кругу, голова ее тоже вращается, внутри головы вращается кабина, а внутри кабины вращается кресло с космонавт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1643040" y="642960"/>
            <a:ext cx="60562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13840" y="9288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гда проводятся тренировки под водой, станцию вместе с платформой, подготавливаемыми космонавтами и водолазами опускают под воду, в гидробассей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4286160" y="285840"/>
            <a:ext cx="4113360" cy="61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2050560" y="5373360"/>
            <a:ext cx="597564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ак работают в гидробассейн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320760" y="1143000"/>
            <a:ext cx="4489200" cy="3571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5000760" y="1143000"/>
            <a:ext cx="3522600" cy="35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500040" y="1714320"/>
            <a:ext cx="403848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же более 30 лет все космонавты готовясь к полету, к невесомости, тренируются в, так называемой, "летающей лаборатории". Это основной тренажер для отработки навыков работы в отсутствии притяжения к Земл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857840" y="3071880"/>
            <a:ext cx="3238560" cy="32385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4929120" y="714240"/>
            <a:ext cx="295272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к живут космонавты в ракет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00040" y="121392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космосе нет воздуха, чтобы дышать, там нет воды, тем более там нет еды. Всё это загружается в космический корабль на земле и затем расходуется в полёте. В космосе ничего нет, кроме пустоты и солнечного света. Именно свет питает космический корабль через солнечные батаре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5364000" y="1341360"/>
            <a:ext cx="313056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213840" y="10000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корабле, все предметы, в том числе животные, находятся в состоянии невесомости. На земле все предметы обладают весом, они притягиваются к земной поверхности. В космосе этого нет. Внутри космического корабля все предметы закреплены на специальных держателях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наче бы они все летал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C:\Documents and Settings\Admin\Рабочий стол\Новая папка (3)\m13.jpg"/>
          <p:cNvPicPr/>
          <p:nvPr/>
        </p:nvPicPr>
        <p:blipFill>
          <a:blip r:embed="rId1"/>
          <a:stretch/>
        </p:blipFill>
        <p:spPr>
          <a:xfrm>
            <a:off x="4572000" y="357120"/>
            <a:ext cx="4037040" cy="61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4429080" y="428760"/>
            <a:ext cx="4500720" cy="60004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356760" y="1785960"/>
            <a:ext cx="3714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ежда космонавта -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кафандр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го космонавты     надевают при запуске и спуске ракеты, когда выходят в открытый космос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28800" y="564336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GulimChe"/>
                <a:ea typeface="GulimChe"/>
              </a:rPr>
              <a:t>О КОСМОС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C:\Users\viki\AppData\Local\Microsoft\Windows\Temporary Internet Files\Content.IE5\M4P7N6CI\MCj04303170000[1].wmf"/>
          <p:cNvPicPr/>
          <p:nvPr/>
        </p:nvPicPr>
        <p:blipFill>
          <a:blip r:embed="rId1"/>
          <a:stretch/>
        </p:blipFill>
        <p:spPr>
          <a:xfrm>
            <a:off x="1643040" y="142920"/>
            <a:ext cx="5715000" cy="57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-147636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8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1571400" y="5571720"/>
            <a:ext cx="6972120" cy="9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 запуске и спуске  ракеты космонавты ложатся в специальное «Ложе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428840" y="571680"/>
            <a:ext cx="650088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едят космонавты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5500800" y="1714680"/>
            <a:ext cx="3238560" cy="2428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428760" y="1214280"/>
            <a:ext cx="4952880" cy="3714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0" y="5357880"/>
            <a:ext cx="878688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дят космонавты продукты питания, которые хранятся в консервированном виде. Перед использованием консервы и тюбики разогревают, а пакеты с первым и вторым блюдами, разводят вод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следования в космос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иологические(выращивают растения, проводят различные опыты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дицинские наблюдения(влияние космоса на организм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хнические наблюдения(обеспечивают космическую и радиотелевизионную связь, изучает поверхность земли, сообщают о местах где обнаружены полезные ископаемые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7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4110120" cy="4110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"/>
          <p:cNvPicPr/>
          <p:nvPr/>
        </p:nvPicPr>
        <p:blipFill>
          <a:blip r:embed="rId2"/>
          <a:stretch/>
        </p:blipFill>
        <p:spPr>
          <a:xfrm>
            <a:off x="4859280" y="1413000"/>
            <a:ext cx="3791160" cy="40748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7"/>
          <p:cNvSpPr/>
          <p:nvPr/>
        </p:nvSpPr>
        <p:spPr>
          <a:xfrm>
            <a:off x="457200" y="1600200"/>
            <a:ext cx="822960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714240" y="357120"/>
            <a:ext cx="792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смонавты сообщают о стихийных бедствиях: о пожарах в лес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258920" y="333360"/>
            <a:ext cx="738504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 местах в горах, где могут произойти снежные  обвал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53560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214800" y="357120"/>
            <a:ext cx="403848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 штормах на моря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187280" y="836640"/>
            <a:ext cx="678672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2700360" y="404640"/>
            <a:ext cx="446544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точняют прогноз пого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547640" y="907920"/>
            <a:ext cx="6000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928440" y="5286240"/>
            <a:ext cx="714348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юди помнят о тех, кто первыми побывал в космосе. В Москве открыт памятник первому живому существу, покорившему космос, собаке Лай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1857240" y="642960"/>
            <a:ext cx="553716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42560" y="1000080"/>
            <a:ext cx="4500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ще с давних времен люди стали думать над вопросами: «Что такое космос? Если жизнь на других планетах кроме планеты Земля?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тогда ученые и конструкторы создали первый космический корабль «Восток»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смический корабль – это сложная техническая система. И прежде чем посадить в него человека технику надо провери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5000760" y="642960"/>
            <a:ext cx="373356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999720" y="6214680"/>
            <a:ext cx="7358040" cy="4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ставлен памятник первому космонавту Юрию Гагарину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714240" y="214200"/>
            <a:ext cx="7858440" cy="58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857840" y="1000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его за 48 лет со дня первого полета человека в космос, в космосе побывало100 космонавтов, среди которых 3 женщины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571680" y="571680"/>
            <a:ext cx="412272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13840" y="714240"/>
            <a:ext cx="442908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жде чем человек полетел в космос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м побывали животны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вой в космос отправилась  собака Лайк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то время люди ещё очень мало знали о космосе, а космические аппараты ещё не умели возвращать с орбиты. Поэтому Лайка навсегда осталась в космическом пространств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4849920" y="500040"/>
            <a:ext cx="398304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4214880" y="1500120"/>
            <a:ext cx="3838680" cy="2214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428760" y="4500720"/>
            <a:ext cx="82152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ерез 3 года после неудачного  полета собаки Лайки, в космос отправляются уже две собаки – Белка и Стрел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космосе они пробыли  всего один день и  удачно приземлились на Земл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1214280" y="1285920"/>
            <a:ext cx="228600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85840" y="4857840"/>
            <a:ext cx="82152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оме России космосом интересовались так же и американцы. Они так же использовали животных для испытания новой ракетной техники. Первой в Америке, на ракете «Рэд-Стоун», в космос полетела обезьян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2571840" y="1000080"/>
            <a:ext cx="414324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85480" y="4357440"/>
            <a:ext cx="8643960" cy="27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ле удачного полета в космос животных, стала открытой дорога человеку к звёздам. Через 8 месяцев на таком же космическом корабле, на котором летали собаки Белка и Стрелка , в космос отправился и челове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2 апреля 1961 года в 6:07 с космодрома Байконур стартовала ракета-носитель "Восток«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первые в мире космический корабль с человеком на борту ворвался в просторы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еленно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Мои документы\Рисунки\Фото\Космос. Фото\00018791.jpg"/>
          <p:cNvPicPr/>
          <p:nvPr/>
        </p:nvPicPr>
        <p:blipFill>
          <a:blip r:embed="rId1"/>
          <a:stretch/>
        </p:blipFill>
        <p:spPr>
          <a:xfrm>
            <a:off x="2071800" y="428760"/>
            <a:ext cx="5308560" cy="424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-541440" y="-233208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0T17:50:45Z</dcterms:created>
  <dc:creator>Admin</dc:creator>
  <dc:description/>
  <dc:language>en-US</dc:language>
  <cp:lastModifiedBy>viktor</cp:lastModifiedBy>
  <dcterms:modified xsi:type="dcterms:W3CDTF">2018-11-23T19:53:16Z</dcterms:modified>
  <cp:revision>78</cp:revision>
  <dc:subject/>
  <dc:title>Слайд 1</dc:title>
</cp:coreProperties>
</file>