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F13-5D50-436B-B23A-D5083620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0A2-8143-4192-9418-5B1BA63D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F93-5FEB-42CD-90C2-ED77019E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031-2787-45B4-A612-890D9905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861B-9EF1-4C7E-A89A-70049AB3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AF90-A423-48D6-868A-8158EF80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4366-7491-4894-94B3-0567F7AC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DE47-C8AD-4472-A9A0-286EBBC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12CF-45D9-485C-B95C-C7C1E966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DDF5-261B-4C28-924F-5AE91214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1BD8-7ED1-4690-A0E4-6BA12E73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1A2-7546-4A43-AEE0-E70BD6DA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B887-8448-46BF-B7DC-5721A303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A838-A8DB-4AE0-9FAC-82F76BDF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AD1D-54C7-4733-AFE3-3F7F7613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2771-F75F-4E7A-BB05-0641ED75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52B0-8088-42B4-9EF6-31FCB1EB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CD2-49CF-4BE7-B890-534E007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0B2-9FAF-473A-ADEA-BED76202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0D9-C5F2-41D4-ABB4-3F4E8DA3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EC3-7E44-4372-A7D1-F26D7F5D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C4D-FA34-4954-B937-8564A5B5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0E3-CBCF-40D5-87CD-88C97E0D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E66-2434-47A4-9F37-3BFA06A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C8CC-F94E-4D6B-8863-ECBA08FA7B3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8C13-AC7B-41EB-8FBA-A45CECF2085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60;&#1072;&#1081;&#1083;:Krylov_summer_garden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tamp_of_USSR_094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60;&#1072;&#1081;&#1083;:Stamp_of_USSR_0944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Rus_Stamp-Krylov-1969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ru.wikipedia.org/wiki/&#1060;&#1072;&#1081;&#1083;:Stamp_of_USSR_2289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ru.wikipedia.org/wiki/&#1060;&#1072;&#1081;&#1083;:RR5110-0002R.gif" TargetMode="Externa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7;&#1072;&#1085;&#1082;&#1090;-&#1055;&#1077;&#1090;&#1077;&#1088;&#1073;&#1091;&#1088;&#1075;" TargetMode="External"/><Relationship Id="rId3" Type="http://schemas.openxmlformats.org/officeDocument/2006/relationships/hyperlink" Target="http://ru.wikipedia.org/wiki/&#1055;&#1077;&#1088;&#1077;&#1091;&#1083;&#1086;&#1082;_&#1050;&#1088;&#1099;&#1083;&#1086;&#1074;&#1072;_(&#1057;&#1072;&#1085;&#1082;&#1090;-&#1055;&#1077;&#1090;&#1077;&#1088;&#1073;&#1091;&#1088;&#1075;)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ru.wikipedia.org/w/index.php?title=&#1042;&#1089;&#1077;&#1074;&#1086;&#1083;&#1086;&#1078;&#1089;&#1082;._&#1052;&#1077;&#1083;&#1100;&#1085;&#1080;&#1095;&#1085;&#1099;&#1081;_&#1088;&#1091;&#1095;&#1077;&#1081;&amp;action=edit&amp;redlink=1" TargetMode="External"/><Relationship Id="rId6" Type="http://schemas.openxmlformats.org/officeDocument/2006/relationships/hyperlink" Target="http://ru.wikipedia.org/wiki/&#1059;&#1083;&#1080;&#1094;&#1072;_&#1050;&#1088;&#1099;&#1083;&#1086;&#1074;&#1072;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ru.wikipedia.org/wiki/&#1051;&#1080;&#1087;&#1077;&#1094;&#1082;" TargetMode="External"/><Relationship Id="rId9" Type="http://schemas.openxmlformats.org/officeDocument/2006/relationships/hyperlink" Target="http://ru.wikipedia.org/wiki/&#1059;&#1083;&#1080;&#1094;&#1072;_&#1050;&#1088;&#1099;&#1083;&#1086;&#1074;&#1072;_(&#1051;&#1080;&#1087;&#1077;&#1094;&#1082;)" TargetMode="External"/><Relationship Id="rId10" Type="http://schemas.openxmlformats.org/officeDocument/2006/relationships/image" Target="../media/image3.png"/><Relationship Id="rId11" Type="http://schemas.openxmlformats.org/officeDocument/2006/relationships/hyperlink" Target="http://ru.wikipedia.org/wiki/&#1053;&#1080;&#1078;&#1085;&#1080;&#1081;_&#1053;&#1086;&#1074;&#1075;&#1086;&#1088;&#1086;&#1076;" TargetMode="External"/><Relationship Id="rId12" Type="http://schemas.openxmlformats.org/officeDocument/2006/relationships/hyperlink" Target="http://ru.wikipedia.org/w/index.php?title=&#1059;&#1083;&#1080;&#1094;&#1072;_&#1050;&#1088;&#1099;&#1083;&#1086;&#1074;&#1072;_(&#1053;&#1080;&#1078;&#1085;&#1080;&#1081;_&#1053;&#1086;&#1074;&#1075;&#1086;&#1088;&#1086;&#1076;)&amp;action=edit&amp;redlink=1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ru.wikipedia.org/wiki/&#1058;&#1074;&#1077;&#1088;&#1100;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ru.wikipedia.org/wiki/&#1041;&#1086;&#1073;&#1088;&#1091;&#1081;&#1089;&#1082;" TargetMode="External"/><Relationship Id="rId17" Type="http://schemas.openxmlformats.org/officeDocument/2006/relationships/image" Target="../media/image3.png"/><Relationship Id="rId18" Type="http://schemas.openxmlformats.org/officeDocument/2006/relationships/hyperlink" Target="http://ru.wikipedia.org/wiki/&#1048;&#1096;&#1080;&#1084;&#1073;&#1072;&#1081;" TargetMode="External"/><Relationship Id="rId19" Type="http://schemas.openxmlformats.org/officeDocument/2006/relationships/image" Target="../media/image3.png"/><Relationship Id="rId20" Type="http://schemas.openxmlformats.org/officeDocument/2006/relationships/hyperlink" Target="http://ru.wikipedia.org/wiki/&#1049;&#1086;&#1096;&#1082;&#1072;&#1088;-&#1054;&#1083;&#1072;" TargetMode="External"/><Relationship Id="rId21" Type="http://schemas.openxmlformats.org/officeDocument/2006/relationships/image" Target="../media/image3.png"/><Relationship Id="rId22" Type="http://schemas.openxmlformats.org/officeDocument/2006/relationships/hyperlink" Target="http://ru.wikipedia.org/wiki/&#1061;&#1072;&#1088;&#1100;&#1082;&#1086;&#1074;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ru.wikipedia.org/wiki/&#1057;&#1072;&#1088;&#1072;&#1085;&#1089;&#1082;" TargetMode="External"/><Relationship Id="rId25" Type="http://schemas.openxmlformats.org/officeDocument/2006/relationships/image" Target="../media/image3.png"/><Relationship Id="rId26" Type="http://schemas.openxmlformats.org/officeDocument/2006/relationships/hyperlink" Target="http://ru.wikipedia.org/wiki/&#1057;&#1091;&#1088;&#1075;&#1091;&#1090;" TargetMode="External"/><Relationship Id="rId27" Type="http://schemas.openxmlformats.org/officeDocument/2006/relationships/image" Target="../media/image3.png"/><Relationship Id="rId28" Type="http://schemas.openxmlformats.org/officeDocument/2006/relationships/hyperlink" Target="http://ru.wikipedia.org/wiki/&#1050;&#1072;&#1088;&#1072;&#1075;&#1072;&#1085;&#1076;&#1072;" TargetMode="External"/><Relationship Id="rId29" Type="http://schemas.openxmlformats.org/officeDocument/2006/relationships/image" Target="../media/image3.png"/><Relationship Id="rId30" Type="http://schemas.openxmlformats.org/officeDocument/2006/relationships/hyperlink" Target="http://ru.wikipedia.org/wiki/&#1043;&#1091;&#1082;&#1086;&#1074;&#1086;" TargetMode="External"/><Relationship Id="rId31" Type="http://schemas.openxmlformats.org/officeDocument/2006/relationships/image" Target="../media/image3.png"/><Relationship Id="rId32" Type="http://schemas.openxmlformats.org/officeDocument/2006/relationships/hyperlink" Target="http://ru.wikipedia.org/wiki/&#1059;&#1089;&#1090;&#1100;-&#1050;&#1072;&#1084;&#1077;&#1085;&#1086;&#1075;&#1086;&#1088;&#1089;&#1082;" TargetMode="External"/><Relationship Id="rId33" Type="http://schemas.openxmlformats.org/officeDocument/2006/relationships/image" Target="../media/image3.png"/><Relationship Id="rId34" Type="http://schemas.openxmlformats.org/officeDocument/2006/relationships/hyperlink" Target="http://ru.wikipedia.org/wiki/&#1050;&#1072;&#1079;&#1072;&#1085;&#1100;" TargetMode="External"/><Relationship Id="rId35" Type="http://schemas.openxmlformats.org/officeDocument/2006/relationships/image" Target="../media/image3.png"/><Relationship Id="rId36" Type="http://schemas.openxmlformats.org/officeDocument/2006/relationships/hyperlink" Target="http://ru.wikipedia.org/wiki/&#1042;&#1083;&#1072;&#1076;&#1080;&#1074;&#1086;&#1089;&#1090;&#1086;&#1082;" TargetMode="External"/><Relationship Id="rId37" Type="http://schemas.openxmlformats.org/officeDocument/2006/relationships/image" Target="../media/image3.png"/><Relationship Id="rId38" Type="http://schemas.openxmlformats.org/officeDocument/2006/relationships/hyperlink" Target="http://ru.wikipedia.org/wiki/&#1050;&#1088;&#1072;&#1089;&#1085;&#1086;&#1103;&#1088;&#1089;&#1082;" TargetMode="External"/><Relationship Id="rId39" Type="http://schemas.openxmlformats.org/officeDocument/2006/relationships/image" Target="../media/image3.png"/><Relationship Id="rId40" Type="http://schemas.openxmlformats.org/officeDocument/2006/relationships/hyperlink" Target="http://ru.wikipedia.org/wiki/&#1058;&#1086;&#1084;&#1089;&#1082;" TargetMode="External"/><Relationship Id="rId41" Type="http://schemas.openxmlformats.org/officeDocument/2006/relationships/image" Target="../media/image3.png"/><Relationship Id="rId42" Type="http://schemas.openxmlformats.org/officeDocument/2006/relationships/hyperlink" Target="http://ru.wikipedia.org/wiki/&#1050;&#1072;&#1095;&#1082;&#1072;&#1085;&#1072;&#1088;" TargetMode="External"/><Relationship Id="rId43" Type="http://schemas.openxmlformats.org/officeDocument/2006/relationships/image" Target="../media/image3.png"/><Relationship Id="rId44" Type="http://schemas.openxmlformats.org/officeDocument/2006/relationships/hyperlink" Target="http://ru.wikipedia.org/wiki/&#1053;&#1086;&#1074;&#1086;&#1089;&#1080;&#1073;&#1080;&#1088;&#1089;&#1082;" TargetMode="External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60;&#1072;&#1081;&#1083;:KrylovBasnopisetsByEggink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36424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br>
              <a:rPr sz="4000"/>
            </a:b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(1769 - 184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700360" y="2060640"/>
            <a:ext cx="3840120" cy="4141800"/>
            <a:chOff x="2700360" y="2060640"/>
            <a:chExt cx="3840120" cy="41418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2700360" y="2060640"/>
              <a:ext cx="3840120" cy="4141800"/>
            </a:xfrm>
            <a:prstGeom prst="rect">
              <a:avLst/>
            </a:prstGeom>
            <a:ln w="38160">
              <a:solidFill>
                <a:srgbClr val="2f1311"/>
              </a:solidFill>
              <a:miter/>
            </a:ln>
          </p:spPr>
        </p:pic>
        <p:sp>
          <p:nvSpPr>
            <p:cNvPr id="194" name=""/>
            <p:cNvSpPr txBox="1"/>
            <p:nvPr/>
          </p:nvSpPr>
          <p:spPr>
            <a:xfrm>
              <a:off x="2700360" y="2060640"/>
              <a:ext cx="3840120" cy="414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27640" y="4745160"/>
            <a:ext cx="273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следние г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конце жизни Крылов был обласкан властью. Имел чин статского советника, шеститысячный пансио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рылов жил долго и своим привычкам не изменял ни в чём. Полностью растворился в лени и гурманстве. Он, умный и не слишком добрый человек, в конце концов сжился с ролью добродушного чудака, нелепого, ничем не смущающегося обжоры. Придуманный им образ пришёлся ко двору, и в конце жизни он мог позволить себе всё, что угодно. Не стеснялся быть обжорой, неряхой и лентя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333000"/>
            <a:ext cx="82263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кончался Иван Андреевич Крылов 9 ноября 1844 год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хоронен 13 ноября 1844 года на Тихвинском кладбище Александро-Невской лавры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день похорон друзья и знакомые И. А. Крылова вместе с приглашением получили по экземпляру изданных им басен, на заглавном листе которых под траурною каймою было напечатано: «Приношение на память об Иване Андреевиче, по его желанию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нтересные факт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ак-то Крылов, дома, съев восемь пирожков, был поражён их дурным вкусом. Открыв кастрюлю, увидел, что она вся зелёная от плесени. Но он решил, коли жив — можно доесть ещё и оставшиеся восемь пирожков в кастрюл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чень любил смотреть на пожары. Не пропускал ни одного пожара в Петербург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д диваном в доме у Крылова висела «на честном слове» здоровая картина. Друзья просили его вбить ещё пару гвоздей, чтобы она не упала и не разбила ему голову. На это он отвечал, что всё рассчитал: картина будет падать по касательной и его не заден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нтересные фа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 званых обедах он, как правило, съедал блюдо расстегаев, три-четыре тарелки ухи, несколько отбивных, жареную индейку и кое-что по мелочи. Приехав домой, заедал всё это миской кислой капусты и чёрным хлеб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днажды на обеде у царицы Крылов сел за стол и, не здороваясь, начал есть. Жуковский удивлённо закричал: «Прекрати, пусть царица тебя хотя бы попотчует». «А вдруг не попотчует?» — испугался Крыл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дин раз на прогулке Иван Андреевич встретил молодёжь, и один из этой компании решил подшутить над телосложением писателя (он его, скорее всего не знал) и сказал: «Смотрите! Какая туча идёт!», а Крылов посмотрел на небо и добавил саркастично: «Да, и вправду дождик собирается. То-то лягушки расквакались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Увековечение и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60720" y="1914480"/>
            <a:ext cx="3624480" cy="269568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pic>
        <p:nvPicPr>
          <p:cNvPr id="2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413000"/>
            <a:ext cx="2921040" cy="389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250920" y="5732640"/>
            <a:ext cx="40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амятник и.А.Крылову в Летнем саду Санкт-Петербурге. Скульптор Г.Клодт. 1855 го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5157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4940280"/>
            <a:ext cx="39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амятник И.А.Крылову на Патриарших прудах в Москве. Скульпторы А.А.Древин и Д.Ю.Митлянский. 1976 го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Увековечение и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1360"/>
            <a:ext cx="180972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341360"/>
            <a:ext cx="184320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04000" y="1413000"/>
            <a:ext cx="180828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5640" y="4221000"/>
            <a:ext cx="3024360" cy="224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003640" y="4221000"/>
            <a:ext cx="2305080" cy="229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Увековечение и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125360"/>
            <a:ext cx="8226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анкт-Петербург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переулок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Всеволожск. Мельничный ручей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8"/>
              </a:rPr>
              <a:t>Липец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Нижнем Новгород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Тве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 и памятник И.А. Крылову, стоящий в сквере его имен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Бобруй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Ишимба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0"/>
              </a:rPr>
              <a:t>Йошкар-Ол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Харьков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(Украина)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4"/>
              </a:rPr>
              <a:t>Саран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6"/>
              </a:rPr>
              <a:t>Сургут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(ХМАО-Югра)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8"/>
              </a:rPr>
              <a:t>Караганд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0"/>
              </a:rPr>
              <a:t>Гуков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2"/>
              </a:rPr>
              <a:t>Усть-Каменогор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4"/>
              </a:rPr>
              <a:t>Казан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6"/>
              </a:rPr>
              <a:t>Владивосто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8"/>
              </a:rPr>
              <a:t>Краснояр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0"/>
              </a:rPr>
              <a:t>Том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2"/>
              </a:rPr>
              <a:t>Качканар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4"/>
              </a:rPr>
              <a:t>Новосибир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Челябинске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Омске есть Детская библиотека имени И. А. 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Перми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Екатеринбурге есть улица Крылов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усский поэт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аснописец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еводчи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трудник Императорской Публичной библиотек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атский Советни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йствительный член Императорской Российской академии (1811г.)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кадемик Императорской Академии наук по Отделению Русского языка и словесности (1841г.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рылов являетс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втором более 200 басен, созданных в период с 1809 по 1843 год. Они вышли в свет в девяти частях и переиздавались очень большими по тем временам тираж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1842 году его произведения вышли в немецком перевод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рылов писал так же комедии, трагедии  и оперные либретто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асни И. А. Крылова положены на музыку, например, А. Г. Рубинштейном — басни «Кукушка и Орёл», «Осёл и Соловей», «Стрекоза и Муравей», «Кварте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ногие выражения из басен Крылова стали крылатым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Васька слушает да ес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вы, друзья, как ни садитесь, все в музыканты не годите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ларчик просто открывал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й, Моська! Знать она сильна, что лает на слона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а только воз и ныне т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укушка хвалит петуха, за то, что хвалит он кукушк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служливый дурак опаснее враг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Чем кумушек считать, трудиться, не лучше ль на себя, кума, оборотиться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Что сходит с рук ворам, за то воришек бью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АСНЯ -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короткий, нередко комический рассказ в стихах или прозе, с прямым моральным выводом, придающий рассказу аллегорический смысл. Действующими лицами обычно выступают животные, растения, вещи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Басни Крылова проникнуты демократическим духом, отличающихся сатирической остротой, ярким и метким языком. В них обличались общественные и человеческие пороки. Н. В. Гоголь назвал басни И. Крылова "...книгой мудрости самого народа"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Ранние годы</a:t>
            </a:r>
            <a:br>
              <a:rPr sz="36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Иван Крылов родился 13 февраля 1769 г. Место рождения точно не известно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Первые годы детства провёл в разъездах с семьёй.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Грамоте, арифметике и молитвам выучился дома (отец его был большой любитель чтения, после него к сыну перешёл целый сундук книг)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Французским языком занимался в семействе состоятельных соседей. Итальянский учил самостоятельно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В 1777 году он был записан в гражданскую службу подканцеляристом Калязинского нижнего земского суда, а затем Тверского магистрата.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432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Учился Крылов мало, но читал довольно мног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1809 году  выпускает первое отдельное издание своих басен, в количестве 23, и этой книжечкой завоёвывает себе видное и почётное место в русской литературе, а благодаря последующим изданиям басен он становится писателем в такой степени национальным, каким до тех пор не был никто другой.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молодости был известен прежде всего как писатель-сатирик, как издатель сатирического журнала «Почта духов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1810 году  вступает помощником библиотекаря в Императорскую публичную библиотеку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6 декабря 1811 года  избран членом Российской Академ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4 января 1823 года получил от неё золотую медаль за литературные заслуг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 при преобразовании Российской Академии в отделение русского языка и словесности академии наук (1841) был утверждён ординарным академик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 февраля 1838 года в Петербурге праздновался 50-летний юбилей его литературной деятельности с такою торжественностью и вместе с тем с такою теплотой и задушевностью, что подобного литературного торжества нельзя указать раньш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KrylovBasnopisetsByEggin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38520" y="1770120"/>
            <a:ext cx="2889360" cy="43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353556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05:48:38Z</dcterms:created>
  <dc:creator>Владелец</dc:creator>
  <dc:description/>
  <dc:language>en-US</dc:language>
  <cp:lastModifiedBy>Вера</cp:lastModifiedBy>
  <dcterms:modified xsi:type="dcterms:W3CDTF">2015-09-29T20:23:08Z</dcterms:modified>
  <cp:revision>7</cp:revision>
  <dc:subject/>
  <dc:title>ИВАН АНДРЕЕВИЧ КРЫЛОВ (1769 - 1844)</dc:title>
</cp:coreProperties>
</file>