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5.png" ContentType="image/pn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8CE9-C195-4313-A555-262559C8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B4AC-01E2-40C7-A7B6-786B4BA8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E83B-8A36-4ACA-A78E-80552C59A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D0E5-1BBE-4C21-8CDB-40B50E146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14F4-1A2A-4F13-90E9-7141B9C72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40C1-B9E2-40BC-BA01-68B5771D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49A5-5FC2-43B3-A9DA-CB19738A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F6BA-FB51-4D43-A256-383C6374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5E1B-DE02-4AA4-99DD-7B1947FC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3DA1-A378-4C2D-8F36-7C41FAF8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1334-99C3-47E4-8283-E8A7F7BB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6B77-BD18-4ADA-BB02-33AE6786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78E5-DC02-4CFE-A841-3B636CAE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ADC3-16D6-48E3-8884-42AA3206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2BA0-166D-4D69-892D-1FD50647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231B-543A-4E84-B0B3-72808507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844E-C508-4219-A0D4-48F051828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5BF8-254E-4C99-882A-EB02FA82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BFA3-C291-417F-902A-E45B0E36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DD7D-7565-4094-A881-69174B45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55C5-CA06-4CED-BB9F-030C1436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6E7A-2FF3-4841-A752-C098D647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8EBE-973E-4442-B45A-10C53C9C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430B-7B0D-40DC-BA69-B8D387CB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2F03-94DE-4C42-A173-6F7BCDB78F71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6005-41BD-4E8F-ADA7-17EED759E350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ru.wikipedia.org/wiki/&#1060;&#1072;&#1081;&#1083;:Krylov_summer_garden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tamp_of_USSR_0943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ru.wikipedia.org/wiki/&#1060;&#1072;&#1081;&#1083;:Stamp_of_USSR_0944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ru.wikipedia.org/wiki/&#1060;&#1072;&#1081;&#1083;:Rus_Stamp-Krylov-1969.jpg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ru.wikipedia.org/wiki/&#1060;&#1072;&#1081;&#1083;:Stamp_of_USSR_2289.jpg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ru.wikipedia.org/wiki/&#1060;&#1072;&#1081;&#1083;:RR5110-0002R.gif" TargetMode="External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u.wikipedia.org/wiki/&#1057;&#1072;&#1085;&#1082;&#1090;-&#1055;&#1077;&#1090;&#1077;&#1088;&#1073;&#1091;&#1088;&#1075;" TargetMode="External"/><Relationship Id="rId3" Type="http://schemas.openxmlformats.org/officeDocument/2006/relationships/hyperlink" Target="http://ru.wikipedia.org/wiki/&#1055;&#1077;&#1088;&#1077;&#1091;&#1083;&#1086;&#1082;_&#1050;&#1088;&#1099;&#1083;&#1086;&#1074;&#1072;_(&#1057;&#1072;&#1085;&#1082;&#1090;-&#1055;&#1077;&#1090;&#1077;&#1088;&#1073;&#1091;&#1088;&#1075;)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ru.wikipedia.org/w/index.php?title=&#1042;&#1089;&#1077;&#1074;&#1086;&#1083;&#1086;&#1078;&#1089;&#1082;._&#1052;&#1077;&#1083;&#1100;&#1085;&#1080;&#1095;&#1085;&#1099;&#1081;_&#1088;&#1091;&#1095;&#1077;&#1081;&amp;action=edit&amp;redlink=1" TargetMode="External"/><Relationship Id="rId6" Type="http://schemas.openxmlformats.org/officeDocument/2006/relationships/hyperlink" Target="http://ru.wikipedia.org/wiki/&#1059;&#1083;&#1080;&#1094;&#1072;_&#1050;&#1088;&#1099;&#1083;&#1086;&#1074;&#1072;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ru.wikipedia.org/wiki/&#1051;&#1080;&#1087;&#1077;&#1094;&#1082;" TargetMode="External"/><Relationship Id="rId9" Type="http://schemas.openxmlformats.org/officeDocument/2006/relationships/hyperlink" Target="http://ru.wikipedia.org/wiki/&#1059;&#1083;&#1080;&#1094;&#1072;_&#1050;&#1088;&#1099;&#1083;&#1086;&#1074;&#1072;_(&#1051;&#1080;&#1087;&#1077;&#1094;&#1082;)" TargetMode="External"/><Relationship Id="rId10" Type="http://schemas.openxmlformats.org/officeDocument/2006/relationships/image" Target="../media/image3.png"/><Relationship Id="rId11" Type="http://schemas.openxmlformats.org/officeDocument/2006/relationships/hyperlink" Target="http://ru.wikipedia.org/wiki/&#1053;&#1080;&#1078;&#1085;&#1080;&#1081;_&#1053;&#1086;&#1074;&#1075;&#1086;&#1088;&#1086;&#1076;" TargetMode="External"/><Relationship Id="rId12" Type="http://schemas.openxmlformats.org/officeDocument/2006/relationships/hyperlink" Target="http://ru.wikipedia.org/w/index.php?title=&#1059;&#1083;&#1080;&#1094;&#1072;_&#1050;&#1088;&#1099;&#1083;&#1086;&#1074;&#1072;_(&#1053;&#1080;&#1078;&#1085;&#1080;&#1081;_&#1053;&#1086;&#1074;&#1075;&#1086;&#1088;&#1086;&#1076;)&amp;action=edit&amp;redlink=1" TargetMode="External"/><Relationship Id="rId13" Type="http://schemas.openxmlformats.org/officeDocument/2006/relationships/image" Target="../media/image3.png"/><Relationship Id="rId14" Type="http://schemas.openxmlformats.org/officeDocument/2006/relationships/hyperlink" Target="http://ru.wikipedia.org/wiki/&#1058;&#1074;&#1077;&#1088;&#1100;" TargetMode="External"/><Relationship Id="rId15" Type="http://schemas.openxmlformats.org/officeDocument/2006/relationships/image" Target="../media/image3.png"/><Relationship Id="rId16" Type="http://schemas.openxmlformats.org/officeDocument/2006/relationships/hyperlink" Target="http://ru.wikipedia.org/wiki/&#1041;&#1086;&#1073;&#1088;&#1091;&#1081;&#1089;&#1082;" TargetMode="External"/><Relationship Id="rId17" Type="http://schemas.openxmlformats.org/officeDocument/2006/relationships/image" Target="../media/image3.png"/><Relationship Id="rId18" Type="http://schemas.openxmlformats.org/officeDocument/2006/relationships/hyperlink" Target="http://ru.wikipedia.org/wiki/&#1048;&#1096;&#1080;&#1084;&#1073;&#1072;&#1081;" TargetMode="External"/><Relationship Id="rId19" Type="http://schemas.openxmlformats.org/officeDocument/2006/relationships/image" Target="../media/image3.png"/><Relationship Id="rId20" Type="http://schemas.openxmlformats.org/officeDocument/2006/relationships/hyperlink" Target="http://ru.wikipedia.org/wiki/&#1049;&#1086;&#1096;&#1082;&#1072;&#1088;-&#1054;&#1083;&#1072;" TargetMode="External"/><Relationship Id="rId21" Type="http://schemas.openxmlformats.org/officeDocument/2006/relationships/image" Target="../media/image3.png"/><Relationship Id="rId22" Type="http://schemas.openxmlformats.org/officeDocument/2006/relationships/hyperlink" Target="http://ru.wikipedia.org/wiki/&#1061;&#1072;&#1088;&#1100;&#1082;&#1086;&#1074;" TargetMode="External"/><Relationship Id="rId23" Type="http://schemas.openxmlformats.org/officeDocument/2006/relationships/image" Target="../media/image3.png"/><Relationship Id="rId24" Type="http://schemas.openxmlformats.org/officeDocument/2006/relationships/hyperlink" Target="http://ru.wikipedia.org/wiki/&#1057;&#1072;&#1088;&#1072;&#1085;&#1089;&#1082;" TargetMode="External"/><Relationship Id="rId25" Type="http://schemas.openxmlformats.org/officeDocument/2006/relationships/image" Target="../media/image3.png"/><Relationship Id="rId26" Type="http://schemas.openxmlformats.org/officeDocument/2006/relationships/hyperlink" Target="http://ru.wikipedia.org/wiki/&#1057;&#1091;&#1088;&#1075;&#1091;&#1090;" TargetMode="External"/><Relationship Id="rId27" Type="http://schemas.openxmlformats.org/officeDocument/2006/relationships/image" Target="../media/image3.png"/><Relationship Id="rId28" Type="http://schemas.openxmlformats.org/officeDocument/2006/relationships/hyperlink" Target="http://ru.wikipedia.org/wiki/&#1050;&#1072;&#1088;&#1072;&#1075;&#1072;&#1085;&#1076;&#1072;" TargetMode="External"/><Relationship Id="rId29" Type="http://schemas.openxmlformats.org/officeDocument/2006/relationships/image" Target="../media/image3.png"/><Relationship Id="rId30" Type="http://schemas.openxmlformats.org/officeDocument/2006/relationships/hyperlink" Target="http://ru.wikipedia.org/wiki/&#1043;&#1091;&#1082;&#1086;&#1074;&#1086;" TargetMode="External"/><Relationship Id="rId31" Type="http://schemas.openxmlformats.org/officeDocument/2006/relationships/image" Target="../media/image3.png"/><Relationship Id="rId32" Type="http://schemas.openxmlformats.org/officeDocument/2006/relationships/hyperlink" Target="http://ru.wikipedia.org/wiki/&#1059;&#1089;&#1090;&#1100;-&#1050;&#1072;&#1084;&#1077;&#1085;&#1086;&#1075;&#1086;&#1088;&#1089;&#1082;" TargetMode="External"/><Relationship Id="rId33" Type="http://schemas.openxmlformats.org/officeDocument/2006/relationships/image" Target="../media/image3.png"/><Relationship Id="rId34" Type="http://schemas.openxmlformats.org/officeDocument/2006/relationships/hyperlink" Target="http://ru.wikipedia.org/wiki/&#1050;&#1072;&#1079;&#1072;&#1085;&#1100;" TargetMode="External"/><Relationship Id="rId35" Type="http://schemas.openxmlformats.org/officeDocument/2006/relationships/image" Target="../media/image3.png"/><Relationship Id="rId36" Type="http://schemas.openxmlformats.org/officeDocument/2006/relationships/hyperlink" Target="http://ru.wikipedia.org/wiki/&#1042;&#1083;&#1072;&#1076;&#1080;&#1074;&#1086;&#1089;&#1090;&#1086;&#1082;" TargetMode="External"/><Relationship Id="rId37" Type="http://schemas.openxmlformats.org/officeDocument/2006/relationships/image" Target="../media/image3.png"/><Relationship Id="rId38" Type="http://schemas.openxmlformats.org/officeDocument/2006/relationships/hyperlink" Target="http://ru.wikipedia.org/wiki/&#1050;&#1088;&#1072;&#1089;&#1085;&#1086;&#1103;&#1088;&#1089;&#1082;" TargetMode="External"/><Relationship Id="rId39" Type="http://schemas.openxmlformats.org/officeDocument/2006/relationships/image" Target="../media/image3.png"/><Relationship Id="rId40" Type="http://schemas.openxmlformats.org/officeDocument/2006/relationships/hyperlink" Target="http://ru.wikipedia.org/wiki/&#1058;&#1086;&#1084;&#1089;&#1082;" TargetMode="External"/><Relationship Id="rId41" Type="http://schemas.openxmlformats.org/officeDocument/2006/relationships/image" Target="../media/image3.png"/><Relationship Id="rId42" Type="http://schemas.openxmlformats.org/officeDocument/2006/relationships/hyperlink" Target="http://ru.wikipedia.org/wiki/&#1050;&#1072;&#1095;&#1082;&#1072;&#1085;&#1072;&#1088;" TargetMode="External"/><Relationship Id="rId43" Type="http://schemas.openxmlformats.org/officeDocument/2006/relationships/image" Target="../media/image3.png"/><Relationship Id="rId44" Type="http://schemas.openxmlformats.org/officeDocument/2006/relationships/hyperlink" Target="http://ru.wikipedia.org/wiki/&#1053;&#1086;&#1074;&#1086;&#1089;&#1080;&#1073;&#1080;&#1088;&#1089;&#1082;" TargetMode="External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u.wikipedia.org/wiki/&#1060;&#1072;&#1081;&#1083;:KrylovBasnopisetsByEggink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364240" cy="17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ИВАН АНДРЕЕВИЧ КРЫЛОВ</a:t>
            </a:r>
            <a:br>
              <a:rPr sz="4000"/>
            </a:b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(1769 - 1844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700360" y="2060640"/>
            <a:ext cx="3840120" cy="4141800"/>
            <a:chOff x="2700360" y="2060640"/>
            <a:chExt cx="3840120" cy="414180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2700360" y="2060640"/>
              <a:ext cx="3840120" cy="4141800"/>
            </a:xfrm>
            <a:prstGeom prst="rect">
              <a:avLst/>
            </a:prstGeom>
            <a:ln w="38160">
              <a:solidFill>
                <a:srgbClr val="2f1311"/>
              </a:solidFill>
              <a:miter/>
            </a:ln>
          </p:spPr>
        </p:pic>
        <p:sp>
          <p:nvSpPr>
            <p:cNvPr id="194" name=""/>
            <p:cNvSpPr txBox="1"/>
            <p:nvPr/>
          </p:nvSpPr>
          <p:spPr>
            <a:xfrm>
              <a:off x="2700360" y="2060640"/>
              <a:ext cx="3840120" cy="414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227640" y="4745160"/>
            <a:ext cx="273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Последние год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197000"/>
            <a:ext cx="82263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 конце жизни Крылов был обласкан властью. Имел чин статского советника, шеститысячный пансион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Крылов жил долго и своим привычкам не изменял ни в чём. Полностью растворился в лени и гурманстве. Он, умный и не слишком добрый человек, в конце концов сжился с ролью добродушного чудака, нелепого, ничем не смущающегося обжоры. Придуманный им образ пришёлся ко двору, и в конце жизни он мог позволить себе всё, что угодно. Не стеснялся быть обжорой, неряхой и лентяе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333000"/>
            <a:ext cx="822636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кончался Иван Андреевич Крылов 9 ноября 1844 года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хоронен 13 ноября 1844 года на Тихвинском кладбище Александро-Невской лавры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 день похорон друзья и знакомые И. А. Крылова вместе с приглашением получили по экземпляру изданных им басен, на заглавном листе которых под траурною каймою было напечатано: «Приношение на память об Иване Андреевиче, по его желанию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нтересные факты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Как-то Крылов, дома, съев восемь пирожков, был поражён их дурным вкусом. Открыв кастрюлю, увидел, что она вся зелёная от плесени. Но он решил, коли жив — можно доесть ещё и оставшиеся восемь пирожков в кастрюл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Очень любил смотреть на пожары. Не пропускал ни одного пожара в Петербург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Над диваном в доме у Крылова висела «на честном слове» здоровая картина. Друзья просили его вбить ещё пару гвоздей, чтобы она не упала и не разбила ему голову. На это он отвечал, что всё рассчитал: картина будет падать по касательной и его не задене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нтересные факт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197000"/>
            <a:ext cx="8226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а званых обедах он, как правило, съедал блюдо расстегаев, три-четыре тарелки ухи, несколько отбивных, жареную индейку и кое-что по мелочи. Приехав домой, заедал всё это миской кислой капусты и чёрным хлебо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Однажды на обеде у царицы Крылов сел за стол и, не здороваясь, начал есть. Жуковский удивлённо закричал: «Прекрати, пусть царица тебя хотя бы попотчует». «А вдруг не попотчует?» — испугался Крыл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Один раз на прогулке Иван Андреевич встретил молодёжь, и один из этой компании решил подшутить над телосложением писателя (он его, скорее всего не знал) и сказал: «Смотрите! Какая туча идёт!», а Крылов посмотрел на небо и добавил саркастично: «Да, и вправду дождик собирается. То-то лягушки расквакались»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Увековечение имен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960720" y="1914480"/>
            <a:ext cx="3624480" cy="2695680"/>
          </a:xfrm>
          <a:prstGeom prst="rect">
            <a:avLst/>
          </a:prstGeom>
          <a:ln w="38160">
            <a:solidFill>
              <a:srgbClr val="2f1311"/>
            </a:solidFill>
            <a:miter/>
          </a:ln>
        </p:spPr>
      </p:pic>
      <p:pic>
        <p:nvPicPr>
          <p:cNvPr id="22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1413000"/>
            <a:ext cx="2921040" cy="3898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25" name=""/>
          <p:cNvSpPr/>
          <p:nvPr/>
        </p:nvSpPr>
        <p:spPr>
          <a:xfrm>
            <a:off x="250920" y="5732640"/>
            <a:ext cx="403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Памятник и.А.Крылову в Летнем саду Санкт-Петербурге. Скульптор Г.Клодт. 1855 год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40360" y="51577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43280" y="4940280"/>
            <a:ext cx="396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Памятник И.А.Крылову на Патриарших прудах в Москве. Скульпторы А.А.Древин и Д.Ю.Митлянский. 1976 год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Увековечение имен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341360"/>
            <a:ext cx="1809720" cy="2519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64000" y="1341360"/>
            <a:ext cx="1843200" cy="2519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04000" y="1413000"/>
            <a:ext cx="1808280" cy="2519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55640" y="4221000"/>
            <a:ext cx="3024360" cy="224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003640" y="4221000"/>
            <a:ext cx="2305080" cy="2294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Увековечение имен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125360"/>
            <a:ext cx="822636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Санкт-Петербург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"/>
              </a:rPr>
              <a:t>переулок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5"/>
              </a:rPr>
              <a:t>Всеволожск. Мельничный ручей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6"/>
              </a:rPr>
              <a:t>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8"/>
              </a:rPr>
              <a:t>Липецк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9"/>
              </a:rPr>
              <a:t>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1"/>
              </a:rPr>
              <a:t>Нижнем Новгород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2"/>
              </a:rPr>
              <a:t>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4"/>
              </a:rPr>
              <a:t>Твери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улица Крылова и памятник И.А. Крылову, стоящий в сквере его имени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6"/>
              </a:rPr>
              <a:t>Бобруйск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8"/>
              </a:rPr>
              <a:t>Ишимба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0"/>
              </a:rPr>
              <a:t>Йошкар-Ол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2"/>
              </a:rPr>
              <a:t>Харьков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(Украина)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4"/>
              </a:rPr>
              <a:t>Саранск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6"/>
              </a:rPr>
              <a:t>Сургут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(ХМАО-Югра)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8"/>
              </a:rPr>
              <a:t>Караганд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0"/>
              </a:rPr>
              <a:t>Гуков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2"/>
              </a:rPr>
              <a:t>Усть-Каменогорск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4"/>
              </a:rPr>
              <a:t>Казани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6"/>
              </a:rPr>
              <a:t>Владивосток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8"/>
              </a:rPr>
              <a:t>Красноярск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40"/>
              </a:rPr>
              <a:t>Томск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42"/>
              </a:rPr>
              <a:t>Качканар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44"/>
              </a:rPr>
              <a:t>Новосибирск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Челябинске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Омске есть Детская библиотека имени И. А. 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Перми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Екатеринбурге есть улица Крылова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ван Андреевич Крыл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русский поэт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баснописец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ереводчик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отрудник Императорской Публичной библиотек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татский Советник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Действительный член Императорской Российской академии (1811г.)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академик Императорской Академии наук по Отделению Русского языка и словесности (1841г.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рылов является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автором более 200 басен, созданных в период с 1809 по 1843 год. Они вышли в свет в девяти частях и переиздавались очень большими по тем временам тиража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В 1842 году его произведения вышли в немецком переводе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Крылов писал так же комедии, трагедии  и оперные либретто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Басни И. А. Крылова положены на музыку, например, А. Г. Рубинштейном — басни «Кукушка и Орёл», «Осёл и Соловей», «Стрекоза и Муравей», «Квартет»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Многие выражения из басен Крылова стали крылатыми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А Васька слушает да ес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А вы, друзья, как ни садитесь, все в музыканты не годитесь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А ларчик просто открывалс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Ай, Моська! Знать она сильна, что лает на слона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Да только воз и ныне та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Кукушка хвалит петуха, за то, что хвалит он кукушк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Услужливый дурак опаснее враг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Чем кумушек считать, трудиться, не лучше ль на себя, кума, оборотиться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Что сходит с рук ворам, за то воришек бью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БАСНЯ -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2500" spc="-1" strike="noStrike">
                <a:solidFill>
                  <a:srgbClr val="2f1311"/>
                </a:solidFill>
                <a:latin typeface="Arial"/>
              </a:rPr>
              <a:t>короткий, нередко комический рассказ в стихах или прозе, с прямым моральным выводом, придающий рассказу аллегорический смысл. Действующими лицами обычно выступают животные, растения, вещи.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2f1311"/>
                </a:solidFill>
                <a:latin typeface="Arial"/>
              </a:rPr>
              <a:t>Басни Крылова проникнуты демократическим духом, отличающихся сатирической остротой, ярким и метким языком. В них обличались общественные и человеческие пороки. Н. В. Гоголь назвал басни И. Крылова "...книгой мудрости самого народа".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f7d47d"/>
                </a:solidFill>
                <a:latin typeface="Arial"/>
              </a:rPr>
              <a:t>Ранние годы</a:t>
            </a:r>
            <a:br>
              <a:rPr sz="3600"/>
            </a:b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2f1311"/>
                </a:solidFill>
                <a:latin typeface="Arial"/>
              </a:rPr>
              <a:t>Иван Крылов родился 13 февраля 1769 г. Место рождения точно не известно.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2f1311"/>
                </a:solidFill>
                <a:latin typeface="Arial"/>
              </a:rPr>
              <a:t>Первые годы детства провёл в разъездах с семьёй. 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2f1311"/>
                </a:solidFill>
                <a:latin typeface="Arial"/>
              </a:rPr>
              <a:t>Грамоте, арифметике и молитвам выучился дома (отец его был большой любитель чтения, после него к сыну перешёл целый сундук книг).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2f1311"/>
                </a:solidFill>
                <a:latin typeface="Arial"/>
              </a:rPr>
              <a:t>Французским языком занимался в семействе состоятельных соседей. Итальянский учил самостоятельно.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2f1311"/>
                </a:solidFill>
                <a:latin typeface="Arial"/>
              </a:rPr>
              <a:t>В 1777 году он был записан в гражданскую службу подканцеляристом Калязинского нижнего земского суда, а затем Тверского магистрата. 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432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2f1311"/>
                </a:solidFill>
                <a:latin typeface="Arial"/>
              </a:rPr>
              <a:t>Учился Крылов мало, но читал довольно много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ван Андреевич Крыл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 1809 году  выпускает первое отдельное издание своих басен, в количестве 23, и этой книжечкой завоёвывает себе видное и почётное место в русской литературе, а благодаря последующим изданиям басен он становится писателем в такой степени национальным, каким до тех пор не был никто другой.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 молодости был известен прежде всего как писатель-сатирик, как издатель сатирического журнала «Почта духов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ван Андреевич Крыл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 1810 году  вступает помощником библиотекаря в Императорскую публичную библиотеку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6 декабря 1811 года  избран членом Российской Академ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4 января 1823 года получил от неё золотую медаль за литературные заслуг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а при преобразовании Российской Академии в отделение русского языка и словесности академии наук (1841) был утверждён ординарным академико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ван Андреевич Крыл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2 февраля 1838 года в Петербурге праздновался 50-летний юбилей его литературной деятельности с такою торжественностью и вместе с тем с такою теплотой и задушевностью, что подобного литературного торжества нельзя указать раньш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KrylovBasnopisetsByEggink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38520" y="1770120"/>
            <a:ext cx="2889360" cy="4317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3" name=""/>
          <p:cNvSpPr/>
          <p:nvPr/>
        </p:nvSpPr>
        <p:spPr>
          <a:xfrm>
            <a:off x="353556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3T05:48:38Z</dcterms:created>
  <dc:creator>Владелец</dc:creator>
  <dc:description/>
  <dc:language>en-US</dc:language>
  <cp:lastModifiedBy>Вера</cp:lastModifiedBy>
  <dcterms:modified xsi:type="dcterms:W3CDTF">2015-09-29T20:23:08Z</dcterms:modified>
  <cp:revision>7</cp:revision>
  <dc:subject/>
  <dc:title>ИВАН АНДРЕЕВИЧ КРЫЛОВ (1769 - 1844)</dc:title>
</cp:coreProperties>
</file>