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FFB-130E-4CA6-8933-9D193551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EB6-DED0-4E99-BDFD-1C75136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DA9-E077-4F60-8690-BA79335E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ED4-9F35-498D-9759-EA27BD2F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66D-228F-4A4F-93E1-F18E5906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B7F-B354-442A-95E1-08344CE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01F-7BF8-4FF7-895D-CB40DB4B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849-9FFD-473F-BA3D-610805D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D57-6973-4857-9EAC-2548F12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B79-6C54-4B17-AC2E-B31063D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554-C58F-4778-A213-2C22F13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6A4-B26E-438E-8A71-AC455AFA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1B04-4F26-46D1-AD92-8FE3D9B26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2360" cy="5545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547640" y="404640"/>
            <a:ext cx="302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Сергей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Михалков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79440" y="3141720"/>
            <a:ext cx="432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ом – оружием с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то я в руках держу, -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м честным людям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труд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Я, как солдат, слу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http://mp.urbannet.ru/TVOR-P/mixal_sv/mix-avt.gif"/>
          <p:cNvPicPr/>
          <p:nvPr/>
        </p:nvPicPr>
        <p:blipFill>
          <a:blip r:embed="rId3"/>
          <a:srcRect l="0" t="0" r="0" b="11648"/>
          <a:stretch/>
        </p:blipFill>
        <p:spPr>
          <a:xfrm>
            <a:off x="2124000" y="5445000"/>
            <a:ext cx="230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1_rk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640480" y="260280"/>
            <a:ext cx="3260520" cy="381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47520" y="33336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й Владимирович Михалков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одился 12 марта 1913 года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в Моск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4720" y="2349360"/>
            <a:ext cx="136692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80000" y="5300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8856720" y="5373720"/>
            <a:ext cx="28728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площадь трех вокзалов"/>
          <p:cNvPicPr/>
          <p:nvPr/>
        </p:nvPicPr>
        <p:blipFill>
          <a:blip r:embed="rId4"/>
          <a:stretch/>
        </p:blipFill>
        <p:spPr>
          <a:xfrm>
            <a:off x="4427640" y="4221000"/>
            <a:ext cx="4535280" cy="2455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6"/>
          <p:cNvSpPr/>
          <p:nvPr/>
        </p:nvSpPr>
        <p:spPr>
          <a:xfrm>
            <a:off x="3780000" y="5300640"/>
            <a:ext cx="64764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79280" y="479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У него были два брата - Алексей и Миха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250920" y="47628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ихалков вспоминает:“Детство моё прошло в подмосковном посёлке Жаворон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067280" y="24210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ротая  вечера,  Сергей Владимирович выпускал домашний  жур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4000" y="429264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тихи Михалков начал писать рано, в 1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j0415446"/>
          <p:cNvPicPr/>
          <p:nvPr/>
        </p:nvPicPr>
        <p:blipFill>
          <a:blip r:embed="rId2"/>
          <a:stretch/>
        </p:blipFill>
        <p:spPr>
          <a:xfrm>
            <a:off x="5867280" y="189000"/>
            <a:ext cx="3025800" cy="19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j0415484"/>
          <p:cNvPicPr/>
          <p:nvPr/>
        </p:nvPicPr>
        <p:blipFill>
          <a:blip r:embed="rId3"/>
          <a:stretch/>
        </p:blipFill>
        <p:spPr>
          <a:xfrm>
            <a:off x="826920" y="2060640"/>
            <a:ext cx="2508480" cy="1846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324000" y="515772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первые стих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были опубликованы, когда  автору  исполнилось  15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164360" y="551664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j0290679"/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-171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24000" y="189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27 году  семья переезжает в Пятигор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9280" y="76500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гда Михалкову исполняется 17 лет, он отправился в Москву прокладывать свою литературную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7164360" y="371628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084720" y="692280"/>
            <a:ext cx="25686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0" y="6021360"/>
            <a:ext cx="914400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99096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4427640" y="4076640"/>
            <a:ext cx="439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35  году  опубликована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оэма  "Дядя  Степа",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ставшая   любимым  произведением   для  многих поколений  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31760" y="33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годы войны  с 1941 года по  1945  год   служит военным корреспондентом  газеты "Во славу  Родины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4176720" cy="267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32128"/>
          <p:cNvPicPr/>
          <p:nvPr/>
        </p:nvPicPr>
        <p:blipFill>
          <a:blip r:embed="rId3"/>
          <a:stretch/>
        </p:blipFill>
        <p:spPr>
          <a:xfrm>
            <a:off x="6084720" y="4292640"/>
            <a:ext cx="2664000" cy="244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DIPLOMA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692360" y="2565360"/>
            <a:ext cx="3313080" cy="3890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24000" y="3068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н написал много стихов для детей, пьес, басен, сказок, занимался переводом.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1967 году ему был вручен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орден Улыбки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как любимому поэту детворы многих стран ми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 rot="1436400">
            <a:off x="6077880" y="53384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хал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 rot="1256400">
            <a:off x="6179400" y="55278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е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424560" y="4970520"/>
            <a:ext cx="94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 что у вас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314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260280"/>
            <a:ext cx="446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2 марта 2003 года Сергею Владимировичу Михалкову исполнилось 90 лет. Автор «Дяди Степы», советских и российского гимнов ждал приезда президента в своей только что отремонтированной квартире вместе с женой Юлией Валериевной и сыновьями - Андроном и Никитой, известными кинорежиссе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2880000" cy="200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4859280" y="55753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 сегодняшний день у С.В.Михалкова    2 сына, 10 внуков и 8 правну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76360" y="1159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чём секрет его творческого долголетия?   Об этом он пишет в своём стихотворении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                   «Мой секр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21300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191628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не стоит лишь собрать бага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долго ли соб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умагу, ручку,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общую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вот уже я в той Стр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де я увидел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, как  ни странно, снова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пять, и деся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тетрадь"/>
          <p:cNvPicPr/>
          <p:nvPr/>
        </p:nvPicPr>
        <p:blipFill>
          <a:blip r:embed="rId3"/>
          <a:stretch/>
        </p:blipFill>
        <p:spPr>
          <a:xfrm>
            <a:off x="7524720" y="2421000"/>
            <a:ext cx="1368360" cy="153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32452"/>
          <p:cNvPicPr/>
          <p:nvPr/>
        </p:nvPicPr>
        <p:blipFill>
          <a:blip r:embed="rId4"/>
          <a:stretch/>
        </p:blipFill>
        <p:spPr>
          <a:xfrm>
            <a:off x="7885080" y="4797360"/>
            <a:ext cx="9810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33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я Михалкова стал вместе с Эль-Регистаном  автором Государственного гимна СССР. Слова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нового гимна России тоже написал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Сергей  Владимирович 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mp.urbannet.ru/STIL-MGO-SP/flag1.gif"/>
          <p:cNvPicPr/>
          <p:nvPr/>
        </p:nvPicPr>
        <p:blipFill>
          <a:blip r:embed="rId2"/>
          <a:stretch/>
        </p:blipFill>
        <p:spPr>
          <a:xfrm>
            <a:off x="468360" y="1413000"/>
            <a:ext cx="102852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mp.urbannet.ru/STIL-MGO-SP/r_eagl1m.gif"/>
          <p:cNvPicPr/>
          <p:nvPr/>
        </p:nvPicPr>
        <p:blipFill>
          <a:blip r:embed="rId3"/>
          <a:stretch/>
        </p:blipFill>
        <p:spPr>
          <a:xfrm>
            <a:off x="7740720" y="1197000"/>
            <a:ext cx="94140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50920" y="2637000"/>
            <a:ext cx="3960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священная наша держав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любимая наша стра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гучая воля, великая слава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вое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южных морей до полярного кр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кинулись наши леса и пол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на ты на свете! Одна ты такая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43280" y="2637000"/>
            <a:ext cx="41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ирокий простор для мечты и для жизн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ядущие нам открывают год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м силу дает наша верность Отчизн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mp.urbannet.ru/TVOR-P/mixal_sv/mix-avt.gif"/>
          <p:cNvPicPr/>
          <p:nvPr/>
        </p:nvPicPr>
        <p:blipFill>
          <a:blip r:embed="rId4"/>
          <a:stretch/>
        </p:blipFill>
        <p:spPr>
          <a:xfrm>
            <a:off x="3276720" y="6165720"/>
            <a:ext cx="20001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менем Сергея Владимировича Михалкова названа малая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mp.urbannet.ru/TVOR-P/mixal_sv/svid-mix-pl.jpg"/>
          <p:cNvPicPr/>
          <p:nvPr/>
        </p:nvPicPr>
        <p:blipFill>
          <a:blip r:embed="rId2"/>
          <a:stretch/>
        </p:blipFill>
        <p:spPr>
          <a:xfrm>
            <a:off x="2556000" y="1268280"/>
            <a:ext cx="3857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9:32:33Z</dcterms:created>
  <dc:creator>USER</dc:creator>
  <dc:description/>
  <dc:language>en-US</dc:language>
  <cp:lastModifiedBy>Ионас</cp:lastModifiedBy>
  <dcterms:modified xsi:type="dcterms:W3CDTF">2015-10-05T18:40:12Z</dcterms:modified>
  <cp:revision>6</cp:revision>
  <dc:subject/>
  <dc:title>Слайд 1</dc:title>
</cp:coreProperties>
</file>