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3.wmf" ContentType="image/x-wmf"/>
  <Override PartName="/ppt/media/image8.wmf" ContentType="image/x-wmf"/>
  <Override PartName="/ppt/media/image11.jpeg" ContentType="image/jpeg"/>
  <Override PartName="/ppt/media/image6.jpeg" ContentType="image/jpeg"/>
  <Override PartName="/ppt/media/image10.png" ContentType="image/png"/>
  <Override PartName="/ppt/media/image9.wmf" ContentType="image/x-wmf"/>
  <Override PartName="/ppt/media/image21.png" ContentType="image/png"/>
  <Override PartName="/ppt/media/image20.png" ContentType="image/png"/>
  <Override PartName="/ppt/media/image2.jpeg" ContentType="image/jpeg"/>
  <Override PartName="/ppt/media/image19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3.png" ContentType="image/png"/>
  <Override PartName="/ppt/media/image17.jpeg" ContentType="image/jpeg"/>
  <Override PartName="/ppt/media/image22.jpeg" ContentType="image/jpeg"/>
  <Override PartName="/ppt/media/image1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406-298A-4DEA-A40F-E7422481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E325-D2AE-40DD-8F31-AC3BD24A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1CDA-69E5-4579-ABB1-5E3546CE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4BE-1392-4D63-A376-FEE23123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BDF-D64A-4D22-A6C0-E8A66FD0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55C-A3C9-461B-8603-B545EAFD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60B0-F991-4699-9338-476937D4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6E29-D8BE-464F-8CA4-A51C67A7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75A4-1CF8-40E3-B33D-AFE71206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34FA-AF5B-456A-8A46-68FD39D9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454D-C2ED-4209-9FD3-1C9773A7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E7F0-34A4-409D-9B00-792D6C4C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6683-1CD4-4BDB-A35A-D87D4CB827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н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4032360" cy="554544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1547640" y="404640"/>
            <a:ext cx="30258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660066"/>
                </a:solidFill>
                <a:effectLst>
                  <a:outerShdw dist="107932" dir="18900000" blurRad="0" rotWithShape="0">
                    <a:srgbClr val="c7dfd3">
                      <a:alpha val="50000"/>
                    </a:srgbClr>
                  </a:outerShdw>
                </a:effectLst>
                <a:latin typeface="Comic Sans MS"/>
              </a:rPr>
              <a:t>Сергей</a:t>
            </a:r>
            <a:endParaRPr b="1" lang="en-US" sz="6000" spc="1" strike="noStrike">
              <a:ln w="9360">
                <a:solidFill>
                  <a:srgbClr val="008000"/>
                </a:solidFill>
                <a:miter/>
              </a:ln>
              <a:solidFill>
                <a:srgbClr val="660066"/>
              </a:solidFill>
              <a:effectLst>
                <a:outerShdw dist="107932" dir="18900000" blurRad="0" rotWithShape="0">
                  <a:srgbClr val="c7dfd3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660066"/>
                </a:solidFill>
                <a:effectLst>
                  <a:outerShdw dist="107932" dir="18900000" blurRad="0" rotWithShape="0">
                    <a:srgbClr val="c7dfd3">
                      <a:alpha val="50000"/>
                    </a:srgbClr>
                  </a:outerShdw>
                </a:effectLst>
                <a:latin typeface="Comic Sans MS"/>
              </a:rPr>
              <a:t>Михалков</a:t>
            </a:r>
            <a:endParaRPr b="1" lang="en-US" sz="6000" spc="1" strike="noStrike">
              <a:ln w="9360">
                <a:solidFill>
                  <a:srgbClr val="008000"/>
                </a:solidFill>
                <a:miter/>
              </a:ln>
              <a:solidFill>
                <a:srgbClr val="660066"/>
              </a:solidFill>
              <a:effectLst>
                <a:outerShdw dist="107932" dir="18900000" blurRad="0" rotWithShape="0">
                  <a:srgbClr val="c7dfd3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279440" y="3141720"/>
            <a:ext cx="4321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ером – оружием свои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Что я в руках держу, -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сем честным людям   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трудов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Я, как солдат, служ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http://mp.urbannet.ru/TVOR-P/mixal_sv/mix-avt.gif"/>
          <p:cNvPicPr/>
          <p:nvPr/>
        </p:nvPicPr>
        <p:blipFill>
          <a:blip r:embed="rId3"/>
          <a:srcRect l="0" t="0" r="0" b="11648"/>
          <a:stretch/>
        </p:blipFill>
        <p:spPr>
          <a:xfrm>
            <a:off x="2124000" y="5445000"/>
            <a:ext cx="2303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фон 3"/>
          <p:cNvPicPr/>
          <p:nvPr/>
        </p:nvPicPr>
        <p:blipFill>
          <a:blip r:embed="rId1"/>
          <a:srcRect l="14485" t="0" r="0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101_rk"/>
          <p:cNvPicPr/>
          <p:nvPr/>
        </p:nvPicPr>
        <p:blipFill>
          <a:blip r:embed="rId2"/>
          <a:stretch/>
        </p:blipFill>
        <p:spPr>
          <a:xfrm>
            <a:off x="250920" y="1844640"/>
            <a:ext cx="4032000" cy="2522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3"/>
          <a:stretch/>
        </p:blipFill>
        <p:spPr>
          <a:xfrm>
            <a:off x="5640480" y="260280"/>
            <a:ext cx="3260520" cy="3816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47520" y="333360"/>
            <a:ext cx="56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Сергей Владимирович Михалков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родился 12 марта 1913 года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        в Моск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4284720" y="2349360"/>
            <a:ext cx="1366920" cy="287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3780000" y="5300640"/>
            <a:ext cx="647640" cy="28908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8856720" y="5373720"/>
            <a:ext cx="28728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площадь трех вокзалов"/>
          <p:cNvPicPr/>
          <p:nvPr/>
        </p:nvPicPr>
        <p:blipFill>
          <a:blip r:embed="rId4"/>
          <a:stretch/>
        </p:blipFill>
        <p:spPr>
          <a:xfrm>
            <a:off x="4427640" y="4221000"/>
            <a:ext cx="4535280" cy="2455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6"/>
          <p:cNvSpPr/>
          <p:nvPr/>
        </p:nvSpPr>
        <p:spPr>
          <a:xfrm>
            <a:off x="3780000" y="5300640"/>
            <a:ext cx="64764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79280" y="479736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У него были два брата - Алексей и Михаи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фон 3"/>
          <p:cNvPicPr/>
          <p:nvPr/>
        </p:nvPicPr>
        <p:blipFill>
          <a:blip r:embed="rId1"/>
          <a:srcRect l="14485" t="0" r="0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250920" y="476280"/>
            <a:ext cx="55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Михалков вспоминает:“Детство моё прошло в подмосковном посёлке Жаворонк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4067280" y="242100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Коротая  вечера,  Сергей Владимирович выпускал домашний  жур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24000" y="4292640"/>
            <a:ext cx="77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Стихи Михалков начал писать рано, в 10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j0415446"/>
          <p:cNvPicPr/>
          <p:nvPr/>
        </p:nvPicPr>
        <p:blipFill>
          <a:blip r:embed="rId2"/>
          <a:stretch/>
        </p:blipFill>
        <p:spPr>
          <a:xfrm>
            <a:off x="5867280" y="189000"/>
            <a:ext cx="3025800" cy="190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j0415484"/>
          <p:cNvPicPr/>
          <p:nvPr/>
        </p:nvPicPr>
        <p:blipFill>
          <a:blip r:embed="rId3"/>
          <a:stretch/>
        </p:blipFill>
        <p:spPr>
          <a:xfrm>
            <a:off x="826920" y="2060640"/>
            <a:ext cx="2508480" cy="1846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6"/>
          <p:cNvSpPr/>
          <p:nvPr/>
        </p:nvSpPr>
        <p:spPr>
          <a:xfrm>
            <a:off x="324000" y="5157720"/>
            <a:ext cx="63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Впервые стих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были опубликованы, когда  автору  исполнилось  15 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7164360" y="5516640"/>
            <a:ext cx="1979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5" descr="j0290679"/>
          <p:cNvPicPr/>
          <p:nvPr/>
        </p:nvPicPr>
        <p:blipFill>
          <a:blip r:embed="rId4"/>
          <a:stretch/>
        </p:blipFill>
        <p:spPr>
          <a:xfrm>
            <a:off x="6804000" y="4869000"/>
            <a:ext cx="180036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фон 3"/>
          <p:cNvPicPr/>
          <p:nvPr/>
        </p:nvPicPr>
        <p:blipFill>
          <a:blip r:embed="rId1"/>
          <a:srcRect l="14485" t="0" r="0" b="0"/>
          <a:stretch/>
        </p:blipFill>
        <p:spPr>
          <a:xfrm>
            <a:off x="0" y="-17136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324000" y="189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1927 году  семья переезжает в Пятигорс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79280" y="765000"/>
            <a:ext cx="56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Когда Михалкову исполняется 17 лет, он отправился в Москву прокладывать свою литературную доро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7164360" y="3716280"/>
            <a:ext cx="1979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2"/>
          <a:stretch/>
        </p:blipFill>
        <p:spPr>
          <a:xfrm>
            <a:off x="6084720" y="692280"/>
            <a:ext cx="2568600" cy="33130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5"/>
          <p:cNvSpPr/>
          <p:nvPr/>
        </p:nvSpPr>
        <p:spPr>
          <a:xfrm>
            <a:off x="0" y="6021360"/>
            <a:ext cx="914400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3"/>
          <a:stretch/>
        </p:blipFill>
        <p:spPr>
          <a:xfrm>
            <a:off x="250920" y="2852640"/>
            <a:ext cx="3990960" cy="3456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1"/>
          <p:cNvSpPr/>
          <p:nvPr/>
        </p:nvSpPr>
        <p:spPr>
          <a:xfrm>
            <a:off x="4427640" y="4076640"/>
            <a:ext cx="4392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1935  году  опубликована 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поэма  "Дядя  Степа",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ставшая   любимым  произведением   для  многих поколений  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фон 3"/>
          <p:cNvPicPr/>
          <p:nvPr/>
        </p:nvPicPr>
        <p:blipFill>
          <a:blip r:embed="rId1"/>
          <a:srcRect l="14485" t="0" r="0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31760" y="333360"/>
            <a:ext cx="46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В годы войны  с 1941 года по  1945  год   служит военным корреспондентом  газеты "Во славу  Родины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4788000" y="115920"/>
            <a:ext cx="4176720" cy="267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j0232128"/>
          <p:cNvPicPr/>
          <p:nvPr/>
        </p:nvPicPr>
        <p:blipFill>
          <a:blip r:embed="rId3"/>
          <a:stretch/>
        </p:blipFill>
        <p:spPr>
          <a:xfrm>
            <a:off x="6084720" y="4292640"/>
            <a:ext cx="2664000" cy="2449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DIPLOMA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692360" y="2565360"/>
            <a:ext cx="3313080" cy="3890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9"/>
          <p:cNvSpPr/>
          <p:nvPr/>
        </p:nvSpPr>
        <p:spPr>
          <a:xfrm>
            <a:off x="324000" y="306864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Он написал много стихов для детей, пьес, басен, сказок, занимался переводом.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В 1967 году ему был вручен </a:t>
            </a:r>
            <a:r>
              <a:rPr b="1" lang="ru-RU" sz="2800" spc="-1" strike="noStrike" u="sng">
                <a:solidFill>
                  <a:srgbClr val="660066"/>
                </a:solidFill>
                <a:uFillTx/>
                <a:latin typeface="Times New Roman"/>
              </a:rPr>
              <a:t>орден Улыбки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как любимому поэту детворы многих стран мир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 rot="1436400">
            <a:off x="6077880" y="533844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ихалк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 rot="1256400">
            <a:off x="6179400" y="55278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резо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6424560" y="4970520"/>
            <a:ext cx="94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 что у вас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фон 3"/>
          <p:cNvPicPr/>
          <p:nvPr/>
        </p:nvPicPr>
        <p:blipFill>
          <a:blip r:embed="rId1"/>
          <a:srcRect l="14485" t="0" r="0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4643280" y="260280"/>
            <a:ext cx="4248360" cy="3149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179280" y="260280"/>
            <a:ext cx="446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12 марта 2003 года Сергею Владимировичу Михалкову исполнилось 90 лет. Автор «Дяди Степы», советских и российского гимнов ждал приезда президента в своей только что отремонтированной квартире вместе с женой Юлией Валериевной и сыновьями - Андроном и Никитой, известными кинорежиссер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5364000" y="3573360"/>
            <a:ext cx="2880000" cy="2006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4859280" y="55753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а сегодняшний день у С.В.Михалкова    2 сына, 10 внуков и 8 правну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фон 3"/>
          <p:cNvPicPr/>
          <p:nvPr/>
        </p:nvPicPr>
        <p:blipFill>
          <a:blip r:embed="rId1"/>
          <a:srcRect l="14485" t="0" r="0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476360" y="1159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В чём секрет его творческого долголетия?   Об этом он пишет в своём стихотворении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                           «Мой секр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3213000" cy="44658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3851280" y="1916280"/>
            <a:ext cx="51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Мне стоит лишь собрать багаж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долго ли собр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Бумагу, ручку, каранд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И общую тетр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И вот уже я в той Стра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Где я увидел с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И, как  ни странно, снова м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И пять, и десять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тетрадь"/>
          <p:cNvPicPr/>
          <p:nvPr/>
        </p:nvPicPr>
        <p:blipFill>
          <a:blip r:embed="rId3"/>
          <a:stretch/>
        </p:blipFill>
        <p:spPr>
          <a:xfrm>
            <a:off x="7524720" y="2421000"/>
            <a:ext cx="1368360" cy="1533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j0232452"/>
          <p:cNvPicPr/>
          <p:nvPr/>
        </p:nvPicPr>
        <p:blipFill>
          <a:blip r:embed="rId4"/>
          <a:stretch/>
        </p:blipFill>
        <p:spPr>
          <a:xfrm>
            <a:off x="7885080" y="4797360"/>
            <a:ext cx="98100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фон 3"/>
          <p:cNvPicPr/>
          <p:nvPr/>
        </p:nvPicPr>
        <p:blipFill>
          <a:blip r:embed="rId1"/>
          <a:srcRect l="14485" t="0" r="0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395280" y="33336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Сергея Михалкова стал вместе с Эль-Регистаном  автором Государственного гимна СССР. Слова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  нового гимна России тоже написал               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  Сергей  Владимирович  Михал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http://mp.urbannet.ru/STIL-MGO-SP/flag1.gif"/>
          <p:cNvPicPr/>
          <p:nvPr/>
        </p:nvPicPr>
        <p:blipFill>
          <a:blip r:embed="rId2"/>
          <a:stretch/>
        </p:blipFill>
        <p:spPr>
          <a:xfrm>
            <a:off x="468360" y="1413000"/>
            <a:ext cx="1028520" cy="685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http://mp.urbannet.ru/STIL-MGO-SP/r_eagl1m.gif"/>
          <p:cNvPicPr/>
          <p:nvPr/>
        </p:nvPicPr>
        <p:blipFill>
          <a:blip r:embed="rId3"/>
          <a:stretch/>
        </p:blipFill>
        <p:spPr>
          <a:xfrm>
            <a:off x="7740720" y="1197000"/>
            <a:ext cx="941400" cy="10285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250920" y="2637000"/>
            <a:ext cx="3960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оссия - священная наша держава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оссия - любимая наша стран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огучая воля, великая слава 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вое достоянье на все времен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лавься, Отечество наше свободное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ратских народов союз вековой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дками данная мудрость народная!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лавься, страна! Мы гордимся тоб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 южных морей до полярного кра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кинулись наши леса и поля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дна ты на свете! Одна ты такая 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ранимая Богом родная земл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643280" y="2637000"/>
            <a:ext cx="4176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лавься, Отечество наше свободное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ратских народов союз вековой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дками данная мудрость народная!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лавься, страна! Мы гордимся тоб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Широкий простор для мечты и для жизн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ядущие нам открывают год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м силу дает наша верность Отчизн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к было, так есть и так будет всегд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лавься, Отечество наше свободное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ратских народов союз вековой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дками данная мудрость народная!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лавься, страна! Мы гордимся тоб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http://mp.urbannet.ru/TVOR-P/mixal_sv/mix-avt.gif"/>
          <p:cNvPicPr/>
          <p:nvPr/>
        </p:nvPicPr>
        <p:blipFill>
          <a:blip r:embed="rId4"/>
          <a:stretch/>
        </p:blipFill>
        <p:spPr>
          <a:xfrm>
            <a:off x="3276720" y="6165720"/>
            <a:ext cx="200016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фон 3"/>
          <p:cNvPicPr/>
          <p:nvPr/>
        </p:nvPicPr>
        <p:blipFill>
          <a:blip r:embed="rId1"/>
          <a:srcRect l="14485" t="0" r="0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684360" y="189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Именем Сергея Владимировича Михалкова названа малая пла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mp.urbannet.ru/TVOR-P/mixal_sv/svid-mix-pl.jpg"/>
          <p:cNvPicPr/>
          <p:nvPr/>
        </p:nvPicPr>
        <p:blipFill>
          <a:blip r:embed="rId2"/>
          <a:stretch/>
        </p:blipFill>
        <p:spPr>
          <a:xfrm>
            <a:off x="2556000" y="1268280"/>
            <a:ext cx="38574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09:32:33Z</dcterms:created>
  <dc:creator>USER</dc:creator>
  <dc:description/>
  <dc:language>en-US</dc:language>
  <cp:lastModifiedBy>Ионас</cp:lastModifiedBy>
  <dcterms:modified xsi:type="dcterms:W3CDTF">2015-10-05T18:40:12Z</dcterms:modified>
  <cp:revision>6</cp:revision>
  <dc:subject/>
  <dc:title>Слайд 1</dc:title>
</cp:coreProperties>
</file>