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797-25FA-4098-9BF2-411126E679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C623-0FA4-4C22-B550-3D5194FE1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15E-CBA0-4878-BCD9-570B55253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61E-953F-485D-8A28-D270828FD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7DE-A689-4E7B-B1CE-A2758F17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71C-07B8-4DE6-86E2-E7EE462E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654-F9BD-4951-8806-422BA486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CA6-02A8-49F8-84E2-FF1E725B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02F-7961-4532-8A93-48674871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AC7-4AC6-4B71-85A2-01D9F48B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838-8C3F-40B1-895F-7FFB763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3102-8F85-46A8-AEA0-4C9509C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A6E6-56D0-4DFC-9BCE-5CD7F27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FEE1-BC97-4F28-9F52-B175FB0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985-55F4-46BB-A48F-A30BBD4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4AB-970B-4131-AB05-8FA76847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1699-7450-451F-841F-DD1B9A3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781-28A2-4FCE-9471-C45E91F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CF46-A5F5-451C-A468-277E3360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192-ED9E-4AFD-A632-5D340D56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65D-B0C4-4EC3-B0E8-3383E78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CC5-0287-40C4-8A0B-8C9666F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2BE-E97A-4490-9337-6CD5F3F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B06-8712-4BC3-A939-E330F48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7E0-38D0-4253-90D2-8604EF6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080-ABF2-4736-B2B7-44BA52C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CD3-23B9-46FF-BD7D-013D6D9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313-B7B6-45F9-980B-4FCD76F0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81AF-F846-41B1-B0D2-31C06E555F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E0D5-8187-4E23-9710-77DECEA50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 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живин Геор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1978200"/>
            <a:ext cx="6172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viktor</cp:lastModifiedBy>
  <dcterms:modified xsi:type="dcterms:W3CDTF">2019-02-13T11:32:05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