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9C8-C9EB-4D26-B865-4D3BF996CD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7F1-32E2-4179-99AF-6CE25484A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F19B-1FA5-43ED-A278-C6829EFF3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E07C-654B-414E-9283-3990BA47B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11D-36C6-4469-ADC3-42FC6169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147-1221-4979-83AA-7106FC7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FF4-CAFA-4D53-B0E1-5638D685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72D-D002-477B-81C7-6A885FC0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2F1F-F093-4B0D-92EE-07C69DE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C3A-281D-4E3A-836D-B80A18DC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CC4D-63CE-47E5-A44D-4A1C114E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8918-D4E6-451B-837C-741337EA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3C37-4F16-4161-8F41-E7C47BF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7FD7-1A92-4EA3-929E-765939E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D56-DB63-481B-96C9-ECC8C8F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17B-F2E4-4862-8E68-1E1E9507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C2CF-CE5E-42DC-8621-F73B78B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B92-37F6-4C01-99E8-325937B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1F32-BFFD-4959-A104-6D7164D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7AC8-ADAA-4577-9623-E9597BA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D35C-CDCA-485A-AD1C-0BC9AE48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6D6-9A95-4EA7-98D7-C270B83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7B3-6CEC-4920-9EF4-ADF0FD8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4DF-8C6C-49C8-9533-B84F047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517-97E7-4097-870A-32E6BBE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401-5AEA-4576-8382-0858348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3C9-BEC0-4C1D-A568-44ADEBE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04F-77B8-4E8D-9CC0-D1BA77E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9C41-C6E6-45B5-90FB-37FFEE7770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E5E-4E57-4E07-8173-B63F42F44C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 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Лицей № 16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живин Геор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1978200"/>
            <a:ext cx="6172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viktor</cp:lastModifiedBy>
  <dcterms:modified xsi:type="dcterms:W3CDTF">2019-02-13T11:32:05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