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gif" ContentType="image/gif"/>
  <Override PartName="/ppt/media/image1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9C4A-11DA-407B-95EA-80238F2A7C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3389-06EA-40E3-A142-68E28B19BF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41ED-3161-4700-945A-ADC901D019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EF88-AE48-418E-9D46-D0DD07058B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2955-A5AF-40CD-BE60-0EACA1AAA2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1A38-44E7-4063-8A74-762A9561BC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5351-4D4D-4FDC-809D-4C70013EB4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1BDA-FC43-470B-8706-BD594117CD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942-E1D4-4B84-A3F2-386BA8AF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185-5E23-441B-971E-FED5CCEF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A05-0AE7-4D7A-8F65-350B18A4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4C6-6F04-4665-8573-706D1D9F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5237-8446-433F-A26D-EFF0E94E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4848-C36B-4EA0-B786-C04B32F4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7BB8-E8A3-485D-9B84-EB251A8E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884F-D3C0-46BE-9953-F2BBA6BB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8895-849D-4630-8B35-0C6F189D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7FFC-D612-4AAA-AB97-33BC3926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D985-0468-48FA-8C45-17A06C63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D46-FCF6-4123-AFDB-FFC9E04A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BA15-7AB5-4EA1-A251-1985B5CC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7901-7261-4F3E-9B95-9FF277E2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4806-FE2B-4459-9B81-B823B1D3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5202-0062-466E-96A1-8DDC24CA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784C-30B6-4358-87FC-BBAB4AD4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31A79-99FD-4AAF-B9CE-A37ADBB4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0F4C1-D9DB-4F7A-AD41-0E3096AE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2AFED-4504-48C5-B7E6-E1AF2ABD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95C18-CB49-44B5-8C1C-9C857FD7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DCA5E-8251-4201-9B3C-A17C48C1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6AC-3103-48BB-8E26-83215DBA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DB8ED-286E-4F1E-8C33-E48009E4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17AF5-A964-4258-A635-DB3FB2BE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299B5-8CD7-4F2F-9777-DA9BC673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280A9-4381-4AF5-BFF7-E5675F9C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4BD98-5838-42BF-BBFE-382A7003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07B87-B9C1-4FA3-A04A-447DD6C4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10771-CA18-4367-A8BF-362CF3C2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5CCF5-0A6C-4C13-8481-E887187E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D2141-F4C7-4B2D-AD6D-EB5E1D3F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B703-B6AB-45F2-848B-3667B188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AEF-8CFE-4E98-A6A7-B8EB8CCE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0D23-6174-4F67-9154-F79E413E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5D11E-19F4-47BB-8DAB-9AFE6610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65042-CCAA-4B8F-B5A1-98726A7E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5EDAC-4619-4D50-817F-C57843F7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078FA-F831-407E-A9FD-F37FBE3C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12729-9DCB-436E-AC5D-BE13BAA9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52EBE-7F46-4248-BB06-CF10EACE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84B29-FFFB-46D4-B2DB-A0A307CB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B5B53-B0C7-404F-A570-BE0736BC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B6D43-E23C-4472-AD74-9044DDAA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52E-ACEC-4B66-83BE-E00CB28B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BF050-D505-45E0-A049-B60DDE72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C6085-0DA2-436B-885D-0EF6AF40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DD643-30E0-4779-877D-9472EF57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C5C0B-CC9C-410F-AD25-37A604BD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43E9F-BCC6-4F5B-9B25-38E6D6F4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CD30D-5590-4231-9334-564DB7F8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C751C-A1B2-4813-901C-8EC18639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7BC4D-9786-4F04-8693-4AD2E19E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9D78E-99CD-46E1-A71B-E6A9B647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8C0C1-EEF0-4D23-82B1-14E60408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103-DC35-47EF-8030-3EC3F6FA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448F9-C8F7-44DB-9C04-EF50DE2F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34778-2FDD-4137-BEA7-02094144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B1340-EF9C-4A36-B91C-CF790C7E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20B2D-A783-4DB6-BE15-0EB87ABB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7549A-9412-4AED-8C68-512C01CD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100DE-7409-45C5-BCB2-CBE116DE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0D575-7B7B-45DB-97F7-C6D4C6E7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D2CF7-D8C4-4956-925B-F2FF21D9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848C4-1AE6-4C7F-8ACE-67E20290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84E97-887F-475C-BE58-D38C4915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66F-022C-4572-ADD0-2E8CA691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15B30-254A-4058-80F6-108A4C7B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42973-FFB7-4905-8122-2B788050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54BB5-8183-4E76-9F64-FF7D3704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ABA78-CAB8-4B54-9E82-C4134EDD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3078F-B23D-416A-8485-5494BCE7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379B1-9697-44A0-A72F-14B0DD16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44470-42D0-486B-B431-E5C376DC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B1BFD-D842-4EC9-B20D-E9A315A1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75AC7-2379-4F64-AB55-07123851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D285D-F59B-4C48-990F-AF06CC7C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7FB-93AE-413D-A1F4-042AE0C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D0AD9-B2B9-4FE1-A0AD-83337BE2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40F78-7C41-43B4-A2DE-938C280B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B3250-32F5-4AFE-B068-730AA341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9F097-2D9B-499D-9AF3-47330487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4E077-1B34-4E03-B7E9-F9ECA57B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7DB-2BCF-4AEF-83D0-64ABF4EC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2AA6-800F-434D-9040-FF90EE4137B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8886-1B3F-4101-B8E1-3CC662A4E17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ED1A-BD1C-477D-B901-3798EE0D4A5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DBAE-2250-4027-9E89-F85AC385F3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3E8D-D2CC-4B62-B6A8-10DFF59BF17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32D0-0108-42CC-A1A6-16FD4922BE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2503-AACC-43C1-A534-93EE4A2BA3C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8000" y="1628280"/>
            <a:ext cx="72360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66"/>
                </a:solidFill>
                <a:latin typeface="Calibri Light"/>
              </a:rPr>
              <a:t>ОСНОВНАЯ ОБРАЗОВАТЕЛЬНАЯ ПРОГРАММА: ПРЕДСТАВЛЕНИЕ ОСНОВНЫХ РАЗДЕЛОВ ООП ООО, ПЛАНА МЕРОПРИЯТИЙ ПО ПОДГОТОВКЕ К ПЕРЕХОДУ НА НОВЫЙ ФГОС ООО. ПРОМЕЖУТОЧНЫЕ РЕЗУЛЬТАТЫ.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987640" y="4508640"/>
            <a:ext cx="5616720" cy="785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Носова Е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Заместитель директора МБОУ Лицея № 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2735280" y="1631520"/>
            <a:ext cx="640872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4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критерии выбора (анализа) УМ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 перечня, рекомендованного Минобрнауки Росс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соответсвие целям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сновной образовательной программы О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наличие ресурсов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ля реализации данной програм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преемственность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с программами начально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статус общеобразовательного учреждения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типа и вид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бразовательные потребности и запросы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собенности контингента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Symbol"/>
                <a:ea typeface="Symbol"/>
              </a:rPr>
              <a:t>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авторский замысел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педагог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2836440" y="394920"/>
            <a:ext cx="1569960" cy="444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&amp;Ucy;&amp;chcy;&amp;iecy;&amp;bcy;&amp;ncy;&amp;icy;&amp;kcy; &amp;Mcy;&amp;acy;&amp;tcy;&amp;iecy;&amp;mcy;&amp;acy;&amp;tcy;&amp;icy;&amp;kcy;&amp;acy;. 1 &amp;kcy;&amp;lcy;&amp;acy;&amp;scy;&amp;scy;. &amp;Ecy;&amp;lcy;&amp;iecy;&amp;kcy;&amp;tcy;&amp;rcy;&amp;ocy;&amp;ncy;&amp;ncy;&amp;ocy;&amp;iecy; &amp;pcy;&amp;rcy;&amp;icy;&amp;lcy;&amp;ocy;&amp;zhcy;&amp;iecy;&amp;ncy;&amp;icy;&amp;iecy; &amp;kcy; &amp;ucy;&amp;chcy;&amp;iecy;&amp;bcy;&amp;ncy;&amp;icy;&amp;kcy;&amp;ucy; &amp;Gcy;. &amp;Vcy;. &amp;Dcy;&amp;ocy;&amp;rcy;&amp;ocy;&amp;fcy;&amp;iecy;&amp;iecy;&amp;vcy;&amp;acy;, &amp;Tcy;. &amp;Ncy;. &amp;Mcy;&amp;icy;&amp;rcy;&amp;acy;&amp;kcy;&amp;ocy;&amp;vcy;&amp;ocy;&amp;jcy; (&amp;acy;&amp;ucy;&amp;dcy;&amp;icy;&amp;ocy;&amp;kcy;&amp;ucy;&amp;rcy;&amp;scy; &amp;ncy;&amp;acy; CD) - &amp;pcy;&amp;rcy;&amp;ocy;&amp;scy;&amp;vcy;&amp;iecy;&amp;shchcy;&amp;iecy;&amp;ncy;&amp;icy;&amp;iecy;"/>
          <p:cNvPicPr/>
          <p:nvPr/>
        </p:nvPicPr>
        <p:blipFill>
          <a:blip r:embed="rId2"/>
          <a:stretch/>
        </p:blipFill>
        <p:spPr>
          <a:xfrm>
            <a:off x="395280" y="3357720"/>
            <a:ext cx="2206800" cy="3311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&amp;Ucy;&amp;scy;&amp;pcy;&amp;iecy;&amp;khcy; &amp;Bcy;&amp;iecy;&amp;rcy;&amp;ucy; - Part 20"/>
          <p:cNvPicPr/>
          <p:nvPr/>
        </p:nvPicPr>
        <p:blipFill>
          <a:blip r:embed="rId3"/>
          <a:stretch/>
        </p:blipFill>
        <p:spPr>
          <a:xfrm>
            <a:off x="179280" y="907920"/>
            <a:ext cx="2494080" cy="1873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1828440" y="394920"/>
            <a:ext cx="1569960" cy="4446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"/>
          <p:cNvSpPr/>
          <p:nvPr/>
        </p:nvSpPr>
        <p:spPr>
          <a:xfrm>
            <a:off x="2614680" y="819720"/>
            <a:ext cx="6205320" cy="4786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Шаг 5. 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Выбрать (проанализировать) УМК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примерную общеобразовательную программу и соответствующий учебник) на основании выдвинутых критериев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объём необходимых  изменений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 примерную общеобразовательную про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http://www.xxlbook.ru/img456054.png"/>
          <p:cNvPicPr/>
          <p:nvPr/>
        </p:nvPicPr>
        <p:blipFill>
          <a:blip r:embed="rId2"/>
          <a:stretch/>
        </p:blipFill>
        <p:spPr>
          <a:xfrm>
            <a:off x="539640" y="3213000"/>
            <a:ext cx="2013120" cy="2808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ttp://www.sprinter.ru/pic/big/9a63ee8bad463484aa3c9bbc075a8fff.jpg"/>
          <p:cNvPicPr/>
          <p:nvPr/>
        </p:nvPicPr>
        <p:blipFill>
          <a:blip r:embed="rId3"/>
          <a:stretch/>
        </p:blipFill>
        <p:spPr>
          <a:xfrm>
            <a:off x="324000" y="549360"/>
            <a:ext cx="15588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460080" y="394920"/>
            <a:ext cx="1569960" cy="444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"/>
          <p:cNvSpPr/>
          <p:nvPr/>
        </p:nvSpPr>
        <p:spPr>
          <a:xfrm>
            <a:off x="1979640" y="555480"/>
            <a:ext cx="662472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6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Сформулировать цель рабочей программы.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ормулировка цели в рабочей программе возможна в виде формулировки ожидаемых результатов, что соответствует требованиям к ожидаемым результатам, зафиксированным во ФГОС О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Схема 9" descr=""/>
          <p:cNvPicPr/>
          <p:nvPr/>
        </p:nvPicPr>
        <p:blipFill>
          <a:blip r:embed="rId2"/>
          <a:stretch/>
        </p:blipFill>
        <p:spPr>
          <a:xfrm>
            <a:off x="-12600" y="2322360"/>
            <a:ext cx="6254640" cy="381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http://sales.alt700.com/attachments/Image/Cel-Uspeh.jpg?1389566622298"/>
          <p:cNvPicPr/>
          <p:nvPr/>
        </p:nvPicPr>
        <p:blipFill>
          <a:blip r:embed="rId3"/>
          <a:stretch/>
        </p:blipFill>
        <p:spPr>
          <a:xfrm>
            <a:off x="6227640" y="2997360"/>
            <a:ext cx="291636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2087640" y="129600"/>
            <a:ext cx="705636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7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Внести изменения в содержание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имерной общеобразовательной программы по выбранному курсу на основании требований к рабочей программе по предмету, ориентированной на проектное обучение,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а имен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​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1258920" y="260280"/>
            <a:ext cx="444600" cy="15699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4"/>
          <p:cNvSpPr/>
          <p:nvPr/>
        </p:nvSpPr>
        <p:spPr>
          <a:xfrm>
            <a:off x="2610000" y="1628640"/>
            <a:ext cx="653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Определить на основании возрастных особенностей школьников возможность использования разнообразных образовательных технологий и приёмов педагогической техники для решения основных целе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Учесть специфику проектно-дифференцированного обучения: направленность на формирование проектной компетентности, межпредметные связи, наличие внешних и внутренних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Объяснить связь курса с формированием умений проектной деятельности, необходимость выделения проектных модулей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6" descr="24 &amp;Acy;&amp;vcy;&amp;gcy;&amp;ucy;&amp;scy;&amp;tcy; 2012 &amp;Pcy;&amp;ucy;&amp;tcy;&amp;softcy; &amp;kcy; &amp;ucy;&amp;scy;&amp;pcy;&amp;iecy;&amp;khcy;&amp;ucy;"/>
          <p:cNvPicPr/>
          <p:nvPr/>
        </p:nvPicPr>
        <p:blipFill>
          <a:blip r:embed="rId2"/>
          <a:stretch/>
        </p:blipFill>
        <p:spPr>
          <a:xfrm>
            <a:off x="2484360" y="5157720"/>
            <a:ext cx="5832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971640" y="408960"/>
            <a:ext cx="77770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8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общие способы (методы) оценки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остигнутых предметных, метапредметных и личностных результатов. Определить необходимость практических, самостоятельных и контрольных работ для оценки достигнутых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324000" y="0"/>
            <a:ext cx="444240" cy="156996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4"/>
          <p:cNvSpPr/>
          <p:nvPr/>
        </p:nvSpPr>
        <p:spPr>
          <a:xfrm>
            <a:off x="2484360" y="1916280"/>
            <a:ext cx="624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Текущая оценка сформированности проектных компетенций школьников может проходи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в процессе промежуточной рефлексии того метапредметного действия, на формирование которого был направлен ур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2) в процессе реализации практических рабо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3) в процессе реализации межпредметных проектных моду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&amp;Ocy;&amp;pcy;&amp;iecy;&amp;rcy;&amp;acy;&amp;tcy;&amp;icy;&amp;vcy;&amp;ncy;&amp;ycy;&amp;iecy; &amp;ocy;&amp;bcy;&amp;hardcy;&amp;vcy;&amp;lcy;&amp;iecy;&amp;ncy;&amp;icy;&amp;yacy; - &amp;Ncy;&amp;ocy;&amp;vcy;&amp;ocy;&amp;scy;&amp;tcy;&amp;icy; - &amp;Mcy;&amp;Ocy;&amp;Bcy;&amp;Ucy; &quot;&amp;Scy;&amp;Ocy;&amp;SHcy; 5&quot; &amp;gcy;. &amp;Ocy;&amp;rcy;&amp;iecy;&amp;ncy;&amp;bcy;&amp;ucy;&amp;rcy;&amp;gcy;&amp;acy;"/>
          <p:cNvPicPr/>
          <p:nvPr/>
        </p:nvPicPr>
        <p:blipFill>
          <a:blip r:embed="rId2"/>
          <a:stretch/>
        </p:blipFill>
        <p:spPr>
          <a:xfrm>
            <a:off x="324000" y="2133720"/>
            <a:ext cx="2009520" cy="334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&amp;Vcy; &amp;Rcy;&amp;ocy;&amp;scy;&amp;scy;&amp;icy;&amp;icy; &amp;scy;&amp;ocy;&amp;scy;&amp;tcy;&amp;acy;&amp;vcy;&amp;yacy;&amp;tcy; &amp;rcy;&amp;iecy;&amp;jcy;&amp;tcy;&amp;icy;&amp;ncy;&amp;gcy; &amp;scy;&amp;ocy;&amp;tscy;&amp;icy;&amp;acy;&amp;lcy;&amp;softcy;&amp;ncy;&amp;ycy;&amp;khcy; &amp;ucy;&amp;chcy;&amp;rcy;&amp;iecy;&amp;zhcy;&amp;dcy;&amp;iecy;&amp;ncy;&amp;icy;&amp;jcy; - NewsProm.Ru"/>
          <p:cNvPicPr/>
          <p:nvPr/>
        </p:nvPicPr>
        <p:blipFill>
          <a:blip r:embed="rId3"/>
          <a:stretch/>
        </p:blipFill>
        <p:spPr>
          <a:xfrm>
            <a:off x="3276720" y="4365720"/>
            <a:ext cx="29509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"/>
          <p:cNvSpPr/>
          <p:nvPr/>
        </p:nvSpPr>
        <p:spPr>
          <a:xfrm>
            <a:off x="1835280" y="848160"/>
            <a:ext cx="7127640" cy="256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9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те разделы и темы в содержании курса, в рамках изучения которых возможна реализации проектного мод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пределить цели и ожидаемые результаты проектных моду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пределить часы, отведенные на изучение данного раздела /темы таким образом, чтобы школьники освоили полный цикл проек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1258920" y="189000"/>
            <a:ext cx="444600" cy="1569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&amp;Ncy;&amp;ocy;&amp;vcy;&amp;ocy;&amp;scy;&amp;tcy;&amp;icy; &amp;Acy;&amp;rcy;&amp;khcy;&amp;icy;&amp;tcy;&amp;iecy;&amp;kcy;&amp;tcy;&amp;ucy;&amp;rcy;&amp;acy; &amp;icy; &amp;scy;&amp;tcy;&amp;rcy;&amp;ocy;&amp;icy;&amp;tcy;&amp;iecy;&amp;lcy;&amp;softcy;&amp;scy;&amp;tcy;&amp;vcy;&amp;ocy;"/>
          <p:cNvPicPr/>
          <p:nvPr/>
        </p:nvPicPr>
        <p:blipFill>
          <a:blip r:embed="rId2"/>
          <a:stretch/>
        </p:blipFill>
        <p:spPr>
          <a:xfrm>
            <a:off x="3419640" y="378936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306360" y="1921320"/>
            <a:ext cx="856944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10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Заполнить «сетку» тематического 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611280" y="404640"/>
            <a:ext cx="444240" cy="1570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&amp;Ncy;&amp;ocy;&amp;vcy;&amp;ocy;&amp;scy;&amp;tcy;&amp;icy; &amp;Acy;&amp;rcy;&amp;khcy;&amp;icy;&amp;tcy;&amp;iecy;&amp;kcy;&amp;tcy;&amp;ucy;&amp;rcy;&amp;acy; &amp;icy; &amp;scy;&amp;tcy;&amp;rcy;&amp;ocy;&amp;icy;&amp;tcy;&amp;iecy;&amp;lcy;&amp;softcy;&amp;scy;&amp;tcy;&amp;vcy;&amp;ocy;"/>
          <p:cNvPicPr/>
          <p:nvPr/>
        </p:nvPicPr>
        <p:blipFill>
          <a:blip r:embed="rId2"/>
          <a:stretch/>
        </p:blipFill>
        <p:spPr>
          <a:xfrm>
            <a:off x="6372360" y="5373720"/>
            <a:ext cx="172872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828720" y="3429000"/>
          <a:ext cx="6570720" cy="853920"/>
        </p:xfrm>
        <a:graphic>
          <a:graphicData uri="http://schemas.openxmlformats.org/drawingml/2006/table">
            <a:tbl>
              <a:tblPr/>
              <a:tblGrid>
                <a:gridCol w="644400"/>
                <a:gridCol w="1185840"/>
                <a:gridCol w="1042920"/>
                <a:gridCol w="1047960"/>
                <a:gridCol w="264960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о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(фа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основных видов деятельности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здела, количест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40288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312840" y="1583640"/>
            <a:ext cx="8604000" cy="3598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11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Разработать и включить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в рабочую программу в качестве приложений дидактические задания практических работ, соответствующие образовательным целям и продуктам деятельности ученика на ур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- Определить алгоритм действий во время практически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- Использовать выработанные правила сотрудничества при проведении практически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оставить «задания- маркеры» по оцениванию познавательных, регулятивных и коммуникативных универсальных учебных действий, по возможности включить их в состав практически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9" descr="C:\Users\апа\Desktop\КЛИПАРТЫ\Клипарты Горбушка\Символы\PTRAK005_.bmp"/>
          <p:cNvPicPr/>
          <p:nvPr/>
        </p:nvPicPr>
        <p:blipFill>
          <a:blip r:embed="rId1"/>
          <a:srcRect l="0" t="0" r="78851" b="26573"/>
          <a:stretch/>
        </p:blipFill>
        <p:spPr>
          <a:xfrm>
            <a:off x="108000" y="0"/>
            <a:ext cx="444600" cy="1569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Reflector Telescopes On Sale Reflecting Telescope Chase The Vortex"/>
          <p:cNvPicPr/>
          <p:nvPr/>
        </p:nvPicPr>
        <p:blipFill>
          <a:blip r:embed="rId2"/>
          <a:stretch/>
        </p:blipFill>
        <p:spPr>
          <a:xfrm>
            <a:off x="5651640" y="4941720"/>
            <a:ext cx="22478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&amp;kcy;&amp;rcy;&amp;acy;&amp;scy;&amp;ncy;&amp;ycy;&amp;jcy; - &amp;zcy;&amp;ncy;&amp;acy;&amp;kcy; - &amp;vcy;&amp;ocy;&amp;pcy;&amp;rcy;&amp;ocy;&amp;scy;&amp;iecy; - &amp;kcy;&amp;rcy;&amp;ycy;&amp;shcy;&amp;icy; - &amp;bcy;&amp;icy;&amp;zcy;&amp;ncy;&amp;iecy;&amp;scy;&amp;acy; - &amp;scy;&amp;iecy;&amp;mcy;&amp;softcy;&amp;icy; - &amp;Scy;&amp;tcy;&amp;ocy;&amp;kcy;-&amp;fcy;&amp;ocy;&amp;tcy;&amp;ocy; Mikhail Aksenko (Ciklamen) (#1861720) Stockfresh"/>
          <p:cNvPicPr/>
          <p:nvPr/>
        </p:nvPicPr>
        <p:blipFill>
          <a:blip r:embed="rId1"/>
          <a:stretch/>
        </p:blipFill>
        <p:spPr>
          <a:xfrm>
            <a:off x="1619280" y="549360"/>
            <a:ext cx="5977080" cy="59752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4"/>
          <p:cNvSpPr/>
          <p:nvPr/>
        </p:nvSpPr>
        <p:spPr>
          <a:xfrm>
            <a:off x="262728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Творческих успехов и эффективной работы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" descr="F:\анимашки2\112[1].gif"/>
          <p:cNvPicPr/>
          <p:nvPr/>
        </p:nvPicPr>
        <p:blipFill>
          <a:blip r:embed="rId2"/>
          <a:stretch/>
        </p:blipFill>
        <p:spPr>
          <a:xfrm>
            <a:off x="179280" y="5300640"/>
            <a:ext cx="1079640" cy="1332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Filipok\Desktop\4385692-11d69fd026f9c278.gif"/>
          <p:cNvPicPr/>
          <p:nvPr/>
        </p:nvPicPr>
        <p:blipFill>
          <a:blip r:embed="rId3"/>
          <a:stretch/>
        </p:blipFill>
        <p:spPr>
          <a:xfrm>
            <a:off x="7667640" y="0"/>
            <a:ext cx="1166760" cy="1201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http://www.dkvartal.ru/system/images/news/000/423/029_x_large_origin_copyright.jpg?1369805826"/>
          <p:cNvPicPr/>
          <p:nvPr/>
        </p:nvPicPr>
        <p:blipFill>
          <a:blip r:embed="rId4"/>
          <a:stretch/>
        </p:blipFill>
        <p:spPr>
          <a:xfrm>
            <a:off x="3059280" y="3789360"/>
            <a:ext cx="327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991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НОРМАТИВНО – ПРАВОВОЕ ОБЕСПЕЧЕНИЕ ФГОС ООО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280"/>
            <a:ext cx="7467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ОРФ от 17.12.2010 г. № 1897 «Об утверждении федерального государственного образовательного стандарта основного общего образования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мерная основная образовательная программа образовательного учреждения (находится на стадии разработки)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ОНО от 17.02.2015 г. № 316-01-100-468/15 «О направлении методических рекомендаций по реализации ФГОС ООО в 5 классах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Методическое письмо ГБОУ ДПО НИРО о реализации в 5 классах ФГОС ООО по предметным областям и учебным предметам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лан мероприятий по обеспечению внедрения федерального государственного образовательного стандарта  (ФГОС) в общеобразовательных учреждениях Автозаводского района г. Нижнего Новгорода на 2014-2015 учебный год от 12.09.2014 № 1945/2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БОУ Лицея № 165 от 05.11.2014 № 842 «Об утверждении Плана мероприятий по внедрению ФГОС ООО в МБОУ Лицее № 165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БОУ Лицея № 165 от 02.02.2015 № 155 «Об утверждении Положения о рабочей группе по введению ФГОС ООО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риказ МБОУ Лицея № 165 от 02.02.2015 № 156 «Об утверждении состава рабочей группы по введению ФГОС ООО, разработке ООП ООО»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оложение о рабочей программе МБОУ Лицея № 165 имени 65-летия «ГАЗ», утв приказом от 29.08.2014 г. № 544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Schoolbook"/>
              </a:rPr>
              <a:t>Основная образовательная программа основного общего образования МБОУ Лицея № 165 имени 65-летия «ГАЗ» (в процессе разработки)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10920" y="404280"/>
            <a:ext cx="7467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труктура основной образовательной программы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@Arial Unicode MS"/>
              </a:rPr>
              <a:t>1. Целевой разде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@Arial Unicode MS"/>
              </a:rPr>
              <a:t>1.1. Пояснительная запис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@Arial Unicode MS"/>
              </a:rPr>
              <a:t>1.2. Планируемые результаты освоения обучающимися основной образовательной программы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3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оценки достижения планируемых результатов освоения основной образовательной программы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тельный разде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1. Программа развития универсальных учебных действий на ступени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граммы отдельных учебных предметов, кур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3. Программа воспитания и социализации обучающихс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4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коррекционной работы 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онный разде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1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мерный учебный план 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2. Система условий реализации основной образовательной программ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Приложения (рабочие программы учебных предметов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МЕРНЫЙ УЧЕБНЫЙ ПЛАН 5 КЛАСС ФГОС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0000" y="692280"/>
          <a:ext cx="7201080" cy="5695920"/>
        </p:xfrm>
        <a:graphic>
          <a:graphicData uri="http://schemas.openxmlformats.org/drawingml/2006/table">
            <a:tbl>
              <a:tblPr/>
              <a:tblGrid>
                <a:gridCol w="3157560"/>
                <a:gridCol w="1595520"/>
                <a:gridCol w="1368360"/>
                <a:gridCol w="1079640"/>
              </a:tblGrid>
              <a:tr h="43452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ные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предметы/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часов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ы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н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rowSpan="3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ий язы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 и 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о научные 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общая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ественно - научные 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ус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основы безопасности жизне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, формируемая участниками образовательных отно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матика и инфор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енно - научные 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 допустимая недельная нагрузка (пятидневная учебная неде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2556000" y="1413000"/>
            <a:ext cx="59767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75c01"/>
                </a:solidFill>
                <a:uFillTx/>
                <a:latin typeface="Calibri Light"/>
                <a:ea typeface="Times New Roman"/>
              </a:rPr>
              <a:t>Рабочая программа по предмету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локальным 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(созданным для определенного образовательного учреждения) и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индивидуальным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 (разработанным учителем для своей деятельности)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документом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нормативно-управленческим документом 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образовательного учреждения, характеризующим систему организации образовательной деятельности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- индивидуальным инструментом педагога</a:t>
            </a:r>
            <a:r>
              <a:rPr b="0" lang="ru-RU" sz="1800" spc="-1" strike="noStrike">
                <a:solidFill>
                  <a:srgbClr val="660066"/>
                </a:solidFill>
                <a:latin typeface="Calibri Light"/>
                <a:ea typeface="Times New Roman"/>
              </a:rPr>
              <a:t>, в котором он определяет наиболее оптимальные и эффективные для определенного класса содержание, формы, методы и приемы организации образовательного процесса с целью получения результата, соответствующего требованиям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&amp;Kcy;&amp;acy;&amp;kcy; &amp;ncy;&amp;iecy; &amp;vcy;&amp;ycy;&amp;gcy;&amp;lcy;&amp;yacy;&amp;dcy;&amp;iecy;&amp;tcy;&amp;softcy; &amp;ncy;&amp;iecy;&amp;rcy;&amp;vcy;&amp;ncy;&amp;ycy;&amp;mcy;(&amp;ocy;&amp;jcy;)"/>
          <p:cNvPicPr/>
          <p:nvPr/>
        </p:nvPicPr>
        <p:blipFill>
          <a:blip r:embed="rId1"/>
          <a:stretch/>
        </p:blipFill>
        <p:spPr>
          <a:xfrm>
            <a:off x="324000" y="0"/>
            <a:ext cx="21715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Овал 3"/>
          <p:cNvSpPr/>
          <p:nvPr/>
        </p:nvSpPr>
        <p:spPr>
          <a:xfrm>
            <a:off x="1476360" y="549360"/>
            <a:ext cx="2158920" cy="143964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ФГОС 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5"/>
          <p:cNvSpPr/>
          <p:nvPr/>
        </p:nvSpPr>
        <p:spPr>
          <a:xfrm>
            <a:off x="5364000" y="692280"/>
            <a:ext cx="2016360" cy="1224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Schoolbook"/>
              </a:rPr>
              <a:t>ООП ООО лицея (учебный пл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6"/>
          <p:cNvSpPr/>
          <p:nvPr/>
        </p:nvSpPr>
        <p:spPr>
          <a:xfrm>
            <a:off x="3363840" y="1773360"/>
            <a:ext cx="2160720" cy="1224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Schoolbook"/>
              </a:rPr>
              <a:t>УМК (базовая программа,учебн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7"/>
          <p:cNvSpPr/>
          <p:nvPr/>
        </p:nvSpPr>
        <p:spPr>
          <a:xfrm>
            <a:off x="684360" y="4653000"/>
            <a:ext cx="2232000" cy="18003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Алгоритм разработки рабочей программ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Управляющая кнопка: справка 8"/>
          <p:cNvSpPr/>
          <p:nvPr/>
        </p:nvSpPr>
        <p:spPr>
          <a:xfrm rot="1812000">
            <a:off x="2847600" y="3108240"/>
            <a:ext cx="503280" cy="1295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1295640"/>
              <a:gd name="textAreaBottom" fmla="*/ 1263240 h 1295640"/>
            </a:gdLst>
            <a:ahLst/>
            <a:rect l="textAreaLeft" t="textAreaTop" r="textAreaRight" b="textAreaBottom"/>
            <a:pathLst>
              <a:path w="21600" h="55583">
                <a:moveTo>
                  <a:pt x="0" y="0"/>
                </a:moveTo>
                <a:lnTo>
                  <a:pt x="21600" y="0"/>
                </a:lnTo>
                <a:lnTo>
                  <a:pt x="21600" y="55583"/>
                </a:lnTo>
                <a:lnTo>
                  <a:pt x="0" y="55583"/>
                </a:lnTo>
                <a:close/>
              </a:path>
              <a:path fill="lightenLess" w="21600" h="55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5583">
                <a:moveTo>
                  <a:pt x="21600" y="0"/>
                </a:moveTo>
                <a:lnTo>
                  <a:pt x="21600" y="55583"/>
                </a:lnTo>
                <a:lnTo>
                  <a:pt x="20200" y="54183"/>
                </a:lnTo>
                <a:lnTo>
                  <a:pt x="20200" y="1400"/>
                </a:lnTo>
                <a:close/>
              </a:path>
              <a:path fill="darkenLess" w="21600" h="55583">
                <a:moveTo>
                  <a:pt x="21600" y="55583"/>
                </a:moveTo>
                <a:lnTo>
                  <a:pt x="0" y="55583"/>
                </a:lnTo>
                <a:lnTo>
                  <a:pt x="1400" y="54183"/>
                </a:lnTo>
                <a:lnTo>
                  <a:pt x="20200" y="54183"/>
                </a:lnTo>
                <a:close/>
              </a:path>
              <a:path fill="lighten" w="21600" h="55583">
                <a:moveTo>
                  <a:pt x="0" y="55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54183"/>
                </a:lnTo>
                <a:close/>
              </a:path>
              <a:path fill="darken" w="21600" h="55583">
                <a:moveTo>
                  <a:pt x="10800" y="3179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55583">
                <a:moveTo>
                  <a:pt x="11905" y="31273"/>
                </a:moveTo>
                <a:lnTo>
                  <a:pt x="11905" y="29314"/>
                </a:lnTo>
                <a:cubicBezTo>
                  <a:pt x="11905" y="28488"/>
                  <a:pt x="12236" y="27791"/>
                  <a:pt x="12837" y="27791"/>
                </a:cubicBezTo>
                <a:cubicBezTo>
                  <a:pt x="13968" y="27791"/>
                  <a:pt x="14865" y="26425"/>
                  <a:pt x="14865" y="24841"/>
                </a:cubicBezTo>
                <a:cubicBezTo>
                  <a:pt x="14865" y="22526"/>
                  <a:pt x="13011" y="20785"/>
                  <a:pt x="10800" y="20785"/>
                </a:cubicBezTo>
                <a:cubicBezTo>
                  <a:pt x="8589" y="20785"/>
                  <a:pt x="6918" y="22526"/>
                  <a:pt x="6918" y="24841"/>
                </a:cubicBezTo>
                <a:lnTo>
                  <a:pt x="8772" y="24841"/>
                </a:lnTo>
                <a:cubicBezTo>
                  <a:pt x="8772" y="23701"/>
                  <a:pt x="9695" y="22813"/>
                  <a:pt x="10800" y="22813"/>
                </a:cubicBezTo>
                <a:cubicBezTo>
                  <a:pt x="11905" y="22813"/>
                  <a:pt x="12837" y="23701"/>
                  <a:pt x="12837" y="24841"/>
                </a:cubicBezTo>
                <a:cubicBezTo>
                  <a:pt x="12837" y="25581"/>
                  <a:pt x="12367" y="26312"/>
                  <a:pt x="11905" y="26312"/>
                </a:cubicBezTo>
                <a:cubicBezTo>
                  <a:pt x="10800" y="26312"/>
                  <a:pt x="9695" y="27791"/>
                  <a:pt x="9695" y="29314"/>
                </a:cubicBezTo>
                <a:lnTo>
                  <a:pt x="9695" y="31273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ый треугольник 9"/>
          <p:cNvSpPr/>
          <p:nvPr/>
        </p:nvSpPr>
        <p:spPr>
          <a:xfrm rot="20877000">
            <a:off x="2352600" y="3730320"/>
            <a:ext cx="914400" cy="914400"/>
          </a:xfrm>
          <a:prstGeom prst="rtTriangl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Seo seo &amp;vcy;&amp;ocy;&amp;pcy;&amp;rcy;&amp;ocy;&amp;scy;&amp;ycy; &amp;icy; - &amp;Pcy;&amp;acy;&amp;ncy;&amp;iecy;&amp;lcy;&amp;softcy; &amp;bcy;&amp;ycy;&amp;scy;&amp;tcy;&amp;rcy;&amp;ocy;&amp;gcy;&amp;ocy; &amp;pcy;&amp;ocy;&amp;icy;&amp;scy;&amp;kcy;&amp;acy;"/>
          <p:cNvPicPr/>
          <p:nvPr/>
        </p:nvPicPr>
        <p:blipFill>
          <a:blip r:embed="rId1"/>
          <a:stretch/>
        </p:blipFill>
        <p:spPr>
          <a:xfrm>
            <a:off x="3635280" y="3002040"/>
            <a:ext cx="55087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1956960" y="559080"/>
            <a:ext cx="586980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75c01"/>
                </a:solidFill>
                <a:latin typeface="Calibri"/>
                <a:ea typeface="Times New Roman"/>
              </a:rPr>
              <a:t>Алгоритм разработки рабочей программы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315720" y="510840"/>
            <a:ext cx="1569960" cy="4446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"/>
          <p:cNvSpPr/>
          <p:nvPr/>
        </p:nvSpPr>
        <p:spPr>
          <a:xfrm>
            <a:off x="1692360" y="1486800"/>
            <a:ext cx="712944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г 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Изучить требования к рабочим программам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определить структуру будущей рабоче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Положение о рабочей программе МБОУ Лицея № 1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24000" y="2611440"/>
            <a:ext cx="8640720" cy="375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. ориентацию в ц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. психолого-педагогическое обоснование специфики восприятия и освоения проектной деятельности обучающимися данного возраста с описанием возможностей дифференци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. описание проектных компетенций (в категории знает, понимает, умеет, владеет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. описание способов формирования выделенных  компетенций: подходы, технологии, методы и средства обучения, формы организации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5. описание системы оценки метапредметных результатов и результатов проектной деятельности, в т.ч. характеристика КИ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6. календарно-тематическое план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&amp;Zcy;&amp;dcy;&amp;ocy;&amp;rcy;&amp;ocy;&amp;vcy;&amp;softcy;&amp;iecy;. &amp;Zcy;&amp;acy;&amp;pcy;&amp;icy;&amp;scy;&amp;icy; &amp;vcy; &amp;rcy;&amp;ucy;&amp;bcy;&amp;rcy;&amp;icy;&amp;kcy;&amp;iecy; &amp;Zcy;&amp;dcy;&amp;ocy;&amp;rcy;&amp;ocy;&amp;vcy;&amp;softcy;&amp;iecy;. &amp;Dcy;&amp;ncy;&amp;iecy;&amp;vcy;&amp;ncy;&amp;icy;&amp;kcy; candra63 :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2"/>
          <a:stretch/>
        </p:blipFill>
        <p:spPr>
          <a:xfrm>
            <a:off x="7934400" y="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&amp;Kcy;&amp;Ocy;&amp;Ncy;&amp;Kcy;&amp;Ucy;&amp;Rcy;&amp;Scy; &amp;Mcy;&amp;Icy;&amp;Ncy;&amp;Icy;&amp;Gcy;&amp;Rcy;&amp;Acy;&amp;Ncy;&amp;Tcy;&amp;Ocy;&amp;Vcy; &amp;Ncy;&amp;Acy; &amp;Pcy;&amp;Rcy;&amp;Ocy;&amp;Vcy;&amp;IEcy;&amp;Dcy;&amp;IEcy;&amp;Ncy;&amp;Icy;&amp;IEcy; &amp;Kcy;&amp;Acy;&amp;Mcy;&amp;Pcy;&amp;Acy;&amp;Ncy;&amp;Icy;&amp;Jcy; &amp;Vcy; &amp;Zcy;&amp;Acy;&amp;SHCHcy;&amp;Icy;&amp;Tcy;&amp;Ucy; &amp;Pcy;&amp;Rcy;&amp;Acy;&amp;Vcy; &amp;CHcy;&amp;IEcy;&amp;Lcy;&amp;Ocy;&amp;Vcy;&amp;IEcy;&amp;Kcy;&amp;Acy; &amp;Icy; &amp;Ocy;&amp;Bcy;&amp;SHCHcy;&amp;IEcy;&amp;Scy;&amp;Tcy;&amp;Vcy;&amp;IEcy;&amp;Ncy;&amp;Ncy;&amp;Ycy;&amp;KHcy; &amp;Icy;&amp;Ncy;&amp;Tcy;&amp;IEcy;&amp;Rcy;&amp;IEcy;&amp;Scy;&amp;Ocy;&amp;Vcy; &amp;Ocy;&amp;Tcy; PEOPLE IN NEED all-ukrainian educa"/>
          <p:cNvPicPr/>
          <p:nvPr/>
        </p:nvPicPr>
        <p:blipFill>
          <a:blip r:embed="rId3"/>
          <a:stretch/>
        </p:blipFill>
        <p:spPr>
          <a:xfrm>
            <a:off x="250920" y="1197000"/>
            <a:ext cx="12967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3"/>
          <p:cNvSpPr/>
          <p:nvPr/>
        </p:nvSpPr>
        <p:spPr>
          <a:xfrm>
            <a:off x="539640" y="992160"/>
            <a:ext cx="784872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  <a:ea typeface="Arial"/>
              </a:rPr>
              <a:t>Шаг 2. </a:t>
            </a: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Изучить требования к ожидаемым образовательным результатам,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  <a:ea typeface="Arial"/>
              </a:rPr>
              <a:t> зафиксированных в Федеральном государственном образовательном стандарте основного общего образования и целях основной образовательной программы основного общего образования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9" descr="C:\Users\апа\Desktop\КЛИПАРТЫ\Клипарты Горбушка\Символы\PTRAK005_.bmp"/>
          <p:cNvPicPr/>
          <p:nvPr/>
        </p:nvPicPr>
        <p:blipFill>
          <a:blip r:embed="rId1"/>
          <a:srcRect l="26569" t="0" r="0" b="78839"/>
          <a:stretch/>
        </p:blipFill>
        <p:spPr>
          <a:xfrm rot="19596000">
            <a:off x="-7920" y="151920"/>
            <a:ext cx="1569960" cy="444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&amp;Fcy;&amp;Gcy;&amp;Ocy;&amp;Scy; &amp;Ocy;&amp;Ocy;&amp;Ocy;"/>
          <p:cNvPicPr/>
          <p:nvPr/>
        </p:nvPicPr>
        <p:blipFill>
          <a:blip r:embed="rId2"/>
          <a:stretch/>
        </p:blipFill>
        <p:spPr>
          <a:xfrm>
            <a:off x="4238640" y="3284640"/>
            <a:ext cx="4321080" cy="17510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&amp;Scy;&amp;acy;&amp;jcy;&amp;tcy;-&amp;pcy;&amp;ocy;&amp;rcy;&amp;tcy;&amp;fcy;&amp;ocy;&amp;lcy;&amp;icy;&amp;ocy; &amp;Gcy;&amp;ocy;&amp;rcy;&amp;bcy;&amp;iecy;&amp;ncy;&amp;kcy;&amp;ocy; &amp;Scy;.&amp;Vcy;. - &amp;Icy;&amp;scy;&amp;scy;&amp;lcy;&amp;iecy;&amp;dcy;&amp;ocy;&amp;vcy;&amp;acy;&amp;tcy;&amp;iecy;&amp;lcy;&amp;softcy;&amp;scy;&amp;kcy;&amp;acy;&amp;yacy; &amp;dcy;&amp;iecy;&amp;yacy;&amp;tcy;&amp;iecy;&amp;lcy;&amp;softcy;&amp;ncy;&amp;ocy;&amp;scy;&amp;tcy;&amp;softcy; &amp;mcy;&amp;lcy;&amp;acy;&amp;dcy;&amp;shcy;&amp;icy;&amp;khcy; &amp;shcy;&amp;kcy;&amp;ocy;&amp;lcy;&amp;softcy;&amp;ncy;&amp;icy;&amp;kcy;&amp;ocy;&amp;vcy;"/>
          <p:cNvPicPr/>
          <p:nvPr/>
        </p:nvPicPr>
        <p:blipFill>
          <a:blip r:embed="rId3"/>
          <a:stretch/>
        </p:blipFill>
        <p:spPr>
          <a:xfrm>
            <a:off x="971640" y="3529080"/>
            <a:ext cx="22874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1619280" y="488160"/>
            <a:ext cx="705636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85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Шаг 3 .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 Unicode MS"/>
              </a:rPr>
              <a:t>На основании требований ФГОС ООО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  <a:ea typeface="Arial Unicode MS"/>
              </a:rPr>
              <a:t>определить ожидаемые метапредметные и личностные результаты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 Unicode MS"/>
              </a:rPr>
              <a:t>, успешное освоение которых может обеспечить конкретная предметная обл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Схема 4" descr=""/>
          <p:cNvPicPr/>
          <p:nvPr/>
        </p:nvPicPr>
        <p:blipFill>
          <a:blip r:embed="rId1"/>
          <a:stretch/>
        </p:blipFill>
        <p:spPr>
          <a:xfrm>
            <a:off x="2835360" y="1816200"/>
            <a:ext cx="6119640" cy="41083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9" descr="C:\Users\апа\Desktop\КЛИПАРТЫ\Клипарты Горбушка\Символы\PTRAK005_.bmp"/>
          <p:cNvPicPr/>
          <p:nvPr/>
        </p:nvPicPr>
        <p:blipFill>
          <a:blip r:embed="rId2"/>
          <a:srcRect l="26569" t="0" r="0" b="78839"/>
          <a:stretch/>
        </p:blipFill>
        <p:spPr>
          <a:xfrm rot="19596000">
            <a:off x="244080" y="394920"/>
            <a:ext cx="1569960" cy="44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&amp;Scy;&amp;ocy;&amp;zcy;&amp;dcy;&amp;acy;&amp;ncy;&amp;icy;&amp;iecy; &amp;icy; &amp;pcy;&amp;rcy;&amp;ocy;&amp;dcy;&amp;vcy;&amp;icy;&amp;zhcy;&amp;iecy;&amp;ncy;&amp;icy;&amp;iecy; &amp;scy;&amp;acy;&amp;jcy;&amp;tcy;&amp;ocy;&amp;vcy; &amp;vcy; &amp;Icy;&amp;zcy;&amp;rcy;&amp;acy;&amp;icy;&amp;lcy;&amp;iecy;"/>
          <p:cNvPicPr/>
          <p:nvPr/>
        </p:nvPicPr>
        <p:blipFill>
          <a:blip r:embed="rId3"/>
          <a:stretch/>
        </p:blipFill>
        <p:spPr>
          <a:xfrm>
            <a:off x="395280" y="5203800"/>
            <a:ext cx="2232000" cy="1654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&amp;Tcy;&amp;rcy;&amp;iecy;&amp;ncy;&amp;icy;&amp;ncy;&amp;gcy; &quot;&amp;Acy;&amp;kcy;&amp;tcy;&amp;icy;&amp;vcy;&amp;ncy;&amp;ycy;&amp;iecy; &amp;pcy;&amp;rcy;&amp;ocy;&amp;dcy;&amp;acy;&amp;zhcy;&amp;icy;. &amp;Mcy;&amp;acy;&amp;kcy;&amp;scy;&amp;icy;&amp;mcy;&amp;acy;&amp;lcy;&amp;softcy;&amp;ncy;&amp;ycy;&amp;jcy; &amp;rcy;&amp;iecy;&amp;zcy;&amp;ucy;&amp;lcy;&amp;softcy;&amp;tcy;&amp;acy;&amp;tcy;&quot; &amp;Tcy;&amp;rcy;&amp;iecy;&amp;ncy;&amp;icy;&amp;ncy;&amp;gcy;"/>
          <p:cNvPicPr/>
          <p:nvPr/>
        </p:nvPicPr>
        <p:blipFill>
          <a:blip r:embed="rId4"/>
          <a:stretch/>
        </p:blipFill>
        <p:spPr>
          <a:xfrm>
            <a:off x="468360" y="3500280"/>
            <a:ext cx="2158920" cy="1681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&amp;Ocy; &amp;rcy;&amp;iecy;&amp;zcy;&amp;ucy;&amp;lcy;&amp;softcy;&amp;tcy;&amp;acy;&amp;tcy;&amp;acy;&amp;khcy; &amp;pcy;&amp;rcy;&amp;ocy;&amp;vcy;&amp;iecy;&amp;dcy;&amp;iecy;&amp;ncy;&amp;icy;&amp;yacy; &amp;mcy;&amp;ocy;&amp;ncy;&amp;icy;&amp;tcy;&amp;ocy;&amp;rcy;&amp;icy;&amp;ncy;&amp;gcy;&amp;acy; &amp;rcy;&amp;ycy;&amp;ncy;&amp;kcy;&amp;acy; &amp;kcy;&amp;acy;&amp;dcy;&amp;acy;&amp;scy;&amp;tcy;&amp;rcy;&amp;ocy;&amp;vcy;&amp;ycy;&amp;khcy; &amp;rcy;&amp;acy;&amp;bcy;&amp;ocy;&amp;tcy;. - &amp;Ncy;&amp;ocy;&amp;vcy;&amp;ocy;&amp;scy;&amp;tcy;&amp;icy; - &amp;Ucy;&amp;pcy;&amp;rcy;&amp;acy;&amp;vcy;&amp;lcy;&amp;iecy;&amp;ncy;&amp;icy;&amp;iecy; &amp;Rcy;&amp;ocy;&amp;scy;&amp;rcy;&amp;iecy;&amp;iecy;&amp;scy;&amp;tcy;&amp;rcy;&amp;acy; &amp;pcy;&amp;ocy; &amp;Vcy;&amp;ocy;&amp;rcy;&amp;ocy;&amp;ncy;&amp;iecy;&amp;zhcy;&amp;scy;&amp;kcy;&amp;ocy;&amp;jcy; &amp;ocy;&amp;bcy;&amp;lcy;&amp;acy;&amp;scy;&amp;tcy;&amp;icy; - &amp;Rcy;&amp;ocy;&amp;scy;&amp;rcy;&amp;iecy;&amp;iecy;&amp;scy;"/>
          <p:cNvPicPr/>
          <p:nvPr/>
        </p:nvPicPr>
        <p:blipFill>
          <a:blip r:embed="rId5"/>
          <a:stretch/>
        </p:blipFill>
        <p:spPr>
          <a:xfrm>
            <a:off x="539640" y="1773360"/>
            <a:ext cx="21114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5:23:47Z</dcterms:created>
  <dc:creator>admin</dc:creator>
  <dc:description/>
  <dc:language>en-US</dc:language>
  <cp:lastModifiedBy>Windows User</cp:lastModifiedBy>
  <cp:lastPrinted>2010-09-21T15:23:25Z</cp:lastPrinted>
  <dcterms:modified xsi:type="dcterms:W3CDTF">2015-03-31T04:43:45Z</dcterms:modified>
  <cp:revision>201</cp:revision>
  <dc:subject/>
  <dc:title>Слайд 1</dc:title>
</cp:coreProperties>
</file>