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8F7E-7A4F-424A-A9A4-CFDED4451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19C-E315-409C-A733-30E9FEDE2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F27F-4865-4E7A-9785-1E1C7D5C2E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7B0-BA14-4F38-A880-8967975D4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7E2-6367-430F-8C34-8D68DDB7D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BF70-F294-402D-A71A-C4368351D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DD3-C760-4094-8AA5-3B08C066C0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E3C-E897-479E-98DA-E5CC0AD07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34B-1462-4AAC-9B65-B6B32311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BC6-92EE-4DE5-AFA1-893129E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59B-5DE5-4B45-A6CA-FB16DBA1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07E-1FED-485F-A769-69E7DB5D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AB47-BF36-458C-B2A7-3C7AB4C7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A75B-EAB2-4F51-953E-A90F921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EA3-7F50-49F0-83A4-DF4F60D4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9ED-2162-4A5F-BD10-3BBE976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B54-1E42-4D37-B31E-A0C0745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E79B-BB64-4639-96B1-99FE427C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6A2-564E-4EF7-8017-1CF4E47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851-7AEB-4CC8-AF8F-DBF3540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6478-6261-4A82-83AC-340EFB6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E10C-8877-488A-9F46-961D2127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2007-C2CB-4A1E-953A-5288E4C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9A4-2686-4BF7-9EF9-02DBFF87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76F2-75B8-4A5A-BD59-BEB066E2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38DA1-7697-43C1-B19B-60525D62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B77AF-A85B-4B33-99B6-2626BCF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D54BA-5F85-4B1C-B3A6-A47C31EC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8D854-4DE1-41A9-A894-68D54EE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EDDD8-4FB1-468B-B9CE-8DFC277D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E57-3C3F-432F-8688-B19EBEC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571F7-107F-47A1-8D3A-0A3BF46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626FE-C2DC-4974-B5B7-06AF69D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E1EA7-51E6-41A0-9D59-94E8F69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0B010-E717-45DE-A8FE-E5CF9DE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13F22-0459-4E00-B652-430518A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991BE-78B2-43D6-BE11-60D6FD4A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37111-F1F8-4A77-9E99-6D383422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A3E7-82C9-4F8C-B52A-48CB3BF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82C9-35FE-4684-8A5F-246F5DE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D28E-D88A-4C40-9A43-8D988F0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A17-9DA0-42EB-9D56-2242B97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6AE9-3ABD-4D3F-AC5E-C536D05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4F4A-6BAE-4810-BF61-8424753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258E-B84E-414D-AC77-45524DB6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92EA-CBFB-497E-9299-D1A0123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F9F4-9191-4758-9B75-ED77D84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4D7D-A0F8-4BE5-8FEB-7FEE5AE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1D81-D454-4E3B-BBAA-31DC337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8E1A-8C3E-42E2-AC9A-4176E519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3E91-A40A-4BF7-8D57-BFFB2858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201E4-45D9-4228-BDFC-78333CB9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9A9-9F7E-4711-B4C4-AC6B82F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C4E7E-BA8D-48B5-B69E-D0F739A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4315F-4D21-422A-AD86-1577EF0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B4065-2877-47E7-861A-DB4C0E1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75683-119C-4D38-9568-C808D99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F07A9-ECCE-4209-8016-3E67173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ADB20-744C-4890-B86A-790904A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B988F-52D1-4CEB-A8E1-F812997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E2427-F704-4E75-9987-AAADE67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0A6E0-E75C-4B57-8E74-65564536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C422D-239B-4550-9C95-91470DCA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6F8-563D-4CFA-9B10-CF12D9A3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F9374-C264-45ED-886F-4D756541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85AC3-7577-4E48-B391-0A648799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A4535-7800-4F6E-920B-57AF7934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2B45A-2C94-42DD-9D75-BD2ED51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51721-5251-48C0-BA4C-5E2042B9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72C4D-0600-4BF9-8A5E-A06C0EA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0B37B-B8F5-4286-9F95-79E47A1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41CD3-A21A-4243-941E-2546EF2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95DAE-13EE-493C-9386-613BA12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855DB-69A2-42BA-AB9C-9A4BA0B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AD5-A90A-4CDD-BFC3-F74DAB7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97CCA-EE6E-4133-89CC-E410883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06FC4-6FFB-4C73-B88E-6C54B544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29043-31AB-4C1B-9FA1-2E64EE44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124D6-A2FA-4087-8415-B5EF8A05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AA05F-EF9B-4318-93B0-4DA489A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3817E-1695-464B-A274-57AB740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DE694-8347-4F34-842F-990720C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E2E44-97AC-45D7-8F3A-D6BB6485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9CC98-40F6-45FE-96F0-0CEB966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115F7-3640-4FF9-90A2-9127B3E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14F-7BE3-4ED6-A089-CE29912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C49C9-C2D9-49CF-A8CE-5F360CB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FB235-6EED-4A7F-AD37-3B68355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89E24-72ED-432B-9E03-2B0CA51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53FC8-EAA2-4F8B-8555-1CDC0A56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FBD52-4DFD-4C30-9C50-627FE1BD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27C-52BC-4F87-9D8E-10023470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83C3-18B3-4BF0-94D3-8FAB7DCFCB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33B-4775-4966-A98C-2B3F73BE85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1CC-6E40-4C8A-B384-637E565FAD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54F-41F7-4C5B-841C-4516778517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D38-CD93-401E-B422-DC0FB99FF5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035F-B264-4A3E-87C3-E7A6DB1661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CE21-5CEA-49E4-B5B6-898BE96B5C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8000" y="1628280"/>
            <a:ext cx="72360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Calibri Light"/>
              </a:rPr>
              <a:t>ОСНОВНАЯ ОБРАЗОВАТЕЛЬНАЯ ПРОГРАММА: ПРЕДСТАВЛЕНИЕ ОСНОВНЫХ РАЗДЕЛОВ ООП ООО, ПЛАНА МЕРОПРИЯТИЙ ПО ПОДГОТОВКЕ К ПЕРЕХОДУ НА НОВЫЙ ФГОС ООО. ПРОМЕЖУТОЧНЫЕ РЕЗУЛЬТАТЫ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987640" y="4508640"/>
            <a:ext cx="561672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осова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Заместитель директора МБОУ Лицея № 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2735280" y="1631520"/>
            <a:ext cx="640872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4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критерии выбора (анализа) УМ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 перечня, рекомендованного Минобрнауки Росс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оответсвие целя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сновной образовательной программы О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наличие ресурсов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ля реализации данной програм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преемственнос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с программами начально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татус общеобразовательного учреждения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типа и вид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бразовательные потребности и запросы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собенности контингента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авторский замысел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педагог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283644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&amp;Ucy;&amp;chcy;&amp;iecy;&amp;bcy;&amp;ncy;&amp;icy;&amp;kcy; &amp;Mcy;&amp;acy;&amp;tcy;&amp;iecy;&amp;mcy;&amp;acy;&amp;tcy;&amp;icy;&amp;kcy;&amp;acy;. 1 &amp;kcy;&amp;lcy;&amp;acy;&amp;scy;&amp;scy;. &amp;Ecy;&amp;lcy;&amp;iecy;&amp;kcy;&amp;tcy;&amp;rcy;&amp;ocy;&amp;ncy;&amp;ncy;&amp;ocy;&amp;iecy; &amp;pcy;&amp;rcy;&amp;icy;&amp;lcy;&amp;ocy;&amp;zhcy;&amp;iecy;&amp;ncy;&amp;icy;&amp;iecy; &amp;kcy; &amp;ucy;&amp;chcy;&amp;iecy;&amp;bcy;&amp;ncy;&amp;icy;&amp;kcy;&amp;ucy; &amp;Gcy;. &amp;Vcy;. &amp;Dcy;&amp;ocy;&amp;rcy;&amp;ocy;&amp;fcy;&amp;iecy;&amp;iecy;&amp;vcy;&amp;acy;, &amp;Tcy;. &amp;Ncy;. &amp;Mcy;&amp;icy;&amp;rcy;&amp;acy;&amp;kcy;&amp;ocy;&amp;vcy;&amp;ocy;&amp;jcy; (&amp;acy;&amp;ucy;&amp;dcy;&amp;icy;&amp;ocy;&amp;kcy;&amp;ucy;&amp;rcy;&amp;scy; &amp;ncy;&amp;acy; CD) - &amp;pcy;&amp;rcy;&amp;ocy;&amp;scy;&amp;vcy;&amp;iecy;&amp;shchcy;&amp;iecy;&amp;ncy;&amp;icy;&amp;iecy;"/>
          <p:cNvPicPr/>
          <p:nvPr/>
        </p:nvPicPr>
        <p:blipFill>
          <a:blip r:embed="rId2"/>
          <a:stretch/>
        </p:blipFill>
        <p:spPr>
          <a:xfrm>
            <a:off x="395280" y="3357720"/>
            <a:ext cx="2206800" cy="3311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&amp;Ucy;&amp;scy;&amp;pcy;&amp;iecy;&amp;khcy; &amp;Bcy;&amp;iecy;&amp;rcy;&amp;ucy; - Part 20"/>
          <p:cNvPicPr/>
          <p:nvPr/>
        </p:nvPicPr>
        <p:blipFill>
          <a:blip r:embed="rId3"/>
          <a:stretch/>
        </p:blipFill>
        <p:spPr>
          <a:xfrm>
            <a:off x="179280" y="907920"/>
            <a:ext cx="2494080" cy="187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182844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614680" y="819720"/>
            <a:ext cx="620532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Шаг 5.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Выбрать (проанализировать) УМК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примерную общеобразовательную программу и соответствующий учебник) на основании выдвинутых критерие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ъём необходимых  изменений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 примерную общеобразовательную пр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http://www.xxlbook.ru/img456054.png"/>
          <p:cNvPicPr/>
          <p:nvPr/>
        </p:nvPicPr>
        <p:blipFill>
          <a:blip r:embed="rId2"/>
          <a:stretch/>
        </p:blipFill>
        <p:spPr>
          <a:xfrm>
            <a:off x="539640" y="3213000"/>
            <a:ext cx="2013120" cy="2808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www.sprinter.ru/pic/big/9a63ee8bad463484aa3c9bbc075a8fff.jpg"/>
          <p:cNvPicPr/>
          <p:nvPr/>
        </p:nvPicPr>
        <p:blipFill>
          <a:blip r:embed="rId3"/>
          <a:stretch/>
        </p:blipFill>
        <p:spPr>
          <a:xfrm>
            <a:off x="324000" y="549360"/>
            <a:ext cx="1558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46008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"/>
          <p:cNvSpPr/>
          <p:nvPr/>
        </p:nvSpPr>
        <p:spPr>
          <a:xfrm>
            <a:off x="1979640" y="555480"/>
            <a:ext cx="662472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6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формулировать цель рабочей программы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ормулировка цели в рабочей программе возможна в виде формулировки ожидаемых результатов, что соответствует требованиям к ожидаемым результатам, зафиксированным во ФГОС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Схема 9" descr=""/>
          <p:cNvPicPr/>
          <p:nvPr/>
        </p:nvPicPr>
        <p:blipFill>
          <a:blip r:embed="rId2"/>
          <a:stretch/>
        </p:blipFill>
        <p:spPr>
          <a:xfrm>
            <a:off x="-12600" y="2322360"/>
            <a:ext cx="6254640" cy="381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sales.alt700.com/attachments/Image/Cel-Uspeh.jpg?1389566622298"/>
          <p:cNvPicPr/>
          <p:nvPr/>
        </p:nvPicPr>
        <p:blipFill>
          <a:blip r:embed="rId3"/>
          <a:stretch/>
        </p:blipFill>
        <p:spPr>
          <a:xfrm>
            <a:off x="6227640" y="2997360"/>
            <a:ext cx="29163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087640" y="129600"/>
            <a:ext cx="705636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7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Внести изменения в содержание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имерной общеобразовательной программы по выбранному курсу на основании требований к рабочей программе по предмету, ориентированной на проектное обучение,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 имен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260280"/>
            <a:ext cx="444600" cy="1569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610000" y="1628640"/>
            <a:ext cx="65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пределить на основании возрастных особенностей школьников возможность использования разнообразных образовательных технологий и приёмов педагогической техники для решения основных цел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Учесть специфику проектно-дифференцированного обучения: направленность на формирование проектной компетентности, межпредметные связи, наличие внешних и внутренни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бъяснить связь курса с формированием умений проектной деятельности, необходимость выделения проектных модуле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24 &amp;Acy;&amp;vcy;&amp;gcy;&amp;ucy;&amp;scy;&amp;tcy; 2012 &amp;Pcy;&amp;ucy;&amp;tcy;&amp;softcy; &amp;kcy; &amp;ucy;&amp;scy;&amp;pcy;&amp;iecy;&amp;khcy;&amp;ucy;"/>
          <p:cNvPicPr/>
          <p:nvPr/>
        </p:nvPicPr>
        <p:blipFill>
          <a:blip r:embed="rId2"/>
          <a:stretch/>
        </p:blipFill>
        <p:spPr>
          <a:xfrm>
            <a:off x="2484360" y="5157720"/>
            <a:ext cx="5832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971640" y="408960"/>
            <a:ext cx="7777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8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щие способы (методы) оценки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стигнутых предметных, метапредметных и личностных результатов. Определить необходимость практических, самостоятельных и контрольных работ для оценки достигнут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324000" y="0"/>
            <a:ext cx="444240" cy="15699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>
            <a:off x="2484360" y="191628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Текущая оценка сформированности проектных компетенций школьников может проход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в процессе промежуточной рефлексии того метапредметного действия, на формирование которого был направлен ур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) в процессе реализации практических раб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3) в процессе реализации межпредметных проектных моду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&amp;Ocy;&amp;pcy;&amp;iecy;&amp;rcy;&amp;acy;&amp;tcy;&amp;icy;&amp;vcy;&amp;ncy;&amp;ycy;&amp;iecy; &amp;ocy;&amp;bcy;&amp;hardcy;&amp;vcy;&amp;lcy;&amp;iecy;&amp;ncy;&amp;icy;&amp;yacy; - &amp;Ncy;&amp;ocy;&amp;vcy;&amp;ocy;&amp;scy;&amp;tcy;&amp;icy; - &amp;Mcy;&amp;Ocy;&amp;Bcy;&amp;Ucy; &quot;&amp;Scy;&amp;Ocy;&amp;SHcy; 5&quot; &amp;gcy;. &amp;Ocy;&amp;rcy;&amp;iecy;&amp;ncy;&amp;bcy;&amp;ucy;&amp;rcy;&amp;gcy;&amp;acy;"/>
          <p:cNvPicPr/>
          <p:nvPr/>
        </p:nvPicPr>
        <p:blipFill>
          <a:blip r:embed="rId2"/>
          <a:stretch/>
        </p:blipFill>
        <p:spPr>
          <a:xfrm>
            <a:off x="324000" y="2133720"/>
            <a:ext cx="2009520" cy="334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&amp;Vcy; &amp;Rcy;&amp;ocy;&amp;scy;&amp;scy;&amp;icy;&amp;icy; &amp;scy;&amp;ocy;&amp;scy;&amp;tcy;&amp;acy;&amp;vcy;&amp;yacy;&amp;tcy; &amp;rcy;&amp;iecy;&amp;jcy;&amp;tcy;&amp;icy;&amp;ncy;&amp;gcy; &amp;scy;&amp;ocy;&amp;tscy;&amp;icy;&amp;acy;&amp;lcy;&amp;softcy;&amp;ncy;&amp;ycy;&amp;khcy; &amp;ucy;&amp;chcy;&amp;rcy;&amp;iecy;&amp;zhcy;&amp;dcy;&amp;iecy;&amp;ncy;&amp;icy;&amp;jcy; - NewsProm.Ru"/>
          <p:cNvPicPr/>
          <p:nvPr/>
        </p:nvPicPr>
        <p:blipFill>
          <a:blip r:embed="rId3"/>
          <a:stretch/>
        </p:blipFill>
        <p:spPr>
          <a:xfrm>
            <a:off x="3276720" y="4365720"/>
            <a:ext cx="295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835280" y="848160"/>
            <a:ext cx="712764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9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те разделы и темы в содержании курса, в рамках изучения которых возможна реализации проектного мод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ить цели и ожидаемые результаты проектных моду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пределить часы, отведенные на изучение данного раздела /темы таким образом, чтобы школьники освоили полный цикл проек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18900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341964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06360" y="1921320"/>
            <a:ext cx="856944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0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Заполнить «сетку» тематического 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611280" y="404640"/>
            <a:ext cx="444240" cy="1570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6372360" y="5373720"/>
            <a:ext cx="1728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828720" y="3429000"/>
          <a:ext cx="6570720" cy="853920"/>
        </p:xfrm>
        <a:graphic>
          <a:graphicData uri="http://schemas.openxmlformats.org/drawingml/2006/table">
            <a:tbl>
              <a:tblPr/>
              <a:tblGrid>
                <a:gridCol w="644400"/>
                <a:gridCol w="1185840"/>
                <a:gridCol w="1042920"/>
                <a:gridCol w="1047960"/>
                <a:gridCol w="26496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(фа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основных видов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, 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312840" y="1583640"/>
            <a:ext cx="8604000" cy="359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1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Разработать и включи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в рабочую программу в качестве приложений дидактические задания практических работ, соответствующие образовательным целям и продуктам деятельности ученика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Определить алгоритм действий во время практически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Использовать выработанные правила сотрудничества при проведении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ставить «задания- маркеры» по оцениванию познавательных, регулятивных и коммуникативных универсальных учебных действий, по возможности включить их в состав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08000" y="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Reflector Telescopes On Sale Reflecting Telescope Chase The Vortex"/>
          <p:cNvPicPr/>
          <p:nvPr/>
        </p:nvPicPr>
        <p:blipFill>
          <a:blip r:embed="rId2"/>
          <a:stretch/>
        </p:blipFill>
        <p:spPr>
          <a:xfrm>
            <a:off x="5651640" y="4941720"/>
            <a:ext cx="22478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&amp;kcy;&amp;rcy;&amp;acy;&amp;scy;&amp;ncy;&amp;ycy;&amp;jcy; - &amp;zcy;&amp;ncy;&amp;acy;&amp;kcy; - &amp;vcy;&amp;ocy;&amp;pcy;&amp;rcy;&amp;ocy;&amp;scy;&amp;iecy; - &amp;kcy;&amp;rcy;&amp;ycy;&amp;shcy;&amp;icy; - &amp;bcy;&amp;icy;&amp;zcy;&amp;ncy;&amp;iecy;&amp;scy;&amp;acy; - &amp;scy;&amp;iecy;&amp;mcy;&amp;softcy;&amp;icy; - &amp;Scy;&amp;tcy;&amp;ocy;&amp;kcy;-&amp;fcy;&amp;ocy;&amp;tcy;&amp;ocy; Mikhail Aksenko (Ciklamen) (#1861720) Stockfresh"/>
          <p:cNvPicPr/>
          <p:nvPr/>
        </p:nvPicPr>
        <p:blipFill>
          <a:blip r:embed="rId1"/>
          <a:stretch/>
        </p:blipFill>
        <p:spPr>
          <a:xfrm>
            <a:off x="1619280" y="549360"/>
            <a:ext cx="5977080" cy="59752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262728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ворческих успехов и эффективной работы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" descr="F:\анимашки2\112[1].gif"/>
          <p:cNvPicPr/>
          <p:nvPr/>
        </p:nvPicPr>
        <p:blipFill>
          <a:blip r:embed="rId2"/>
          <a:stretch/>
        </p:blipFill>
        <p:spPr>
          <a:xfrm>
            <a:off x="179280" y="5300640"/>
            <a:ext cx="107964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Filipok\Desktop\4385692-11d69fd026f9c278.gif"/>
          <p:cNvPicPr/>
          <p:nvPr/>
        </p:nvPicPr>
        <p:blipFill>
          <a:blip r:embed="rId3"/>
          <a:stretch/>
        </p:blipFill>
        <p:spPr>
          <a:xfrm>
            <a:off x="7667640" y="0"/>
            <a:ext cx="1166760" cy="1201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www.dkvartal.ru/system/images/news/000/423/029_x_large_origin_copyright.jpg?1369805826"/>
          <p:cNvPicPr/>
          <p:nvPr/>
        </p:nvPicPr>
        <p:blipFill>
          <a:blip r:embed="rId4"/>
          <a:stretch/>
        </p:blipFill>
        <p:spPr>
          <a:xfrm>
            <a:off x="3059280" y="3789360"/>
            <a:ext cx="327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991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ОРМАТИВНО – ПРАВОВОЕ ОБЕСПЕЧЕНИЕ ФГОС ООО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280"/>
            <a:ext cx="746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РФ от 17.12.2010 г. № 1897 «Об утверждении федерального государственного образовательного стандарта основного общего образования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мерная основная образовательная программа образовательного учреждения (находится на стадии разработки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НО от 17.02.2015 г. № 316-01-100-468/15 «О направлении методических рекомендаций по реализации ФГОС ООО в 5 классах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етодическое письмо ГБОУ ДПО НИРО о реализации в 5 классах ФГОС ООО по предметным областям и учебным предметам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лан мероприятий по обеспечению внедрения федерального государственного образовательного стандарта  (ФГОС) в общеобразовательных учреждениях Автозаводского района г. Нижнего Новгорода на 2014-2015 учебный год от 12.09.2014 № 1945/2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5.11.2014 № 842 «Об утверждении Плана мероприятий по внедрению ФГОС ООО в МБОУ Лицее № 165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5 «Об утверждении Положения о рабочей группе по введению ФГОС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6 «Об утверждении состава рабочей группы по введению ФГОС ООО, разработке ООП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ложение о рабочей программе МБОУ Лицея № 165 имени 65-летия «ГАЗ», утв приказом от 29.08.2014 г. № 544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Schoolbook"/>
              </a:rPr>
              <a:t>Основная образовательная программа основного общего образования МБОУ Лицея № 165 имени 65-летия «ГАЗ» (в процессе разработки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10920" y="404280"/>
            <a:ext cx="746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труктура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 Целево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1. 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2. Планируемые результаты освоения обучающимис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оценки достижения планируемых результатов освоени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тель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 Программа развития универсальных учебных действий на ступени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граммы отдельных учебных предметов, кур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 Программа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он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мерный учебный план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. Система условий реализации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риложения (рабочие программы учебных предмето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МЕРНЫЙ УЧЕБНЫЙ ПЛАН 5 КЛАСС ФГОС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0000" y="692280"/>
          <a:ext cx="7201080" cy="5695920"/>
        </p:xfrm>
        <a:graphic>
          <a:graphicData uri="http://schemas.openxmlformats.org/drawingml/2006/table">
            <a:tbl>
              <a:tblPr/>
              <a:tblGrid>
                <a:gridCol w="3157560"/>
                <a:gridCol w="1595520"/>
                <a:gridCol w="1368360"/>
                <a:gridCol w="1079640"/>
              </a:tblGrid>
              <a:tr h="43452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предметы/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ы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3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основы безопасности жизне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, формируемая участниками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 допустимая недельная нагрузка (пятидневная учебная нед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2556000" y="1413000"/>
            <a:ext cx="597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75c01"/>
                </a:solidFill>
                <a:uFillTx/>
                <a:latin typeface="Calibri Light"/>
                <a:ea typeface="Times New Roman"/>
              </a:rPr>
              <a:t>Рабочая программа по предмету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локальны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(созданным для определенного образовательного учреждения) и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индивидуальны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 (разработанным учителем для своей деятельности)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документо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нормативно-управленческим документо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образовательного учреждения, характеризующим систему организации образовательной деятельност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индивидуальным инструментом педагога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&amp;Kcy;&amp;acy;&amp;kcy; &amp;ncy;&amp;iecy; &amp;vcy;&amp;ycy;&amp;gcy;&amp;lcy;&amp;yacy;&amp;dcy;&amp;iecy;&amp;tcy;&amp;softcy; &amp;ncy;&amp;iecy;&amp;rcy;&amp;vcy;&amp;ncy;&amp;ycy;&amp;mcy;(&amp;ocy;&amp;jcy;)"/>
          <p:cNvPicPr/>
          <p:nvPr/>
        </p:nvPicPr>
        <p:blipFill>
          <a:blip r:embed="rId1"/>
          <a:stretch/>
        </p:blipFill>
        <p:spPr>
          <a:xfrm>
            <a:off x="324000" y="0"/>
            <a:ext cx="2171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Овал 3"/>
          <p:cNvSpPr/>
          <p:nvPr/>
        </p:nvSpPr>
        <p:spPr>
          <a:xfrm>
            <a:off x="1476360" y="549360"/>
            <a:ext cx="2158920" cy="14396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5"/>
          <p:cNvSpPr/>
          <p:nvPr/>
        </p:nvSpPr>
        <p:spPr>
          <a:xfrm>
            <a:off x="5364000" y="692280"/>
            <a:ext cx="201636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ООП ООО лицея (учебный пл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6"/>
          <p:cNvSpPr/>
          <p:nvPr/>
        </p:nvSpPr>
        <p:spPr>
          <a:xfrm>
            <a:off x="3363840" y="1773360"/>
            <a:ext cx="216072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УМК (базовая программа,учеб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7"/>
          <p:cNvSpPr/>
          <p:nvPr/>
        </p:nvSpPr>
        <p:spPr>
          <a:xfrm>
            <a:off x="684360" y="4653000"/>
            <a:ext cx="2232000" cy="18003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справка 8"/>
          <p:cNvSpPr/>
          <p:nvPr/>
        </p:nvSpPr>
        <p:spPr>
          <a:xfrm rot="1812000">
            <a:off x="2847600" y="3108240"/>
            <a:ext cx="503280" cy="1295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1295640"/>
              <a:gd name="textAreaBottom" fmla="*/ 1263240 h 1295640"/>
            </a:gdLst>
            <a:ahLst/>
            <a:rect l="textAreaLeft" t="textAreaTop" r="textAreaRight" b="textAreaBottom"/>
            <a:pathLst>
              <a:path w="21600" h="55583">
                <a:moveTo>
                  <a:pt x="0" y="0"/>
                </a:moveTo>
                <a:lnTo>
                  <a:pt x="21600" y="0"/>
                </a:lnTo>
                <a:lnTo>
                  <a:pt x="21600" y="55583"/>
                </a:lnTo>
                <a:lnTo>
                  <a:pt x="0" y="55583"/>
                </a:lnTo>
                <a:close/>
              </a:path>
              <a:path fill="lightenLess" w="21600" h="55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83">
                <a:moveTo>
                  <a:pt x="21600" y="0"/>
                </a:moveTo>
                <a:lnTo>
                  <a:pt x="21600" y="55583"/>
                </a:lnTo>
                <a:lnTo>
                  <a:pt x="20200" y="54183"/>
                </a:lnTo>
                <a:lnTo>
                  <a:pt x="20200" y="1400"/>
                </a:lnTo>
                <a:close/>
              </a:path>
              <a:path fill="darkenLess" w="21600" h="55583">
                <a:moveTo>
                  <a:pt x="21600" y="55583"/>
                </a:moveTo>
                <a:lnTo>
                  <a:pt x="0" y="55583"/>
                </a:lnTo>
                <a:lnTo>
                  <a:pt x="1400" y="54183"/>
                </a:lnTo>
                <a:lnTo>
                  <a:pt x="20200" y="54183"/>
                </a:lnTo>
                <a:close/>
              </a:path>
              <a:path fill="lighten" w="21600" h="55583">
                <a:moveTo>
                  <a:pt x="0" y="55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83"/>
                </a:lnTo>
                <a:close/>
              </a:path>
              <a:path fill="darken" w="21600" h="55583">
                <a:moveTo>
                  <a:pt x="10800" y="3179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55583">
                <a:moveTo>
                  <a:pt x="11905" y="31273"/>
                </a:moveTo>
                <a:lnTo>
                  <a:pt x="11905" y="29314"/>
                </a:lnTo>
                <a:cubicBezTo>
                  <a:pt x="11905" y="28488"/>
                  <a:pt x="12236" y="27791"/>
                  <a:pt x="12837" y="27791"/>
                </a:cubicBezTo>
                <a:cubicBezTo>
                  <a:pt x="13968" y="27791"/>
                  <a:pt x="14865" y="26425"/>
                  <a:pt x="14865" y="24841"/>
                </a:cubicBezTo>
                <a:cubicBezTo>
                  <a:pt x="14865" y="22526"/>
                  <a:pt x="13011" y="20785"/>
                  <a:pt x="10800" y="20785"/>
                </a:cubicBezTo>
                <a:cubicBezTo>
                  <a:pt x="8589" y="20785"/>
                  <a:pt x="6918" y="22526"/>
                  <a:pt x="6918" y="24841"/>
                </a:cubicBezTo>
                <a:lnTo>
                  <a:pt x="8772" y="24841"/>
                </a:lnTo>
                <a:cubicBezTo>
                  <a:pt x="8772" y="23701"/>
                  <a:pt x="9695" y="22813"/>
                  <a:pt x="10800" y="22813"/>
                </a:cubicBezTo>
                <a:cubicBezTo>
                  <a:pt x="11905" y="22813"/>
                  <a:pt x="12837" y="23701"/>
                  <a:pt x="12837" y="24841"/>
                </a:cubicBezTo>
                <a:cubicBezTo>
                  <a:pt x="12837" y="25581"/>
                  <a:pt x="12367" y="26312"/>
                  <a:pt x="11905" y="26312"/>
                </a:cubicBezTo>
                <a:cubicBezTo>
                  <a:pt x="10800" y="26312"/>
                  <a:pt x="9695" y="27791"/>
                  <a:pt x="9695" y="29314"/>
                </a:cubicBezTo>
                <a:lnTo>
                  <a:pt x="9695" y="3127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ый треугольник 9"/>
          <p:cNvSpPr/>
          <p:nvPr/>
        </p:nvSpPr>
        <p:spPr>
          <a:xfrm rot="20877000">
            <a:off x="2352600" y="3730320"/>
            <a:ext cx="914400" cy="914400"/>
          </a:xfrm>
          <a:prstGeom prst="rtTriangl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Seo seo &amp;vcy;&amp;ocy;&amp;pcy;&amp;rcy;&amp;ocy;&amp;scy;&amp;ycy; &amp;icy; - &amp;Pcy;&amp;acy;&amp;ncy;&amp;iecy;&amp;lcy;&amp;softcy; &amp;bcy;&amp;ycy;&amp;scy;&amp;tcy;&amp;rcy;&amp;ocy;&amp;gcy;&amp;ocy; &amp;pcy;&amp;ocy;&amp;icy;&amp;scy;&amp;kcy;&amp;acy;"/>
          <p:cNvPicPr/>
          <p:nvPr/>
        </p:nvPicPr>
        <p:blipFill>
          <a:blip r:embed="rId1"/>
          <a:stretch/>
        </p:blipFill>
        <p:spPr>
          <a:xfrm>
            <a:off x="3635280" y="3002040"/>
            <a:ext cx="5508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956960" y="559080"/>
            <a:ext cx="58698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315720" y="51084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1692360" y="1486800"/>
            <a:ext cx="7129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Изучить требования к рабочим программа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структуру будущей рабоч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Положение о рабочей программе МБОУ Лицея № 1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24000" y="2611440"/>
            <a:ext cx="8640720" cy="375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ориентацию в ц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психолого-педагогическое обоснование специфики восприятия и освоения проектной деятельности обучающимися данного возраста с описанием возможностей дифференци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описание проектных компетенций (в категории знает, понимает, умеет, владее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. описание способов формирования выделенных  компетенций: подходы, технологии, методы и средства обучения, формы организации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. описание системы оценки метапредметных результатов и результатов проектной деятельности, в т.ч. характеристика КИ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. календарно-тематическое план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&amp;Zcy;&amp;dcy;&amp;ocy;&amp;rcy;&amp;ocy;&amp;vcy;&amp;softcy;&amp;iecy;. &amp;Zcy;&amp;acy;&amp;pcy;&amp;icy;&amp;scy;&amp;icy; &amp;vcy; &amp;rcy;&amp;ucy;&amp;bcy;&amp;rcy;&amp;icy;&amp;kcy;&amp;iecy; &amp;Zcy;&amp;dcy;&amp;ocy;&amp;rcy;&amp;ocy;&amp;vcy;&amp;softcy;&amp;iecy;. &amp;Dcy;&amp;ncy;&amp;iecy;&amp;vcy;&amp;ncy;&amp;icy;&amp;kcy; candra63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7934400" y="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&amp;Kcy;&amp;Ocy;&amp;Ncy;&amp;Kcy;&amp;Ucy;&amp;Rcy;&amp;Scy; &amp;Mcy;&amp;Icy;&amp;Ncy;&amp;Icy;&amp;Gcy;&amp;Rcy;&amp;Acy;&amp;Ncy;&amp;Tcy;&amp;Ocy;&amp;Vcy; &amp;Ncy;&amp;Acy; &amp;Pcy;&amp;Rcy;&amp;Ocy;&amp;Vcy;&amp;IEcy;&amp;Dcy;&amp;IEcy;&amp;Ncy;&amp;Icy;&amp;IEcy; &amp;Kcy;&amp;Acy;&amp;Mcy;&amp;Pcy;&amp;Acy;&amp;Ncy;&amp;Icy;&amp;Jcy; &amp;Vcy; &amp;Zcy;&amp;Acy;&amp;SHCHcy;&amp;Icy;&amp;Tcy;&amp;Ucy; &amp;Pcy;&amp;Rcy;&amp;Acy;&amp;Vcy; &amp;CHcy;&amp;IEcy;&amp;Lcy;&amp;Ocy;&amp;Vcy;&amp;IEcy;&amp;Kcy;&amp;Acy; &amp;Icy; &amp;Ocy;&amp;Bcy;&amp;SHCHcy;&amp;IEcy;&amp;Scy;&amp;Tcy;&amp;Vcy;&amp;IEcy;&amp;Ncy;&amp;Ncy;&amp;Ycy;&amp;KHcy; &amp;Icy;&amp;Ncy;&amp;Tcy;&amp;IEcy;&amp;Rcy;&amp;IEcy;&amp;Scy;&amp;Ocy;&amp;Vcy; &amp;Ocy;&amp;Tcy; PEOPLE IN NEED all-ukrainian educa"/>
          <p:cNvPicPr/>
          <p:nvPr/>
        </p:nvPicPr>
        <p:blipFill>
          <a:blip r:embed="rId3"/>
          <a:stretch/>
        </p:blipFill>
        <p:spPr>
          <a:xfrm>
            <a:off x="250920" y="1197000"/>
            <a:ext cx="1296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539640" y="992160"/>
            <a:ext cx="78487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Шаг 2. </a:t>
            </a: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Изучить требования к ожидаемым образовательным результатам,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 зафиксированных в Федеральном государственном образовательном стандарте основного общего образования и целях основной образовательной программы основного общего образования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-7920" y="151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&amp;Fcy;&amp;Gcy;&amp;Ocy;&amp;Scy; &amp;Ocy;&amp;Ocy;&amp;Ocy;"/>
          <p:cNvPicPr/>
          <p:nvPr/>
        </p:nvPicPr>
        <p:blipFill>
          <a:blip r:embed="rId2"/>
          <a:stretch/>
        </p:blipFill>
        <p:spPr>
          <a:xfrm>
            <a:off x="4238640" y="3284640"/>
            <a:ext cx="4321080" cy="1751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&amp;Scy;&amp;acy;&amp;jcy;&amp;tcy;-&amp;pcy;&amp;ocy;&amp;rcy;&amp;tcy;&amp;fcy;&amp;ocy;&amp;lcy;&amp;icy;&amp;ocy; &amp;Gcy;&amp;ocy;&amp;rcy;&amp;bcy;&amp;iecy;&amp;ncy;&amp;kcy;&amp;ocy; &amp;Scy;.&amp;Vcy;. - &amp;Icy;&amp;scy;&amp;scy;&amp;lcy;&amp;iecy;&amp;dcy;&amp;ocy;&amp;vcy;&amp;acy;&amp;tcy;&amp;iecy;&amp;lcy;&amp;softcy;&amp;scy;&amp;kcy;&amp;acy;&amp;yacy; &amp;dcy;&amp;iecy;&amp;yacy;&amp;tcy;&amp;iecy;&amp;lcy;&amp;softcy;&amp;ncy;&amp;ocy;&amp;scy;&amp;tcy;&amp;softcy; &amp;mcy;&amp;lcy;&amp;acy;&amp;dcy;&amp;shcy;&amp;icy;&amp;khcy; &amp;shcy;&amp;kcy;&amp;ocy;&amp;lcy;&amp;softcy;&amp;ncy;&amp;icy;&amp;kcy;&amp;ocy;&amp;vcy;"/>
          <p:cNvPicPr/>
          <p:nvPr/>
        </p:nvPicPr>
        <p:blipFill>
          <a:blip r:embed="rId3"/>
          <a:stretch/>
        </p:blipFill>
        <p:spPr>
          <a:xfrm>
            <a:off x="971640" y="3529080"/>
            <a:ext cx="2287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1619280" y="488160"/>
            <a:ext cx="705636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Шаг 3 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На основании требований ФГОС ООО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  <a:ea typeface="Arial Unicode MS"/>
              </a:rPr>
              <a:t>определить ожидаемые метапредметные и личностные результаты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, успешное освоение которых может обеспечить конкретная предметная обл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Схема 4" descr=""/>
          <p:cNvPicPr/>
          <p:nvPr/>
        </p:nvPicPr>
        <p:blipFill>
          <a:blip r:embed="rId1"/>
          <a:stretch/>
        </p:blipFill>
        <p:spPr>
          <a:xfrm>
            <a:off x="2835360" y="1816200"/>
            <a:ext cx="6119640" cy="4108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9" descr="C:\Users\апа\Desktop\КЛИПАРТЫ\Клипарты Горбушка\Символы\PTRAK005_.bmp"/>
          <p:cNvPicPr/>
          <p:nvPr/>
        </p:nvPicPr>
        <p:blipFill>
          <a:blip r:embed="rId2"/>
          <a:srcRect l="26569" t="0" r="0" b="78839"/>
          <a:stretch/>
        </p:blipFill>
        <p:spPr>
          <a:xfrm rot="19596000">
            <a:off x="24408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&amp;Scy;&amp;ocy;&amp;zcy;&amp;dcy;&amp;acy;&amp;ncy;&amp;icy;&amp;iecy; &amp;icy; &amp;pcy;&amp;rcy;&amp;ocy;&amp;dcy;&amp;vcy;&amp;icy;&amp;zhcy;&amp;iecy;&amp;ncy;&amp;icy;&amp;iecy; &amp;scy;&amp;acy;&amp;jcy;&amp;tcy;&amp;ocy;&amp;vcy; &amp;vcy; &amp;Icy;&amp;zcy;&amp;rcy;&amp;acy;&amp;icy;&amp;lcy;&amp;iecy;"/>
          <p:cNvPicPr/>
          <p:nvPr/>
        </p:nvPicPr>
        <p:blipFill>
          <a:blip r:embed="rId3"/>
          <a:stretch/>
        </p:blipFill>
        <p:spPr>
          <a:xfrm>
            <a:off x="395280" y="5203800"/>
            <a:ext cx="2232000" cy="165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&amp;Tcy;&amp;rcy;&amp;iecy;&amp;ncy;&amp;icy;&amp;ncy;&amp;gcy; &quot;&amp;Acy;&amp;kcy;&amp;tcy;&amp;icy;&amp;vcy;&amp;ncy;&amp;ycy;&amp;iecy; &amp;pcy;&amp;rcy;&amp;ocy;&amp;dcy;&amp;acy;&amp;zhcy;&amp;icy;. &amp;Mcy;&amp;acy;&amp;kcy;&amp;scy;&amp;icy;&amp;mcy;&amp;acy;&amp;lcy;&amp;softcy;&amp;ncy;&amp;ycy;&amp;jcy; &amp;rcy;&amp;iecy;&amp;zcy;&amp;ucy;&amp;lcy;&amp;softcy;&amp;tcy;&amp;acy;&amp;tcy;&quot; &amp;Tcy;&amp;rcy;&amp;iecy;&amp;ncy;&amp;icy;&amp;ncy;&amp;gcy;"/>
          <p:cNvPicPr/>
          <p:nvPr/>
        </p:nvPicPr>
        <p:blipFill>
          <a:blip r:embed="rId4"/>
          <a:stretch/>
        </p:blipFill>
        <p:spPr>
          <a:xfrm>
            <a:off x="468360" y="3500280"/>
            <a:ext cx="2158920" cy="1681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&amp;Ocy; &amp;rcy;&amp;iecy;&amp;zcy;&amp;ucy;&amp;lcy;&amp;softcy;&amp;tcy;&amp;acy;&amp;tcy;&amp;acy;&amp;khcy; &amp;pcy;&amp;rcy;&amp;ocy;&amp;vcy;&amp;iecy;&amp;dcy;&amp;iecy;&amp;ncy;&amp;icy;&amp;yacy; &amp;mcy;&amp;ocy;&amp;ncy;&amp;icy;&amp;tcy;&amp;ocy;&amp;rcy;&amp;icy;&amp;ncy;&amp;gcy;&amp;acy; &amp;rcy;&amp;ycy;&amp;ncy;&amp;kcy;&amp;acy; &amp;kcy;&amp;acy;&amp;dcy;&amp;acy;&amp;scy;&amp;tcy;&amp;rcy;&amp;ocy;&amp;vcy;&amp;ycy;&amp;khcy; &amp;rcy;&amp;acy;&amp;bcy;&amp;ocy;&amp;tcy;. - &amp;Ncy;&amp;ocy;&amp;vcy;&amp;ocy;&amp;scy;&amp;tcy;&amp;icy; - &amp;Ucy;&amp;pcy;&amp;rcy;&amp;acy;&amp;vcy;&amp;lcy;&amp;iecy;&amp;ncy;&amp;icy;&amp;iecy; &amp;Rcy;&amp;ocy;&amp;scy;&amp;rcy;&amp;iecy;&amp;iecy;&amp;scy;&amp;tcy;&amp;rcy;&amp;acy; &amp;pcy;&amp;ocy; &amp;Vcy;&amp;ocy;&amp;rcy;&amp;ocy;&amp;ncy;&amp;iecy;&amp;zhcy;&amp;scy;&amp;kcy;&amp;ocy;&amp;jcy; &amp;ocy;&amp;bcy;&amp;lcy;&amp;acy;&amp;scy;&amp;tcy;&amp;icy; - &amp;Rcy;&amp;ocy;&amp;scy;&amp;rcy;&amp;iecy;&amp;iecy;&amp;scy;"/>
          <p:cNvPicPr/>
          <p:nvPr/>
        </p:nvPicPr>
        <p:blipFill>
          <a:blip r:embed="rId5"/>
          <a:stretch/>
        </p:blipFill>
        <p:spPr>
          <a:xfrm>
            <a:off x="539640" y="177336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23:47Z</dcterms:created>
  <dc:creator>admin</dc:creator>
  <dc:description/>
  <dc:language>en-US</dc:language>
  <cp:lastModifiedBy>Windows User</cp:lastModifiedBy>
  <cp:lastPrinted>2010-09-21T15:23:25Z</cp:lastPrinted>
  <dcterms:modified xsi:type="dcterms:W3CDTF">2015-03-31T04:43:45Z</dcterms:modified>
  <cp:revision>201</cp:revision>
  <dc:subject/>
  <dc:title>Слайд 1</dc:title>
</cp:coreProperties>
</file>