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7.gif" ContentType="image/gif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6.gif" ContentType="image/gif"/>
  <Override PartName="/ppt/media/image1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png" ContentType="image/png"/>
  <Override PartName="/ppt/media/image18.png" ContentType="image/png"/>
  <Override PartName="/ppt/media/image28.jpeg" ContentType="image/jpeg"/>
  <Override PartName="/ppt/media/image20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735763" cy="9799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735600" cy="97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1456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930708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14560" y="930708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CFAFD-807E-42BB-AA86-FE49A4C7269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Номер слайда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81A97-CF26-4B51-AA6D-5A00831B378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Номер слайда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D8BED-8125-466B-888D-29CE6468602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Номер слайда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39BD0-5F35-44C9-A07C-3E52D96CBCA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Номер слайда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CE13B-4C5C-4990-947A-929BC26632E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Номер слайда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A790C-254D-47DC-9BEB-D03945C5AD5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Номер слайда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48417-8B46-4208-8216-D312FCCF99B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Номер слайда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4BB8F-B3FC-4EC5-8BCA-881ABF171E8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985F-48CA-41B6-95A6-B61392036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4B8A-1AE2-4BE0-A9B5-E45446495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86FB-CBD1-4F9E-9FF3-F9F3130C7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6C68-10DE-41A6-BE5D-021D577C3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5AF89-ABB4-4ED6-BA03-E3E24209A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63D8B-1950-4AA5-BFA5-378E0C7AD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FBEB1-FA5E-4FEC-A16E-4C90E9F3E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94DD8-2A19-457E-B8C1-AF4F000B3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EA089-D7F1-4C5B-A7D5-CD55F28E8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D5998-A456-493D-BCBB-06873B0EB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FBC3C-EEC5-465C-8EFE-1965C5419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398C-C161-4AFE-941A-C2356AD8D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FF871-D4A2-46BB-98B5-39AB9B0B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79D37-63B8-41B2-926C-DF5307B90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0A60C-9ADE-43A4-8906-619CF6E4B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F6327-849E-4862-AAF2-0F029DBC3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7189C-B40F-4FE4-BE19-1628DD24A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4D7A09-5C4A-451C-A7CF-0721815A2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D3DE04-6D2C-40CE-ABE4-062740285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202FE9-35E9-4834-830C-D58A53603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A845B2-46C3-4675-A448-FCC041790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38B3D3-DFB0-4528-B00E-04BC2F956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4236-40E1-454C-8974-DC091E158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92C122-3605-4E17-B4B9-16CB7E5A8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F62738-0277-4290-BC53-EF4EE6538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A6C9D1-1C20-40FC-BD94-3E7C97800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776619-527C-4C6E-9C8C-F1E02B416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251D78-AED3-4756-A7BA-5296F91FD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7D0B7B-A891-4C57-9558-8A121D269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F1E037-4F09-45A7-AB04-AF611A264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B72ED-D4F5-442E-B096-A48D28C9E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EC7DA-DBA4-42C2-B82C-6D646973B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0BEF7-DD2E-46F5-8CD1-B7FC4C136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D0B5-C442-4994-B7EA-C1C565068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BB7E9-2E02-442D-B247-D18627B09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793C7-6227-4290-B32E-F78780CD3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F2916-1254-4637-B2BE-3DD49C114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F855A-B52D-4676-8720-CCB15C5AF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63C8C-655A-411F-864A-F603B0592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9E5E3-B552-4A8E-983D-FD9723FE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99C33-79C0-4EB6-8A8B-71A880C28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63715-91B6-43B3-8AA8-A6C6CA2EB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5EAF3-8C95-419B-B75A-45734CBB7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BAC3F9-38BA-43C5-8BD5-E823204B4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6789-CC4D-4CDA-BBA1-2D03299DB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D37304-3E2C-4579-8E7E-A663444D0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0729FD-993C-4360-AFE4-B658AEABE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BA3B45-2A44-4EC4-9E79-AC457F438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422BE0-B9E4-4A0B-8890-0DBDD3C54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4865EA-BD3F-4918-B88F-4838FA63E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B19958-8767-4FC5-9E3B-D4094360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851FB0-768F-4AB6-95BA-DB3CF8205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E66674-F57C-4342-B0BC-1A9057651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BDB3FC-80A9-4549-8A5C-25E7BCE37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E5FF61-6F58-428B-97D7-77E1099A9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91E5-B6E5-4665-A8D6-6CEDFB3B8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5B1279-481A-496C-A2BD-E61966CFA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382CAC-4C3D-4F02-94F8-0471BB0F6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971E86-B5A5-4C6E-8536-10E1744C2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D880B0-3DC0-4C05-92DB-42FC077EE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EDEBC4-F86D-4258-A83B-60B8A6400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D2150C-5571-48B7-BA52-C10F65C7C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03C6BC-3137-428A-B0C9-E5DAA60C1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C42140-FC73-4487-BA1C-46E7B2AD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55BE2E-125C-423E-B328-3578730B7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0612EC-CDE3-40C2-97F5-E4D43630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B1D4-DBE0-4828-9376-972D31D2B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716EC1-1FA1-4C48-A84C-3E30CD45A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533F88-2C9B-4B07-80D5-E26B176FE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E7C794-A5AD-4FA5-B87C-62ADB5209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BC0B98-61AA-470D-93D3-BE72C88A2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FA2716-81E6-41E0-A2BD-8D102148C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C9453A-5F04-4244-882B-A33BFB195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1FD6A0-FD81-4383-BCBC-5241928BE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C3F733-DA70-4B8C-8D96-4CADBCE6C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43993E-ACFD-4197-A3C7-9F1F9668B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5AF67F-1D32-4EE1-85D4-54251688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9EC7-782B-4C68-BE89-E17FE1D44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ECE3DB-6EEE-4225-BFB8-C61A9C4C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334686-B0D5-43F3-B4FB-211D4BE24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6020C9-95CE-4123-A742-C65E14EBA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365DC9-1627-4F41-856F-E2BB75843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E1DC68-9BDD-400B-8334-E1243D6A8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D08E-00A9-4346-88ED-6B271628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D7212-7CEC-477F-85A4-C0FFC3F3C3D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773AE-26E5-4C88-8696-2A103533C80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6D2FD-F01C-46B8-95BF-1EA02C4C69A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793AC-1011-4F33-95C4-B354D19BD20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A01D3-9011-47E3-B452-FE9536073D8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AB876-D24F-4946-84F2-D2536EB570C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00DA6-3CA6-4911-84B7-7746AFC6581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gif"/><Relationship Id="rId3" Type="http://schemas.openxmlformats.org/officeDocument/2006/relationships/image" Target="../media/image27.gif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908000" y="1628280"/>
            <a:ext cx="7236000" cy="189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660066"/>
                </a:solidFill>
                <a:latin typeface="Calibri Light"/>
              </a:rPr>
              <a:t>ОСНОВНАЯ ОБРАЗОВАТЕЛЬНАЯ ПРОГРАММА: ПРЕДСТАВЛЕНИЕ ОСНОВНЫХ РАЗДЕЛОВ ООП ООО, ПЛАНА МЕРОПРИЯТИЙ ПО ПОДГОТОВКЕ К ПЕРЕХОДУ НА НОВЫЙ ФГОС ООО. ПРОМЕЖУТОЧНЫЕ РЕЗУЛЬТАТЫ.</a:t>
            </a:r>
            <a:endParaRPr b="0" lang="en-US" sz="2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Text Box 4"/>
          <p:cNvSpPr/>
          <p:nvPr/>
        </p:nvSpPr>
        <p:spPr>
          <a:xfrm>
            <a:off x="2987640" y="4508640"/>
            <a:ext cx="5616720" cy="785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98502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Носова Е.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Заместитель директора МБОУ Лицея № 1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1"/>
          <p:cNvSpPr/>
          <p:nvPr/>
        </p:nvSpPr>
        <p:spPr>
          <a:xfrm>
            <a:off x="2735280" y="1631520"/>
            <a:ext cx="6408720" cy="42087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98502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Шаг 4. </a:t>
            </a:r>
            <a:r>
              <a:rPr b="1" lang="ru-RU" sz="1800" spc="-1" strike="noStrike" u="sng">
                <a:solidFill>
                  <a:srgbClr val="660066"/>
                </a:solidFill>
                <a:uFillTx/>
                <a:latin typeface="Arial"/>
              </a:rPr>
              <a:t>Определить критерии выбора (анализа) УМ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из перечня, рекомендованного Минобрнауки Росс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Symbol"/>
                <a:ea typeface="Symbol"/>
              </a:rPr>
              <a:t>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​ </a:t>
            </a:r>
            <a:r>
              <a:rPr b="1" lang="ru-RU" sz="1800" spc="-1" strike="noStrike" u="sng">
                <a:solidFill>
                  <a:srgbClr val="660066"/>
                </a:solidFill>
                <a:uFillTx/>
                <a:latin typeface="Arial"/>
              </a:rPr>
              <a:t>соответсвие целям 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основной образовательной программы О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Symbol"/>
                <a:ea typeface="Symbol"/>
              </a:rPr>
              <a:t>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​ </a:t>
            </a:r>
            <a:r>
              <a:rPr b="1" lang="ru-RU" sz="1800" spc="-1" strike="noStrike" u="sng">
                <a:solidFill>
                  <a:srgbClr val="660066"/>
                </a:solidFill>
                <a:uFillTx/>
                <a:latin typeface="Arial"/>
              </a:rPr>
              <a:t>наличие ресурсов 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для реализации данной программ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Symbol"/>
                <a:ea typeface="Symbol"/>
              </a:rPr>
              <a:t>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​ </a:t>
            </a:r>
            <a:r>
              <a:rPr b="1" lang="ru-RU" sz="1800" spc="-1" strike="noStrike" u="sng">
                <a:solidFill>
                  <a:srgbClr val="660066"/>
                </a:solidFill>
                <a:uFillTx/>
                <a:latin typeface="Arial"/>
              </a:rPr>
              <a:t>преемственность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 с программами начальной школ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Symbol"/>
                <a:ea typeface="Symbol"/>
              </a:rPr>
              <a:t>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​ </a:t>
            </a:r>
            <a:r>
              <a:rPr b="1" lang="ru-RU" sz="1800" spc="-1" strike="noStrike" u="sng">
                <a:solidFill>
                  <a:srgbClr val="660066"/>
                </a:solidFill>
                <a:uFillTx/>
                <a:latin typeface="Arial"/>
              </a:rPr>
              <a:t>статус общеобразовательного учреждения 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(типа и вид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Symbol"/>
                <a:ea typeface="Symbol"/>
              </a:rPr>
              <a:t>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​ </a:t>
            </a:r>
            <a:r>
              <a:rPr b="1" lang="ru-RU" sz="1800" spc="-1" strike="noStrike" u="sng">
                <a:solidFill>
                  <a:srgbClr val="660066"/>
                </a:solidFill>
                <a:uFillTx/>
                <a:latin typeface="Arial"/>
              </a:rPr>
              <a:t>образовательные потребности и запросы 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обучающих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Symbol"/>
                <a:ea typeface="Symbol"/>
              </a:rPr>
              <a:t>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​ </a:t>
            </a:r>
            <a:r>
              <a:rPr b="1" lang="ru-RU" sz="1800" spc="-1" strike="noStrike" u="sng">
                <a:solidFill>
                  <a:srgbClr val="660066"/>
                </a:solidFill>
                <a:uFillTx/>
                <a:latin typeface="Arial"/>
              </a:rPr>
              <a:t>особенности контингента 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обучающих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Symbol"/>
                <a:ea typeface="Symbol"/>
              </a:rPr>
              <a:t>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​ </a:t>
            </a:r>
            <a:r>
              <a:rPr b="1" lang="ru-RU" sz="1800" spc="-1" strike="noStrike" u="sng">
                <a:solidFill>
                  <a:srgbClr val="660066"/>
                </a:solidFill>
                <a:uFillTx/>
                <a:latin typeface="Arial"/>
              </a:rPr>
              <a:t>авторский замысел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 педагога и т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29" descr="C:\Users\апа\Desktop\КЛИПАРТЫ\Клипарты Горбушка\Символы\PTRAK005_.bmp"/>
          <p:cNvPicPr/>
          <p:nvPr/>
        </p:nvPicPr>
        <p:blipFill>
          <a:blip r:embed="rId1"/>
          <a:srcRect l="26569" t="0" r="0" b="78839"/>
          <a:stretch/>
        </p:blipFill>
        <p:spPr>
          <a:xfrm rot="19596000">
            <a:off x="2836440" y="394920"/>
            <a:ext cx="1569960" cy="44460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5" descr="&amp;Ucy;&amp;chcy;&amp;iecy;&amp;bcy;&amp;ncy;&amp;icy;&amp;kcy; &amp;Mcy;&amp;acy;&amp;tcy;&amp;iecy;&amp;mcy;&amp;acy;&amp;tcy;&amp;icy;&amp;kcy;&amp;acy;. 1 &amp;kcy;&amp;lcy;&amp;acy;&amp;scy;&amp;scy;. &amp;Ecy;&amp;lcy;&amp;iecy;&amp;kcy;&amp;tcy;&amp;rcy;&amp;ocy;&amp;ncy;&amp;ncy;&amp;ocy;&amp;iecy; &amp;pcy;&amp;rcy;&amp;icy;&amp;lcy;&amp;ocy;&amp;zhcy;&amp;iecy;&amp;ncy;&amp;icy;&amp;iecy; &amp;kcy; &amp;ucy;&amp;chcy;&amp;iecy;&amp;bcy;&amp;ncy;&amp;icy;&amp;kcy;&amp;ucy; &amp;Gcy;. &amp;Vcy;. &amp;Dcy;&amp;ocy;&amp;rcy;&amp;ocy;&amp;fcy;&amp;iecy;&amp;iecy;&amp;vcy;&amp;acy;, &amp;Tcy;. &amp;Ncy;. &amp;Mcy;&amp;icy;&amp;rcy;&amp;acy;&amp;kcy;&amp;ocy;&amp;vcy;&amp;ocy;&amp;jcy; (&amp;acy;&amp;ucy;&amp;dcy;&amp;icy;&amp;ocy;&amp;kcy;&amp;ucy;&amp;rcy;&amp;scy; &amp;ncy;&amp;acy; CD) - &amp;pcy;&amp;rcy;&amp;ocy;&amp;scy;&amp;vcy;&amp;iecy;&amp;shchcy;&amp;iecy;&amp;ncy;&amp;icy;&amp;iecy;"/>
          <p:cNvPicPr/>
          <p:nvPr/>
        </p:nvPicPr>
        <p:blipFill>
          <a:blip r:embed="rId2"/>
          <a:stretch/>
        </p:blipFill>
        <p:spPr>
          <a:xfrm>
            <a:off x="395280" y="3357720"/>
            <a:ext cx="2206800" cy="33112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7" descr="&amp;Ucy;&amp;scy;&amp;pcy;&amp;iecy;&amp;khcy; &amp;Bcy;&amp;iecy;&amp;rcy;&amp;ucy; - Part 20"/>
          <p:cNvPicPr/>
          <p:nvPr/>
        </p:nvPicPr>
        <p:blipFill>
          <a:blip r:embed="rId3"/>
          <a:stretch/>
        </p:blipFill>
        <p:spPr>
          <a:xfrm>
            <a:off x="179280" y="907920"/>
            <a:ext cx="2494080" cy="1873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29" descr="C:\Users\апа\Desktop\КЛИПАРТЫ\Клипарты Горбушка\Символы\PTRAK005_.bmp"/>
          <p:cNvPicPr/>
          <p:nvPr/>
        </p:nvPicPr>
        <p:blipFill>
          <a:blip r:embed="rId1"/>
          <a:srcRect l="26569" t="0" r="0" b="78839"/>
          <a:stretch/>
        </p:blipFill>
        <p:spPr>
          <a:xfrm rot="19596000">
            <a:off x="1828440" y="394920"/>
            <a:ext cx="1569960" cy="44460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1"/>
          <p:cNvSpPr/>
          <p:nvPr/>
        </p:nvSpPr>
        <p:spPr>
          <a:xfrm>
            <a:off x="2614680" y="819720"/>
            <a:ext cx="6205320" cy="4786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98502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Шаг 5. </a:t>
            </a:r>
            <a:r>
              <a:rPr b="1" lang="ru-RU" sz="2800" spc="-1" strike="noStrike" u="sng">
                <a:solidFill>
                  <a:srgbClr val="660066"/>
                </a:solidFill>
                <a:uFillTx/>
                <a:latin typeface="Arial"/>
              </a:rPr>
              <a:t>Выбрать (проанализировать) УМК 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(примерную общеобразовательную программу и соответствующий учебник) на основании выдвинутых критериев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и </a:t>
            </a:r>
            <a:r>
              <a:rPr b="1" lang="ru-RU" sz="2800" spc="-1" strike="noStrike" u="sng">
                <a:solidFill>
                  <a:srgbClr val="660066"/>
                </a:solidFill>
                <a:uFillTx/>
                <a:latin typeface="Arial"/>
              </a:rPr>
              <a:t>определить объём необходимых  изменений 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в примерную общеобразовательную програм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4" descr="http://www.xxlbook.ru/img456054.png"/>
          <p:cNvPicPr/>
          <p:nvPr/>
        </p:nvPicPr>
        <p:blipFill>
          <a:blip r:embed="rId2"/>
          <a:stretch/>
        </p:blipFill>
        <p:spPr>
          <a:xfrm>
            <a:off x="539640" y="3213000"/>
            <a:ext cx="2013120" cy="28083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http://www.sprinter.ru/pic/big/9a63ee8bad463484aa3c9bbc075a8fff.jpg"/>
          <p:cNvPicPr/>
          <p:nvPr/>
        </p:nvPicPr>
        <p:blipFill>
          <a:blip r:embed="rId3"/>
          <a:stretch/>
        </p:blipFill>
        <p:spPr>
          <a:xfrm>
            <a:off x="324000" y="549360"/>
            <a:ext cx="155880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29" descr="C:\Users\апа\Desktop\КЛИПАРТЫ\Клипарты Горбушка\Символы\PTRAK005_.bmp"/>
          <p:cNvPicPr/>
          <p:nvPr/>
        </p:nvPicPr>
        <p:blipFill>
          <a:blip r:embed="rId1"/>
          <a:srcRect l="26569" t="0" r="0" b="78839"/>
          <a:stretch/>
        </p:blipFill>
        <p:spPr>
          <a:xfrm rot="19596000">
            <a:off x="460080" y="394920"/>
            <a:ext cx="1569960" cy="44460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1"/>
          <p:cNvSpPr/>
          <p:nvPr/>
        </p:nvSpPr>
        <p:spPr>
          <a:xfrm>
            <a:off x="1979640" y="555480"/>
            <a:ext cx="6624720" cy="1465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98502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Шаг 6. </a:t>
            </a:r>
            <a:r>
              <a:rPr b="1" lang="ru-RU" sz="1800" spc="-1" strike="noStrike" u="sng">
                <a:solidFill>
                  <a:srgbClr val="660066"/>
                </a:solidFill>
                <a:uFillTx/>
                <a:latin typeface="Arial"/>
              </a:rPr>
              <a:t>Сформулировать цель рабочей программы. 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Формулировка цели в рабочей программе возможна в виде формулировки ожидаемых результатов, что соответствует требованиям к ожидаемым результатам, зафиксированным во ФГОС ОО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Схема 9" descr=""/>
          <p:cNvPicPr/>
          <p:nvPr/>
        </p:nvPicPr>
        <p:blipFill>
          <a:blip r:embed="rId2"/>
          <a:stretch/>
        </p:blipFill>
        <p:spPr>
          <a:xfrm>
            <a:off x="-12600" y="2322360"/>
            <a:ext cx="6254640" cy="381636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8" descr="http://sales.alt700.com/attachments/Image/Cel-Uspeh.jpg?1389566622298"/>
          <p:cNvPicPr/>
          <p:nvPr/>
        </p:nvPicPr>
        <p:blipFill>
          <a:blip r:embed="rId3"/>
          <a:stretch/>
        </p:blipFill>
        <p:spPr>
          <a:xfrm>
            <a:off x="6227640" y="2997360"/>
            <a:ext cx="2916360" cy="23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"/>
          <p:cNvSpPr/>
          <p:nvPr/>
        </p:nvSpPr>
        <p:spPr>
          <a:xfrm>
            <a:off x="2087640" y="129600"/>
            <a:ext cx="7056360" cy="1739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98502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Шаг 7. </a:t>
            </a:r>
            <a:r>
              <a:rPr b="1" lang="ru-RU" sz="1800" spc="-1" strike="noStrike" u="sng">
                <a:solidFill>
                  <a:srgbClr val="660066"/>
                </a:solidFill>
                <a:uFillTx/>
                <a:latin typeface="Arial"/>
              </a:rPr>
              <a:t>Внести изменения в содержание 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примерной общеобразовательной программы по выбранному курсу на основании требований к рабочей программе по предмету, ориентированной на проектное обучение,</a:t>
            </a: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а имен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​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9" descr="C:\Users\апа\Desktop\КЛИПАРТЫ\Клипарты Горбушка\Символы\PTRAK005_.bmp"/>
          <p:cNvPicPr/>
          <p:nvPr/>
        </p:nvPicPr>
        <p:blipFill>
          <a:blip r:embed="rId1"/>
          <a:srcRect l="0" t="0" r="78851" b="26573"/>
          <a:stretch/>
        </p:blipFill>
        <p:spPr>
          <a:xfrm>
            <a:off x="1258920" y="260280"/>
            <a:ext cx="444600" cy="1569960"/>
          </a:xfrm>
          <a:prstGeom prst="rect">
            <a:avLst/>
          </a:prstGeom>
          <a:ln w="0">
            <a:noFill/>
          </a:ln>
        </p:spPr>
      </p:pic>
      <p:sp>
        <p:nvSpPr>
          <p:cNvPr id="404" name="Прямоугольник 4"/>
          <p:cNvSpPr/>
          <p:nvPr/>
        </p:nvSpPr>
        <p:spPr>
          <a:xfrm>
            <a:off x="2610000" y="1628640"/>
            <a:ext cx="653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  <a:ea typeface="Arial"/>
              </a:rPr>
              <a:t>Определить на основании возрастных особенностей школьников возможность использования разнообразных образовательных технологий и приёмов педагогической техники для решения основных целей програм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  <a:ea typeface="Arial"/>
              </a:rPr>
              <a:t>Учесть специфику проектно-дифференцированного обучения: направленность на формирование проектной компетентности, межпредметные связи, наличие внешних и внутренних ресур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  <a:ea typeface="Arial"/>
              </a:rPr>
              <a:t>Объяснить связь курса с формированием умений проектной деятельности, необходимость выделения проектных модулей</a:t>
            </a:r>
            <a:r>
              <a:rPr b="0" lang="ru-RU" sz="1800" spc="-1" strike="noStrike">
                <a:solidFill>
                  <a:srgbClr val="660066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6" descr="24 &amp;Acy;&amp;vcy;&amp;gcy;&amp;ucy;&amp;scy;&amp;tcy; 2012 &amp;Pcy;&amp;ucy;&amp;tcy;&amp;softcy; &amp;kcy; &amp;ucy;&amp;scy;&amp;pcy;&amp;iecy;&amp;khcy;&amp;ucy;"/>
          <p:cNvPicPr/>
          <p:nvPr/>
        </p:nvPicPr>
        <p:blipFill>
          <a:blip r:embed="rId2"/>
          <a:stretch/>
        </p:blipFill>
        <p:spPr>
          <a:xfrm>
            <a:off x="2484360" y="5157720"/>
            <a:ext cx="583272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1"/>
          <p:cNvSpPr/>
          <p:nvPr/>
        </p:nvSpPr>
        <p:spPr>
          <a:xfrm>
            <a:off x="971640" y="408960"/>
            <a:ext cx="7777080" cy="11912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98502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Шаг 8. </a:t>
            </a:r>
            <a:r>
              <a:rPr b="1" lang="ru-RU" sz="1800" spc="-1" strike="noStrike" u="sng">
                <a:solidFill>
                  <a:srgbClr val="660066"/>
                </a:solidFill>
                <a:uFillTx/>
                <a:latin typeface="Arial"/>
              </a:rPr>
              <a:t>Определить общие способы (методы) оценки 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достигнутых предметных, метапредметных и личностных результатов. Определить необходимость практических, самостоятельных и контрольных работ для оценки достигнутых результа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29" descr="C:\Users\апа\Desktop\КЛИПАРТЫ\Клипарты Горбушка\Символы\PTRAK005_.bmp"/>
          <p:cNvPicPr/>
          <p:nvPr/>
        </p:nvPicPr>
        <p:blipFill>
          <a:blip r:embed="rId1"/>
          <a:srcRect l="0" t="0" r="78851" b="26573"/>
          <a:stretch/>
        </p:blipFill>
        <p:spPr>
          <a:xfrm>
            <a:off x="324000" y="0"/>
            <a:ext cx="444240" cy="1569960"/>
          </a:xfrm>
          <a:prstGeom prst="rect">
            <a:avLst/>
          </a:prstGeom>
          <a:ln w="0">
            <a:noFill/>
          </a:ln>
        </p:spPr>
      </p:pic>
      <p:sp>
        <p:nvSpPr>
          <p:cNvPr id="408" name="Прямоугольник 4"/>
          <p:cNvSpPr/>
          <p:nvPr/>
        </p:nvSpPr>
        <p:spPr>
          <a:xfrm>
            <a:off x="2484360" y="1916280"/>
            <a:ext cx="624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Текущая оценка сформированности проектных компетенций школьников может проходит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в процессе промежуточной рефлексии того метапредметного действия, на формирование которого был направлен уро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2) в процессе реализации практических рабо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3) в процессе реализации межпредметных проектных модул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6" descr="&amp;Ocy;&amp;pcy;&amp;iecy;&amp;rcy;&amp;acy;&amp;tcy;&amp;icy;&amp;vcy;&amp;ncy;&amp;ycy;&amp;iecy; &amp;ocy;&amp;bcy;&amp;hardcy;&amp;vcy;&amp;lcy;&amp;iecy;&amp;ncy;&amp;icy;&amp;yacy; - &amp;Ncy;&amp;ocy;&amp;vcy;&amp;ocy;&amp;scy;&amp;tcy;&amp;icy; - &amp;Mcy;&amp;Ocy;&amp;Bcy;&amp;Ucy; &quot;&amp;Scy;&amp;Ocy;&amp;SHcy; 5&quot; &amp;gcy;. &amp;Ocy;&amp;rcy;&amp;iecy;&amp;ncy;&amp;bcy;&amp;ucy;&amp;rcy;&amp;gcy;&amp;acy;"/>
          <p:cNvPicPr/>
          <p:nvPr/>
        </p:nvPicPr>
        <p:blipFill>
          <a:blip r:embed="rId2"/>
          <a:stretch/>
        </p:blipFill>
        <p:spPr>
          <a:xfrm>
            <a:off x="324000" y="2133720"/>
            <a:ext cx="2009520" cy="33480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0" descr="&amp;Vcy; &amp;Rcy;&amp;ocy;&amp;scy;&amp;scy;&amp;icy;&amp;icy; &amp;scy;&amp;ocy;&amp;scy;&amp;tcy;&amp;acy;&amp;vcy;&amp;yacy;&amp;tcy; &amp;rcy;&amp;iecy;&amp;jcy;&amp;tcy;&amp;icy;&amp;ncy;&amp;gcy; &amp;scy;&amp;ocy;&amp;tscy;&amp;icy;&amp;acy;&amp;lcy;&amp;softcy;&amp;ncy;&amp;ycy;&amp;khcy; &amp;ucy;&amp;chcy;&amp;rcy;&amp;iecy;&amp;zhcy;&amp;dcy;&amp;iecy;&amp;ncy;&amp;icy;&amp;jcy; - NewsProm.Ru"/>
          <p:cNvPicPr/>
          <p:nvPr/>
        </p:nvPicPr>
        <p:blipFill>
          <a:blip r:embed="rId3"/>
          <a:stretch/>
        </p:blipFill>
        <p:spPr>
          <a:xfrm>
            <a:off x="3276720" y="4365720"/>
            <a:ext cx="2950920" cy="201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1"/>
          <p:cNvSpPr/>
          <p:nvPr/>
        </p:nvSpPr>
        <p:spPr>
          <a:xfrm>
            <a:off x="1835280" y="848160"/>
            <a:ext cx="7127640" cy="25628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98502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Шаг 9. </a:t>
            </a:r>
            <a:r>
              <a:rPr b="1" lang="ru-RU" sz="1800" spc="-1" strike="noStrike" u="sng">
                <a:solidFill>
                  <a:srgbClr val="660066"/>
                </a:solidFill>
                <a:uFillTx/>
                <a:latin typeface="Arial"/>
              </a:rPr>
              <a:t>Определить те разделы и темы в содержании курса, в рамках изучения которых возможна реализации проектного моду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Определить цели и ожидаемые результаты проектных моду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Распределить часы, отведенные на изучение данного раздела /темы таким образом, чтобы школьники освоили полный цикл проектн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29" descr="C:\Users\апа\Desktop\КЛИПАРТЫ\Клипарты Горбушка\Символы\PTRAK005_.bmp"/>
          <p:cNvPicPr/>
          <p:nvPr/>
        </p:nvPicPr>
        <p:blipFill>
          <a:blip r:embed="rId1"/>
          <a:srcRect l="0" t="0" r="78851" b="26573"/>
          <a:stretch/>
        </p:blipFill>
        <p:spPr>
          <a:xfrm>
            <a:off x="1258920" y="189000"/>
            <a:ext cx="444600" cy="156996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5" descr="&amp;Ncy;&amp;ocy;&amp;vcy;&amp;ocy;&amp;scy;&amp;tcy;&amp;icy; &amp;Acy;&amp;rcy;&amp;khcy;&amp;icy;&amp;tcy;&amp;iecy;&amp;kcy;&amp;tcy;&amp;ucy;&amp;rcy;&amp;acy; &amp;icy; &amp;scy;&amp;tcy;&amp;rcy;&amp;ocy;&amp;icy;&amp;tcy;&amp;iecy;&amp;lcy;&amp;softcy;&amp;scy;&amp;tcy;&amp;vcy;&amp;ocy;"/>
          <p:cNvPicPr/>
          <p:nvPr/>
        </p:nvPicPr>
        <p:blipFill>
          <a:blip r:embed="rId2"/>
          <a:stretch/>
        </p:blipFill>
        <p:spPr>
          <a:xfrm>
            <a:off x="3419640" y="3789360"/>
            <a:ext cx="3744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1"/>
          <p:cNvSpPr/>
          <p:nvPr/>
        </p:nvSpPr>
        <p:spPr>
          <a:xfrm>
            <a:off x="306360" y="1921320"/>
            <a:ext cx="8569440" cy="11912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98502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Шаг 10. </a:t>
            </a:r>
            <a:r>
              <a:rPr b="1" lang="ru-RU" sz="1800" spc="-1" strike="noStrike" u="sng">
                <a:solidFill>
                  <a:srgbClr val="660066"/>
                </a:solidFill>
                <a:uFillTx/>
                <a:latin typeface="Arial"/>
              </a:rPr>
              <a:t>Заполнить «сетку» тематического план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29" descr="C:\Users\апа\Desktop\КЛИПАРТЫ\Клипарты Горбушка\Символы\PTRAK005_.bmp"/>
          <p:cNvPicPr/>
          <p:nvPr/>
        </p:nvPicPr>
        <p:blipFill>
          <a:blip r:embed="rId1"/>
          <a:srcRect l="0" t="0" r="78851" b="26573"/>
          <a:stretch/>
        </p:blipFill>
        <p:spPr>
          <a:xfrm>
            <a:off x="611280" y="404640"/>
            <a:ext cx="444240" cy="157032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5" descr="&amp;Ncy;&amp;ocy;&amp;vcy;&amp;ocy;&amp;scy;&amp;tcy;&amp;icy; &amp;Acy;&amp;rcy;&amp;khcy;&amp;icy;&amp;tcy;&amp;iecy;&amp;kcy;&amp;tcy;&amp;ucy;&amp;rcy;&amp;acy; &amp;icy; &amp;scy;&amp;tcy;&amp;rcy;&amp;ocy;&amp;icy;&amp;tcy;&amp;iecy;&amp;lcy;&amp;softcy;&amp;scy;&amp;tcy;&amp;vcy;&amp;ocy;"/>
          <p:cNvPicPr/>
          <p:nvPr/>
        </p:nvPicPr>
        <p:blipFill>
          <a:blip r:embed="rId2"/>
          <a:stretch/>
        </p:blipFill>
        <p:spPr>
          <a:xfrm>
            <a:off x="6372360" y="5373720"/>
            <a:ext cx="1728720" cy="1295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7" name=""/>
          <p:cNvGraphicFramePr/>
          <p:nvPr/>
        </p:nvGraphicFramePr>
        <p:xfrm>
          <a:off x="828720" y="3429000"/>
          <a:ext cx="6570720" cy="853920"/>
        </p:xfrm>
        <a:graphic>
          <a:graphicData uri="http://schemas.openxmlformats.org/drawingml/2006/table">
            <a:tbl>
              <a:tblPr/>
              <a:tblGrid>
                <a:gridCol w="644400"/>
                <a:gridCol w="1185840"/>
                <a:gridCol w="1042920"/>
                <a:gridCol w="1047960"/>
                <a:gridCol w="2649600"/>
              </a:tblGrid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28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40288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28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40288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28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40288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по план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28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40288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(факт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28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40288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стика основных видов деятельности учащих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 gridSpan="5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28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40288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раздела, количество ча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28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40288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28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40288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28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40288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28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40288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28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40288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1"/>
          <p:cNvSpPr/>
          <p:nvPr/>
        </p:nvSpPr>
        <p:spPr>
          <a:xfrm>
            <a:off x="312840" y="1583640"/>
            <a:ext cx="8604000" cy="3598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98502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Шаг 11. </a:t>
            </a:r>
            <a:r>
              <a:rPr b="1" lang="ru-RU" sz="1800" spc="-1" strike="noStrike" u="sng">
                <a:solidFill>
                  <a:srgbClr val="660066"/>
                </a:solidFill>
                <a:uFillTx/>
                <a:latin typeface="Arial"/>
              </a:rPr>
              <a:t>Разработать и включить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 в рабочую программу в качестве приложений дидактические задания практических работ, соответствующие образовательным целям и продуктам деятельности ученика на урок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- Определить алгоритм действий во время практических рабо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- Использовать выработанные правила сотрудничества при проведении практических рабо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Составить «задания- маркеры» по оцениванию познавательных, регулятивных и коммуникативных универсальных учебных действий, по возможности включить их в состав практических рабо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29" descr="C:\Users\апа\Desktop\КЛИПАРТЫ\Клипарты Горбушка\Символы\PTRAK005_.bmp"/>
          <p:cNvPicPr/>
          <p:nvPr/>
        </p:nvPicPr>
        <p:blipFill>
          <a:blip r:embed="rId1"/>
          <a:srcRect l="0" t="0" r="78851" b="26573"/>
          <a:stretch/>
        </p:blipFill>
        <p:spPr>
          <a:xfrm>
            <a:off x="108000" y="0"/>
            <a:ext cx="444600" cy="156996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7" descr="Reflector Telescopes On Sale Reflecting Telescope Chase The Vortex"/>
          <p:cNvPicPr/>
          <p:nvPr/>
        </p:nvPicPr>
        <p:blipFill>
          <a:blip r:embed="rId2"/>
          <a:stretch/>
        </p:blipFill>
        <p:spPr>
          <a:xfrm>
            <a:off x="5651640" y="4941720"/>
            <a:ext cx="224784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2" descr="&amp;kcy;&amp;rcy;&amp;acy;&amp;scy;&amp;ncy;&amp;ycy;&amp;jcy; - &amp;zcy;&amp;ncy;&amp;acy;&amp;kcy; - &amp;vcy;&amp;ocy;&amp;pcy;&amp;rcy;&amp;ocy;&amp;scy;&amp;iecy; - &amp;kcy;&amp;rcy;&amp;ycy;&amp;shcy;&amp;icy; - &amp;bcy;&amp;icy;&amp;zcy;&amp;ncy;&amp;iecy;&amp;scy;&amp;acy; - &amp;scy;&amp;iecy;&amp;mcy;&amp;softcy;&amp;icy; - &amp;Scy;&amp;tcy;&amp;ocy;&amp;kcy;-&amp;fcy;&amp;ocy;&amp;tcy;&amp;ocy; Mikhail Aksenko (Ciklamen) (#1861720) Stockfresh"/>
          <p:cNvPicPr/>
          <p:nvPr/>
        </p:nvPicPr>
        <p:blipFill>
          <a:blip r:embed="rId1"/>
          <a:stretch/>
        </p:blipFill>
        <p:spPr>
          <a:xfrm>
            <a:off x="1619280" y="549360"/>
            <a:ext cx="5977080" cy="5975280"/>
          </a:xfrm>
          <a:prstGeom prst="rect">
            <a:avLst/>
          </a:prstGeom>
          <a:ln w="0">
            <a:noFill/>
          </a:ln>
        </p:spPr>
      </p:pic>
      <p:sp>
        <p:nvSpPr>
          <p:cNvPr id="422" name="Прямоугольник 4"/>
          <p:cNvSpPr/>
          <p:nvPr/>
        </p:nvSpPr>
        <p:spPr>
          <a:xfrm>
            <a:off x="2627280" y="260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Творческих успехов и эффективной работы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1" descr="F:\анимашки2\112[1].gif"/>
          <p:cNvPicPr/>
          <p:nvPr/>
        </p:nvPicPr>
        <p:blipFill>
          <a:blip r:embed="rId2"/>
          <a:stretch/>
        </p:blipFill>
        <p:spPr>
          <a:xfrm>
            <a:off x="179280" y="5300640"/>
            <a:ext cx="1079640" cy="133200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2" descr="C:\Users\Filipok\Desktop\4385692-11d69fd026f9c278.gif"/>
          <p:cNvPicPr/>
          <p:nvPr/>
        </p:nvPicPr>
        <p:blipFill>
          <a:blip r:embed="rId3"/>
          <a:stretch/>
        </p:blipFill>
        <p:spPr>
          <a:xfrm>
            <a:off x="7667640" y="0"/>
            <a:ext cx="1166760" cy="12016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4" descr="http://www.dkvartal.ru/system/images/news/000/423/029_x_large_origin_copyright.jpg?1369805826"/>
          <p:cNvPicPr/>
          <p:nvPr/>
        </p:nvPicPr>
        <p:blipFill>
          <a:blip r:embed="rId4"/>
          <a:stretch/>
        </p:blipFill>
        <p:spPr>
          <a:xfrm>
            <a:off x="3059280" y="3789360"/>
            <a:ext cx="32749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991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НОРМАТИВНО – ПРАВОВОЕ ОБЕСПЕЧЕНИЕ ФГОС ООО</a:t>
            </a:r>
            <a:endParaRPr b="0" lang="en-US" sz="2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68000" y="836280"/>
            <a:ext cx="74674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Приказ МОРФ от 17.12.2010 г. № 1897 «Об утверждении федерального государственного образовательного стандарта основного общего образования»;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Примерная основная образовательная программа образовательного учреждения (находится на стадии разработки);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Приказ МОНО от 17.02.2015 г. № 316-01-100-468/15 «О направлении методических рекомендаций по реализации ФГОС ООО в 5 классах»;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Методическое письмо ГБОУ ДПО НИРО о реализации в 5 классах ФГОС ООО по предметным областям и учебным предметам;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План мероприятий по обеспечению внедрения федерального государственного образовательного стандарта  (ФГОС) в общеобразовательных учреждениях Автозаводского района г. Нижнего Новгорода на 2014-2015 учебный год от 12.09.2014 № 1945/2;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Приказ МБОУ Лицея № 165 от 05.11.2014 № 842 «Об утверждении Плана мероприятий по внедрению ФГОС ООО в МБОУ Лицее № 165»;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Приказ МБОУ Лицея № 165 от 02.02.2015 № 155 «Об утверждении Положения о рабочей группе по введению ФГОС ООО»;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Приказ МБОУ Лицея № 165 от 02.02.2015 № 156 «Об утверждении состава рабочей группы по введению ФГОС ООО, разработке ООП ООО»;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Положение о рабочей программе МБОУ Лицея № 165 имени 65-летия «ГАЗ», утв приказом от 29.08.2014 г. № 544;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entury Schoolbook"/>
              </a:rPr>
              <a:t>Основная образовательная программа основного общего образования МБОУ Лицея № 165 имени 65-летия «ГАЗ» (в процессе разработки)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610920" y="404280"/>
            <a:ext cx="746748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Структура основной образовательной программы основного общего образован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@Arial Unicode MS"/>
              </a:rPr>
              <a:t>1. Целевой раздел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@Arial Unicode MS"/>
              </a:rPr>
              <a:t>1.1. Пояснительная записк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@Arial Unicode MS"/>
              </a:rPr>
              <a:t>1.2. Планируемые результаты освоения обучающимися основной образовательной программы основного общего образования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.3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истема оценки достижения планируемых результатов освоения основной образовательной программы основного общего образования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держательный раздел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.1. Программа развития универсальных учебных действий на ступени основного общего образования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.2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Программы отдельных учебных предметов, курсов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.3. Программа воспитания и социализации обучающихся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.4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грамма коррекционной работы  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3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рганизационный раздел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3.1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Примерный учебный план основного общего образования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3.2. Система условий реализации основной образовательной программы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entury Schoolbook"/>
              </a:rPr>
              <a:t>Приложения (рабочие программы учебных предметов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РИМЕРНЫЙ УЧЕБНЫЙ ПЛАН 5 КЛАСС ФГОС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900000" y="692280"/>
          <a:ext cx="7201080" cy="5695920"/>
        </p:xfrm>
        <a:graphic>
          <a:graphicData uri="http://schemas.openxmlformats.org/drawingml/2006/table">
            <a:tbl>
              <a:tblPr/>
              <a:tblGrid>
                <a:gridCol w="3157560"/>
                <a:gridCol w="1595520"/>
                <a:gridCol w="1368360"/>
                <a:gridCol w="1079640"/>
              </a:tblGrid>
              <a:tr h="434520">
                <a:tc rowSpan="2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метные обла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ебные предметы/клас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о часов в недел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Бы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клас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 клас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400">
                <a:tc gridSpan="3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язательная ч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400">
                <a:tc rowSpan="3"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л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усский язык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итера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нглийский язы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4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тематика и информа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тема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400">
                <a:tc rowSpan="2"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ственно научные предме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общая исто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еограф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стественно - научные предме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и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400">
                <a:tc rowSpan="2"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кус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зы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4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хн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хн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ическая культура и основы безопасности жизне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ическая куль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400">
                <a:tc gridSpan="2"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т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400">
                <a:tc gridSpan="3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асть, формируемая участниками образовательных отнош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5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тематика и информатик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форматика и ИК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24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ственно - научные предме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ствозн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520">
                <a:tc gridSpan="2"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симально допустимая недельная нагрузка (пятидневная учебная недел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Прямоугольник 3"/>
          <p:cNvSpPr/>
          <p:nvPr/>
        </p:nvSpPr>
        <p:spPr>
          <a:xfrm>
            <a:off x="2556000" y="1413000"/>
            <a:ext cx="597672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e75c01"/>
                </a:solidFill>
                <a:uFillTx/>
                <a:latin typeface="Calibri Light"/>
                <a:ea typeface="Times New Roman"/>
              </a:rPr>
              <a:t>Рабочая программа по предмету являе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- </a:t>
            </a:r>
            <a:r>
              <a:rPr b="1" lang="ru-RU" sz="1800" spc="-1" strike="noStrike">
                <a:solidFill>
                  <a:srgbClr val="660066"/>
                </a:solidFill>
                <a:latin typeface="Calibri Light"/>
                <a:ea typeface="Times New Roman"/>
              </a:rPr>
              <a:t>локальным </a:t>
            </a:r>
            <a:r>
              <a:rPr b="0" lang="ru-RU" sz="1800" spc="-1" strike="noStrike">
                <a:solidFill>
                  <a:srgbClr val="660066"/>
                </a:solidFill>
                <a:latin typeface="Calibri Light"/>
                <a:ea typeface="Times New Roman"/>
              </a:rPr>
              <a:t>(созданным для определенного образовательного учреждения) и </a:t>
            </a:r>
            <a:r>
              <a:rPr b="1" lang="ru-RU" sz="1800" spc="-1" strike="noStrike">
                <a:solidFill>
                  <a:srgbClr val="660066"/>
                </a:solidFill>
                <a:latin typeface="Calibri Light"/>
                <a:ea typeface="Times New Roman"/>
              </a:rPr>
              <a:t>индивидуальным</a:t>
            </a:r>
            <a:r>
              <a:rPr b="0" lang="ru-RU" sz="1800" spc="-1" strike="noStrike">
                <a:solidFill>
                  <a:srgbClr val="660066"/>
                </a:solidFill>
                <a:latin typeface="Calibri Light"/>
                <a:ea typeface="Times New Roman"/>
              </a:rPr>
              <a:t> (разработанным учителем для своей деятельности) </a:t>
            </a:r>
            <a:r>
              <a:rPr b="1" lang="ru-RU" sz="1800" spc="-1" strike="noStrike">
                <a:solidFill>
                  <a:srgbClr val="660066"/>
                </a:solidFill>
                <a:latin typeface="Calibri Light"/>
                <a:ea typeface="Times New Roman"/>
              </a:rPr>
              <a:t>документом</a:t>
            </a:r>
            <a:r>
              <a:rPr b="0" lang="ru-RU" sz="1800" spc="-1" strike="noStrike">
                <a:solidFill>
                  <a:srgbClr val="660066"/>
                </a:solidFill>
                <a:latin typeface="Calibri Light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Calibri Light"/>
                <a:ea typeface="Times New Roman"/>
              </a:rPr>
              <a:t>- </a:t>
            </a:r>
            <a:r>
              <a:rPr b="1" lang="ru-RU" sz="1800" spc="-1" strike="noStrike">
                <a:solidFill>
                  <a:srgbClr val="660066"/>
                </a:solidFill>
                <a:latin typeface="Calibri Light"/>
                <a:ea typeface="Times New Roman"/>
              </a:rPr>
              <a:t>нормативно-управленческим документом </a:t>
            </a:r>
            <a:r>
              <a:rPr b="0" lang="ru-RU" sz="1800" spc="-1" strike="noStrike">
                <a:solidFill>
                  <a:srgbClr val="660066"/>
                </a:solidFill>
                <a:latin typeface="Calibri Light"/>
                <a:ea typeface="Times New Roman"/>
              </a:rPr>
              <a:t>образовательного учреждения, характеризующим систему организации образовательной деятельности педагог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Calibri Light"/>
                <a:ea typeface="Times New Roman"/>
              </a:rPr>
              <a:t>- индивидуальным инструментом педагога</a:t>
            </a:r>
            <a:r>
              <a:rPr b="0" lang="ru-RU" sz="1800" spc="-1" strike="noStrike">
                <a:solidFill>
                  <a:srgbClr val="660066"/>
                </a:solidFill>
                <a:latin typeface="Calibri Light"/>
                <a:ea typeface="Times New Roman"/>
              </a:rPr>
              <a:t>, в котором он определяет наиболее оптимальные и эффективные для определенного класса содержание, формы, методы и приемы организации образовательного процесса с целью получения результата, соответствующего требованиям ФГО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4" descr="&amp;Kcy;&amp;acy;&amp;kcy; &amp;ncy;&amp;iecy; &amp;vcy;&amp;ycy;&amp;gcy;&amp;lcy;&amp;yacy;&amp;dcy;&amp;iecy;&amp;tcy;&amp;softcy; &amp;ncy;&amp;iecy;&amp;rcy;&amp;vcy;&amp;ncy;&amp;ycy;&amp;mcy;(&amp;ocy;&amp;jcy;)"/>
          <p:cNvPicPr/>
          <p:nvPr/>
        </p:nvPicPr>
        <p:blipFill>
          <a:blip r:embed="rId1"/>
          <a:stretch/>
        </p:blipFill>
        <p:spPr>
          <a:xfrm>
            <a:off x="324000" y="0"/>
            <a:ext cx="217152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Овал 3"/>
          <p:cNvSpPr/>
          <p:nvPr/>
        </p:nvSpPr>
        <p:spPr>
          <a:xfrm>
            <a:off x="1476360" y="549360"/>
            <a:ext cx="2158920" cy="1439640"/>
          </a:xfrm>
          <a:prstGeom prst="ellipse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Schoolbook"/>
              </a:rPr>
              <a:t>ФГОС ОО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Овал 5"/>
          <p:cNvSpPr/>
          <p:nvPr/>
        </p:nvSpPr>
        <p:spPr>
          <a:xfrm>
            <a:off x="5364000" y="692280"/>
            <a:ext cx="2016360" cy="1224000"/>
          </a:xfrm>
          <a:prstGeom prst="ellipse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Schoolbook"/>
              </a:rPr>
              <a:t>ООП ООО лицея (учебный план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Овал 6"/>
          <p:cNvSpPr/>
          <p:nvPr/>
        </p:nvSpPr>
        <p:spPr>
          <a:xfrm>
            <a:off x="3363840" y="1773360"/>
            <a:ext cx="2160720" cy="1224000"/>
          </a:xfrm>
          <a:prstGeom prst="ellipse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Schoolbook"/>
              </a:rPr>
              <a:t>УМК (базовая программа,учебник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Овал 7"/>
          <p:cNvSpPr/>
          <p:nvPr/>
        </p:nvSpPr>
        <p:spPr>
          <a:xfrm>
            <a:off x="684360" y="4653000"/>
            <a:ext cx="2232000" cy="1800360"/>
          </a:xfrm>
          <a:prstGeom prst="ellipse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Алгоритм разработки рабочей программы учи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Управляющая кнопка: справка 8"/>
          <p:cNvSpPr/>
          <p:nvPr/>
        </p:nvSpPr>
        <p:spPr>
          <a:xfrm rot="1812000">
            <a:off x="2847600" y="3108240"/>
            <a:ext cx="503280" cy="129564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1295640"/>
              <a:gd name="textAreaBottom" fmla="*/ 1263240 h 1295640"/>
            </a:gdLst>
            <a:ahLst/>
            <a:rect l="textAreaLeft" t="textAreaTop" r="textAreaRight" b="textAreaBottom"/>
            <a:pathLst>
              <a:path w="21600" h="55583">
                <a:moveTo>
                  <a:pt x="0" y="0"/>
                </a:moveTo>
                <a:lnTo>
                  <a:pt x="21600" y="0"/>
                </a:lnTo>
                <a:lnTo>
                  <a:pt x="21600" y="55583"/>
                </a:lnTo>
                <a:lnTo>
                  <a:pt x="0" y="55583"/>
                </a:lnTo>
                <a:close/>
              </a:path>
              <a:path fill="lightenLess" w="21600" h="555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55583">
                <a:moveTo>
                  <a:pt x="21600" y="0"/>
                </a:moveTo>
                <a:lnTo>
                  <a:pt x="21600" y="55583"/>
                </a:lnTo>
                <a:lnTo>
                  <a:pt x="20200" y="54183"/>
                </a:lnTo>
                <a:lnTo>
                  <a:pt x="20200" y="1400"/>
                </a:lnTo>
                <a:close/>
              </a:path>
              <a:path fill="darkenLess" w="21600" h="55583">
                <a:moveTo>
                  <a:pt x="21600" y="55583"/>
                </a:moveTo>
                <a:lnTo>
                  <a:pt x="0" y="55583"/>
                </a:lnTo>
                <a:lnTo>
                  <a:pt x="1400" y="54183"/>
                </a:lnTo>
                <a:lnTo>
                  <a:pt x="20200" y="54183"/>
                </a:lnTo>
                <a:close/>
              </a:path>
              <a:path fill="lighten" w="21600" h="55583">
                <a:moveTo>
                  <a:pt x="0" y="55583"/>
                </a:moveTo>
                <a:lnTo>
                  <a:pt x="0" y="0"/>
                </a:lnTo>
                <a:lnTo>
                  <a:pt x="1400" y="1400"/>
                </a:lnTo>
                <a:lnTo>
                  <a:pt x="1400" y="54183"/>
                </a:lnTo>
                <a:close/>
              </a:path>
              <a:path fill="darken" w="21600" h="55583">
                <a:moveTo>
                  <a:pt x="10800" y="31795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55583">
                <a:moveTo>
                  <a:pt x="11905" y="31273"/>
                </a:moveTo>
                <a:lnTo>
                  <a:pt x="11905" y="29314"/>
                </a:lnTo>
                <a:cubicBezTo>
                  <a:pt x="11905" y="28488"/>
                  <a:pt x="12236" y="27791"/>
                  <a:pt x="12837" y="27791"/>
                </a:cubicBezTo>
                <a:cubicBezTo>
                  <a:pt x="13968" y="27791"/>
                  <a:pt x="14865" y="26425"/>
                  <a:pt x="14865" y="24841"/>
                </a:cubicBezTo>
                <a:cubicBezTo>
                  <a:pt x="14865" y="22526"/>
                  <a:pt x="13011" y="20785"/>
                  <a:pt x="10800" y="20785"/>
                </a:cubicBezTo>
                <a:cubicBezTo>
                  <a:pt x="8589" y="20785"/>
                  <a:pt x="6918" y="22526"/>
                  <a:pt x="6918" y="24841"/>
                </a:cubicBezTo>
                <a:lnTo>
                  <a:pt x="8772" y="24841"/>
                </a:lnTo>
                <a:cubicBezTo>
                  <a:pt x="8772" y="23701"/>
                  <a:pt x="9695" y="22813"/>
                  <a:pt x="10800" y="22813"/>
                </a:cubicBezTo>
                <a:cubicBezTo>
                  <a:pt x="11905" y="22813"/>
                  <a:pt x="12837" y="23701"/>
                  <a:pt x="12837" y="24841"/>
                </a:cubicBezTo>
                <a:cubicBezTo>
                  <a:pt x="12837" y="25581"/>
                  <a:pt x="12367" y="26312"/>
                  <a:pt x="11905" y="26312"/>
                </a:cubicBezTo>
                <a:cubicBezTo>
                  <a:pt x="10800" y="26312"/>
                  <a:pt x="9695" y="27791"/>
                  <a:pt x="9695" y="29314"/>
                </a:cubicBezTo>
                <a:lnTo>
                  <a:pt x="9695" y="31273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оугольный треугольник 9"/>
          <p:cNvSpPr/>
          <p:nvPr/>
        </p:nvSpPr>
        <p:spPr>
          <a:xfrm rot="20877000">
            <a:off x="2352600" y="3730320"/>
            <a:ext cx="914400" cy="914400"/>
          </a:xfrm>
          <a:prstGeom prst="rtTriangle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10" descr="Seo seo &amp;vcy;&amp;ocy;&amp;pcy;&amp;rcy;&amp;ocy;&amp;scy;&amp;ycy; &amp;icy; - &amp;Pcy;&amp;acy;&amp;ncy;&amp;iecy;&amp;lcy;&amp;softcy; &amp;bcy;&amp;ycy;&amp;scy;&amp;tcy;&amp;rcy;&amp;ocy;&amp;gcy;&amp;ocy; &amp;pcy;&amp;ocy;&amp;icy;&amp;scy;&amp;kcy;&amp;acy;"/>
          <p:cNvPicPr/>
          <p:nvPr/>
        </p:nvPicPr>
        <p:blipFill>
          <a:blip r:embed="rId1"/>
          <a:stretch/>
        </p:blipFill>
        <p:spPr>
          <a:xfrm>
            <a:off x="3635280" y="3002040"/>
            <a:ext cx="5508720" cy="38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1"/>
          <p:cNvSpPr/>
          <p:nvPr/>
        </p:nvSpPr>
        <p:spPr>
          <a:xfrm>
            <a:off x="1956960" y="559080"/>
            <a:ext cx="5869800" cy="398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98502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75c01"/>
                </a:solidFill>
                <a:latin typeface="Calibri"/>
                <a:ea typeface="Times New Roman"/>
              </a:rPr>
              <a:t>Алгоритм разработки рабочей программы учит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29" descr="C:\Users\апа\Desktop\КЛИПАРТЫ\Клипарты Горбушка\Символы\PTRAK005_.bmp"/>
          <p:cNvPicPr/>
          <p:nvPr/>
        </p:nvPicPr>
        <p:blipFill>
          <a:blip r:embed="rId1"/>
          <a:srcRect l="26569" t="0" r="0" b="78839"/>
          <a:stretch/>
        </p:blipFill>
        <p:spPr>
          <a:xfrm rot="19596000">
            <a:off x="315720" y="510840"/>
            <a:ext cx="1569960" cy="44460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1"/>
          <p:cNvSpPr/>
          <p:nvPr/>
        </p:nvSpPr>
        <p:spPr>
          <a:xfrm>
            <a:off x="1692360" y="1486800"/>
            <a:ext cx="7129440" cy="916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98502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Шаг 1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660066"/>
                </a:solidFill>
                <a:uFillTx/>
                <a:latin typeface="Arial"/>
              </a:rPr>
              <a:t>Изучить требования к рабочим программам 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и </a:t>
            </a:r>
            <a:r>
              <a:rPr b="1" lang="ru-RU" sz="1800" spc="-1" strike="noStrike" u="sng">
                <a:solidFill>
                  <a:srgbClr val="660066"/>
                </a:solidFill>
                <a:uFillTx/>
                <a:latin typeface="Arial"/>
              </a:rPr>
              <a:t>определить структуру будущей рабочей програм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(Положение о рабочей программе МБОУ Лицея № 16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5"/>
          <p:cNvSpPr/>
          <p:nvPr/>
        </p:nvSpPr>
        <p:spPr>
          <a:xfrm>
            <a:off x="324000" y="2611440"/>
            <a:ext cx="8640720" cy="37530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98502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1. ориентацию в целях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2. психолого-педагогическое обоснование специфики восприятия и освоения проектной деятельности обучающимися данного возраста с описанием возможностей дифференци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3. описание проектных компетенций (в категории знает, понимает, умеет, владеет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4. описание способов формирования выделенных  компетенций: подходы, технологии, методы и средства обучения, формы организации деятельности обучающихс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5. описание системы оценки метапредметных результатов и результатов проектной деятельности, в т.ч. характеристика КИМ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6. календарно-тематическое планиров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7" descr="&amp;Zcy;&amp;dcy;&amp;ocy;&amp;rcy;&amp;ocy;&amp;vcy;&amp;softcy;&amp;iecy;. &amp;Zcy;&amp;acy;&amp;pcy;&amp;icy;&amp;scy;&amp;icy; &amp;vcy; &amp;rcy;&amp;ucy;&amp;bcy;&amp;rcy;&amp;icy;&amp;kcy;&amp;iecy; &amp;Zcy;&amp;dcy;&amp;ocy;&amp;rcy;&amp;ocy;&amp;vcy;&amp;softcy;&amp;iecy;. &amp;Dcy;&amp;ncy;&amp;iecy;&amp;vcy;&amp;ncy;&amp;icy;&amp;kcy; candra63 : LiveInternet - &amp;Rcy;&amp;ocy;&amp;scy;&amp;scy;&amp;icy;&amp;jcy;&amp;scy;&amp;kcy;&amp;icy;&amp;jcy; &amp;Scy;&amp;iecy;&amp;rcy;&amp;vcy;&amp;icy;&amp;scy; &amp;Ocy;&amp;ncy;&amp;lcy;&amp;acy;&amp;jcy;&amp;ncy;-&amp;Dcy;&amp;ncy;&amp;iecy;&amp;vcy;&amp;ncy;&amp;icy;&amp;kcy;&amp;ocy;&amp;vcy;"/>
          <p:cNvPicPr/>
          <p:nvPr/>
        </p:nvPicPr>
        <p:blipFill>
          <a:blip r:embed="rId2"/>
          <a:stretch/>
        </p:blipFill>
        <p:spPr>
          <a:xfrm>
            <a:off x="7934400" y="0"/>
            <a:ext cx="1209600" cy="142884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2" descr="&amp;Kcy;&amp;Ocy;&amp;Ncy;&amp;Kcy;&amp;Ucy;&amp;Rcy;&amp;Scy; &amp;Mcy;&amp;Icy;&amp;Ncy;&amp;Icy;&amp;Gcy;&amp;Rcy;&amp;Acy;&amp;Ncy;&amp;Tcy;&amp;Ocy;&amp;Vcy; &amp;Ncy;&amp;Acy; &amp;Pcy;&amp;Rcy;&amp;Ocy;&amp;Vcy;&amp;IEcy;&amp;Dcy;&amp;IEcy;&amp;Ncy;&amp;Icy;&amp;IEcy; &amp;Kcy;&amp;Acy;&amp;Mcy;&amp;Pcy;&amp;Acy;&amp;Ncy;&amp;Icy;&amp;Jcy; &amp;Vcy; &amp;Zcy;&amp;Acy;&amp;SHCHcy;&amp;Icy;&amp;Tcy;&amp;Ucy; &amp;Pcy;&amp;Rcy;&amp;Acy;&amp;Vcy; &amp;CHcy;&amp;IEcy;&amp;Lcy;&amp;Ocy;&amp;Vcy;&amp;IEcy;&amp;Kcy;&amp;Acy; &amp;Icy; &amp;Ocy;&amp;Bcy;&amp;SHCHcy;&amp;IEcy;&amp;Scy;&amp;Tcy;&amp;Vcy;&amp;IEcy;&amp;Ncy;&amp;Ncy;&amp;Ycy;&amp;KHcy; &amp;Icy;&amp;Ncy;&amp;Tcy;&amp;IEcy;&amp;Rcy;&amp;IEcy;&amp;Scy;&amp;Ocy;&amp;Vcy; &amp;Ocy;&amp;Tcy; PEOPLE IN NEED all-ukrainian educa"/>
          <p:cNvPicPr/>
          <p:nvPr/>
        </p:nvPicPr>
        <p:blipFill>
          <a:blip r:embed="rId3"/>
          <a:stretch/>
        </p:blipFill>
        <p:spPr>
          <a:xfrm>
            <a:off x="250920" y="1197000"/>
            <a:ext cx="1296720" cy="129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Прямоугольник 3"/>
          <p:cNvSpPr/>
          <p:nvPr/>
        </p:nvSpPr>
        <p:spPr>
          <a:xfrm>
            <a:off x="539640" y="992160"/>
            <a:ext cx="7848720" cy="46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  <a:ea typeface="Arial"/>
              </a:rPr>
              <a:t>Шаг 2. </a:t>
            </a:r>
            <a:r>
              <a:rPr b="1" lang="ru-RU" sz="2000" spc="-1" strike="noStrike" u="sng">
                <a:solidFill>
                  <a:srgbClr val="660066"/>
                </a:solidFill>
                <a:uFillTx/>
                <a:latin typeface="Arial"/>
                <a:ea typeface="Arial"/>
              </a:rPr>
              <a:t>Изучить требования к ожидаемым образовательным результатам,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  <a:ea typeface="Arial"/>
              </a:rPr>
              <a:t> зафиксированных в Федеральном государственном образовательном стандарте основного общего образования и целях основной образовательной программы основного общего образования школ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29" descr="C:\Users\апа\Desktop\КЛИПАРТЫ\Клипарты Горбушка\Символы\PTRAK005_.bmp"/>
          <p:cNvPicPr/>
          <p:nvPr/>
        </p:nvPicPr>
        <p:blipFill>
          <a:blip r:embed="rId1"/>
          <a:srcRect l="26569" t="0" r="0" b="78839"/>
          <a:stretch/>
        </p:blipFill>
        <p:spPr>
          <a:xfrm rot="19596000">
            <a:off x="-7920" y="151920"/>
            <a:ext cx="1569960" cy="4446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5" descr="&amp;Fcy;&amp;Gcy;&amp;Ocy;&amp;Scy; &amp;Ocy;&amp;Ocy;&amp;Ocy;"/>
          <p:cNvPicPr/>
          <p:nvPr/>
        </p:nvPicPr>
        <p:blipFill>
          <a:blip r:embed="rId2"/>
          <a:stretch/>
        </p:blipFill>
        <p:spPr>
          <a:xfrm>
            <a:off x="4238640" y="3284640"/>
            <a:ext cx="4321080" cy="175104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9" descr="&amp;Scy;&amp;acy;&amp;jcy;&amp;tcy;-&amp;pcy;&amp;ocy;&amp;rcy;&amp;tcy;&amp;fcy;&amp;ocy;&amp;lcy;&amp;icy;&amp;ocy; &amp;Gcy;&amp;ocy;&amp;rcy;&amp;bcy;&amp;iecy;&amp;ncy;&amp;kcy;&amp;ocy; &amp;Scy;.&amp;Vcy;. - &amp;Icy;&amp;scy;&amp;scy;&amp;lcy;&amp;iecy;&amp;dcy;&amp;ocy;&amp;vcy;&amp;acy;&amp;tcy;&amp;iecy;&amp;lcy;&amp;softcy;&amp;scy;&amp;kcy;&amp;acy;&amp;yacy; &amp;dcy;&amp;iecy;&amp;yacy;&amp;tcy;&amp;iecy;&amp;lcy;&amp;softcy;&amp;ncy;&amp;ocy;&amp;scy;&amp;tcy;&amp;softcy; &amp;mcy;&amp;lcy;&amp;acy;&amp;dcy;&amp;shcy;&amp;icy;&amp;khcy; &amp;shcy;&amp;kcy;&amp;ocy;&amp;lcy;&amp;softcy;&amp;ncy;&amp;icy;&amp;kcy;&amp;ocy;&amp;vcy;"/>
          <p:cNvPicPr/>
          <p:nvPr/>
        </p:nvPicPr>
        <p:blipFill>
          <a:blip r:embed="rId3"/>
          <a:stretch/>
        </p:blipFill>
        <p:spPr>
          <a:xfrm>
            <a:off x="971640" y="3529080"/>
            <a:ext cx="2287440" cy="22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1"/>
          <p:cNvSpPr/>
          <p:nvPr/>
        </p:nvSpPr>
        <p:spPr>
          <a:xfrm>
            <a:off x="1619280" y="488160"/>
            <a:ext cx="7056360" cy="1465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98502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 Unicode MS"/>
                <a:ea typeface="Arial Unicode MS"/>
              </a:rPr>
              <a:t>Шаг 3 . 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  <a:ea typeface="Arial Unicode MS"/>
              </a:rPr>
              <a:t>На основании требований ФГОС ООО </a:t>
            </a:r>
            <a:r>
              <a:rPr b="1" lang="ru-RU" sz="1800" spc="-1" strike="noStrike" u="sng">
                <a:solidFill>
                  <a:srgbClr val="660066"/>
                </a:solidFill>
                <a:uFillTx/>
                <a:latin typeface="Arial"/>
                <a:ea typeface="Arial Unicode MS"/>
              </a:rPr>
              <a:t>определить ожидаемые метапредметные и личностные результаты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  <a:ea typeface="Arial Unicode MS"/>
              </a:rPr>
              <a:t>, успешное освоение которых может обеспечить конкретная предметная облас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Схема 4" descr=""/>
          <p:cNvPicPr/>
          <p:nvPr/>
        </p:nvPicPr>
        <p:blipFill>
          <a:blip r:embed="rId1"/>
          <a:stretch/>
        </p:blipFill>
        <p:spPr>
          <a:xfrm>
            <a:off x="2835360" y="1816200"/>
            <a:ext cx="6119640" cy="410832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29" descr="C:\Users\апа\Desktop\КЛИПАРТЫ\Клипарты Горбушка\Символы\PTRAK005_.bmp"/>
          <p:cNvPicPr/>
          <p:nvPr/>
        </p:nvPicPr>
        <p:blipFill>
          <a:blip r:embed="rId2"/>
          <a:srcRect l="26569" t="0" r="0" b="78839"/>
          <a:stretch/>
        </p:blipFill>
        <p:spPr>
          <a:xfrm rot="19596000">
            <a:off x="244080" y="394920"/>
            <a:ext cx="1569960" cy="4446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6" descr="&amp;Scy;&amp;ocy;&amp;zcy;&amp;dcy;&amp;acy;&amp;ncy;&amp;icy;&amp;iecy; &amp;icy; &amp;pcy;&amp;rcy;&amp;ocy;&amp;dcy;&amp;vcy;&amp;icy;&amp;zhcy;&amp;iecy;&amp;ncy;&amp;icy;&amp;iecy; &amp;scy;&amp;acy;&amp;jcy;&amp;tcy;&amp;ocy;&amp;vcy; &amp;vcy; &amp;Icy;&amp;zcy;&amp;rcy;&amp;acy;&amp;icy;&amp;lcy;&amp;iecy;"/>
          <p:cNvPicPr/>
          <p:nvPr/>
        </p:nvPicPr>
        <p:blipFill>
          <a:blip r:embed="rId3"/>
          <a:stretch/>
        </p:blipFill>
        <p:spPr>
          <a:xfrm>
            <a:off x="395280" y="5203800"/>
            <a:ext cx="2232000" cy="16542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8" descr="&amp;Tcy;&amp;rcy;&amp;iecy;&amp;ncy;&amp;icy;&amp;ncy;&amp;gcy; &quot;&amp;Acy;&amp;kcy;&amp;tcy;&amp;icy;&amp;vcy;&amp;ncy;&amp;ycy;&amp;iecy; &amp;pcy;&amp;rcy;&amp;ocy;&amp;dcy;&amp;acy;&amp;zhcy;&amp;icy;. &amp;Mcy;&amp;acy;&amp;kcy;&amp;scy;&amp;icy;&amp;mcy;&amp;acy;&amp;lcy;&amp;softcy;&amp;ncy;&amp;ycy;&amp;jcy; &amp;rcy;&amp;iecy;&amp;zcy;&amp;ucy;&amp;lcy;&amp;softcy;&amp;tcy;&amp;acy;&amp;tcy;&quot; &amp;Tcy;&amp;rcy;&amp;iecy;&amp;ncy;&amp;icy;&amp;ncy;&amp;gcy;"/>
          <p:cNvPicPr/>
          <p:nvPr/>
        </p:nvPicPr>
        <p:blipFill>
          <a:blip r:embed="rId4"/>
          <a:stretch/>
        </p:blipFill>
        <p:spPr>
          <a:xfrm>
            <a:off x="468360" y="3500280"/>
            <a:ext cx="2158920" cy="168120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0" descr="&amp;Ocy; &amp;rcy;&amp;iecy;&amp;zcy;&amp;ucy;&amp;lcy;&amp;softcy;&amp;tcy;&amp;acy;&amp;tcy;&amp;acy;&amp;khcy; &amp;pcy;&amp;rcy;&amp;ocy;&amp;vcy;&amp;iecy;&amp;dcy;&amp;iecy;&amp;ncy;&amp;icy;&amp;yacy; &amp;mcy;&amp;ocy;&amp;ncy;&amp;icy;&amp;tcy;&amp;ocy;&amp;rcy;&amp;icy;&amp;ncy;&amp;gcy;&amp;acy; &amp;rcy;&amp;ycy;&amp;ncy;&amp;kcy;&amp;acy; &amp;kcy;&amp;acy;&amp;dcy;&amp;acy;&amp;scy;&amp;tcy;&amp;rcy;&amp;ocy;&amp;vcy;&amp;ycy;&amp;khcy; &amp;rcy;&amp;acy;&amp;bcy;&amp;ocy;&amp;tcy;. - &amp;Ncy;&amp;ocy;&amp;vcy;&amp;ocy;&amp;scy;&amp;tcy;&amp;icy; - &amp;Ucy;&amp;pcy;&amp;rcy;&amp;acy;&amp;vcy;&amp;lcy;&amp;iecy;&amp;ncy;&amp;icy;&amp;iecy; &amp;Rcy;&amp;ocy;&amp;scy;&amp;rcy;&amp;iecy;&amp;iecy;&amp;scy;&amp;tcy;&amp;rcy;&amp;acy; &amp;pcy;&amp;ocy; &amp;Vcy;&amp;ocy;&amp;rcy;&amp;ocy;&amp;ncy;&amp;iecy;&amp;zhcy;&amp;scy;&amp;kcy;&amp;ocy;&amp;jcy; &amp;ocy;&amp;bcy;&amp;lcy;&amp;acy;&amp;scy;&amp;tcy;&amp;icy; - &amp;Rcy;&amp;ocy;&amp;scy;&amp;rcy;&amp;iecy;&amp;iecy;&amp;scy;"/>
          <p:cNvPicPr/>
          <p:nvPr/>
        </p:nvPicPr>
        <p:blipFill>
          <a:blip r:embed="rId5"/>
          <a:stretch/>
        </p:blipFill>
        <p:spPr>
          <a:xfrm>
            <a:off x="539640" y="1773360"/>
            <a:ext cx="2111400" cy="15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1T05:23:47Z</dcterms:created>
  <dc:creator>admin</dc:creator>
  <dc:description/>
  <dc:language>en-US</dc:language>
  <cp:lastModifiedBy>Windows User</cp:lastModifiedBy>
  <cp:lastPrinted>2010-09-21T15:23:25Z</cp:lastPrinted>
  <dcterms:modified xsi:type="dcterms:W3CDTF">2015-03-31T04:43:45Z</dcterms:modified>
  <cp:revision>201</cp:revision>
  <dc:subject/>
  <dc:title>Слайд 1</dc:title>
</cp:coreProperties>
</file>