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490-8A4D-40C8-8184-0A34CE9F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A8A3-97D7-4678-811E-7B7E7D34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503-0D3C-4E7F-9C96-36A9C247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B87-7609-42E0-BAFA-000DC426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2DC-35D0-4A2C-8AFD-401D67D6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FF6-48AA-4C7A-A236-BF7FEE01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A90-A74E-4478-811A-71630D98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D71-4142-44B9-A11C-B271D536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826-7CE6-4271-B01B-5DB30354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776-DB68-4B4D-A211-3F136D7C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FA1-FD3B-4C58-9598-C71C4F8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7CC-8E29-43A6-BC4F-24152A32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9EFF-3491-49B9-9249-D1953D4B37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teacher\AppData\Local\Microsoft\Windows\Temporary Internet Files\Content.IE5\2266TU0C\MC900124245[1].wmf"/>
          <p:cNvPicPr/>
          <p:nvPr/>
        </p:nvPicPr>
        <p:blipFill>
          <a:blip r:embed="rId1"/>
          <a:stretch/>
        </p:blipFill>
        <p:spPr>
          <a:xfrm>
            <a:off x="-36360" y="-4428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00360" y="2781360"/>
            <a:ext cx="5904000" cy="17920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1Isadora M Bold"/>
              </a:rPr>
              <a:t>Правила безопасной работы в сети Интерн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400360" y="6118200"/>
            <a:ext cx="16556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1Isadora M Bold"/>
              </a:rPr>
              <a:t>1-4 клас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1"/>
          <p:cNvSpPr/>
          <p:nvPr/>
        </p:nvSpPr>
        <p:spPr>
          <a:xfrm>
            <a:off x="-612720" y="404640"/>
            <a:ext cx="5278320" cy="40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5548320" y="351000"/>
            <a:ext cx="2695680" cy="1279440"/>
          </a:xfrm>
          <a:prstGeom prst="wedgeRoundRectCallout">
            <a:avLst>
              <a:gd name="adj1" fmla="val 23865"/>
              <a:gd name="adj2" fmla="val 118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ые люди в интерне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ляют свои се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знакомыми людь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на встречу не иди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2"/>
          <p:cNvGrpSpPr/>
          <p:nvPr/>
        </p:nvGrpSpPr>
        <p:grpSpPr>
          <a:xfrm>
            <a:off x="831960" y="351000"/>
            <a:ext cx="7412040" cy="6030720"/>
            <a:chOff x="831960" y="351000"/>
            <a:chExt cx="7412040" cy="6030720"/>
          </a:xfrm>
        </p:grpSpPr>
        <p:pic>
          <p:nvPicPr>
            <p:cNvPr id="47" name="Рисунок 14" descr="дом.jpg"/>
            <p:cNvPicPr/>
            <p:nvPr/>
          </p:nvPicPr>
          <p:blipFill>
            <a:blip r:embed="rId1"/>
            <a:stretch/>
          </p:blipFill>
          <p:spPr>
            <a:xfrm>
              <a:off x="831960" y="351000"/>
              <a:ext cx="5076360" cy="522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Рисунок 4" descr="004.gif"/>
            <p:cNvPicPr/>
            <p:nvPr/>
          </p:nvPicPr>
          <p:blipFill>
            <a:blip r:embed="rId2"/>
            <a:srcRect l="9626" t="44174" r="51674" b="4459"/>
            <a:stretch/>
          </p:blipFill>
          <p:spPr>
            <a:xfrm>
              <a:off x="6352200" y="2399400"/>
              <a:ext cx="1891800" cy="258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" descr="005"/>
            <p:cNvPicPr/>
            <p:nvPr/>
          </p:nvPicPr>
          <p:blipFill>
            <a:blip r:embed="rId3"/>
            <a:srcRect l="33219" t="14038" r="37064" b="36166"/>
            <a:stretch/>
          </p:blipFill>
          <p:spPr>
            <a:xfrm>
              <a:off x="5355360" y="2655720"/>
              <a:ext cx="154188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Рисунок 1" descr="008.gif"/>
            <p:cNvPicPr/>
            <p:nvPr/>
          </p:nvPicPr>
          <p:blipFill>
            <a:blip r:embed="rId4"/>
            <a:stretch/>
          </p:blipFill>
          <p:spPr>
            <a:xfrm>
              <a:off x="5290560" y="4062960"/>
              <a:ext cx="2280600" cy="17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3" descr="003"/>
            <p:cNvPicPr/>
            <p:nvPr/>
          </p:nvPicPr>
          <p:blipFill>
            <a:blip r:embed="rId5"/>
            <a:stretch/>
          </p:blipFill>
          <p:spPr>
            <a:xfrm>
              <a:off x="3799800" y="4956480"/>
              <a:ext cx="1547640" cy="142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AutoShape 8"/>
          <p:cNvSpPr/>
          <p:nvPr/>
        </p:nvSpPr>
        <p:spPr>
          <a:xfrm>
            <a:off x="2584440" y="351000"/>
            <a:ext cx="2695680" cy="1279440"/>
          </a:xfrm>
          <a:prstGeom prst="wedgeRoundRectCallout">
            <a:avLst>
              <a:gd name="adj1" fmla="val 82675"/>
              <a:gd name="adj2" fmla="val 1254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тебе в се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встречаются вру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ошенникам не верь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 провер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1547640" y="3930480"/>
            <a:ext cx="2624400" cy="1011240"/>
          </a:xfrm>
          <a:prstGeom prst="wedgeRoundRectCallout">
            <a:avLst>
              <a:gd name="adj1" fmla="val 41726"/>
              <a:gd name="adj2" fmla="val 6044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хоч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пасть в беду – Антивирус заведу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кругленная прямоугольная выноска 2"/>
          <p:cNvSpPr/>
          <p:nvPr/>
        </p:nvSpPr>
        <p:spPr>
          <a:xfrm>
            <a:off x="476280" y="2076480"/>
            <a:ext cx="2671560" cy="1458720"/>
          </a:xfrm>
          <a:prstGeom prst="wedgeRoundRectCallout">
            <a:avLst>
              <a:gd name="adj1" fmla="val 56981"/>
              <a:gd name="adj2" fmla="val 82500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тебе в се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встречаются вру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ошенникам не верь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 провер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9"/>
          <p:cNvGrpSpPr/>
          <p:nvPr/>
        </p:nvGrpSpPr>
        <p:grpSpPr>
          <a:xfrm>
            <a:off x="2771640" y="387360"/>
            <a:ext cx="4753080" cy="5716440"/>
            <a:chOff x="2771640" y="387360"/>
            <a:chExt cx="4753080" cy="5716440"/>
          </a:xfrm>
        </p:grpSpPr>
        <p:pic>
          <p:nvPicPr>
            <p:cNvPr id="56" name="Рисунок 1" descr="006.gif"/>
            <p:cNvPicPr/>
            <p:nvPr/>
          </p:nvPicPr>
          <p:blipFill>
            <a:blip r:embed="rId1"/>
            <a:srcRect l="64176" t="26375" r="8658" b="32286"/>
            <a:stretch/>
          </p:blipFill>
          <p:spPr>
            <a:xfrm>
              <a:off x="4982400" y="2075760"/>
              <a:ext cx="2542320" cy="338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Овал 3"/>
            <p:cNvGrpSpPr/>
            <p:nvPr/>
          </p:nvGrpSpPr>
          <p:grpSpPr>
            <a:xfrm>
              <a:off x="3486600" y="5102640"/>
              <a:ext cx="2810520" cy="871560"/>
              <a:chOff x="3486600" y="5102640"/>
              <a:chExt cx="2810520" cy="871560"/>
            </a:xfrm>
          </p:grpSpPr>
          <p:pic>
            <p:nvPicPr>
              <p:cNvPr id="58" name="Овал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486600" y="5102640"/>
                <a:ext cx="2810520" cy="8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978000" y="5310000"/>
                <a:ext cx="1823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0" name="Рисунок 4" descr="0_91b27_b90e135f_XL.png"/>
            <p:cNvPicPr/>
            <p:nvPr/>
          </p:nvPicPr>
          <p:blipFill>
            <a:blip r:embed="rId3"/>
            <a:stretch/>
          </p:blipFill>
          <p:spPr>
            <a:xfrm>
              <a:off x="5644080" y="4974120"/>
              <a:ext cx="1561320" cy="9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Рисунок 5" descr="010.gif"/>
            <p:cNvPicPr/>
            <p:nvPr/>
          </p:nvPicPr>
          <p:blipFill>
            <a:blip r:embed="rId4"/>
            <a:srcRect l="42916" t="32286" r="38192" b="48822"/>
            <a:stretch/>
          </p:blipFill>
          <p:spPr>
            <a:xfrm>
              <a:off x="3139920" y="4007880"/>
              <a:ext cx="1749960" cy="152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Рисунок 6" descr="0_91b27_b90e135f_XL.png"/>
            <p:cNvPicPr/>
            <p:nvPr/>
          </p:nvPicPr>
          <p:blipFill>
            <a:blip r:embed="rId5"/>
            <a:stretch/>
          </p:blipFill>
          <p:spPr>
            <a:xfrm>
              <a:off x="2771640" y="4974120"/>
              <a:ext cx="1820520" cy="112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Рисунок 7" descr="1238424308solnishko.png"/>
            <p:cNvPicPr/>
            <p:nvPr/>
          </p:nvPicPr>
          <p:blipFill>
            <a:blip r:embed="rId6"/>
            <a:stretch/>
          </p:blipFill>
          <p:spPr>
            <a:xfrm>
              <a:off x="4107240" y="387360"/>
              <a:ext cx="2157480" cy="215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Облако 8"/>
            <p:cNvGrpSpPr/>
            <p:nvPr/>
          </p:nvGrpSpPr>
          <p:grpSpPr>
            <a:xfrm>
              <a:off x="3413520" y="1535760"/>
              <a:ext cx="3164400" cy="926640"/>
              <a:chOff x="3413520" y="1535760"/>
              <a:chExt cx="3164400" cy="926640"/>
            </a:xfrm>
          </p:grpSpPr>
          <p:pic>
            <p:nvPicPr>
              <p:cNvPr id="65" name="Облако 8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3520" y="1535760"/>
                <a:ext cx="3164400" cy="92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4016160" y="1835640"/>
                <a:ext cx="17636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7" name="Рисунок 10" descr="0_91b27_b90e135f_XL.png"/>
          <p:cNvPicPr/>
          <p:nvPr/>
        </p:nvPicPr>
        <p:blipFill>
          <a:blip r:embed="rId8"/>
          <a:stretch/>
        </p:blipFill>
        <p:spPr>
          <a:xfrm>
            <a:off x="4981680" y="4973760"/>
            <a:ext cx="766800" cy="507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0_91b27_b90e135f_XL.png"/>
          <p:cNvPicPr/>
          <p:nvPr/>
        </p:nvPicPr>
        <p:blipFill>
          <a:blip r:embed="rId9"/>
          <a:stretch/>
        </p:blipFill>
        <p:spPr>
          <a:xfrm>
            <a:off x="3681360" y="5656320"/>
            <a:ext cx="86508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07:52:00Z</dcterms:created>
  <dc:creator>teacher</dc:creator>
  <dc:description/>
  <dc:language>en-US</dc:language>
  <cp:lastModifiedBy>Краюхина</cp:lastModifiedBy>
  <dcterms:modified xsi:type="dcterms:W3CDTF">2017-12-10T13:33:25Z</dcterms:modified>
  <cp:revision>3</cp:revision>
  <dc:subject/>
  <dc:title>Правила безопасной работы в сети Интернет</dc:title>
</cp:coreProperties>
</file>