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C9F-8FE8-410B-8B8C-853972A4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997-3F19-47B6-BC9A-71DEAA8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D59-6947-4C86-B3EF-804A803D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A5E-1193-405A-87B8-05D3502A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C98-9D60-4B57-8B4B-1D8B98F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E70-9BC8-4132-BD96-1068014A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385-86C9-4524-80DD-B7A7186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AA1-DC3D-4CC4-B3C7-572A2C1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9B7-1418-4C05-9FDB-37A702AC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C60-331A-4275-9BD0-DDEEDE8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36A-DEB3-49A9-82C3-0974347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F4A-3FAB-466C-A74F-0FFEEC8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413-76C0-41EF-88C4-E70A9B589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8"/>
          <p:cNvGrpSpPr/>
          <p:nvPr/>
        </p:nvGrpSpPr>
        <p:grpSpPr>
          <a:xfrm>
            <a:off x="2585880" y="1123920"/>
            <a:ext cx="5478480" cy="4824360"/>
            <a:chOff x="2585880" y="1123920"/>
            <a:chExt cx="5478480" cy="4824360"/>
          </a:xfrm>
        </p:grpSpPr>
        <p:pic>
          <p:nvPicPr>
            <p:cNvPr id="42" name="Рисунок 1" descr="23.jpg"/>
            <p:cNvPicPr/>
            <p:nvPr/>
          </p:nvPicPr>
          <p:blipFill>
            <a:blip r:embed="rId1"/>
            <a:stretch/>
          </p:blipFill>
          <p:spPr>
            <a:xfrm>
              <a:off x="2585880" y="1213560"/>
              <a:ext cx="5478480" cy="47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2" descr="010.gif"/>
            <p:cNvPicPr/>
            <p:nvPr/>
          </p:nvPicPr>
          <p:blipFill>
            <a:blip r:embed="rId2"/>
            <a:srcRect l="42916" t="32286" r="37011" b="48822"/>
            <a:stretch/>
          </p:blipFill>
          <p:spPr>
            <a:xfrm>
              <a:off x="3281040" y="4054320"/>
              <a:ext cx="1362960" cy="118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Облако 4"/>
            <p:cNvGrpSpPr/>
            <p:nvPr/>
          </p:nvGrpSpPr>
          <p:grpSpPr>
            <a:xfrm>
              <a:off x="2792880" y="1392840"/>
              <a:ext cx="2529000" cy="1273320"/>
              <a:chOff x="2792880" y="1392840"/>
              <a:chExt cx="2529000" cy="1273320"/>
            </a:xfrm>
          </p:grpSpPr>
          <p:pic>
            <p:nvPicPr>
              <p:cNvPr id="45" name="Облако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2880" y="1392840"/>
                <a:ext cx="2529000" cy="12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3307320" y="1743120"/>
                <a:ext cx="13510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Облако 5"/>
            <p:cNvGrpSpPr/>
            <p:nvPr/>
          </p:nvGrpSpPr>
          <p:grpSpPr>
            <a:xfrm>
              <a:off x="6022800" y="1123920"/>
              <a:ext cx="1480680" cy="872640"/>
              <a:chOff x="6022800" y="1123920"/>
              <a:chExt cx="1480680" cy="872640"/>
            </a:xfrm>
          </p:grpSpPr>
          <p:pic>
            <p:nvPicPr>
              <p:cNvPr id="48" name="Облако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022800" y="1123920"/>
                <a:ext cx="1480680" cy="87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6394680" y="1414080"/>
                <a:ext cx="665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" name="Облако 6"/>
          <p:cNvGrpSpPr/>
          <p:nvPr/>
        </p:nvGrpSpPr>
        <p:grpSpPr>
          <a:xfrm>
            <a:off x="3822840" y="3371760"/>
            <a:ext cx="981000" cy="755640"/>
            <a:chOff x="3822840" y="3371760"/>
            <a:chExt cx="981000" cy="755640"/>
          </a:xfrm>
        </p:grpSpPr>
        <p:pic>
          <p:nvPicPr>
            <p:cNvPr id="51" name="Облако 6" descr=""/>
            <p:cNvPicPr/>
            <p:nvPr/>
          </p:nvPicPr>
          <p:blipFill>
            <a:blip r:embed="rId5"/>
            <a:stretch/>
          </p:blipFill>
          <p:spPr>
            <a:xfrm>
              <a:off x="3822840" y="3371760"/>
              <a:ext cx="981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127400" y="3648240"/>
              <a:ext cx="338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Скругленная прямоугольная выноска 3"/>
          <p:cNvSpPr/>
          <p:nvPr/>
        </p:nvSpPr>
        <p:spPr>
          <a:xfrm>
            <a:off x="1728720" y="2502000"/>
            <a:ext cx="2457360" cy="1057320"/>
          </a:xfrm>
          <a:prstGeom prst="wedgeRoundRectCallout">
            <a:avLst>
              <a:gd name="adj1" fmla="val 33865"/>
              <a:gd name="adj2" fmla="val 86662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рубиянами в се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не заво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 сам не оплоша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о не обижа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6"/>
          <p:cNvGrpSpPr/>
          <p:nvPr/>
        </p:nvGrpSpPr>
        <p:grpSpPr>
          <a:xfrm>
            <a:off x="3276720" y="887400"/>
            <a:ext cx="5327640" cy="5545080"/>
            <a:chOff x="3276720" y="887400"/>
            <a:chExt cx="5327640" cy="5545080"/>
          </a:xfrm>
        </p:grpSpPr>
        <p:pic>
          <p:nvPicPr>
            <p:cNvPr id="55" name="Рисунок 1" descr="46.jpg"/>
            <p:cNvPicPr/>
            <p:nvPr/>
          </p:nvPicPr>
          <p:blipFill>
            <a:blip r:embed="rId1"/>
            <a:stretch/>
          </p:blipFill>
          <p:spPr>
            <a:xfrm>
              <a:off x="3276720" y="887400"/>
              <a:ext cx="5327640" cy="55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2" descr="010.gif"/>
            <p:cNvPicPr/>
            <p:nvPr/>
          </p:nvPicPr>
          <p:blipFill>
            <a:blip r:embed="rId2"/>
            <a:srcRect l="42916" t="32286" r="37011" b="48822"/>
            <a:stretch/>
          </p:blipFill>
          <p:spPr>
            <a:xfrm>
              <a:off x="4349880" y="3398760"/>
              <a:ext cx="1234080" cy="98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Облако 3"/>
            <p:cNvGrpSpPr/>
            <p:nvPr/>
          </p:nvGrpSpPr>
          <p:grpSpPr>
            <a:xfrm>
              <a:off x="3928680" y="1039680"/>
              <a:ext cx="2078640" cy="1128600"/>
              <a:chOff x="3928680" y="1039680"/>
              <a:chExt cx="2078640" cy="1128600"/>
            </a:xfrm>
          </p:grpSpPr>
          <p:pic>
            <p:nvPicPr>
              <p:cNvPr id="58" name="Облако 3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8680" y="1039680"/>
                <a:ext cx="2078640" cy="11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4380480" y="1374120"/>
                <a:ext cx="105696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Облако 5"/>
            <p:cNvGrpSpPr/>
            <p:nvPr/>
          </p:nvGrpSpPr>
          <p:grpSpPr>
            <a:xfrm>
              <a:off x="3386160" y="1594800"/>
              <a:ext cx="1407960" cy="1012680"/>
              <a:chOff x="3386160" y="1594800"/>
              <a:chExt cx="1407960" cy="1012680"/>
            </a:xfrm>
          </p:grpSpPr>
          <p:pic>
            <p:nvPicPr>
              <p:cNvPr id="61" name="Облако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386160" y="1594800"/>
                <a:ext cx="140796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748320" y="1909440"/>
                <a:ext cx="6163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" name="Скругленная прямоугольная выноска 4"/>
          <p:cNvSpPr/>
          <p:nvPr/>
        </p:nvSpPr>
        <p:spPr>
          <a:xfrm>
            <a:off x="468360" y="1135080"/>
            <a:ext cx="3240000" cy="1938240"/>
          </a:xfrm>
          <a:prstGeom prst="wedgeRoundRectCallout">
            <a:avLst>
              <a:gd name="adj1" fmla="val 62981"/>
              <a:gd name="adj2" fmla="val 6833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то-то НЕЗНАКОМЫ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попросит рассказ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о школ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рузьях и телефон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 к страничке доступ дать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 это НЕТ ответим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се держать в секрете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52:00Z</dcterms:created>
  <dc:creator>teacher</dc:creator>
  <dc:description/>
  <dc:language>en-US</dc:language>
  <cp:lastModifiedBy>Краюхина</cp:lastModifiedBy>
  <dcterms:modified xsi:type="dcterms:W3CDTF">2017-12-10T13:40:19Z</dcterms:modified>
  <cp:revision>4</cp:revision>
  <dc:subject/>
  <dc:title>Правила безопасной работы в сети Интернет</dc:title>
</cp:coreProperties>
</file>