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02E-12CF-4AD3-A5A8-34035C61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947-3770-43E1-A3BE-1F08F6A1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753-35A5-451E-AB47-5B26E8B6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33D-0103-4F84-ACA2-94CFF21C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6E7-4AAA-4288-B135-8CC7C19A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E498-5319-40AE-A598-4976D957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11C-91EE-4471-9576-A30A51FD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580-2332-4F4D-BF64-2EC0B3EF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BC4-4F6A-4FF8-82DF-1C891B14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7471-5FE4-45E8-B995-C41E9497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0D0-F145-43D7-A148-8B951460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168F-7B72-4F01-BCA5-44DF185E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67AC-B095-4C5D-AE0E-4009D80CF4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8"/>
          <p:cNvGrpSpPr/>
          <p:nvPr/>
        </p:nvGrpSpPr>
        <p:grpSpPr>
          <a:xfrm>
            <a:off x="2585880" y="1123920"/>
            <a:ext cx="5478480" cy="4824360"/>
            <a:chOff x="2585880" y="1123920"/>
            <a:chExt cx="5478480" cy="4824360"/>
          </a:xfrm>
        </p:grpSpPr>
        <p:pic>
          <p:nvPicPr>
            <p:cNvPr id="42" name="Рисунок 1" descr="23.jpg"/>
            <p:cNvPicPr/>
            <p:nvPr/>
          </p:nvPicPr>
          <p:blipFill>
            <a:blip r:embed="rId1"/>
            <a:stretch/>
          </p:blipFill>
          <p:spPr>
            <a:xfrm>
              <a:off x="2585880" y="1213560"/>
              <a:ext cx="5478480" cy="47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Рисунок 2" descr="010.gif"/>
            <p:cNvPicPr/>
            <p:nvPr/>
          </p:nvPicPr>
          <p:blipFill>
            <a:blip r:embed="rId2"/>
            <a:srcRect l="42916" t="32286" r="37011" b="48822"/>
            <a:stretch/>
          </p:blipFill>
          <p:spPr>
            <a:xfrm>
              <a:off x="3281040" y="4054320"/>
              <a:ext cx="1362960" cy="118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Облако 4"/>
            <p:cNvGrpSpPr/>
            <p:nvPr/>
          </p:nvGrpSpPr>
          <p:grpSpPr>
            <a:xfrm>
              <a:off x="2792880" y="1392840"/>
              <a:ext cx="2529000" cy="1273320"/>
              <a:chOff x="2792880" y="1392840"/>
              <a:chExt cx="2529000" cy="1273320"/>
            </a:xfrm>
          </p:grpSpPr>
          <p:pic>
            <p:nvPicPr>
              <p:cNvPr id="45" name="Облако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792880" y="1392840"/>
                <a:ext cx="2529000" cy="127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>
                <a:off x="3307320" y="1743120"/>
                <a:ext cx="13510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" name="Облако 5"/>
            <p:cNvGrpSpPr/>
            <p:nvPr/>
          </p:nvGrpSpPr>
          <p:grpSpPr>
            <a:xfrm>
              <a:off x="6022800" y="1123920"/>
              <a:ext cx="1480680" cy="872640"/>
              <a:chOff x="6022800" y="1123920"/>
              <a:chExt cx="1480680" cy="872640"/>
            </a:xfrm>
          </p:grpSpPr>
          <p:pic>
            <p:nvPicPr>
              <p:cNvPr id="48" name="Облако 5" descr=""/>
              <p:cNvPicPr/>
              <p:nvPr/>
            </p:nvPicPr>
            <p:blipFill>
              <a:blip r:embed="rId4"/>
              <a:stretch/>
            </p:blipFill>
            <p:spPr>
              <a:xfrm>
                <a:off x="6022800" y="1123920"/>
                <a:ext cx="1480680" cy="87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>
                <a:off x="6394680" y="1414080"/>
                <a:ext cx="665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" name="Облако 6"/>
          <p:cNvGrpSpPr/>
          <p:nvPr/>
        </p:nvGrpSpPr>
        <p:grpSpPr>
          <a:xfrm>
            <a:off x="3822840" y="3371760"/>
            <a:ext cx="981000" cy="755640"/>
            <a:chOff x="3822840" y="3371760"/>
            <a:chExt cx="981000" cy="755640"/>
          </a:xfrm>
        </p:grpSpPr>
        <p:pic>
          <p:nvPicPr>
            <p:cNvPr id="51" name="Облако 6" descr=""/>
            <p:cNvPicPr/>
            <p:nvPr/>
          </p:nvPicPr>
          <p:blipFill>
            <a:blip r:embed="rId5"/>
            <a:stretch/>
          </p:blipFill>
          <p:spPr>
            <a:xfrm>
              <a:off x="3822840" y="3371760"/>
              <a:ext cx="9810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127400" y="3648240"/>
              <a:ext cx="3384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Скругленная прямоугольная выноска 3"/>
          <p:cNvSpPr/>
          <p:nvPr/>
        </p:nvSpPr>
        <p:spPr>
          <a:xfrm>
            <a:off x="1728720" y="2502000"/>
            <a:ext cx="2457360" cy="1057320"/>
          </a:xfrm>
          <a:prstGeom prst="wedgeRoundRectCallout">
            <a:avLst>
              <a:gd name="adj1" fmla="val 33865"/>
              <a:gd name="adj2" fmla="val 86662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рубиянами в се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 не завод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и сам не оплошай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о не обижа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Группа 6"/>
          <p:cNvGrpSpPr/>
          <p:nvPr/>
        </p:nvGrpSpPr>
        <p:grpSpPr>
          <a:xfrm>
            <a:off x="3276720" y="887400"/>
            <a:ext cx="5327640" cy="5545080"/>
            <a:chOff x="3276720" y="887400"/>
            <a:chExt cx="5327640" cy="5545080"/>
          </a:xfrm>
        </p:grpSpPr>
        <p:pic>
          <p:nvPicPr>
            <p:cNvPr id="55" name="Рисунок 1" descr="46.jpg"/>
            <p:cNvPicPr/>
            <p:nvPr/>
          </p:nvPicPr>
          <p:blipFill>
            <a:blip r:embed="rId1"/>
            <a:stretch/>
          </p:blipFill>
          <p:spPr>
            <a:xfrm>
              <a:off x="3276720" y="887400"/>
              <a:ext cx="5327640" cy="554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Рисунок 2" descr="010.gif"/>
            <p:cNvPicPr/>
            <p:nvPr/>
          </p:nvPicPr>
          <p:blipFill>
            <a:blip r:embed="rId2"/>
            <a:srcRect l="42916" t="32286" r="37011" b="48822"/>
            <a:stretch/>
          </p:blipFill>
          <p:spPr>
            <a:xfrm>
              <a:off x="4349880" y="3398760"/>
              <a:ext cx="1234080" cy="98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Облако 3"/>
            <p:cNvGrpSpPr/>
            <p:nvPr/>
          </p:nvGrpSpPr>
          <p:grpSpPr>
            <a:xfrm>
              <a:off x="3928680" y="1039680"/>
              <a:ext cx="2078640" cy="1128600"/>
              <a:chOff x="3928680" y="1039680"/>
              <a:chExt cx="2078640" cy="1128600"/>
            </a:xfrm>
          </p:grpSpPr>
          <p:pic>
            <p:nvPicPr>
              <p:cNvPr id="58" name="Облако 3" descr=""/>
              <p:cNvPicPr/>
              <p:nvPr/>
            </p:nvPicPr>
            <p:blipFill>
              <a:blip r:embed="rId3"/>
              <a:stretch/>
            </p:blipFill>
            <p:spPr>
              <a:xfrm>
                <a:off x="3928680" y="1039680"/>
                <a:ext cx="2078640" cy="112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4380480" y="1374120"/>
                <a:ext cx="1056960" cy="43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" name="Облако 5"/>
            <p:cNvGrpSpPr/>
            <p:nvPr/>
          </p:nvGrpSpPr>
          <p:grpSpPr>
            <a:xfrm>
              <a:off x="3386160" y="1594800"/>
              <a:ext cx="1407960" cy="1012680"/>
              <a:chOff x="3386160" y="1594800"/>
              <a:chExt cx="1407960" cy="1012680"/>
            </a:xfrm>
          </p:grpSpPr>
          <p:pic>
            <p:nvPicPr>
              <p:cNvPr id="61" name="Облако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386160" y="1594800"/>
                <a:ext cx="1407960" cy="10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3748320" y="1909440"/>
                <a:ext cx="61632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" name="Скругленная прямоугольная выноска 4"/>
          <p:cNvSpPr/>
          <p:nvPr/>
        </p:nvSpPr>
        <p:spPr>
          <a:xfrm>
            <a:off x="468360" y="1135080"/>
            <a:ext cx="3240000" cy="1938240"/>
          </a:xfrm>
          <a:prstGeom prst="wedgeRoundRectCallout">
            <a:avLst>
              <a:gd name="adj1" fmla="val 62981"/>
              <a:gd name="adj2" fmla="val 68337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то-то НЕЗНАКОМЫ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 попросит рассказа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 о школе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рузьях и телефоне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 к страничке доступ дать 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 это НЕТ ответим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все держать в секрете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07:52:00Z</dcterms:created>
  <dc:creator>teacher</dc:creator>
  <dc:description/>
  <dc:language>en-US</dc:language>
  <cp:lastModifiedBy>Краюхина</cp:lastModifiedBy>
  <dcterms:modified xsi:type="dcterms:W3CDTF">2017-12-10T13:40:19Z</dcterms:modified>
  <cp:revision>4</cp:revision>
  <dc:subject/>
  <dc:title>Правила безопасной работы в сети Интернет</dc:title>
</cp:coreProperties>
</file>