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2747-AD9F-40DB-BA10-CA3134E8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1F85-3F62-4AB6-8CA3-61C0BB63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D7AC-9F13-426E-B9FB-83CDCB34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5597-8766-4429-B28C-27A91BB5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D76-0CD4-494E-9F0E-1D8C3B6A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FA87-FAD5-46B9-B3F2-11A3D605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62AA-CAC9-44DD-8251-83640FE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0FCF-CBB1-4BEB-BBF3-9474ACAA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45D9-F3D2-4EC3-A734-36366CAB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344-4BA2-4E36-839B-79D73D2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755D-13B1-4CF8-87CB-0D2F757E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4856-FED4-4396-8522-C0C1A2CF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01C6-826F-4965-9CC3-F3E7DC1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8A5-AF90-4F72-A8DF-FE1CB308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6D2-B045-4474-9325-B2266DB0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A407-A678-4922-93CD-A1C4FCBE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291-6913-4959-A160-EA915FE3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CC5A-C1B4-4E52-8A0B-488D13BB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2647-94A0-4737-8450-6D54691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25D9-55BE-4D35-ADBB-19C98EA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4A65-2F54-4319-AB8E-FCD1D0B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C72D-7673-492E-BD67-86E3932F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4D82-3BF2-4CF5-9633-F59A047A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2390-75E7-4F28-9F9C-8421ADA2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3F59-1383-425A-A1B1-BDF7456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3963-AAD8-4470-8257-C13251D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7EA5-BD98-4F89-A344-F894246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B3A4-50D1-4EEA-B697-B1E5EDE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A1BE-414C-4865-99CA-89E40D58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A7F3-EB2F-4B26-82DA-40578AFF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8BC2-D123-492A-AECD-306362CB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0D78-3DBB-417E-9684-00267687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A2F1-A34D-48CD-A91D-137EA066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2BAD-9A56-4310-AAF8-F651A878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AEF6-9BAB-44E9-9B76-62EC82BA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C382-DA17-4243-9371-3ABCEFD2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4D24-AF36-49CD-9766-F61F2B7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AC73-0498-45F9-BFFF-A630316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8F72-27F6-425E-9C5F-92FB6A0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FD59-E6B2-48AF-AD8A-B2DC8C0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5CA1-2FFA-4F37-A2DB-A7A51C4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C4F2-C19F-43CE-8980-1940B577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52A4-AAC3-4577-B187-410D918B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9B02-D183-459E-9289-D773E673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2E59-1669-4E03-B0E8-DB6AA64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CAAE-D34F-48F2-8556-F3D97B8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336C-D489-4E3E-A474-8931FED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F351-D889-4B73-B73B-3D4F1A0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D5D-185D-4181-BB35-A808E57BE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7FB-D198-43A4-BB78-487865DAD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66ffff">
                  <a:alpha val="50196"/>
                </a:srgbClr>
              </a:gs>
              <a:gs pos="100000">
                <a:srgbClr val="3e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f2626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1DF-EC2C-422A-AD3C-369D0ECB4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e9d9d"/>
              </a:gs>
              <a:gs pos="50000">
                <a:srgbClr val="66ffff">
                  <a:alpha val="50196"/>
                </a:srgbClr>
              </a:gs>
              <a:gs pos="100000">
                <a:srgbClr val="3e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f2626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EA7E-10FB-4765-9682-40FEF3992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0500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НАЯ ПРОГРАММА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литературному чтению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Organization Chart 5"/>
          <p:cNvGrpSpPr/>
          <p:nvPr/>
        </p:nvGrpSpPr>
        <p:grpSpPr>
          <a:xfrm>
            <a:off x="190800" y="260280"/>
            <a:ext cx="8736120" cy="5477040"/>
            <a:chOff x="190800" y="260280"/>
            <a:chExt cx="8736120" cy="5477040"/>
          </a:xfrm>
        </p:grpSpPr>
        <p:cxnSp>
          <p:nvCxnSpPr>
            <p:cNvPr id="310" name="_s6148"/>
            <p:cNvCxnSpPr>
              <a:stCxn id="311" idx="0"/>
              <a:endCxn id="312" idx="2"/>
            </p:cNvCxnSpPr>
            <p:nvPr/>
          </p:nvCxnSpPr>
          <p:spPr>
            <a:xfrm flipV="1" rot="16200000">
              <a:off x="6011280" y="-335880"/>
              <a:ext cx="187920" cy="3020400"/>
            </a:xfrm>
            <a:prstGeom prst="bentConnector3">
              <a:avLst>
                <a:gd name="adj1" fmla="val 5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3" name="_s6149"/>
            <p:cNvCxnSpPr>
              <a:stCxn id="314" idx="0"/>
              <a:endCxn id="312" idx="2"/>
            </p:cNvCxnSpPr>
            <p:nvPr/>
          </p:nvCxnSpPr>
          <p:spPr>
            <a:xfrm flipH="1" flipV="1" rot="5400000">
              <a:off x="2956320" y="-370800"/>
              <a:ext cx="187920" cy="3090960"/>
            </a:xfrm>
            <a:prstGeom prst="bentConnector3">
              <a:avLst>
                <a:gd name="adj1" fmla="val 5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2" name="_s6150"/>
            <p:cNvSpPr/>
            <p:nvPr/>
          </p:nvSpPr>
          <p:spPr>
            <a:xfrm>
              <a:off x="324360" y="260280"/>
              <a:ext cx="8543880" cy="79236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82000"/>
              </a:srgbClr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ЧТЕНИЕ – ВИД  РЕЧЕВОЙ 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В  КУРСЕ  ЛИТЕРАТУРНОГО 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6151"/>
            <p:cNvSpPr/>
            <p:nvPr/>
          </p:nvSpPr>
          <p:spPr>
            <a:xfrm>
              <a:off x="190800" y="1268280"/>
              <a:ext cx="2625840" cy="1150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ЕДМЕТ ОБУ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6152"/>
            <p:cNvSpPr/>
            <p:nvPr/>
          </p:nvSpPr>
          <p:spPr>
            <a:xfrm>
              <a:off x="6301080" y="1268280"/>
              <a:ext cx="2625840" cy="1150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СРЕДСТВО ПОЛУ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НФОРМАЦИИ ИЗ ТЕКС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 ОБОГАЩ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ЧИТАТЕЛЬСК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ГРАМОТ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4"/>
            <p:cNvSpPr/>
            <p:nvPr/>
          </p:nvSpPr>
          <p:spPr>
            <a:xfrm>
              <a:off x="827640" y="2565360"/>
              <a:ext cx="2291760" cy="459000"/>
            </a:xfrm>
            <a:prstGeom prst="rect">
              <a:avLst/>
            </a:prstGeom>
            <a:solidFill>
              <a:srgbClr val="eef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УЧЕН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ПОСОБ   ЧТ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5796360" y="2565360"/>
              <a:ext cx="2952000" cy="45900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мение читать удобны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ля ученика способ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538560" y="3213000"/>
              <a:ext cx="2454120" cy="52020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УЧЕНИЕ ЧТЕНИЮ ВСЛУХ И МОЛ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5"/>
            <p:cNvSpPr/>
            <p:nvPr/>
          </p:nvSpPr>
          <p:spPr>
            <a:xfrm>
              <a:off x="802080" y="2565360"/>
              <a:ext cx="2298600" cy="4320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>
              <a:off x="3131280" y="2565360"/>
              <a:ext cx="26650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5796360" y="3429000"/>
              <a:ext cx="2990520" cy="118908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мение читать вслух и молч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соответствии с требовани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бранной программы в 1-4 кл.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соответствии с требовани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уровню подготовки оканчивающи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чальную шко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3347640" y="3933720"/>
              <a:ext cx="2298240" cy="160452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ЧТЕНИЕ вслух мол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1 кл    80%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     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2 кл    70%      3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3 кл    50%       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4 кл    20%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       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8"/>
            <p:cNvSpPr/>
            <p:nvPr/>
          </p:nvSpPr>
          <p:spPr>
            <a:xfrm flipV="1" rot="10763400">
              <a:off x="5794200" y="5079240"/>
              <a:ext cx="3024720" cy="64152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мение выбирать вид чтения в соответствии с целью или учебной задач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Line 23"/>
          <p:cNvSpPr/>
          <p:nvPr/>
        </p:nvSpPr>
        <p:spPr>
          <a:xfrm>
            <a:off x="3059280" y="364500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179280" y="3933720"/>
            <a:ext cx="3024360" cy="184860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УЧЕНИЕ ВИДАМ ЧТ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вичному или ознакомительн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зучающему или аналитическ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исковому (вид выборочного чт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смотровому (вид выборочного чт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179280" y="6237360"/>
            <a:ext cx="3097440" cy="45900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учение доступным приемам      вырази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5796000" y="6093000"/>
            <a:ext cx="3024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при чтении основных приемов вырази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3276720" y="6381720"/>
            <a:ext cx="24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>
            <a:off x="1692360" y="242100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>
            <a:off x="61128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324000" y="2421000"/>
            <a:ext cx="0" cy="151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3419640" y="1197000"/>
            <a:ext cx="2447640" cy="576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9"/>
          <p:cNvSpPr/>
          <p:nvPr/>
        </p:nvSpPr>
        <p:spPr>
          <a:xfrm>
            <a:off x="3419640" y="1197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УНКЦИИ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 flipH="1">
            <a:off x="2771640" y="1413000"/>
            <a:ext cx="648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>
            <a:off x="5867280" y="1341360"/>
            <a:ext cx="43344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5734080"/>
            <a:ext cx="25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39"/>
          <p:cNvSpPr/>
          <p:nvPr/>
        </p:nvSpPr>
        <p:spPr>
          <a:xfrm>
            <a:off x="3995640" y="4653000"/>
            <a:ext cx="935280" cy="8636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3995640" y="3645000"/>
            <a:ext cx="935280" cy="863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95280" y="260280"/>
            <a:ext cx="8424720" cy="703800"/>
          </a:xfrm>
          <a:prstGeom prst="rect">
            <a:avLst/>
          </a:prstGeom>
          <a:solidFill>
            <a:srgbClr val="eef0ae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ОВОРЕНИЕ (УСТНАЯ РЕЧЬ)– ВИД РЕЧЕВОЙ ДЕЯТЕЛЬНОСТИ НА УРОКАХ ЛИТЕРАТУРНОГО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468360" y="1700280"/>
            <a:ext cx="2016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оварная работа. Обогащение активного словаря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95280" y="278136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давать полный ответ на поставленный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5280" y="378936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астие в диалоге при обсуждении изучаемого произ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95280" y="486900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казывание своего мнения о произведении и ге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6229440" y="1197000"/>
            <a:ext cx="2374920" cy="82404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ргументация своей точки зрения с опорой на текст произведения или други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6227640" y="2349360"/>
            <a:ext cx="2376720" cy="82404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формулировать вопросы по содержанию изучаемого или изученного произ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6229440" y="3500280"/>
            <a:ext cx="2446200" cy="100656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пересказывать текст изученного произведения (подробно, кратко), по плану. Рассказывание (небольшой монолог) о героях, событ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6227640" y="4797360"/>
            <a:ext cx="2376720" cy="100656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тное сочинение повествовательного характера с элементами рассуждения и описания обучающе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6227640" y="2349360"/>
            <a:ext cx="2376720" cy="8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6227640" y="3500280"/>
            <a:ext cx="2448000" cy="10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6227640" y="4797360"/>
            <a:ext cx="2376720" cy="10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2"/>
          <p:cNvSpPr/>
          <p:nvPr/>
        </p:nvSpPr>
        <p:spPr>
          <a:xfrm>
            <a:off x="3924360" y="1341360"/>
            <a:ext cx="93492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3"/>
          <p:cNvSpPr/>
          <p:nvPr/>
        </p:nvSpPr>
        <p:spPr>
          <a:xfrm flipH="1">
            <a:off x="2555640" y="1773360"/>
            <a:ext cx="136836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 flipH="1">
            <a:off x="2771280" y="2133720"/>
            <a:ext cx="129564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4572000" y="2205000"/>
            <a:ext cx="1368360" cy="388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6227640" y="6180120"/>
            <a:ext cx="2448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тение наизусть    стихотворений и отрывков из п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3995640" y="2492280"/>
            <a:ext cx="935280" cy="863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 flipH="1" flipV="1">
            <a:off x="2555640" y="2133360"/>
            <a:ext cx="1439640" cy="718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 flipH="1">
            <a:off x="2987280" y="3213000"/>
            <a:ext cx="1079640" cy="792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2"/>
          <p:cNvSpPr/>
          <p:nvPr/>
        </p:nvSpPr>
        <p:spPr>
          <a:xfrm>
            <a:off x="4716360" y="3284640"/>
            <a:ext cx="1150920" cy="2808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4200480" y="388152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4147920" y="270828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 flipH="1" flipV="1">
            <a:off x="2556000" y="2276640"/>
            <a:ext cx="1511280" cy="1512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 flipH="1">
            <a:off x="2987640" y="4076640"/>
            <a:ext cx="1008000" cy="730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>
            <a:off x="4643280" y="4437000"/>
            <a:ext cx="1081080" cy="16560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4219560" y="494172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 flipH="1" flipV="1">
            <a:off x="2484000" y="2349000"/>
            <a:ext cx="1582920" cy="251964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 flipH="1" flipV="1">
            <a:off x="3058920" y="4365360"/>
            <a:ext cx="936360" cy="7189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2"/>
          <p:cNvSpPr/>
          <p:nvPr/>
        </p:nvSpPr>
        <p:spPr>
          <a:xfrm>
            <a:off x="4716360" y="5445000"/>
            <a:ext cx="1008000" cy="86364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4932360" y="5157720"/>
            <a:ext cx="1295280" cy="1429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4932360" y="4076640"/>
            <a:ext cx="1295280" cy="9367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V="1">
            <a:off x="4788000" y="2707920"/>
            <a:ext cx="1439640" cy="208908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4859280" y="4221000"/>
            <a:ext cx="1368360" cy="936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 flipV="1">
            <a:off x="4932360" y="3933360"/>
            <a:ext cx="1295280" cy="71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8"/>
          <p:cNvSpPr/>
          <p:nvPr/>
        </p:nvSpPr>
        <p:spPr>
          <a:xfrm flipV="1">
            <a:off x="4788000" y="2636640"/>
            <a:ext cx="1439640" cy="1223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9"/>
          <p:cNvSpPr/>
          <p:nvPr/>
        </p:nvSpPr>
        <p:spPr>
          <a:xfrm>
            <a:off x="4932360" y="2924280"/>
            <a:ext cx="1295280" cy="865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0"/>
          <p:cNvSpPr/>
          <p:nvPr/>
        </p:nvSpPr>
        <p:spPr>
          <a:xfrm flipV="1">
            <a:off x="4932360" y="2565360"/>
            <a:ext cx="1295280" cy="287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1"/>
          <p:cNvSpPr/>
          <p:nvPr/>
        </p:nvSpPr>
        <p:spPr>
          <a:xfrm flipV="1">
            <a:off x="4932360" y="1557360"/>
            <a:ext cx="1295280" cy="1224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3"/>
          <p:cNvSpPr/>
          <p:nvPr/>
        </p:nvSpPr>
        <p:spPr>
          <a:xfrm flipH="1" flipV="1">
            <a:off x="2700360" y="5084280"/>
            <a:ext cx="1295280" cy="7308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4056120" y="157644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Organization Chart 3"/>
          <p:cNvGrpSpPr/>
          <p:nvPr/>
        </p:nvGrpSpPr>
        <p:grpSpPr>
          <a:xfrm>
            <a:off x="0" y="189000"/>
            <a:ext cx="8840520" cy="5648400"/>
            <a:chOff x="0" y="189000"/>
            <a:chExt cx="8840520" cy="5648400"/>
          </a:xfrm>
        </p:grpSpPr>
        <p:cxnSp>
          <p:nvCxnSpPr>
            <p:cNvPr id="380" name="_s7172"/>
            <p:cNvCxnSpPr/>
            <p:nvPr/>
          </p:nvCxnSpPr>
          <p:spPr>
            <a:xfrm flipH="1" flipV="1" rot="5400000">
              <a:off x="3345480" y="1819080"/>
              <a:ext cx="2304360" cy="772920"/>
            </a:xfrm>
            <a:prstGeom prst="bentConnector3">
              <a:avLst>
                <a:gd name="adj1" fmla="val 4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7173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4525560" y="1119240"/>
              <a:ext cx="2185200" cy="2396880"/>
            </a:xfrm>
            <a:prstGeom prst="bentConnector3">
              <a:avLst>
                <a:gd name="adj1" fmla="val 52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7174"/>
            <p:cNvCxnSpPr>
              <a:stCxn id="385" idx="0"/>
              <a:endCxn id="383" idx="2"/>
            </p:cNvCxnSpPr>
            <p:nvPr/>
          </p:nvCxnSpPr>
          <p:spPr>
            <a:xfrm flipV="1" rot="16200000">
              <a:off x="5585760" y="59040"/>
              <a:ext cx="961200" cy="329364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_s7175"/>
            <p:cNvCxnSpPr>
              <a:stCxn id="387" idx="0"/>
              <a:endCxn id="383" idx="2"/>
            </p:cNvCxnSpPr>
            <p:nvPr/>
          </p:nvCxnSpPr>
          <p:spPr>
            <a:xfrm flipH="1" flipV="1" rot="5400000">
              <a:off x="3284640" y="1050840"/>
              <a:ext cx="961200" cy="131040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_s7176"/>
            <p:cNvCxnSpPr>
              <a:stCxn id="389" idx="0"/>
              <a:endCxn id="383" idx="2"/>
            </p:cNvCxnSpPr>
            <p:nvPr/>
          </p:nvCxnSpPr>
          <p:spPr>
            <a:xfrm flipH="1" flipV="1" rot="5400000">
              <a:off x="2196720" y="-37080"/>
              <a:ext cx="961200" cy="348624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3" name="_s7177"/>
            <p:cNvSpPr/>
            <p:nvPr/>
          </p:nvSpPr>
          <p:spPr>
            <a:xfrm>
              <a:off x="0" y="189000"/>
              <a:ext cx="8840520" cy="1008000"/>
            </a:xfrm>
            <a:prstGeom prst="roundRect">
              <a:avLst>
                <a:gd name="adj" fmla="val 13856"/>
              </a:avLst>
            </a:prstGeom>
            <a:solidFill>
              <a:srgbClr val="eef0ae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ИСЬМО (ПИСЬМЕННАЯ РЕЧЬ)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ВИД РЕЧЕВОЙ ДЕЯТЕЛЬНОСТИ НА УРОКАХ ЛИТЕРАТУРНОГО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7178"/>
            <p:cNvSpPr/>
            <p:nvPr/>
          </p:nvSpPr>
          <p:spPr>
            <a:xfrm>
              <a:off x="0" y="2205360"/>
              <a:ext cx="1865520" cy="795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отв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поставл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7179"/>
            <p:cNvSpPr/>
            <p:nvPr/>
          </p:nvSpPr>
          <p:spPr>
            <a:xfrm>
              <a:off x="2099160" y="2205360"/>
              <a:ext cx="2022480" cy="86652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наз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е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фамилия авт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заглави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7180"/>
            <p:cNvSpPr/>
            <p:nvPr/>
          </p:nvSpPr>
          <p:spPr>
            <a:xfrm>
              <a:off x="6585840" y="2205360"/>
              <a:ext cx="2254680" cy="795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исание отзы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3-5 предложени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 произведении, гер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7181"/>
            <p:cNvSpPr/>
            <p:nvPr/>
          </p:nvSpPr>
          <p:spPr>
            <a:xfrm>
              <a:off x="5578200" y="3429000"/>
              <a:ext cx="2474640" cy="12020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придума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больших истор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казок, рассказ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д руковод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7182"/>
            <p:cNvSpPr/>
            <p:nvPr/>
          </p:nvSpPr>
          <p:spPr>
            <a:xfrm>
              <a:off x="2873160" y="3357720"/>
              <a:ext cx="2397600" cy="12952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исание по образц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нно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прочитанную книг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2185920" y="5013360"/>
              <a:ext cx="6265800" cy="82404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се письменные творческие работы по литературному чтению носят обучающий характер и выполняются в классе под руководством уч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16"/>
          <p:cNvSpPr/>
          <p:nvPr/>
        </p:nvSpPr>
        <p:spPr>
          <a:xfrm>
            <a:off x="539640" y="5013360"/>
            <a:ext cx="1738440" cy="368280"/>
          </a:xfrm>
          <a:prstGeom prst="rect">
            <a:avLst/>
          </a:prstGeom>
          <a:solidFill>
            <a:srgbClr val="eef0a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Organization Chart 3"/>
          <p:cNvGrpSpPr/>
          <p:nvPr/>
        </p:nvGrpSpPr>
        <p:grpSpPr>
          <a:xfrm>
            <a:off x="468360" y="1701000"/>
            <a:ext cx="8207280" cy="4660920"/>
            <a:chOff x="468360" y="1701000"/>
            <a:chExt cx="8207280" cy="4660920"/>
          </a:xfrm>
        </p:grpSpPr>
        <p:cxnSp>
          <p:nvCxnSpPr>
            <p:cNvPr id="394" name="_s8196"/>
            <p:cNvCxnSpPr>
              <a:stCxn id="395" idx="0"/>
              <a:endCxn id="396" idx="2"/>
            </p:cNvCxnSpPr>
            <p:nvPr/>
          </p:nvCxnSpPr>
          <p:spPr>
            <a:xfrm flipV="1" rot="16200000">
              <a:off x="4878000" y="1879200"/>
              <a:ext cx="1692360" cy="2232720"/>
            </a:xfrm>
            <a:prstGeom prst="bentConnector3">
              <a:avLst>
                <a:gd name="adj1" fmla="val 6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7" name="_s8197"/>
            <p:cNvCxnSpPr>
              <a:stCxn id="398" idx="0"/>
              <a:endCxn id="396" idx="2"/>
            </p:cNvCxnSpPr>
            <p:nvPr/>
          </p:nvCxnSpPr>
          <p:spPr>
            <a:xfrm flipH="1" flipV="1" rot="5400000">
              <a:off x="3023280" y="1753200"/>
              <a:ext cx="1189080" cy="1981800"/>
            </a:xfrm>
            <a:prstGeom prst="bentConnector3">
              <a:avLst>
                <a:gd name="adj1" fmla="val 96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9" name="_s8198"/>
            <p:cNvCxnSpPr>
              <a:stCxn id="400" idx="0"/>
              <a:endCxn id="396" idx="2"/>
            </p:cNvCxnSpPr>
            <p:nvPr/>
          </p:nvCxnSpPr>
          <p:spPr>
            <a:xfrm flipV="1" rot="16200000">
              <a:off x="5786280" y="980640"/>
              <a:ext cx="236880" cy="2593440"/>
            </a:xfrm>
            <a:prstGeom prst="bentConnector3">
              <a:avLst>
                <a:gd name="adj1" fmla="val 482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1" name="_s8199"/>
            <p:cNvCxnSpPr>
              <a:stCxn id="402" idx="0"/>
              <a:endCxn id="396" idx="2"/>
            </p:cNvCxnSpPr>
            <p:nvPr/>
          </p:nvCxnSpPr>
          <p:spPr>
            <a:xfrm flipH="1" flipV="1" rot="5400000">
              <a:off x="3106440" y="893880"/>
              <a:ext cx="236880" cy="2767680"/>
            </a:xfrm>
            <a:prstGeom prst="bentConnector3">
              <a:avLst>
                <a:gd name="adj1" fmla="val 482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96" name="_s8200"/>
            <p:cNvSpPr/>
            <p:nvPr/>
          </p:nvSpPr>
          <p:spPr>
            <a:xfrm>
              <a:off x="539640" y="1701000"/>
              <a:ext cx="8136000" cy="4284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cc"/>
                  </a:solidFill>
                  <a:latin typeface="Arial"/>
                </a:rPr>
                <a:t>В результате обучения ученик должен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8201"/>
            <p:cNvSpPr/>
            <p:nvPr/>
          </p:nvSpPr>
          <p:spPr>
            <a:xfrm>
              <a:off x="468360" y="2414880"/>
              <a:ext cx="2746440" cy="714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нать названия, темы и жанр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ученных произвед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авторскую принадлеж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8202"/>
            <p:cNvSpPr/>
            <p:nvPr/>
          </p:nvSpPr>
          <p:spPr>
            <a:xfrm>
              <a:off x="5796000" y="2414880"/>
              <a:ext cx="2808360" cy="10720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нимать содерж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ученных произведени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тупки героев произведени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лавную мысл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идею) произве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8203"/>
            <p:cNvSpPr/>
            <p:nvPr/>
          </p:nvSpPr>
          <p:spPr>
            <a:xfrm>
              <a:off x="539640" y="3358080"/>
              <a:ext cx="4175280" cy="3003840"/>
            </a:xfrm>
            <a:prstGeom prst="roundRect">
              <a:avLst>
                <a:gd name="adj" fmla="val 4500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меть различать элементы книги (обложка, оглавление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итульный лист, иллюстрация, аннотация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читать осознанно текст художественного произвед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 себя» (без учета скорост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пределять тему и главную мысль произведен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есказывать текст (объем не более 1,5 стр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лить текст на смысловые части, составлять его простой пл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ставлять небольшое монологическое высказывание с опорой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вторский текст, оценивать события, героев произвед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читать стихотворные произведения наизусть (по выбору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вать небольшой устный текст на заданную тем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водить примеры произведений фолькло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пословицы, загадки, сказк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личать жанры художественной литерату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сказка, рассказ, басня), различать сказки народные и литературны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водить примеры художественных произведений раз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матики по изученному материал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8204"/>
            <p:cNvSpPr/>
            <p:nvPr/>
          </p:nvSpPr>
          <p:spPr>
            <a:xfrm>
              <a:off x="5148360" y="3861000"/>
              <a:ext cx="3384360" cy="2431440"/>
            </a:xfrm>
            <a:prstGeom prst="roundRect">
              <a:avLst>
                <a:gd name="adj" fmla="val 5083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ть приобретенные знания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мения в практической деятель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вседневной жизни дл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амостоятельного чтения кни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казывания оценочных суждений  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читанном произведен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амостоятельного выбора и определ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держания книги по ее элемен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боты с разными источникам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словарями, справочниками, в том числе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лектронных носителя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2"/>
          <p:cNvSpPr/>
          <p:nvPr/>
        </p:nvSpPr>
        <p:spPr>
          <a:xfrm>
            <a:off x="395280" y="260280"/>
            <a:ext cx="8352000" cy="916920"/>
          </a:xfrm>
          <a:prstGeom prst="rect">
            <a:avLst/>
          </a:prstGeom>
          <a:solidFill>
            <a:srgbClr val="eef0ae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РЕБОВАНИЯ, ОПРЕДЕЛЕННЫЕ ГОССТАНДАРТОМ К УРОВНЮ ПОДГОТОВКИ ПО  ЛИТЕРАТУРНОМУ ЧТЕНИЮ ОКАНЧИВАЮЩИХ НАЧАЛЬНУЮ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хема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80320" cy="63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хема 2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829764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хема 2" descr=""/>
          <p:cNvPicPr/>
          <p:nvPr/>
        </p:nvPicPr>
        <p:blipFill>
          <a:blip r:embed="rId1"/>
          <a:stretch/>
        </p:blipFill>
        <p:spPr>
          <a:xfrm>
            <a:off x="430200" y="115920"/>
            <a:ext cx="871380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rganization Chart 4"/>
          <p:cNvGrpSpPr/>
          <p:nvPr/>
        </p:nvGrpSpPr>
        <p:grpSpPr>
          <a:xfrm>
            <a:off x="190800" y="404640"/>
            <a:ext cx="8649720" cy="5472360"/>
            <a:chOff x="190800" y="404640"/>
            <a:chExt cx="8649720" cy="5472360"/>
          </a:xfrm>
        </p:grpSpPr>
        <p:cxnSp>
          <p:nvCxnSpPr>
            <p:cNvPr id="198" name="_s1028"/>
            <p:cNvCxnSpPr/>
            <p:nvPr/>
          </p:nvCxnSpPr>
          <p:spPr>
            <a:xfrm flipV="1" rot="16200000">
              <a:off x="2733480" y="656280"/>
              <a:ext cx="4033080" cy="3816720"/>
            </a:xfrm>
            <a:prstGeom prst="bentConnector3">
              <a:avLst>
                <a:gd name="adj1" fmla="val 282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9" name="_s1029"/>
            <p:cNvCxnSpPr/>
            <p:nvPr/>
          </p:nvCxnSpPr>
          <p:spPr>
            <a:xfrm flipV="1" rot="16200000">
              <a:off x="5816520" y="598320"/>
              <a:ext cx="937440" cy="2996640"/>
            </a:xfrm>
            <a:prstGeom prst="bentConnector3">
              <a:avLst>
                <a:gd name="adj1" fmla="val 1217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0" name="_s1030"/>
            <p:cNvCxnSpPr/>
            <p:nvPr/>
          </p:nvCxnSpPr>
          <p:spPr>
            <a:xfrm rot="10800000">
              <a:off x="1691640" y="3788640"/>
              <a:ext cx="2215080" cy="1512000"/>
            </a:xfrm>
            <a:prstGeom prst="bentConnector4">
              <a:avLst>
                <a:gd name="adj1" fmla="val 125438"/>
                <a:gd name="adj2" fmla="val 100000"/>
              </a:avLst>
            </a:prstGeom>
            <a:ln w="0">
              <a:noFill/>
            </a:ln>
          </p:spPr>
        </p:cxnSp>
        <p:cxnSp>
          <p:nvCxnSpPr>
            <p:cNvPr id="201" name="_s1031"/>
            <p:cNvCxnSpPr/>
            <p:nvPr/>
          </p:nvCxnSpPr>
          <p:spPr>
            <a:xfrm flipH="1" flipV="1" rot="5400000">
              <a:off x="972000" y="4003200"/>
              <a:ext cx="935640" cy="506880"/>
            </a:xfrm>
            <a:prstGeom prst="bentConnector5">
              <a:avLst>
                <a:gd name="adj1" fmla="val 3733"/>
                <a:gd name="adj2" fmla="val -11584"/>
                <a:gd name="adj3" fmla="val 124441"/>
              </a:avLst>
            </a:prstGeom>
            <a:ln w="0">
              <a:noFill/>
            </a:ln>
          </p:spPr>
        </p:cxnSp>
        <p:cxnSp>
          <p:nvCxnSpPr>
            <p:cNvPr id="202" name="_s1032"/>
            <p:cNvCxnSpPr/>
            <p:nvPr/>
          </p:nvCxnSpPr>
          <p:spPr>
            <a:xfrm flipV="1" rot="16200000">
              <a:off x="4916160" y="1523160"/>
              <a:ext cx="927720" cy="1136880"/>
            </a:xfrm>
            <a:prstGeom prst="bentConnector3">
              <a:avLst>
                <a:gd name="adj1" fmla="val 12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33"/>
            <p:cNvCxnSpPr/>
            <p:nvPr/>
          </p:nvCxnSpPr>
          <p:spPr>
            <a:xfrm flipH="1" flipV="1" rot="5400000">
              <a:off x="3940920" y="1682280"/>
              <a:ext cx="927720" cy="819360"/>
            </a:xfrm>
            <a:prstGeom prst="bentConnector3">
              <a:avLst>
                <a:gd name="adj1" fmla="val 1230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4" name="_s1034"/>
            <p:cNvCxnSpPr/>
            <p:nvPr/>
          </p:nvCxnSpPr>
          <p:spPr>
            <a:xfrm flipH="1" flipV="1" rot="5400000">
              <a:off x="2635920" y="467640"/>
              <a:ext cx="937440" cy="3258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05" name="_s1035"/>
            <p:cNvSpPr/>
            <p:nvPr/>
          </p:nvSpPr>
          <p:spPr>
            <a:xfrm>
              <a:off x="322560" y="404640"/>
              <a:ext cx="8517960" cy="1224000"/>
            </a:xfrm>
            <a:prstGeom prst="roundRect">
              <a:avLst>
                <a:gd name="adj" fmla="val 2532"/>
              </a:avLst>
            </a:prstGeom>
            <a:solidFill>
              <a:srgbClr val="ff0000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СНОВНЫЕ СОДЕРЖАТЕЛЬНЫЕ ЛИН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УРСА ЛИТЕРАТУРНОГО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6"/>
            <p:cNvSpPr/>
            <p:nvPr/>
          </p:nvSpPr>
          <p:spPr>
            <a:xfrm>
              <a:off x="341280" y="2565360"/>
              <a:ext cx="2273400" cy="1224000"/>
            </a:xfrm>
            <a:prstGeom prst="roundRect">
              <a:avLst>
                <a:gd name="adj" fmla="val 416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Учебный матери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37"/>
            <p:cNvSpPr/>
            <p:nvPr/>
          </p:nvSpPr>
          <p:spPr>
            <a:xfrm>
              <a:off x="2917800" y="2565360"/>
              <a:ext cx="1851120" cy="1224000"/>
            </a:xfrm>
            <a:prstGeom prst="roundRect">
              <a:avLst>
                <a:gd name="adj" fmla="val 453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Формирование основных видов чт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38"/>
            <p:cNvSpPr/>
            <p:nvPr/>
          </p:nvSpPr>
          <p:spPr>
            <a:xfrm>
              <a:off x="4964040" y="2565360"/>
              <a:ext cx="1667520" cy="1260360"/>
            </a:xfrm>
            <a:prstGeom prst="roundRect">
              <a:avLst>
                <a:gd name="adj" fmla="val 2926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Работа с текстом произвед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39"/>
            <p:cNvSpPr/>
            <p:nvPr/>
          </p:nvSpPr>
          <p:spPr>
            <a:xfrm>
              <a:off x="190800" y="4653000"/>
              <a:ext cx="2056320" cy="1224000"/>
            </a:xfrm>
            <a:prstGeom prst="roundRect">
              <a:avLst>
                <a:gd name="adj" fmla="val 2593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язательный минимум содержания, определенный стандартом образ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0"/>
            <p:cNvSpPr/>
            <p:nvPr/>
          </p:nvSpPr>
          <p:spPr>
            <a:xfrm>
              <a:off x="2411280" y="4653000"/>
              <a:ext cx="2016720" cy="1224000"/>
            </a:xfrm>
            <a:prstGeom prst="roundRect">
              <a:avLst>
                <a:gd name="adj" fmla="val 6542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Учебный материал программы, расширяющий круг чт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41"/>
            <p:cNvSpPr/>
            <p:nvPr/>
          </p:nvSpPr>
          <p:spPr>
            <a:xfrm>
              <a:off x="6859080" y="2565360"/>
              <a:ext cx="1742400" cy="1295280"/>
            </a:xfrm>
            <a:prstGeom prst="roundRect">
              <a:avLst>
                <a:gd name="adj" fmla="val 409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Литератур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ведческие представления и понят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42"/>
            <p:cNvSpPr/>
            <p:nvPr/>
          </p:nvSpPr>
          <p:spPr>
            <a:xfrm>
              <a:off x="5866560" y="4581360"/>
              <a:ext cx="1844280" cy="1295640"/>
            </a:xfrm>
            <a:prstGeom prst="roundRect">
              <a:avLst>
                <a:gd name="adj" fmla="val 3509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Работа с книго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2"/>
          <p:cNvSpPr/>
          <p:nvPr/>
        </p:nvSpPr>
        <p:spPr>
          <a:xfrm flipH="1">
            <a:off x="468360" y="3789360"/>
            <a:ext cx="122400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1692360" y="3789360"/>
            <a:ext cx="122400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Organization Chart 4"/>
          <p:cNvGrpSpPr/>
          <p:nvPr/>
        </p:nvGrpSpPr>
        <p:grpSpPr>
          <a:xfrm>
            <a:off x="457200" y="260280"/>
            <a:ext cx="8229600" cy="5832720"/>
            <a:chOff x="457200" y="260280"/>
            <a:chExt cx="8229600" cy="5832720"/>
          </a:xfrm>
        </p:grpSpPr>
        <p:cxnSp>
          <p:nvCxnSpPr>
            <p:cNvPr id="216" name="_s2052"/>
            <p:cNvCxnSpPr>
              <a:stCxn id="217" idx="0"/>
              <a:endCxn id="218" idx="2"/>
            </p:cNvCxnSpPr>
            <p:nvPr/>
          </p:nvCxnSpPr>
          <p:spPr>
            <a:xfrm flipV="1" rot="16200000">
              <a:off x="5834160" y="-215640"/>
              <a:ext cx="361080" cy="28962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053"/>
            <p:cNvCxnSpPr>
              <a:stCxn id="220" idx="0"/>
              <a:endCxn id="218" idx="2"/>
            </p:cNvCxnSpPr>
            <p:nvPr/>
          </p:nvCxnSpPr>
          <p:spPr>
            <a:xfrm flipH="1" flipV="1" rot="5400000">
              <a:off x="1508760" y="1306800"/>
              <a:ext cx="3313800" cy="2804400"/>
            </a:xfrm>
            <a:prstGeom prst="bentConnector3">
              <a:avLst>
                <a:gd name="adj1" fmla="val 3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054"/>
            <p:cNvCxnSpPr/>
            <p:nvPr/>
          </p:nvCxnSpPr>
          <p:spPr>
            <a:xfrm flipV="1" rot="16200000">
              <a:off x="2701440" y="3137760"/>
              <a:ext cx="3890160" cy="150120"/>
            </a:xfrm>
            <a:prstGeom prst="bentConnector3">
              <a:avLst>
                <a:gd name="adj1" fmla="val 29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055"/>
            <p:cNvCxnSpPr/>
            <p:nvPr/>
          </p:nvCxnSpPr>
          <p:spPr>
            <a:xfrm flipV="1" rot="16200000">
              <a:off x="4571640" y="1412280"/>
              <a:ext cx="3240720" cy="2520000"/>
            </a:xfrm>
            <a:prstGeom prst="bentConnector3">
              <a:avLst>
                <a:gd name="adj1" fmla="val 35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056"/>
            <p:cNvCxnSpPr>
              <a:stCxn id="224" idx="0"/>
              <a:endCxn id="218" idx="2"/>
            </p:cNvCxnSpPr>
            <p:nvPr/>
          </p:nvCxnSpPr>
          <p:spPr>
            <a:xfrm flipH="1" flipV="1" rot="5400000">
              <a:off x="2337480" y="478080"/>
              <a:ext cx="1656360" cy="2804400"/>
            </a:xfrm>
            <a:prstGeom prst="bentConnector3">
              <a:avLst>
                <a:gd name="adj1" fmla="val 6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7"/>
            <p:cNvCxnSpPr>
              <a:stCxn id="226" idx="0"/>
              <a:endCxn id="218" idx="2"/>
            </p:cNvCxnSpPr>
            <p:nvPr/>
          </p:nvCxnSpPr>
          <p:spPr>
            <a:xfrm flipH="1" flipV="1" rot="5400000">
              <a:off x="2985120" y="-169560"/>
              <a:ext cx="361080" cy="28044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"/>
            <p:cNvCxnSpPr>
              <a:stCxn id="228" idx="0"/>
              <a:endCxn id="218" idx="2"/>
            </p:cNvCxnSpPr>
            <p:nvPr/>
          </p:nvCxnSpPr>
          <p:spPr>
            <a:xfrm flipV="1" rot="16200000">
              <a:off x="5181120" y="437400"/>
              <a:ext cx="1656360" cy="2885040"/>
            </a:xfrm>
            <a:prstGeom prst="bentConnector3">
              <a:avLst>
                <a:gd name="adj1" fmla="val 6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2059"/>
            <p:cNvSpPr/>
            <p:nvPr/>
          </p:nvSpPr>
          <p:spPr>
            <a:xfrm>
              <a:off x="457200" y="260280"/>
              <a:ext cx="8218440" cy="792360"/>
            </a:xfrm>
            <a:prstGeom prst="roundRect">
              <a:avLst>
                <a:gd name="adj" fmla="val 439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РУГ ЧТ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ЧЕБНЫЙ МАТЕРИ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0"/>
            <p:cNvSpPr/>
            <p:nvPr/>
          </p:nvSpPr>
          <p:spPr>
            <a:xfrm>
              <a:off x="6227640" y="2708280"/>
              <a:ext cx="2448000" cy="1216080"/>
            </a:xfrm>
            <a:prstGeom prst="roundRect">
              <a:avLst>
                <a:gd name="adj" fmla="val 6250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художественные и научно-познав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1"/>
            <p:cNvSpPr/>
            <p:nvPr/>
          </p:nvSpPr>
          <p:spPr>
            <a:xfrm>
              <a:off x="539640" y="1413000"/>
              <a:ext cx="2448000" cy="923760"/>
            </a:xfrm>
            <a:prstGeom prst="roundRect">
              <a:avLst>
                <a:gd name="adj" fmla="val 434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устного народного 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фолькло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2"/>
            <p:cNvSpPr/>
            <p:nvPr/>
          </p:nvSpPr>
          <p:spPr>
            <a:xfrm>
              <a:off x="539640" y="2708280"/>
              <a:ext cx="2448000" cy="1074600"/>
            </a:xfrm>
            <a:prstGeom prst="roundRect">
              <a:avLst>
                <a:gd name="adj" fmla="val 341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отечественных и зарубежных писателей-класс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3"/>
            <p:cNvSpPr/>
            <p:nvPr/>
          </p:nvSpPr>
          <p:spPr>
            <a:xfrm>
              <a:off x="6227640" y="4292640"/>
              <a:ext cx="2448000" cy="1042920"/>
            </a:xfrm>
            <a:prstGeom prst="roundRect">
              <a:avLst>
                <a:gd name="adj" fmla="val 466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Справочники, словари, энциклопед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4"/>
            <p:cNvSpPr/>
            <p:nvPr/>
          </p:nvSpPr>
          <p:spPr>
            <a:xfrm>
              <a:off x="3635280" y="4941720"/>
              <a:ext cx="2160720" cy="1151280"/>
            </a:xfrm>
            <a:prstGeom prst="roundRect">
              <a:avLst>
                <a:gd name="adj" fmla="val 434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ериодические издания для де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65"/>
            <p:cNvSpPr/>
            <p:nvPr/>
          </p:nvSpPr>
          <p:spPr>
            <a:xfrm>
              <a:off x="539640" y="4365720"/>
              <a:ext cx="2448000" cy="1168200"/>
            </a:xfrm>
            <a:prstGeom prst="roundRect">
              <a:avLst>
                <a:gd name="adj" fmla="val 5269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современной отечественной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66"/>
            <p:cNvSpPr/>
            <p:nvPr/>
          </p:nvSpPr>
          <p:spPr>
            <a:xfrm>
              <a:off x="6238800" y="1413000"/>
              <a:ext cx="2448000" cy="730080"/>
            </a:xfrm>
            <a:prstGeom prst="roundRect">
              <a:avLst>
                <a:gd name="adj" fmla="val 5324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детских писа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Organization Chart 4"/>
          <p:cNvGrpSpPr/>
          <p:nvPr/>
        </p:nvGrpSpPr>
        <p:grpSpPr>
          <a:xfrm>
            <a:off x="457200" y="260280"/>
            <a:ext cx="8218440" cy="5041800"/>
            <a:chOff x="457200" y="260280"/>
            <a:chExt cx="8218440" cy="5041800"/>
          </a:xfrm>
        </p:grpSpPr>
        <p:cxnSp>
          <p:nvCxnSpPr>
            <p:cNvPr id="232" name="_s3076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4364280" y="1455840"/>
              <a:ext cx="2540880" cy="2126520"/>
            </a:xfrm>
            <a:prstGeom prst="bentConnector3">
              <a:avLst>
                <a:gd name="adj1" fmla="val 44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077"/>
            <p:cNvCxnSpPr>
              <a:stCxn id="236" idx="0"/>
              <a:endCxn id="234" idx="2"/>
            </p:cNvCxnSpPr>
            <p:nvPr/>
          </p:nvCxnSpPr>
          <p:spPr>
            <a:xfrm flipV="1">
              <a:off x="4572000" y="1248480"/>
              <a:ext cx="2160" cy="256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078"/>
            <p:cNvCxnSpPr>
              <a:stCxn id="238" idx="0"/>
              <a:endCxn id="234" idx="2"/>
            </p:cNvCxnSpPr>
            <p:nvPr/>
          </p:nvCxnSpPr>
          <p:spPr>
            <a:xfrm flipH="1" flipV="1" rot="5400000">
              <a:off x="2055240" y="1272600"/>
              <a:ext cx="2540880" cy="2493000"/>
            </a:xfrm>
            <a:prstGeom prst="bentConnector3">
              <a:avLst>
                <a:gd name="adj1" fmla="val 44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9" name="_s3079"/>
            <p:cNvCxnSpPr>
              <a:stCxn id="240" idx="0"/>
              <a:endCxn id="234" idx="2"/>
            </p:cNvCxnSpPr>
            <p:nvPr/>
          </p:nvCxnSpPr>
          <p:spPr>
            <a:xfrm flipV="1" rot="16200000">
              <a:off x="5889240" y="-69120"/>
              <a:ext cx="489600" cy="312480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3080"/>
            <p:cNvCxnSpPr>
              <a:stCxn id="242" idx="0"/>
              <a:endCxn id="234" idx="2"/>
            </p:cNvCxnSpPr>
            <p:nvPr/>
          </p:nvCxnSpPr>
          <p:spPr>
            <a:xfrm flipV="1" rot="16200000">
              <a:off x="4838400" y="981720"/>
              <a:ext cx="489600" cy="10231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3081"/>
            <p:cNvCxnSpPr>
              <a:stCxn id="244" idx="0"/>
              <a:endCxn id="234" idx="2"/>
            </p:cNvCxnSpPr>
            <p:nvPr/>
          </p:nvCxnSpPr>
          <p:spPr>
            <a:xfrm flipH="1" flipV="1" rot="5400000">
              <a:off x="3669120" y="835200"/>
              <a:ext cx="489600" cy="13165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3082"/>
            <p:cNvCxnSpPr>
              <a:stCxn id="246" idx="0"/>
              <a:endCxn id="234" idx="2"/>
            </p:cNvCxnSpPr>
            <p:nvPr/>
          </p:nvCxnSpPr>
          <p:spPr>
            <a:xfrm flipH="1" flipV="1" rot="5400000">
              <a:off x="2612520" y="-221400"/>
              <a:ext cx="489600" cy="34297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3083"/>
            <p:cNvSpPr/>
            <p:nvPr/>
          </p:nvSpPr>
          <p:spPr>
            <a:xfrm>
              <a:off x="468360" y="260280"/>
              <a:ext cx="8207280" cy="974880"/>
            </a:xfrm>
            <a:prstGeom prst="roundRect">
              <a:avLst>
                <a:gd name="adj" fmla="val 1042"/>
              </a:avLst>
            </a:prstGeom>
            <a:solidFill>
              <a:srgbClr val="ff0000"/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СНОВНЫЕ  ТЕМЫ ДЕТСКОГО  ЧТ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084"/>
            <p:cNvSpPr/>
            <p:nvPr/>
          </p:nvSpPr>
          <p:spPr>
            <a:xfrm>
              <a:off x="457200" y="1738440"/>
              <a:ext cx="1371600" cy="133020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детях, людя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085"/>
            <p:cNvSpPr/>
            <p:nvPr/>
          </p:nvSpPr>
          <p:spPr>
            <a:xfrm>
              <a:off x="2514600" y="1738440"/>
              <a:ext cx="1481040" cy="1403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Родин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086"/>
            <p:cNvSpPr/>
            <p:nvPr/>
          </p:nvSpPr>
          <p:spPr>
            <a:xfrm>
              <a:off x="4743360" y="1738440"/>
              <a:ext cx="1700280" cy="1474560"/>
            </a:xfrm>
            <a:prstGeom prst="roundRect">
              <a:avLst>
                <a:gd name="adj" fmla="val 50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087"/>
            <p:cNvSpPr/>
            <p:nvPr/>
          </p:nvSpPr>
          <p:spPr>
            <a:xfrm>
              <a:off x="6877080" y="1738440"/>
              <a:ext cx="1638360" cy="147456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природ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088"/>
            <p:cNvSpPr/>
            <p:nvPr/>
          </p:nvSpPr>
          <p:spPr>
            <a:xfrm>
              <a:off x="1314360" y="3789360"/>
              <a:ext cx="1528920" cy="1368360"/>
            </a:xfrm>
            <a:prstGeom prst="roundRect">
              <a:avLst>
                <a:gd name="adj" fmla="val 50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иклю-ч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9"/>
            <p:cNvSpPr/>
            <p:nvPr/>
          </p:nvSpPr>
          <p:spPr>
            <a:xfrm>
              <a:off x="3780000" y="3814920"/>
              <a:ext cx="1584000" cy="1414440"/>
            </a:xfrm>
            <a:prstGeom prst="roundRect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олшеб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90"/>
            <p:cNvSpPr/>
            <p:nvPr/>
          </p:nvSpPr>
          <p:spPr>
            <a:xfrm>
              <a:off x="5908680" y="3789360"/>
              <a:ext cx="1577880" cy="1512720"/>
            </a:xfrm>
            <a:prstGeom prst="roundRect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Фантас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и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55"/>
          <p:cNvSpPr/>
          <p:nvPr/>
        </p:nvSpPr>
        <p:spPr>
          <a:xfrm>
            <a:off x="179280" y="3357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>
            <a:off x="539640" y="393372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1474920" y="343044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Organization Chart 4"/>
          <p:cNvGrpSpPr/>
          <p:nvPr/>
        </p:nvGrpSpPr>
        <p:grpSpPr>
          <a:xfrm>
            <a:off x="457200" y="260280"/>
            <a:ext cx="8229600" cy="4969080"/>
            <a:chOff x="457200" y="260280"/>
            <a:chExt cx="8229600" cy="4969080"/>
          </a:xfrm>
        </p:grpSpPr>
        <p:cxnSp>
          <p:nvCxnSpPr>
            <p:cNvPr id="251" name="_s4100"/>
            <p:cNvCxnSpPr/>
            <p:nvPr/>
          </p:nvCxnSpPr>
          <p:spPr>
            <a:xfrm flipV="1" rot="16200000">
              <a:off x="6257880" y="3541680"/>
              <a:ext cx="2390040" cy="3960"/>
            </a:xfrm>
            <a:prstGeom prst="bentConnector3">
              <a:avLst>
                <a:gd name="adj1" fmla="val 47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101"/>
            <p:cNvCxnSpPr>
              <a:stCxn id="253" idx="0"/>
              <a:endCxn id="254" idx="2"/>
            </p:cNvCxnSpPr>
            <p:nvPr/>
          </p:nvCxnSpPr>
          <p:spPr>
            <a:xfrm flipH="1" flipV="1" rot="5400000">
              <a:off x="6332040" y="2824920"/>
              <a:ext cx="1598040" cy="645480"/>
            </a:xfrm>
            <a:prstGeom prst="bentConnector3">
              <a:avLst>
                <a:gd name="adj1" fmla="val 714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5" name="_s4102"/>
            <p:cNvCxnSpPr>
              <a:stCxn id="256" idx="0"/>
              <a:endCxn id="254" idx="2"/>
            </p:cNvCxnSpPr>
            <p:nvPr/>
          </p:nvCxnSpPr>
          <p:spPr>
            <a:xfrm flipV="1" rot="16200000">
              <a:off x="7070760" y="2730600"/>
              <a:ext cx="1598040" cy="834120"/>
            </a:xfrm>
            <a:prstGeom prst="bentConnector3">
              <a:avLst>
                <a:gd name="adj1" fmla="val 714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7" name="_s4103"/>
            <p:cNvCxnSpPr/>
            <p:nvPr/>
          </p:nvCxnSpPr>
          <p:spPr>
            <a:xfrm flipH="1" flipV="1" rot="5400000">
              <a:off x="6675840" y="2405160"/>
              <a:ext cx="864360" cy="751320"/>
            </a:xfrm>
            <a:prstGeom prst="bentConnector3">
              <a:avLst>
                <a:gd name="adj1" fmla="val 132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8" name="_s4104"/>
            <p:cNvCxnSpPr/>
            <p:nvPr/>
          </p:nvCxnSpPr>
          <p:spPr>
            <a:xfrm flipV="1" rot="16200000">
              <a:off x="7430400" y="2369160"/>
              <a:ext cx="864360" cy="822960"/>
            </a:xfrm>
            <a:prstGeom prst="bentConnector3">
              <a:avLst>
                <a:gd name="adj1" fmla="val 132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9" name="_s4105"/>
            <p:cNvCxnSpPr>
              <a:stCxn id="260" idx="0"/>
              <a:endCxn id="254" idx="2"/>
            </p:cNvCxnSpPr>
            <p:nvPr/>
          </p:nvCxnSpPr>
          <p:spPr>
            <a:xfrm flipV="1" rot="16200000">
              <a:off x="7731360" y="2070000"/>
              <a:ext cx="229320" cy="7862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1" name="_s4106"/>
            <p:cNvCxnSpPr/>
            <p:nvPr/>
          </p:nvCxnSpPr>
          <p:spPr>
            <a:xfrm flipH="1" flipV="1" rot="5400000">
              <a:off x="6925320" y="2082960"/>
              <a:ext cx="229320" cy="761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2" name="_s4107"/>
            <p:cNvCxnSpPr/>
            <p:nvPr/>
          </p:nvCxnSpPr>
          <p:spPr>
            <a:xfrm flipV="1" rot="16200000">
              <a:off x="4113720" y="2590920"/>
              <a:ext cx="1956240" cy="1040400"/>
            </a:xfrm>
            <a:prstGeom prst="bentConnector3">
              <a:avLst>
                <a:gd name="adj1" fmla="val 58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3" name="_s4108"/>
            <p:cNvCxnSpPr>
              <a:stCxn id="264" idx="0"/>
              <a:endCxn id="265" idx="2"/>
            </p:cNvCxnSpPr>
            <p:nvPr/>
          </p:nvCxnSpPr>
          <p:spPr>
            <a:xfrm flipV="1" rot="16200000">
              <a:off x="4389480" y="2314800"/>
              <a:ext cx="1151640" cy="788040"/>
            </a:xfrm>
            <a:prstGeom prst="bentConnector3">
              <a:avLst>
                <a:gd name="adj1" fmla="val 991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6" name="_s4109"/>
            <p:cNvCxnSpPr/>
            <p:nvPr/>
          </p:nvCxnSpPr>
          <p:spPr>
            <a:xfrm flipV="1">
              <a:off x="4572000" y="2133360"/>
              <a:ext cx="2160" cy="2676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7" name="_s4110"/>
            <p:cNvCxnSpPr/>
            <p:nvPr/>
          </p:nvCxnSpPr>
          <p:spPr>
            <a:xfrm flipH="1" flipV="1" rot="5400000">
              <a:off x="3272400" y="2784960"/>
              <a:ext cx="1956240" cy="653040"/>
            </a:xfrm>
            <a:prstGeom prst="bentConnector3">
              <a:avLst>
                <a:gd name="adj1" fmla="val 58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8" name="_s4111"/>
            <p:cNvCxnSpPr/>
            <p:nvPr/>
          </p:nvCxnSpPr>
          <p:spPr>
            <a:xfrm flipV="1" rot="16200000">
              <a:off x="4946040" y="1758600"/>
              <a:ext cx="302400" cy="1051560"/>
            </a:xfrm>
            <a:prstGeom prst="bentConnector3">
              <a:avLst>
                <a:gd name="adj1" fmla="val 3778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9" name="_s4112"/>
            <p:cNvCxnSpPr>
              <a:stCxn id="270" idx="0"/>
              <a:endCxn id="265" idx="2"/>
            </p:cNvCxnSpPr>
            <p:nvPr/>
          </p:nvCxnSpPr>
          <p:spPr>
            <a:xfrm flipH="1" flipV="1" rot="5400000">
              <a:off x="4034880" y="1883880"/>
              <a:ext cx="288000" cy="786600"/>
            </a:xfrm>
            <a:prstGeom prst="bentConnector3">
              <a:avLst>
                <a:gd name="adj1" fmla="val 396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1" name="_s4113"/>
            <p:cNvCxnSpPr>
              <a:stCxn id="272" idx="0"/>
              <a:endCxn id="273" idx="2"/>
            </p:cNvCxnSpPr>
            <p:nvPr/>
          </p:nvCxnSpPr>
          <p:spPr>
            <a:xfrm flipH="1" flipV="1" rot="5400000">
              <a:off x="1195920" y="1903680"/>
              <a:ext cx="267120" cy="726120"/>
            </a:xfrm>
            <a:prstGeom prst="bentConnector3">
              <a:avLst>
                <a:gd name="adj1" fmla="val 427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4" name="_s4114"/>
            <p:cNvCxnSpPr/>
            <p:nvPr/>
          </p:nvCxnSpPr>
          <p:spPr>
            <a:xfrm flipV="1" rot="16200000">
              <a:off x="1890360" y="1935000"/>
              <a:ext cx="358920" cy="756360"/>
            </a:xfrm>
            <a:prstGeom prst="bentConnector3">
              <a:avLst>
                <a:gd name="adj1" fmla="val 3182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5" name="_s4115"/>
            <p:cNvCxnSpPr/>
            <p:nvPr/>
          </p:nvCxnSpPr>
          <p:spPr>
            <a:xfrm flipV="1" rot="16200000">
              <a:off x="2262600" y="2425680"/>
              <a:ext cx="1478520" cy="172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6" name="_s4116"/>
            <p:cNvCxnSpPr/>
            <p:nvPr/>
          </p:nvCxnSpPr>
          <p:spPr>
            <a:xfrm flipV="1" rot="16200000">
              <a:off x="5664600" y="-330120"/>
              <a:ext cx="586800" cy="3061440"/>
            </a:xfrm>
            <a:prstGeom prst="bentConnector3">
              <a:avLst>
                <a:gd name="adj1" fmla="val 1945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7" name="_s4117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4188960" y="1110600"/>
              <a:ext cx="586800" cy="180000"/>
            </a:xfrm>
            <a:prstGeom prst="bentConnector3">
              <a:avLst>
                <a:gd name="adj1" fmla="val 1945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9" name="_s4118"/>
            <p:cNvCxnSpPr/>
            <p:nvPr/>
          </p:nvCxnSpPr>
          <p:spPr>
            <a:xfrm flipH="1" flipV="1" rot="5400000">
              <a:off x="2756160" y="-156960"/>
              <a:ext cx="572400" cy="2701080"/>
            </a:xfrm>
            <a:prstGeom prst="bentConnector3">
              <a:avLst>
                <a:gd name="adj1" fmla="val 1994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78" name="_s4119"/>
            <p:cNvSpPr/>
            <p:nvPr/>
          </p:nvSpPr>
          <p:spPr>
            <a:xfrm>
              <a:off x="539640" y="260280"/>
              <a:ext cx="7704360" cy="647640"/>
            </a:xfrm>
            <a:prstGeom prst="roundRect">
              <a:avLst>
                <a:gd name="adj" fmla="val 254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СНОВНЫЕ   ЖАН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4120"/>
            <p:cNvSpPr/>
            <p:nvPr/>
          </p:nvSpPr>
          <p:spPr>
            <a:xfrm>
              <a:off x="457200" y="1479600"/>
              <a:ext cx="2468520" cy="654120"/>
            </a:xfrm>
            <a:prstGeom prst="roundRect">
              <a:avLst>
                <a:gd name="adj" fmla="val 8241"/>
              </a:avLst>
            </a:prstGeom>
            <a:solidFill>
              <a:srgbClr val="339966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Малые жанры фолькл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121"/>
            <p:cNvSpPr/>
            <p:nvPr/>
          </p:nvSpPr>
          <p:spPr>
            <a:xfrm>
              <a:off x="3336840" y="1494000"/>
              <a:ext cx="2470320" cy="639720"/>
            </a:xfrm>
            <a:prstGeom prst="roundRect">
              <a:avLst>
                <a:gd name="adj" fmla="val 1977"/>
              </a:avLst>
            </a:prstGeom>
            <a:solidFill>
              <a:srgbClr val="ff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Жанры русского фолькл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122"/>
            <p:cNvSpPr/>
            <p:nvPr/>
          </p:nvSpPr>
          <p:spPr>
            <a:xfrm>
              <a:off x="6218280" y="1494000"/>
              <a:ext cx="2468520" cy="855360"/>
            </a:xfrm>
            <a:prstGeom prst="roundRect">
              <a:avLst>
                <a:gd name="adj" fmla="val 3954"/>
              </a:avLst>
            </a:prstGeom>
            <a:solidFill>
              <a:srgbClr val="6699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Жанры литературных (авторских)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4123"/>
            <p:cNvSpPr/>
            <p:nvPr/>
          </p:nvSpPr>
          <p:spPr>
            <a:xfrm>
              <a:off x="2556000" y="3284640"/>
              <a:ext cx="1081080" cy="576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ебылиц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124"/>
            <p:cNvSpPr/>
            <p:nvPr/>
          </p:nvSpPr>
          <p:spPr>
            <a:xfrm>
              <a:off x="1979640" y="2492280"/>
              <a:ext cx="936720" cy="5763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шу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125"/>
            <p:cNvSpPr/>
            <p:nvPr/>
          </p:nvSpPr>
          <p:spPr>
            <a:xfrm>
              <a:off x="457200" y="2400480"/>
              <a:ext cx="1019160" cy="6681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словиц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говор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4126"/>
            <p:cNvSpPr/>
            <p:nvPr/>
          </p:nvSpPr>
          <p:spPr>
            <a:xfrm>
              <a:off x="3348000" y="2421000"/>
              <a:ext cx="874800" cy="561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4127"/>
            <p:cNvSpPr/>
            <p:nvPr/>
          </p:nvSpPr>
          <p:spPr>
            <a:xfrm>
              <a:off x="5148360" y="2435400"/>
              <a:ext cx="947520" cy="561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был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128"/>
            <p:cNvSpPr/>
            <p:nvPr/>
          </p:nvSpPr>
          <p:spPr>
            <a:xfrm>
              <a:off x="3554280" y="4089240"/>
              <a:ext cx="730440" cy="419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рит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129"/>
            <p:cNvSpPr/>
            <p:nvPr/>
          </p:nvSpPr>
          <p:spPr>
            <a:xfrm>
              <a:off x="4140360" y="4809960"/>
              <a:ext cx="863280" cy="419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леген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130"/>
            <p:cNvSpPr/>
            <p:nvPr/>
          </p:nvSpPr>
          <p:spPr>
            <a:xfrm>
              <a:off x="4921200" y="3284640"/>
              <a:ext cx="874800" cy="4190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4131"/>
            <p:cNvSpPr/>
            <p:nvPr/>
          </p:nvSpPr>
          <p:spPr>
            <a:xfrm>
              <a:off x="4921200" y="4089240"/>
              <a:ext cx="1379520" cy="4921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геро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ес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132"/>
            <p:cNvSpPr/>
            <p:nvPr/>
          </p:nvSpPr>
          <p:spPr>
            <a:xfrm>
              <a:off x="6291360" y="2577960"/>
              <a:ext cx="801720" cy="419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33"/>
            <p:cNvSpPr/>
            <p:nvPr/>
          </p:nvSpPr>
          <p:spPr>
            <a:xfrm>
              <a:off x="7800840" y="2577960"/>
              <a:ext cx="874800" cy="419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расс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4134"/>
            <p:cNvSpPr/>
            <p:nvPr/>
          </p:nvSpPr>
          <p:spPr>
            <a:xfrm>
              <a:off x="7873920" y="3213000"/>
              <a:ext cx="801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бас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135"/>
            <p:cNvSpPr/>
            <p:nvPr/>
          </p:nvSpPr>
          <p:spPr>
            <a:xfrm>
              <a:off x="6300720" y="3213000"/>
              <a:ext cx="801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э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136"/>
            <p:cNvSpPr/>
            <p:nvPr/>
          </p:nvSpPr>
          <p:spPr>
            <a:xfrm>
              <a:off x="7885080" y="3946680"/>
              <a:ext cx="801720" cy="4903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ве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137"/>
            <p:cNvSpPr/>
            <p:nvPr/>
          </p:nvSpPr>
          <p:spPr>
            <a:xfrm>
              <a:off x="6443640" y="3946680"/>
              <a:ext cx="73044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э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138"/>
            <p:cNvSpPr/>
            <p:nvPr/>
          </p:nvSpPr>
          <p:spPr>
            <a:xfrm>
              <a:off x="6659640" y="4738680"/>
              <a:ext cx="1593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тихотвор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179280" y="3357720"/>
            <a:ext cx="100800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ли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250920" y="2133720"/>
            <a:ext cx="21744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1693080" y="3789360"/>
            <a:ext cx="71712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828720" y="4149720"/>
            <a:ext cx="64764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7"/>
          <p:cNvSpPr/>
          <p:nvPr/>
        </p:nvSpPr>
        <p:spPr>
          <a:xfrm flipH="1">
            <a:off x="1258920" y="2421000"/>
            <a:ext cx="433440" cy="17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1692360" y="2133720"/>
            <a:ext cx="14292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0120" y="1679400"/>
            <a:ext cx="1800" cy="17640"/>
          </a:xfrm>
          <a:custGeom>
            <a:avLst/>
            <a:gdLst/>
            <a:ahLst/>
            <a:rect l="l" t="t" r="r" b="b"/>
            <a:pathLst>
              <a:path w="1" h="49">
                <a:moveTo>
                  <a:pt x="10668" y="4715"/>
                </a:moveTo>
                <a:lnTo>
                  <a:pt x="10668" y="4715"/>
                </a:lnTo>
              </a:path>
              <a:path w="1" h="49">
                <a:moveTo>
                  <a:pt x="10668" y="4667"/>
                </a:moveTo>
                <a:lnTo>
                  <a:pt x="10668" y="46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94440" y="5726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31" y="15907"/>
                </a:moveTo>
                <a:lnTo>
                  <a:pt x="19431" y="15907"/>
                </a:ln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Organization Chart 5"/>
          <p:cNvGrpSpPr/>
          <p:nvPr/>
        </p:nvGrpSpPr>
        <p:grpSpPr>
          <a:xfrm>
            <a:off x="468360" y="260280"/>
            <a:ext cx="8435520" cy="4970520"/>
            <a:chOff x="468360" y="260280"/>
            <a:chExt cx="8435520" cy="4970520"/>
          </a:xfrm>
        </p:grpSpPr>
        <p:cxnSp>
          <p:nvCxnSpPr>
            <p:cNvPr id="299" name="_s5124"/>
            <p:cNvCxnSpPr/>
            <p:nvPr/>
          </p:nvCxnSpPr>
          <p:spPr>
            <a:xfrm flipV="1" rot="16200000">
              <a:off x="5474880" y="149760"/>
              <a:ext cx="932760" cy="2882520"/>
            </a:xfrm>
            <a:prstGeom prst="bentConnector3">
              <a:avLst>
                <a:gd name="adj1" fmla="val -61467"/>
              </a:avLst>
            </a:prstGeom>
            <a:ln w="28440">
              <a:solidFill>
                <a:srgbClr val="66ffff"/>
              </a:solidFill>
              <a:miter/>
            </a:ln>
          </p:spPr>
        </p:cxnSp>
        <p:cxnSp>
          <p:nvCxnSpPr>
            <p:cNvPr id="300" name="_s5125"/>
            <p:cNvCxnSpPr/>
            <p:nvPr/>
          </p:nvCxnSpPr>
          <p:spPr>
            <a:xfrm flipH="1" flipV="1" rot="5400000">
              <a:off x="3949560" y="1745280"/>
              <a:ext cx="991440" cy="36360"/>
            </a:xfrm>
            <a:prstGeom prst="bentConnector3">
              <a:avLst>
                <a:gd name="adj1" fmla="val 11514"/>
              </a:avLst>
            </a:prstGeom>
            <a:ln w="28440">
              <a:solidFill>
                <a:srgbClr val="66ffff"/>
              </a:solidFill>
              <a:miter/>
            </a:ln>
          </p:spPr>
        </p:cxnSp>
        <p:cxnSp>
          <p:nvCxnSpPr>
            <p:cNvPr id="301" name="_s5126"/>
            <p:cNvCxnSpPr>
              <a:endCxn id="302" idx="0"/>
            </p:cNvCxnSpPr>
            <p:nvPr/>
          </p:nvCxnSpPr>
          <p:spPr>
            <a:xfrm flipV="1">
              <a:off x="1767960" y="2104920"/>
              <a:ext cx="2876040" cy="1078200"/>
            </a:xfrm>
            <a:prstGeom prst="bentConnector4">
              <a:avLst>
                <a:gd name="adj1" fmla="val 3968"/>
                <a:gd name="adj2" fmla="val -1736"/>
              </a:avLst>
            </a:prstGeom>
            <a:ln w="28440">
              <a:solidFill>
                <a:srgbClr val="66ffff"/>
              </a:solidFill>
              <a:miter/>
            </a:ln>
          </p:spPr>
        </p:cxnSp>
        <p:sp>
          <p:nvSpPr>
            <p:cNvPr id="303" name="_s5127"/>
            <p:cNvSpPr/>
            <p:nvPr/>
          </p:nvSpPr>
          <p:spPr>
            <a:xfrm>
              <a:off x="468360" y="260280"/>
              <a:ext cx="8435520" cy="8542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СЛУШАНИЕ (АУДИРОВАНИЕ)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ВИД РЕЧЕВОЙ ДЕЯТЕЛЬНОСТИ В КУРСЕ ЛИТЕРАТУРНОГО ЧТ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5128"/>
            <p:cNvSpPr/>
            <p:nvPr/>
          </p:nvSpPr>
          <p:spPr>
            <a:xfrm>
              <a:off x="468360" y="2060640"/>
              <a:ext cx="2666520" cy="23400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сприятие на слух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ых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азных жанров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з курс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детского чтени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 рамках программ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5129"/>
            <p:cNvSpPr/>
            <p:nvPr/>
          </p:nvSpPr>
          <p:spPr>
            <a:xfrm>
              <a:off x="3204000" y="2133720"/>
              <a:ext cx="2876760" cy="3097080"/>
            </a:xfrm>
            <a:custGeom>
              <a:avLst/>
              <a:gdLst>
                <a:gd name="textAreaLeft" fmla="*/ 140400 w 2876760"/>
                <a:gd name="textAreaRight" fmla="*/ 2736360 w 2876760"/>
                <a:gd name="textAreaTop" fmla="*/ 140400 h 3097080"/>
                <a:gd name="textAreaBottom" fmla="*/ 2956680 h 3097080"/>
              </a:gdLst>
              <a:ahLst/>
              <a:rect l="textAreaLeft" t="textAreaTop" r="textAreaRight" b="textAreaBottom"/>
              <a:pathLst>
                <a:path w="21600" h="23254">
                  <a:moveTo>
                    <a:pt x="3600" y="0"/>
                  </a:moveTo>
                  <a:arcTo wR="3600" hR="3600" stAng="16200000" swAng="-5400000"/>
                  <a:lnTo>
                    <a:pt x="0" y="19654"/>
                  </a:lnTo>
                  <a:arcTo wR="3600" hR="3600" stAng="10800000" swAng="-5400000"/>
                  <a:lnTo>
                    <a:pt x="18000" y="23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мение слуш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 слыш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ое слово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адекватно реагиров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содержа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я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сприним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о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ак искусство сло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5130"/>
            <p:cNvSpPr/>
            <p:nvPr/>
          </p:nvSpPr>
          <p:spPr>
            <a:xfrm>
              <a:off x="6150960" y="2060640"/>
              <a:ext cx="2741400" cy="23400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богащать реч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чащихся и и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читательск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пыт, закладыва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сновы читатель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грамотности 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мпетентности 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младших школьник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14"/>
          <p:cNvSpPr/>
          <p:nvPr/>
        </p:nvSpPr>
        <p:spPr>
          <a:xfrm flipH="1">
            <a:off x="1692000" y="1125360"/>
            <a:ext cx="280836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4500720" y="1125360"/>
            <a:ext cx="0" cy="100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>
            <a:off x="4500720" y="1125360"/>
            <a:ext cx="2808000" cy="93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3:29Z</dcterms:created>
  <dc:creator>Администратор</dc:creator>
  <dc:description/>
  <dc:language>en-US</dc:language>
  <cp:lastModifiedBy>Admin</cp:lastModifiedBy>
  <dcterms:modified xsi:type="dcterms:W3CDTF">2012-02-09T03:11:47Z</dcterms:modified>
  <cp:revision>36</cp:revision>
  <dc:subject/>
  <dc:title>Слайд 1</dc:title>
</cp:coreProperties>
</file>