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DC54-B4DD-45DD-B876-C8BD1E392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53A5-66BB-4F2F-9C44-429DC37EF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4035-CF18-4066-A9D2-7718EF4C4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2D86-23A6-4212-AF74-CA9BB4DE8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D4FF-6BA8-446E-A165-163302B806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C51A-EBC3-40E1-A2EF-EA18E67B07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7C89-B43A-47B6-A0E4-E70696CF55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BF9D-9B98-4B22-A609-CADEAC0D27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C472-308F-4324-8E69-1671BC8DEB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37AC-B7BA-42DE-B50D-53AF0F4EE4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291D-6979-499E-B1DF-6C58FB85EF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2652-65A4-4953-9EEA-160425197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7904-189A-4CF6-8938-8B6CE25736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F676-3866-4217-8E40-F72297572B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B858-05AB-4329-ABE1-821EFEF138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B490C-0E7A-4B47-9BAA-6D2178D7F7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E34B-5DD2-4DA2-A483-DE35E0F89B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3088-BEB3-43FA-95B1-7CFF918CE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66B7-08C4-4FEC-A7D1-31AC9F80E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A410-E3FF-477B-9D4A-BC91FACF6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2EE5-C802-4EA3-8B8F-A0F128872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42EF-F679-451D-97F4-80B84BE53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08F0-B222-4A13-B300-780FC1C2A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C658-4E63-4B07-811A-666A68A08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8683560" cy="4873680"/>
            <a:chOff x="0" y="0"/>
            <a:chExt cx="8683560" cy="487368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606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380880" y="1417680"/>
              <a:ext cx="8302680" cy="179280"/>
              <a:chOff x="380880" y="1417680"/>
              <a:chExt cx="8302680" cy="17928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6858000" y="1417680"/>
                <a:ext cx="1825560" cy="179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Line 5"/>
              <p:cNvSpPr/>
              <p:nvPr/>
            </p:nvSpPr>
            <p:spPr>
              <a:xfrm>
                <a:off x="380880" y="1494000"/>
                <a:ext cx="8302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B5627-D40D-4B93-9275-715E0987FEF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1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0" y="0"/>
            <a:ext cx="8759880" cy="5940360"/>
            <a:chOff x="0" y="0"/>
            <a:chExt cx="8759880" cy="59403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1749600" cy="48736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Group 3"/>
            <p:cNvGrpSpPr/>
            <p:nvPr/>
          </p:nvGrpSpPr>
          <p:grpSpPr>
            <a:xfrm>
              <a:off x="0" y="3505320"/>
              <a:ext cx="8759880" cy="2435040"/>
              <a:chOff x="0" y="3505320"/>
              <a:chExt cx="8759880" cy="24350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990720" y="3505320"/>
                <a:ext cx="7769160" cy="24350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1038240" y="3733920"/>
                <a:ext cx="7645320" cy="21351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0" y="4876920"/>
                <a:ext cx="9874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7"/>
            <p:cNvGrpSpPr/>
            <p:nvPr/>
          </p:nvGrpSpPr>
          <p:grpSpPr>
            <a:xfrm>
              <a:off x="635040" y="533520"/>
              <a:ext cx="8074080" cy="301680"/>
              <a:chOff x="635040" y="533520"/>
              <a:chExt cx="8074080" cy="30168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6273720" y="533520"/>
                <a:ext cx="2435400" cy="30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Line 9"/>
              <p:cNvSpPr/>
              <p:nvPr/>
            </p:nvSpPr>
            <p:spPr>
              <a:xfrm>
                <a:off x="635040" y="685800"/>
                <a:ext cx="807408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2B8146-A191-4794-950D-69F0C8740D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971640" y="260280"/>
            <a:ext cx="75564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669900"/>
                </a:solidFill>
                <a:latin typeface="Times New Roman"/>
              </a:rPr>
              <a:t>Современный урок </a:t>
            </a:r>
            <a:br>
              <a:rPr sz="5100"/>
            </a:br>
            <a:br>
              <a:rPr sz="5100"/>
            </a:br>
            <a:r>
              <a:rPr b="1" lang="ru-RU" sz="5100" spc="-1" strike="noStrike">
                <a:solidFill>
                  <a:srgbClr val="669900"/>
                </a:solidFill>
                <a:latin typeface="Times New Roman"/>
              </a:rPr>
              <a:t>русского языка </a:t>
            </a:r>
            <a:br>
              <a:rPr sz="5100"/>
            </a:br>
            <a:br>
              <a:rPr sz="5100"/>
            </a:br>
            <a:r>
              <a:rPr b="1" lang="ru-RU" sz="5100" spc="-1" strike="noStrike">
                <a:solidFill>
                  <a:srgbClr val="669900"/>
                </a:solidFill>
                <a:latin typeface="Times New Roman"/>
              </a:rPr>
              <a:t>в начальных классах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Методическая система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82036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вой компонент уро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временные технологии проведения урока в начальной школе с учетом требований ФГОС с.36-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уро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тностные задания (с.44-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е и продуктивные задания (с.50-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формирование познавательных УУД (с.60-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формирование регулятивных УУД (с.70-72, 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я на освоение общего способа действия (с.76-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обучения (с.81-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 обучения (с.91-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учебной работы (с.109-1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539640" y="241200"/>
            <a:ext cx="84600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Целевой компонент у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33"/>
                </a:solidFill>
                <a:latin typeface="Times New Roman"/>
              </a:rPr>
              <a:t>Определите, где учебная задача, а где конкретно- практическая?</a:t>
            </a:r>
            <a:br>
              <a:rPr sz="4600"/>
            </a:br>
            <a:r>
              <a:rPr b="1" i="1" lang="ru-RU" sz="2600" spc="-1" strike="noStrike">
                <a:solidFill>
                  <a:srgbClr val="330033"/>
                </a:solidFill>
                <a:latin typeface="Times New Roman"/>
              </a:rPr>
              <a:t>Тема урока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: "Проверка правописания безударных гласных в корне слова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Сидит Мороз Иванович на ледяной скамеечке, снежные к.мочки из руки в руку перебрасыв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0033"/>
                </a:solidFill>
                <a:latin typeface="Times New Roman"/>
              </a:rPr>
              <a:t>Пример 1.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Вставьте пропущенную букву. Как проверим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0033"/>
                </a:solidFill>
                <a:latin typeface="Times New Roman"/>
              </a:rPr>
              <a:t>Пример 2.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Учитель предлагает для определения способа проверки пропущенной буквы гласного звука ответы трех детей. Настя утверждает, что это слово можно проверить с помощью слова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камень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, Саша –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комки,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а Егор – </a:t>
            </a:r>
            <a:r>
              <a:rPr b="0" i="1" lang="ru-RU" sz="2600" spc="-1" strike="noStrike">
                <a:solidFill>
                  <a:srgbClr val="330033"/>
                </a:solidFill>
                <a:latin typeface="Times New Roman"/>
              </a:rPr>
              <a:t>комкать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- Какой способ проверки правильны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539640" y="179280"/>
            <a:ext cx="84600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Целевой компонент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Чем учебная задача отличается от конкретно- практической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езультатом решения практической задачи становится некоторый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измененный объект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(написанные слова, в которые вставлены пропущенные орфограммы и т.п.).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ешение учебной задачи направлено на усвоение или овладение школьниками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пособами действ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актическая задача нацеливает на то,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что делать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. А учебная задача ориентирует на открытие или усвоение способа действия, т. е. дает указание,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как делать.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При  решении учебной задачи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учащийся должен найти общий способ подхода ко многим конкретно-частным задачам определенного кла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Например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от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пустил —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о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тпуск, о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т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вязал;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ход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ьба-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ход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ит; глин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ян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ый — полотн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ян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ый; на парт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е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 — на стен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е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3780000" y="6649920"/>
            <a:ext cx="143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омпетентностный подх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640720" cy="58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Предполагает не усвоение учеником отдельных знаний и умений, а овладение ими в комплек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45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Результат образования рассматривается не как сумма знаний, а умение применять эти знания в конкретных жизненных ситуаци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нимается как результат когнитивного научения, 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как общая способность и готовность использовать знания, умения и обобщенные способы действий, усвоенные в процессе обучения, в реальной действительности. Компетенция — это «знание в действи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компетентностных заданий по русскому языку(с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Творческие и продуктивные задания по русскому язык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618920"/>
            <a:ext cx="8460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ворческая деятельность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стоятельный перенос знаний и умений в новую ситуацию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личные способы решени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нового проду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творческих и продуктивных заданий (с.51-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оставление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оставление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абота с тек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здание нового проду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ные методы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62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чно-поисковый (эвристиче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ельский мет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ая ситуация создается при выполнении практического задания (с.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: «Слова-помощ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ую трудность письма вид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е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окно,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жа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ом,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жа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ороге,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з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же узнавать, когда буквы входят в слово, а когда они сами — цел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е                                      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  V   окно                                  за V    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ные методы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ная ситуация созд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одного из вариантов (с.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сский язык. 1 кл. (учебник С.В. Иванова и др.)Задание повышенного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йди и выпиши слова, в которых буквы е, 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означают мягкости предшествующего соглас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рь себя. Сережа написал четыре слова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л, объелся, рыбою, улыбаетс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Оля пять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л, объелся, рыбою, улыбается, цел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то из ребят выполнил работу правильно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ные методы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476000"/>
            <a:ext cx="773136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ая ситуация созд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проблемного вопроса (с.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усский язык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2 кл. (Учебник. М.С. Соловейчи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предлагает дать ответ на вопрос «Бывает ли буква одна, а орфограммы две?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гадай загад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кна зелёный ё[жы]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убе[жы]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т но[жы]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овах со слогом [жы]  определи ударение и найди одно слово, к которому можно применить правило о правописан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́и-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 ударением. Выпиши это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 другим словам правило 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-ш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дхо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редства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во-символическ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 обучения грамоте (с.97-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 русского языка (с.99-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действию моделирования по этапам (с.105-1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ормы учебной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онт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ая (с.1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паре, предполагающая взаимоконтроль (с.111-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ые диктанты (с.1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е обсуждение проблемы (с.1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ая игра (с.1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1042920" y="-69840"/>
            <a:ext cx="77058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330033"/>
                </a:solidFill>
                <a:latin typeface="Times New Roman"/>
              </a:rPr>
              <a:t>Урок должен быть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обучающим,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    развивающим,                         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     </a:t>
            </a:r>
            <a:br>
              <a:rPr sz="4600"/>
            </a:b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                      воспитывающим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3851280" y="6308640"/>
            <a:ext cx="144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держательная дифференциац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ация по уровню творчества (с.1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ация по уровню трудности (с.1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ация по уровню и характеру помощи (с.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троль и оценка на урок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ельное оценивание учебных достижений (с.1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контроль и взаимооценка, самоконтроль и самооценка(с.1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лексия процесса и результата своей деятельности (вопросы личностно-ориентированного характера – с.130-1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84360" y="404640"/>
            <a:ext cx="8208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191280" y="3213000"/>
            <a:ext cx="2952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611280" y="189000"/>
            <a:ext cx="82818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Обучение Развитие Воспи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332000" y="3357720"/>
            <a:ext cx="7343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иединая цель урока (ТДЦ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1835280" y="1844640"/>
            <a:ext cx="144360" cy="16848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211640" y="1844640"/>
            <a:ext cx="144360" cy="16848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6804000" y="1844640"/>
            <a:ext cx="144360" cy="14436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050920" y="2060640"/>
            <a:ext cx="208764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4424400" y="2060640"/>
            <a:ext cx="23112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84720" y="2205000"/>
            <a:ext cx="1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11280" y="260280"/>
            <a:ext cx="85327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41155"/>
                </a:solidFill>
                <a:latin typeface="Arial"/>
              </a:rPr>
              <a:t>Комплексное решение зада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2421000"/>
          <a:ext cx="8231040" cy="345744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34574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знанных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ируемых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овых и речевых ум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ствова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ово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уиции, становл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гвистического мышления, учебной самостоятельност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т.ч. умения работать с книгой, словарями, справочникам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 изучению русского языка, привит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ж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 языку и себе как его носителю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н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качеству своей устной и письменной ре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16"/>
          <p:cNvSpPr/>
          <p:nvPr/>
        </p:nvSpPr>
        <p:spPr>
          <a:xfrm>
            <a:off x="826920" y="162864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41155"/>
                </a:solidFill>
                <a:latin typeface="Arial"/>
              </a:rPr>
              <a:t>обу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3492360" y="162864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41155"/>
                </a:solidFill>
                <a:latin typeface="Arial"/>
              </a:rPr>
              <a:t>разви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6012000" y="162864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41155"/>
                </a:solidFill>
                <a:latin typeface="Arial"/>
              </a:rPr>
              <a:t>воспит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611280" y="198360"/>
            <a:ext cx="82818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мплексное решение задач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обучения, развития и воспитания обеспечиваетс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деятельностным подходом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 организации учебной работы,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и котором: </a:t>
            </a:r>
            <a:br>
              <a:rPr sz="2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ребёнок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–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не объект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учебной деятельности (тот, кого учат),</a:t>
            </a:r>
            <a:br>
              <a:rPr sz="2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а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убъект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тот, кто учится)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708120" y="399960"/>
            <a:ext cx="843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Деятельностный подход к обуч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84360" y="1844640"/>
            <a:ext cx="84596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у дете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знавательного моти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желания узнать, открыть, научиться) и конкретно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ебной 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нимания того, что именно нужно выяснить, освои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ие ученикам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пределённых действ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ля приобретения недостающих знан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и освоение учащимис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пособа действия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зволяющего осознанно применять приобретённые зн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ние у школьников умени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онтролировать свои действ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как после их завершения, так и по ход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ключение содержания обучения в контекст решения значимых жизненных задач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6083280" y="2060640"/>
            <a:ext cx="306072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50920" y="1989000"/>
            <a:ext cx="52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2133720"/>
            <a:ext cx="4895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ённая логика развёртывания деятельности детей: от мотивации, постановки учебной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осознанному выполнению различных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контролю и самоконтролю, оценке и самооцен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00000" y="-115920"/>
            <a:ext cx="784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9900"/>
                </a:solidFill>
                <a:latin typeface="Times New Roman"/>
              </a:rPr>
              <a:t>Черты современного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84360" y="404640"/>
            <a:ext cx="8208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Arial"/>
              </a:rPr>
              <a:t>развитие личности учащего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Arial"/>
              </a:rPr>
              <a:t>в процессе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H="1">
            <a:off x="2768400" y="1484280"/>
            <a:ext cx="17348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4500720" y="1484280"/>
            <a:ext cx="1655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5940360" y="2133720"/>
            <a:ext cx="2952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мосфера сотрудниче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й с учител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друг с друг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ченик – учитель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ченик – ученик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ченик – коллекти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771640" y="3357720"/>
            <a:ext cx="18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771640" y="4437000"/>
            <a:ext cx="18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324000" y="1484280"/>
            <a:ext cx="842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635280" y="4726080"/>
            <a:ext cx="1295640" cy="1727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2"/>
          <p:cNvGrpSpPr/>
          <p:nvPr/>
        </p:nvGrpSpPr>
        <p:grpSpPr>
          <a:xfrm>
            <a:off x="466560" y="4941720"/>
            <a:ext cx="1293840" cy="1724040"/>
            <a:chOff x="466560" y="4941720"/>
            <a:chExt cx="1293840" cy="1724040"/>
          </a:xfrm>
        </p:grpSpPr>
        <p:pic>
          <p:nvPicPr>
            <p:cNvPr id="128" name="Picture 3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466560" y="4941720"/>
              <a:ext cx="129384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4"/>
            <p:cNvSpPr/>
            <p:nvPr/>
          </p:nvSpPr>
          <p:spPr>
            <a:xfrm>
              <a:off x="466560" y="4941720"/>
              <a:ext cx="129384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5364000" y="4726080"/>
            <a:ext cx="134460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2627280" y="4941720"/>
            <a:ext cx="1312920" cy="1729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5"/>
          <a:stretch/>
        </p:blipFill>
        <p:spPr>
          <a:xfrm>
            <a:off x="4788000" y="4941720"/>
            <a:ext cx="1296720" cy="17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6"/>
          <a:stretch/>
        </p:blipFill>
        <p:spPr>
          <a:xfrm>
            <a:off x="7523280" y="4726080"/>
            <a:ext cx="1312920" cy="1727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7"/>
          <a:stretch/>
        </p:blipFill>
        <p:spPr>
          <a:xfrm>
            <a:off x="6730920" y="4869000"/>
            <a:ext cx="1263600" cy="172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8"/>
          <a:stretch/>
        </p:blipFill>
        <p:spPr>
          <a:xfrm>
            <a:off x="1690560" y="4726080"/>
            <a:ext cx="1263600" cy="1728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395280" y="0"/>
            <a:ext cx="8282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Реализация деятельностного подхода к обучени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9"/>
          <a:stretch/>
        </p:blipFill>
        <p:spPr>
          <a:xfrm>
            <a:off x="539640" y="2492280"/>
            <a:ext cx="128772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10"/>
          <a:stretch/>
        </p:blipFill>
        <p:spPr>
          <a:xfrm>
            <a:off x="2411280" y="2133720"/>
            <a:ext cx="1255680" cy="1879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"/>
          <p:cNvPicPr/>
          <p:nvPr/>
        </p:nvPicPr>
        <p:blipFill>
          <a:blip r:embed="rId11"/>
          <a:stretch/>
        </p:blipFill>
        <p:spPr>
          <a:xfrm>
            <a:off x="3203640" y="2708280"/>
            <a:ext cx="1289160" cy="172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12"/>
          <a:stretch/>
        </p:blipFill>
        <p:spPr>
          <a:xfrm>
            <a:off x="826920" y="692280"/>
            <a:ext cx="1022400" cy="1511280"/>
          </a:xfrm>
          <a:prstGeom prst="rect">
            <a:avLst/>
          </a:prstGeom>
          <a:ln w="9360">
            <a:solidFill>
              <a:srgbClr val="241155"/>
            </a:solidFill>
            <a:miter/>
          </a:ln>
        </p:spPr>
      </p:pic>
      <p:pic>
        <p:nvPicPr>
          <p:cNvPr id="141" name="Picture 16" descr=""/>
          <p:cNvPicPr/>
          <p:nvPr/>
        </p:nvPicPr>
        <p:blipFill>
          <a:blip r:embed="rId13"/>
          <a:stretch/>
        </p:blipFill>
        <p:spPr>
          <a:xfrm>
            <a:off x="7524720" y="2421000"/>
            <a:ext cx="1454040" cy="2087640"/>
          </a:xfrm>
          <a:prstGeom prst="rect">
            <a:avLst/>
          </a:prstGeom>
          <a:ln w="9360">
            <a:solidFill>
              <a:srgbClr val="241155"/>
            </a:solidFill>
            <a:miter/>
          </a:ln>
        </p:spPr>
      </p:pic>
      <p:pic>
        <p:nvPicPr>
          <p:cNvPr id="142" name="Picture 17" descr=""/>
          <p:cNvPicPr/>
          <p:nvPr/>
        </p:nvPicPr>
        <p:blipFill>
          <a:blip r:embed="rId14"/>
          <a:stretch/>
        </p:blipFill>
        <p:spPr>
          <a:xfrm>
            <a:off x="4572000" y="1413000"/>
            <a:ext cx="1590840" cy="23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"/>
          <p:cNvPicPr/>
          <p:nvPr/>
        </p:nvPicPr>
        <p:blipFill>
          <a:blip r:embed="rId15"/>
          <a:stretch/>
        </p:blipFill>
        <p:spPr>
          <a:xfrm>
            <a:off x="6012000" y="1268280"/>
            <a:ext cx="1617480" cy="2305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"/>
          <p:cNvPicPr/>
          <p:nvPr/>
        </p:nvPicPr>
        <p:blipFill>
          <a:blip r:embed="rId16"/>
          <a:stretch/>
        </p:blipFill>
        <p:spPr>
          <a:xfrm>
            <a:off x="1692360" y="2708280"/>
            <a:ext cx="131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 flipH="1" flipV="1">
            <a:off x="5219640" y="6858000"/>
            <a:ext cx="216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235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труктура урока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           открытия нового зна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тивация к 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уализация знаний и фиксация индивидуальных затруд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новка учеб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УЗ («открытие» детьми нового зн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ичное закрепление (усвоение нового способа действия с проговариванием во внешней ре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лексия 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7:16:37Z</dcterms:created>
  <dc:creator>Customer</dc:creator>
  <dc:description/>
  <dc:language>en-US</dc:language>
  <cp:lastModifiedBy>*</cp:lastModifiedBy>
  <dcterms:modified xsi:type="dcterms:W3CDTF">2014-02-05T10:04:48Z</dcterms:modified>
  <cp:revision>11</cp:revision>
  <dc:subject/>
  <dc:title>Слайд 1</dc:title>
</cp:coreProperties>
</file>