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65F3-4937-45C3-86F0-C4CAD546C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9969-6207-4387-B814-BD0238635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223B7-6521-4E4F-B5D8-E90969F82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2A93-1BCD-407C-B5B8-0FA373774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F7CC7-A1F6-487E-8BB2-8747D3EC53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9C02-2B39-42CD-88FD-287D003F13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50ECC-EDAD-4941-AFF0-3451BE6544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E3F7A-67C6-4BD7-BE63-77B76E9724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D5BD8-8812-4CF6-8BBA-5F3D28DF05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162000"/>
            <a:ext cx="7769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24DC-FFE6-49DC-82A6-1BE3C82E97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9A18-D8A0-4589-B0A7-DCEAFA4615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B28B-2475-41EE-B24D-F864D521A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2AE3B-8B45-4BEC-A222-2AE513E850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8E970-771E-4C33-B151-2A503F9E46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6986B-9A42-4A95-AF98-E798ADDDDC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BA14C-32BF-4565-9C6A-A72976D498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1379-0E39-4970-9968-F379A2EBF8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F459-9323-4498-BB86-FF759A216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E7CE-036E-4F01-889B-C3BFF4113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5BC2-741E-4E1A-98CC-1EF6087C6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162000"/>
            <a:ext cx="7769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7999-816A-47A4-8FA5-BEA16E599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8E17-7320-44CE-98F3-08F6DC44D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DF18-6172-4040-A079-D8009BE71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2434-E81E-4BCE-A125-BE5D3D787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8683560" cy="4873680"/>
            <a:chOff x="0" y="0"/>
            <a:chExt cx="8683560" cy="487368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606600" cy="48736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380880" y="1417680"/>
              <a:ext cx="8302680" cy="179280"/>
              <a:chOff x="380880" y="1417680"/>
              <a:chExt cx="8302680" cy="179280"/>
            </a:xfrm>
          </p:grpSpPr>
          <p:sp>
            <p:nvSpPr>
              <p:cNvPr id="3" name="Rectangle 4"/>
              <p:cNvSpPr/>
              <p:nvPr/>
            </p:nvSpPr>
            <p:spPr>
              <a:xfrm>
                <a:off x="6858000" y="1417680"/>
                <a:ext cx="1825560" cy="179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Line 5"/>
              <p:cNvSpPr/>
              <p:nvPr/>
            </p:nvSpPr>
            <p:spPr>
              <a:xfrm>
                <a:off x="380880" y="1494000"/>
                <a:ext cx="8302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4EA21-66C4-420A-95F9-9F0A44DF493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1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"/>
          <p:cNvGrpSpPr/>
          <p:nvPr/>
        </p:nvGrpSpPr>
        <p:grpSpPr>
          <a:xfrm>
            <a:off x="0" y="0"/>
            <a:ext cx="8759880" cy="5940360"/>
            <a:chOff x="0" y="0"/>
            <a:chExt cx="8759880" cy="5940360"/>
          </a:xfrm>
        </p:grpSpPr>
        <p:sp>
          <p:nvSpPr>
            <p:cNvPr id="48" name="Rectangle 2"/>
            <p:cNvSpPr/>
            <p:nvPr/>
          </p:nvSpPr>
          <p:spPr>
            <a:xfrm>
              <a:off x="0" y="0"/>
              <a:ext cx="1749600" cy="48736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Group 3"/>
            <p:cNvGrpSpPr/>
            <p:nvPr/>
          </p:nvGrpSpPr>
          <p:grpSpPr>
            <a:xfrm>
              <a:off x="0" y="3505320"/>
              <a:ext cx="8759880" cy="2435040"/>
              <a:chOff x="0" y="3505320"/>
              <a:chExt cx="8759880" cy="24350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990720" y="3505320"/>
                <a:ext cx="7769160" cy="24350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1038240" y="3733920"/>
                <a:ext cx="7645320" cy="213516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0" y="4876920"/>
                <a:ext cx="98748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7"/>
            <p:cNvGrpSpPr/>
            <p:nvPr/>
          </p:nvGrpSpPr>
          <p:grpSpPr>
            <a:xfrm>
              <a:off x="635040" y="533520"/>
              <a:ext cx="8074080" cy="301680"/>
              <a:chOff x="635040" y="533520"/>
              <a:chExt cx="8074080" cy="301680"/>
            </a:xfrm>
          </p:grpSpPr>
          <p:sp>
            <p:nvSpPr>
              <p:cNvPr id="54" name="Rectangle 8"/>
              <p:cNvSpPr/>
              <p:nvPr/>
            </p:nvSpPr>
            <p:spPr>
              <a:xfrm>
                <a:off x="6273720" y="533520"/>
                <a:ext cx="2435400" cy="30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Line 9"/>
              <p:cNvSpPr/>
              <p:nvPr/>
            </p:nvSpPr>
            <p:spPr>
              <a:xfrm>
                <a:off x="635040" y="685800"/>
                <a:ext cx="807408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91296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0F08406-0174-4011-83A2-8F9E4BF28B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971640" y="260280"/>
            <a:ext cx="75564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100" spc="-1" strike="noStrike">
                <a:solidFill>
                  <a:srgbClr val="669900"/>
                </a:solidFill>
                <a:latin typeface="Times New Roman"/>
              </a:rPr>
              <a:t>Современный урок </a:t>
            </a:r>
            <a:br>
              <a:rPr sz="5100"/>
            </a:br>
            <a:br>
              <a:rPr sz="5100"/>
            </a:br>
            <a:r>
              <a:rPr b="1" lang="ru-RU" sz="5100" spc="-1" strike="noStrike">
                <a:solidFill>
                  <a:srgbClr val="669900"/>
                </a:solidFill>
                <a:latin typeface="Times New Roman"/>
              </a:rPr>
              <a:t>русского языка </a:t>
            </a:r>
            <a:br>
              <a:rPr sz="5100"/>
            </a:br>
            <a:br>
              <a:rPr sz="5100"/>
            </a:br>
            <a:r>
              <a:rPr b="1" lang="ru-RU" sz="5100" spc="-1" strike="noStrike">
                <a:solidFill>
                  <a:srgbClr val="669900"/>
                </a:solidFill>
                <a:latin typeface="Times New Roman"/>
              </a:rPr>
              <a:t>в начальных классах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3851280" y="6308640"/>
            <a:ext cx="144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Методическая система уро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82036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евой компонент уро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овременные технологии проведения урока в начальной школе с учетом требований ФГОС с.36-4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уро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етентностные задания (с.44-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кие и продуктивные задания (с.50-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формирование познавательных УУД (с.60-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формирование регулятивных УУД (с.70-72, 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ения на освоение общего способа действия (с.76-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обучения (с.81-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а обучения (с.91-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учебной работы (с.109-1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539640" y="241200"/>
            <a:ext cx="846000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Целевой компонент уро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0033"/>
                </a:solidFill>
                <a:latin typeface="Times New Roman"/>
              </a:rPr>
              <a:t>Определите, где учебная задача, а где конкретно- практическая?</a:t>
            </a:r>
            <a:br>
              <a:rPr sz="4600"/>
            </a:br>
            <a:r>
              <a:rPr b="1" i="1" lang="ru-RU" sz="2600" spc="-1" strike="noStrike">
                <a:solidFill>
                  <a:srgbClr val="330033"/>
                </a:solidFill>
                <a:latin typeface="Times New Roman"/>
              </a:rPr>
              <a:t>Тема урока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: "Проверка правописания безударных гласных в корне слова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330033"/>
                </a:solidFill>
                <a:latin typeface="Times New Roman"/>
              </a:rPr>
              <a:t>Сидит Мороз Иванович на ледяной скамеечке, снежные к.мочки из руки в руку перебрасыва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0033"/>
                </a:solidFill>
                <a:latin typeface="Times New Roman"/>
              </a:rPr>
              <a:t>Пример 1.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 Вставьте пропущенную букву. Как проверим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0033"/>
                </a:solidFill>
                <a:latin typeface="Times New Roman"/>
              </a:rPr>
              <a:t>Пример 2.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 Учитель предлагает для определения способа проверки пропущенной буквы гласного звука ответы трех детей. Настя утверждает, что это слово можно проверить с помощью слова </a:t>
            </a:r>
            <a:r>
              <a:rPr b="0" i="1" lang="ru-RU" sz="2600" spc="-1" strike="noStrike">
                <a:solidFill>
                  <a:srgbClr val="330033"/>
                </a:solidFill>
                <a:latin typeface="Times New Roman"/>
              </a:rPr>
              <a:t>камень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, Саша – </a:t>
            </a:r>
            <a:r>
              <a:rPr b="0" i="1" lang="ru-RU" sz="2600" spc="-1" strike="noStrike">
                <a:solidFill>
                  <a:srgbClr val="330033"/>
                </a:solidFill>
                <a:latin typeface="Times New Roman"/>
              </a:rPr>
              <a:t>комки,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 а Егор – </a:t>
            </a:r>
            <a:r>
              <a:rPr b="0" i="1" lang="ru-RU" sz="2600" spc="-1" strike="noStrike">
                <a:solidFill>
                  <a:srgbClr val="330033"/>
                </a:solidFill>
                <a:latin typeface="Times New Roman"/>
              </a:rPr>
              <a:t>комкать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- Какой способ проверки правильны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539640" y="179280"/>
            <a:ext cx="846000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Целевой компонент у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Чем учебная задача отличается от конкретно- практической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Результатом решения практической задачи становится некоторый 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измененный объект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(написанные слова, в которые вставлены пропущенные орфограммы и т.п.). 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Решение учебной задачи направлено на усвоение или овладение школьниками 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способами действ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рактическая задача нацеливает на то, 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что делать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. А учебная задача ориентирует на открытие или усвоение способа действия, т. е. дает указание,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как делать.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При  решении учебной задачи 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учащийся должен найти общий способ подхода ко многим конкретно-частным задачам определенного клас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Например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от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пустил — 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о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тпуск, о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т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вязал; 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ход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ьба- 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ход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ит; глин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ян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ый — полотн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ян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ый; на парт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е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 — на стен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е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3780000" y="6649920"/>
            <a:ext cx="1439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Компетентностный подхо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640720" cy="58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Предполагает не усвоение учеником отдельных знаний и умений, а овладение ими в комплек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45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Результат образования рассматривается не как сумма знаний, а умение применять эти знания в конкретных жизненных ситуация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етен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нимается как результат когнитивного научения, 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как общая способность и готовность использовать знания, умения и обобщенные способы действий, усвоенные в процессе обучения, в реальной действительности. Компетенция — это «знание в действи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 компетентностных заданий по русскому языку(с.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3851280" y="6308640"/>
            <a:ext cx="144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16164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Творческие и продуктивные задания по русскому язык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618920"/>
            <a:ext cx="8460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ворческая деятельность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мостоятельный перенос знаний и умений в новую ситуацию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личные способы решения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нового продук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 творческих и продуктивных заданий (с.51-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оставление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оставление пред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Работа с тек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оздание нового проду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блемные методы об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62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ично-поисковый (эвристиче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тельский мет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ная ситуация создается при выполнении практического задания (с.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ма: «Слова-помощн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кую трудность письма види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е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окно,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жа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дом,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жа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дороге,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з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дер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же узнавать, когда буквы входят в слово, а когда они сами — целы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е                                      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  V   окно                                  за V    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блемные методы об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ная ситуация созд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боре одного из вариантов (с.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усский язык. 1 кл. (учебник С.В. Иванова и др.)Задание повышенного уров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йди и выпиши слова, в которых буквы е, 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означают мягкости предшествующего соглас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рь себя. Сережа написал четыре слова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л, объелся, рыбою, улыбается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Оля пять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л, объелся, рыбою, улыбается, целы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то из ребят выполнил работу правильно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блемные методы об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476000"/>
            <a:ext cx="773136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ная ситуация созд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проблемного вопроса (с.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Русский язык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2 кл. (Учебник. М.С. Соловейчи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ль предлагает дать ответ на вопрос «Бывает ли буква одна, а орфограммы две?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гадай загадк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окна зелёный ё[жы]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убе[жы]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т но[жы]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овах со слогом [жы]  определи ударение и найди одно слово, к которому можно применить правило о правописан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́и-ш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 ударением. Выпиши это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к другим словам правило 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-ш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одходи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3851280" y="6308640"/>
            <a:ext cx="144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редства об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во-символическ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и обучения грамоте (с.97-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и русского языка (с.99-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действию моделирования по этапам (с.105-1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3851280" y="6308640"/>
            <a:ext cx="144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ормы учебной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онта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овая (с.1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в паре, предполагающая взаимоконтроль (с.111-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ные диктанты (с.1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ое обсуждение проблемы (с.1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ая игра (с.1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1042920" y="-69840"/>
            <a:ext cx="770580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330033"/>
                </a:solidFill>
                <a:latin typeface="Times New Roman"/>
              </a:rPr>
              <a:t>Урок должен быть</a:t>
            </a:r>
            <a:br>
              <a:rPr sz="4600"/>
            </a:b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      </a:t>
            </a:r>
            <a:br>
              <a:rPr sz="4600"/>
            </a:b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        обучающим, </a:t>
            </a:r>
            <a:br>
              <a:rPr sz="4600"/>
            </a:b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           </a:t>
            </a:r>
            <a:br>
              <a:rPr sz="4600"/>
            </a:b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               развивающим,                                </a:t>
            </a:r>
            <a:br>
              <a:rPr sz="4600"/>
            </a:b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                </a:t>
            </a:r>
            <a:br>
              <a:rPr sz="4600"/>
            </a:b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                     воспитывающим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3851280" y="6308640"/>
            <a:ext cx="144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одержательная дифференциац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ференциация по уровню творчества (с.1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ференциация по уровню трудности (с.1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ференциация по уровню и характеру помощи (с.1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троль и оценка на урок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тельное оценивание учебных достижений (с.1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контроль и взаимооценка, самоконтроль и самооценка(с.1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флексия процесса и результата своей деятельности (вопросы личностно-ориентированного характера – с.130-1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684360" y="404640"/>
            <a:ext cx="82087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191280" y="3213000"/>
            <a:ext cx="29527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611280" y="189000"/>
            <a:ext cx="82818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Обучение Развитие Воспит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1332000" y="3357720"/>
            <a:ext cx="7343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иединая цель урока (ТДЦ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1835280" y="1844640"/>
            <a:ext cx="144360" cy="168480"/>
          </a:xfrm>
          <a:prstGeom prst="flowChartConnector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211640" y="1844640"/>
            <a:ext cx="144360" cy="168480"/>
          </a:xfrm>
          <a:prstGeom prst="flowChartConnector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6804000" y="1844640"/>
            <a:ext cx="144360" cy="144360"/>
          </a:xfrm>
          <a:prstGeom prst="flowChartConnector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2050920" y="2060640"/>
            <a:ext cx="208764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4424400" y="2060640"/>
            <a:ext cx="231120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84720" y="2205000"/>
            <a:ext cx="1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11280" y="260280"/>
            <a:ext cx="85327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41155"/>
                </a:solidFill>
                <a:latin typeface="Arial"/>
              </a:rPr>
              <a:t>Комплексное решение зада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2421000"/>
          <a:ext cx="8231040" cy="345744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34574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знанных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ируемых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ыковых и речевых ум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ствован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ыковой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уиции, становлен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гвистического мышления, учебной самостоятельност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в т.ч. умения работать с книгой, словарями, справочникам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ес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 изучению русского языка, привит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аж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 языку и себе как его носителю,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имани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качеству своей устной и письменной ре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16"/>
          <p:cNvSpPr/>
          <p:nvPr/>
        </p:nvSpPr>
        <p:spPr>
          <a:xfrm>
            <a:off x="826920" y="162864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41155"/>
                </a:solidFill>
                <a:latin typeface="Arial"/>
              </a:rPr>
              <a:t>обуч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3492360" y="162864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41155"/>
                </a:solidFill>
                <a:latin typeface="Arial"/>
              </a:rPr>
              <a:t>разви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6012000" y="1628640"/>
            <a:ext cx="295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41155"/>
                </a:solidFill>
                <a:latin typeface="Arial"/>
              </a:rPr>
              <a:t>воспит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611280" y="198360"/>
            <a:ext cx="82818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Комплексное решение задач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обучения, развития и воспитания обеспечиваетс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деятельностным подходом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к организации учебной работы,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при котором: </a:t>
            </a:r>
            <a:br>
              <a:rPr sz="2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ребёнок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–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не объект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учебной деятельности (тот, кого учат),</a:t>
            </a:r>
            <a:br>
              <a:rPr sz="2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а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убъект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(тот, кто учится).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708120" y="399960"/>
            <a:ext cx="843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Деятельностный подход к обуче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84360" y="1844640"/>
            <a:ext cx="845964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у дете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знавательного моти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желания узнать, открыть, научиться) и конкретно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ебной ц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нимания того, что именно нужно выяснить, освои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ение ученикам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пределённых действ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ля приобретения недостающих знан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и освоение учащимися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пособа действия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зволяющего осознанно применять приобретённые зн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ирование у школьников умения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контролировать свои действ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как после их завершения, так и по ход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ключение содержания обучения в контекст решения значимых жизненных задач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6083280" y="2060640"/>
            <a:ext cx="306072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250920" y="1989000"/>
            <a:ext cx="5256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2133720"/>
            <a:ext cx="48956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ённая логика развёртывания деятельности детей: от мотивации, постановки учебной 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осознанному выполнению различных дейст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контролю и самоконтролю, оценке и самооцен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00000" y="-115920"/>
            <a:ext cx="784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9900"/>
                </a:solidFill>
                <a:latin typeface="Times New Roman"/>
              </a:rPr>
              <a:t>Черты современного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84360" y="404640"/>
            <a:ext cx="82087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Arial"/>
              </a:rPr>
              <a:t>развитие личности учащего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Arial"/>
              </a:rPr>
              <a:t>в процессе учеб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 flipH="1">
            <a:off x="2768400" y="1484280"/>
            <a:ext cx="173484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4500720" y="1484280"/>
            <a:ext cx="165564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5940360" y="2133720"/>
            <a:ext cx="2952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тмосфера сотрудничест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ей с учител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друг с друг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ученик – учитель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ученик – ученик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ученик – коллекти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2771640" y="3357720"/>
            <a:ext cx="18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2771640" y="4437000"/>
            <a:ext cx="180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324000" y="1484280"/>
            <a:ext cx="842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3635280" y="4726080"/>
            <a:ext cx="1295640" cy="172728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2"/>
          <p:cNvGrpSpPr/>
          <p:nvPr/>
        </p:nvGrpSpPr>
        <p:grpSpPr>
          <a:xfrm>
            <a:off x="466560" y="4941720"/>
            <a:ext cx="1293840" cy="1724040"/>
            <a:chOff x="466560" y="4941720"/>
            <a:chExt cx="1293840" cy="1724040"/>
          </a:xfrm>
        </p:grpSpPr>
        <p:pic>
          <p:nvPicPr>
            <p:cNvPr id="128" name="Picture 3" descr="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466560" y="4941720"/>
              <a:ext cx="129384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4"/>
            <p:cNvSpPr/>
            <p:nvPr/>
          </p:nvSpPr>
          <p:spPr>
            <a:xfrm>
              <a:off x="466560" y="4941720"/>
              <a:ext cx="129384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5364000" y="4726080"/>
            <a:ext cx="134460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4"/>
          <a:stretch/>
        </p:blipFill>
        <p:spPr>
          <a:xfrm>
            <a:off x="2627280" y="4941720"/>
            <a:ext cx="1312920" cy="1729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5"/>
          <a:stretch/>
        </p:blipFill>
        <p:spPr>
          <a:xfrm>
            <a:off x="4788000" y="4941720"/>
            <a:ext cx="1296720" cy="1729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6"/>
          <a:stretch/>
        </p:blipFill>
        <p:spPr>
          <a:xfrm>
            <a:off x="7523280" y="4726080"/>
            <a:ext cx="1312920" cy="1727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7"/>
          <a:stretch/>
        </p:blipFill>
        <p:spPr>
          <a:xfrm>
            <a:off x="6730920" y="4869000"/>
            <a:ext cx="1263600" cy="1728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8"/>
          <a:stretch/>
        </p:blipFill>
        <p:spPr>
          <a:xfrm>
            <a:off x="1690560" y="4726080"/>
            <a:ext cx="1263600" cy="1728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1"/>
          <p:cNvSpPr/>
          <p:nvPr/>
        </p:nvSpPr>
        <p:spPr>
          <a:xfrm>
            <a:off x="395280" y="0"/>
            <a:ext cx="8282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Реализация деятельностного подхода к обучени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2" descr=""/>
          <p:cNvPicPr/>
          <p:nvPr/>
        </p:nvPicPr>
        <p:blipFill>
          <a:blip r:embed="rId9"/>
          <a:stretch/>
        </p:blipFill>
        <p:spPr>
          <a:xfrm>
            <a:off x="539640" y="2492280"/>
            <a:ext cx="1287720" cy="180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"/>
          <p:cNvPicPr/>
          <p:nvPr/>
        </p:nvPicPr>
        <p:blipFill>
          <a:blip r:embed="rId10"/>
          <a:stretch/>
        </p:blipFill>
        <p:spPr>
          <a:xfrm>
            <a:off x="2411280" y="2133720"/>
            <a:ext cx="1255680" cy="1879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"/>
          <p:cNvPicPr/>
          <p:nvPr/>
        </p:nvPicPr>
        <p:blipFill>
          <a:blip r:embed="rId11"/>
          <a:stretch/>
        </p:blipFill>
        <p:spPr>
          <a:xfrm>
            <a:off x="3203640" y="2708280"/>
            <a:ext cx="1289160" cy="1728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12"/>
          <a:stretch/>
        </p:blipFill>
        <p:spPr>
          <a:xfrm>
            <a:off x="826920" y="692280"/>
            <a:ext cx="1022400" cy="1511280"/>
          </a:xfrm>
          <a:prstGeom prst="rect">
            <a:avLst/>
          </a:prstGeom>
          <a:ln w="9360">
            <a:solidFill>
              <a:srgbClr val="241155"/>
            </a:solidFill>
            <a:miter/>
          </a:ln>
        </p:spPr>
      </p:pic>
      <p:pic>
        <p:nvPicPr>
          <p:cNvPr id="141" name="Picture 16" descr=""/>
          <p:cNvPicPr/>
          <p:nvPr/>
        </p:nvPicPr>
        <p:blipFill>
          <a:blip r:embed="rId13"/>
          <a:stretch/>
        </p:blipFill>
        <p:spPr>
          <a:xfrm>
            <a:off x="7524720" y="2421000"/>
            <a:ext cx="1454040" cy="2087640"/>
          </a:xfrm>
          <a:prstGeom prst="rect">
            <a:avLst/>
          </a:prstGeom>
          <a:ln w="9360">
            <a:solidFill>
              <a:srgbClr val="241155"/>
            </a:solidFill>
            <a:miter/>
          </a:ln>
        </p:spPr>
      </p:pic>
      <p:pic>
        <p:nvPicPr>
          <p:cNvPr id="142" name="Picture 17" descr=""/>
          <p:cNvPicPr/>
          <p:nvPr/>
        </p:nvPicPr>
        <p:blipFill>
          <a:blip r:embed="rId14"/>
          <a:stretch/>
        </p:blipFill>
        <p:spPr>
          <a:xfrm>
            <a:off x="4572000" y="1413000"/>
            <a:ext cx="1590840" cy="2305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"/>
          <p:cNvPicPr/>
          <p:nvPr/>
        </p:nvPicPr>
        <p:blipFill>
          <a:blip r:embed="rId15"/>
          <a:stretch/>
        </p:blipFill>
        <p:spPr>
          <a:xfrm>
            <a:off x="6012000" y="1268280"/>
            <a:ext cx="1617480" cy="2305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"/>
          <p:cNvPicPr/>
          <p:nvPr/>
        </p:nvPicPr>
        <p:blipFill>
          <a:blip r:embed="rId16"/>
          <a:stretch/>
        </p:blipFill>
        <p:spPr>
          <a:xfrm>
            <a:off x="1692360" y="2708280"/>
            <a:ext cx="131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 flipH="1" flipV="1">
            <a:off x="5219640" y="6858000"/>
            <a:ext cx="2160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235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     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труктура урока 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           открытия нового зна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тивация к 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уализация знаний и фиксация индивидуальных затруд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новка учебной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 УЗ («открытие» детьми нового зн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ичное закрепление (усвоение нового способа действия с проговариванием во внешней реч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флексия 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7:16:37Z</dcterms:created>
  <dc:creator>Customer</dc:creator>
  <dc:description/>
  <dc:language>en-US</dc:language>
  <cp:lastModifiedBy>*</cp:lastModifiedBy>
  <dcterms:modified xsi:type="dcterms:W3CDTF">2014-02-05T10:04:48Z</dcterms:modified>
  <cp:revision>11</cp:revision>
  <dc:subject/>
  <dc:title>Слайд 1</dc:title>
</cp:coreProperties>
</file>