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A57-C3FD-451C-8C6F-0D5FF5FB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BA4-1BF3-493E-9F9F-418157C4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935-A982-47BF-A5C8-0319ADA2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978-A7D7-49AE-81B2-17906BAE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82B92-65DA-4217-A9BF-3F5C8498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F1899-D0AC-4BE8-8B97-EB615ACD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E4E78-2E82-43B6-A5DA-2DA02DD6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6D775-CE3F-44C1-8909-618EFA28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9979A-5E77-406F-A911-8A6F768A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48B73-36AA-4BEC-A58E-40432D0D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3D4CD-8E66-4269-83D7-E3607795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642-F9D0-433A-867E-BDFBFAC3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8CAAF-F387-4EA0-825F-0060738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C070F-B29B-46CD-AE01-4EBA2B17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2BAA3-792D-42E3-8A4C-274F936A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93555-891E-4F37-BDFF-9E7D7494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85B33-13E3-4515-B843-83879AAF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9B5-E71D-4B65-96DC-D45E4676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2C7-BCD4-4B42-9C11-423E6A00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69D-1B11-49F6-BEC4-5189B37D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164-E788-407C-9482-D256C551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16C-77BB-4405-907B-AF028671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191-D018-4130-8E86-F44FB27A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D62-8290-4249-B025-5F2D4095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7767-68A2-47F6-88C0-735CC71090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5DE4-A210-4DAA-B2F3-9E5919C719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Tahoma"/>
              </a:rPr>
              <a:t>«Писатель, художник, режиссер и сценарист»</a:t>
            </a:r>
            <a:br>
              <a:rPr sz="5700"/>
            </a:b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4" descr="http://tmn.fio.ru/works/44x/311/main.gif"/>
          <p:cNvPicPr/>
          <p:nvPr/>
        </p:nvPicPr>
        <p:blipFill>
          <a:blip r:embed="rId2"/>
          <a:stretch/>
        </p:blipFill>
        <p:spPr>
          <a:xfrm>
            <a:off x="3143160" y="4049640"/>
            <a:ext cx="2857680" cy="11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вает так: работал человек художником. Рисовал картинки к детским книжкам. А потом стал рисовать мультфильмы. А потом ещё и писать начал – сценарии к мультфильмам. А однажды подумал-подумал и стал писателем, решив, что весёлых авторов намного меньше, чем весёлых художников. А может, всё дело было в его секрете: ведь  писал он правой рукой, а рисовал лево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ак о ком ж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сё это написано?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 художнике и писателе, 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ценарист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кинорежиссёре –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Владимир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Григорьевиче Сутееве!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от такой он разный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5003640" y="2997360"/>
            <a:ext cx="344808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утеев Владимир Григорьевич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05.07.1903 – 08.03.1993г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16574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мечательный детский художник и писатель Владимир Григорьевич Сутеев родился в 1903 году в  Москве в семье врача, доктора медици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 с детства увлекался рисованием. С юношеских лет сотрудничал как карикатури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художник-иллюстратор с детски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иодически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даниями: газетой «Пионерск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д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журналам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ионер», «Мурзилка», «Искорк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5796000" y="2349360"/>
            <a:ext cx="295272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1929 году В.Г. Сутеев закончи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коративный факультет Госинститу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инематограф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1931 году участвовал в постановк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укового мультфильма «Улица попере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удия «Союзмультфильм» становится для художника творческой мастерской. Им созданы более тридцати мультфильмов. В 1941 году закончил работу над мультфильмом «Муха-Цокотуха», который принес ему известн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600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1948 года В.Г. Сутеев начал писать сказки. В 1952 году в издательстве «Детгиз» вышла первая книга автора и художника В. Сутеева «Две сказки про карандаш и краски»</a:t>
            </a:r>
            <a:br>
              <a:rPr sz="1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38275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о и плодотворно художник работает как иллюстратор произведений классиков отечественной и зарубежной детской  литературы – К. Чуковский, С. Маршака, С. Михалкова, В. Берестова, Дж. Родари,  А. Прейсена, Л. Муу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2771640" y="3429000"/>
            <a:ext cx="3095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780000" y="476280"/>
            <a:ext cx="4906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ниги Сутеева                               переведены более чем на тридцать языков. Веселые, добрые книжки В.Г. Сутеева знают и любят дети в разных уголках ми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144600" cy="273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3708360" y="3716280"/>
            <a:ext cx="361944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ажна не палка, а умная голова да доброе сердце!» - говорит Владимир Сутее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ми своего героя из сказки «Палочка-выручалочка» детям, которые только вступают в жизнь и только учатся отличать добро от з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741240" y="3213000"/>
            <a:ext cx="7431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1:16:17Z</dcterms:created>
  <dc:creator>Masha</dc:creator>
  <dc:description/>
  <dc:language>en-US</dc:language>
  <cp:lastModifiedBy>Вера</cp:lastModifiedBy>
  <dcterms:modified xsi:type="dcterms:W3CDTF">2015-09-29T20:23:47Z</dcterms:modified>
  <cp:revision>10</cp:revision>
  <dc:subject/>
  <dc:title>«Писатель, художник, режиссер и сценарист»</dc:title>
</cp:coreProperties>
</file>