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853-E826-49C7-BA33-30005A2B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731-05BE-4771-91B3-2F427493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1EE-A373-4F9B-92C9-0935F7F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E17-ED57-495E-A634-1B749BB9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D7A6D-D3DB-4F98-8E43-A2B97F6C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EF0AC-C5DF-44C7-B620-600953C9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F20AC-342E-487C-83DA-6BB450A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CF0BB-D1A6-4F28-9CBA-F4511E6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B244A-701D-43D9-8618-ED2D714C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F8F50-5B10-4CF2-A11E-785F685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F9F1-DCA1-4506-B771-2B975BAB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605-66BB-43A9-9AA1-44F869A1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2436A-5D5D-4C65-B0E7-D3003A5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8C8FC-915C-4BE7-A8E4-AA51B3C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F928-EAD4-4976-B6E5-74D13AB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FBEB-AADF-41E4-AFF7-D052224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8874-30F8-4B62-A10B-DC946716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9A2-CC9F-4C6F-A4C5-936D048F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0AA-8D90-4B15-BE50-DFFC7CE3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C2F-435D-45A0-A795-A2E36889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9BA-C9C9-4639-9A53-8ACDADAD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BF6-E6BD-4D26-9E33-6D537B2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02D-5E03-483C-A947-7143365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BE6-4B52-4C3F-85BE-4A5B04F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B5B1-5F70-40AA-B7F9-9C4314A88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AED-32D4-464A-A2A8-430E35AB7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«Писатель, художник, режиссер и сценарист»</a:t>
            </a:r>
            <a:br>
              <a:rPr sz="5700"/>
            </a:b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4" descr="http://tmn.fio.ru/works/44x/311/main.gif"/>
          <p:cNvPicPr/>
          <p:nvPr/>
        </p:nvPicPr>
        <p:blipFill>
          <a:blip r:embed="rId2"/>
          <a:stretch/>
        </p:blipFill>
        <p:spPr>
          <a:xfrm>
            <a:off x="3143160" y="4049640"/>
            <a:ext cx="285768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вает так: работал человек художником. Рисовал картинки к детским книжкам. А потом стал рисовать мультфильмы. А потом ещё и писать начал – сценарии к мультфильмам. А однажды подумал-подумал и стал писателем, решив, что весёлых авторов намного меньше, чем весёлых художников. А может, всё дело было в его секрете: ведь  писал он правой рукой, а рисовал лев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к о ком 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ё это написано?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 художнике и писателе, 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ценарис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инорежиссёре –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Владими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Григорьевиче Сутееве!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т такой он раз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448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утеев Владимир Григорьеви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5.07.1903 – 08.03.1993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1657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чательный детский художник и писатель Владимир Григорьевич Сутеев родился в 1903 году в  Москве в семье врача, доктора медиц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с детства увлекался рисованием. С юношеских лет сотрудничал как карикатури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художник-иллюстратор с дет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ичес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аниями: газетой «Пионерс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журнал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ионер», «Мурзилка», «Искор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52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29 году В.Г. Сутеев законч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ративный факультет Госинстит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нематограф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31 году участвовал в постано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укового мультфильма «Улица попере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я «Союзмультфильм» становится для художника творческой мастерской. Им созданы более тридцати мультфильмов. В 1941 году закончил работу над мультфильмом «Муха-Цокотуха», который принес ему извест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600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948 года В.Г. Сутеев начал писать сказки. В 1952 году в издательстве «Детгиз» вышла первая книга автора и художника В. Сутеева «Две сказки про карандаш и краски»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8275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 и плодотворно художник работает как иллюстратор произведений классиков отечественной и зарубежной детской  литературы – К. Чуковский, С. Маршака, С. Михалкова, В. Берестова, Дж. Родари,  А. Прейсена, Л. Му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3095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80000" y="476280"/>
            <a:ext cx="490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иги Сутеева                               переведены более чем на тридцать языков. Веселые, добрые книжки В.Г. Сутеева знают и любят дети в разных уголках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144600" cy="27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36194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ажна не палка, а умная голова да доброе сердце!» - говорит Владимир Сутее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ми своего героя из сказки «Палочка-выручалочка» детям, которые только вступают в жизнь и только учатся отличать добро от з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41240" y="3213000"/>
            <a:ext cx="7431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16:17Z</dcterms:created>
  <dc:creator>Masha</dc:creator>
  <dc:description/>
  <dc:language>en-US</dc:language>
  <cp:lastModifiedBy>Вера</cp:lastModifiedBy>
  <dcterms:modified xsi:type="dcterms:W3CDTF">2015-09-29T20:23:47Z</dcterms:modified>
  <cp:revision>10</cp:revision>
  <dc:subject/>
  <dc:title>«Писатель, художник, режиссер и сценарист»</dc:title>
</cp:coreProperties>
</file>