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602-A03D-41FA-A121-8D06519A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17B-65B0-448F-AF42-E9743008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DF6-A40F-47C9-A925-EF2FD334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B85-9140-4C89-A0F6-E6F4682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4A860-617C-4630-ADB9-D4122128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CE2CD-9D05-4C64-A64A-08B8E83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9C975-C471-4008-8B48-8B686353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4CC3D-F062-4304-84B1-E0C3873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14CE-DD9E-4ECE-90B0-300F4D3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131B-0DB0-48D7-9C5B-2518E04D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59DB2-2711-475B-A3D8-BA0B654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993-6704-4C1C-81DA-79B42AA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93A1-0202-4D40-9D3E-2A4C9F82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042B-283B-4C4E-BF14-2B90B3CA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B1D47-DC84-460D-9950-B1BC8762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7F326-4E36-4108-9AE5-FD2539A6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BC59A-845C-4E89-9E94-53D066AE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BDD-02AF-46A7-A5CE-7C11B32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8AF-EE55-4FEE-8EC4-BFB6613C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B6E-62B1-45C7-A945-E5949C6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420-0741-4FD5-9F3D-655BF432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1E6-FA40-4F77-8A13-911341F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DFF-4292-4E5A-BF2D-C744BF8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74D-6DC5-4324-92AC-ACAA3D4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0A5-5A5E-4C76-AA86-3D21A563EE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C84C-EA6C-42A0-BEFF-3BCB6AA83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«Писатель, художник, режиссер и сценарист»</a:t>
            </a:r>
            <a:br>
              <a:rPr sz="5700"/>
            </a:b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4" descr="http://tmn.fio.ru/works/44x/311/main.gif"/>
          <p:cNvPicPr/>
          <p:nvPr/>
        </p:nvPicPr>
        <p:blipFill>
          <a:blip r:embed="rId2"/>
          <a:stretch/>
        </p:blipFill>
        <p:spPr>
          <a:xfrm>
            <a:off x="3143160" y="4049640"/>
            <a:ext cx="285768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вает так: работал человек художником. Рисовал картинки к детским книжкам. А потом стал рисовать мультфильмы. А потом ещё и писать начал – сценарии к мультфильмам. А однажды подумал-подумал и стал писателем, решив, что весёлых авторов намного меньше, чем весёлых художников. А может, всё дело было в его секрете: ведь  писал он правой рукой, а рисовал лев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к о ком 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ё это написано?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 художнике и писателе, 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ценарис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инорежиссёре –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Владими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Григорьевиче Сутееве!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т такой он раз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448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теев Владимир Григорьевич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5.07.1903 – 08.03.1993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1657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чательный детский художник и писатель Владимир Григорьевич Сутеев родился в 1903 году в  Москве в семье врача, доктора медиц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с детства увлекался рисованием. С юношеских лет сотрудничал как карикатури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художник-иллюстратор с детс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ичес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аниями: газетой «Пионерск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журнал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ионер», «Мурзилка», «Искор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9527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29 году В.Г. Сутеев законч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ративный факультет Госинстит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нематограф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31 году участвовал в постанов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укового мультфильма «Улица попере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я «Союзмультфильм» становится для художника творческой мастерской. Им созданы более тридцати мультфильмов. В 1941 году закончил работу над мультфильмом «Муха-Цокотуха», который принес ему извест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948 года В.Г. Сутеев начал писать сказки. В 1952 году в издательстве «Детгиз» вышла первая книга автора и художника В. Сутеева «Две сказки про карандаш и краски»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8275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 и плодотворно художник работает как иллюстратор произведений классиков отечественной и зарубежной детской  литературы – К. Чуковский, С. Маршака, С. Михалкова, В. Берестова, Дж. Родари,  А. Прейсена, Л. Муу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3095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80000" y="476280"/>
            <a:ext cx="490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иги Сутеева                               переведены более чем на тридцать языков. Веселые, добрые книжки В.Г. Сутеева знают и любят дети в разных уголках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144600" cy="27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36194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ажна не палка, а умная голова да доброе сердце!» - говорит Владимир Сутее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ми своего героя из сказки «Палочка-выручалочка» детям, которые только вступают в жизнь и только учатся отличать добро от з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41240" y="3213000"/>
            <a:ext cx="7431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16:17Z</dcterms:created>
  <dc:creator>Masha</dc:creator>
  <dc:description/>
  <dc:language>en-US</dc:language>
  <cp:lastModifiedBy>Вера</cp:lastModifiedBy>
  <dcterms:modified xsi:type="dcterms:W3CDTF">2015-09-29T20:23:47Z</dcterms:modified>
  <cp:revision>10</cp:revision>
  <dc:subject/>
  <dc:title>«Писатель, художник, режиссер и сценарист»</dc:title>
</cp:coreProperties>
</file>