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091B9-E852-4428-834F-BC1AC5557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00B68-D0C0-4EBC-BF66-C99704B52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FC2E83-0577-471B-B303-958C0C16FC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4B7EDB-81E4-47C6-853D-D761465264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11BBBE-91C4-4A88-86BA-A40F3377BF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C8B1CF-8A06-4A7C-BA56-17F7DBEEEE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F8CA3E-B7F9-4067-BC22-35911D6FB6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393B02-C53A-4573-B3F7-C3FC9D682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4BF214-99A4-4D87-B4CD-3B9BF2677A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14A0A2-B360-4ADE-8629-8CFC3B0B8D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8D1E17-3A8F-45B2-AA60-42533C851E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6130C-FD1B-42E3-9E1E-2B508DAE0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654E1-CBBD-4347-949E-3740C8B94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6E114-FF4B-48E3-96B0-CADA46FA4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62665-EF53-400E-B76D-DBECCF7DD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2A0C4-D92D-4827-8C76-9490806EF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19DC9-8090-4546-BBB0-9B0EFA96C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D8950-7532-4FA9-AA1C-C500A5E1A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4FA90-DA28-42D4-8252-4AA6D4EFC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972E9-E032-409C-9305-2860AFFD8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E6731-0113-4592-835B-60D3FFB1D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F422B-6413-4F0C-8F8A-3B69CBA52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7601B-2FDE-444B-BE1E-5111FEAA2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26611-FD9A-4CDD-8E0F-B994EBE4D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91B4B-1D43-4C66-B5A9-AF0ED773F3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46CCB-4249-4338-9E66-A9AC92059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746952-B86B-4C4D-B032-43436B35B7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6C7D3B-D806-4B0A-B0FB-5CF34474A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9A7855-E562-47E1-A1E5-9CEC7C5685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112B59-F879-4176-97B1-093EA9404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3BF905-FDB6-425E-AEBB-75277295C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EEEA6-67AC-4A2E-A57A-5D192AD76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17E73-42A3-4C51-8A97-015EA1C930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5ECC1-EEF2-4D10-95D9-55005AEB4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86E4E-B5AA-4154-9C5C-3A960C3CB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D1BCD-C847-4235-AC64-CAC8BB500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ABDDA-3E17-4941-BB11-0907C613EB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B5CC61-B05B-4A94-9394-52C18E6A46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E2EE1C-9005-4475-A8AB-7BC98DC8E5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669269-FA2A-4C1E-AA5A-EC2790DEB4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FC74D-51DC-4977-969E-6143C81B35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0AB1A3-803C-4FE3-985E-B1B4547913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25983-CBAA-4DAB-8AE8-6A32732DB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64F2EC-0DB1-4E10-B1CF-F3B02EA17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C600B5-841F-47EE-AFCC-99226D851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294BE2-5114-4E4B-B39A-F3B95F4AA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31E6F-35E3-42CC-8CD4-08981FD91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EE40B-712D-48A1-BFDD-C3F89AB22A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48798-0F9B-450F-8FFC-434C4ACAE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57F0A5-1466-4CA5-86E4-0F5769F42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EB7284-D658-45D4-A031-78277E96DA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07396A-5C7B-42CE-9150-6DFEF6A607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7104F4-F0C8-40C2-816F-11090BB436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DF492-A2C7-4402-8937-050F74EAA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7E2352-0FB5-4E71-98BA-F25C0225AB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787255-73FA-44A6-803D-CDDDCD76BC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A9943D-C896-46B7-A60D-DB0E1D7B8F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CD1382-4915-4E3D-AB16-495DADB345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9A92FA-10A3-4E93-AC91-7727B2134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65EF4-8EFB-464E-97AF-8FDD5E73E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79D03-BE41-4BAA-86B7-7784AE945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B2421-AD00-45AE-B19D-4CF2BFE139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664491-5A12-4414-B77F-3B2EE623D6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652BBD-B124-4371-9270-B80BB5F1D9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0537B-5B76-4B9A-8434-1C5A9D331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B9461F-6B30-4DC5-B0D3-0E3D42B044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649749-9F38-4CA1-A546-19CAE35F21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7B7253-611C-4B1D-9010-FD44E6D5B5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B303B9-1A0D-4AD6-B55A-BF3D9880BB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1E25AE-10D3-4544-AEB4-F56ACBDADE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402D47-25B5-4152-8257-89224795CF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833C23-CDB0-4203-9526-4330051A4D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51A9D5-4132-4C74-BB15-AF5AC92B1A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072E09-379A-4D4E-9BCB-C40B981C3F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5975D5-F8F3-4D50-8C1D-94A6DCB129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DDEF6-E215-43E1-AC3D-48E558EF4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801891-FEE2-46B0-87FD-994BD9A309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1D9156-89F6-4456-BB06-4DC5207AB5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54D14E-389F-4849-BE0A-3F5E9A4639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05C132-B923-4552-B11B-89AF0AB1ED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B4AA68-3E41-4A80-B14D-BD282748D7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DB837C-2C5F-4D4D-9FD7-316D5086C0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1A56D8-264A-4D89-8C39-6033BD1D34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FD5937-0FBC-4243-9606-4B4A576F06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D12EBA-12E4-4546-86EA-2E654DC8D3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1F81C7-7646-4F22-A982-608F382A2E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3D24B-76DD-4BE3-A6D4-E1BD11A50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F3C9B-4897-4DA5-A5D2-B093D9E2C7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7BDBA-6ACE-4C2A-A255-B8985DE04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AD97B0-F4A9-43D0-93B0-2C3C15450A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52ACEC-0AEB-4BAB-A044-6309E5236F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D923E5-E6EC-46E1-B2A0-E2C1C7C7CA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49A73B-4553-4F49-B5BD-92E90B6644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831738-9446-4741-A6CA-8D47F16F9E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E2524B-37FF-41EE-9541-F5D0AC62CC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B63234-DE75-42A4-936A-F777DC6203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D1284F-4E81-4928-9F0D-348F5753F0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B78D3-E99D-4B3A-A7A6-01CAC9B27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53E668-E397-4C9C-9EF4-72E4DCE0E5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163CFA-9B78-4C2A-B1F2-86B3EFF354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DE662-4E4B-46B4-AEA3-7895C0CA8A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8C885-AB78-4D23-AC6E-3CA70D073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C1AA74-D2F7-4771-9D5C-9426C0F450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324ADA-D9C8-4D9A-976C-BAA546E34D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BF9994-AC18-45EA-A173-6C5B175983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D70702-9F0F-42BA-B659-1E990DF827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D2E79D-5E83-4EBC-A3D6-F3A6292A20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A83D08-B08B-4F00-BAF2-31D2F36457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D182-770E-4CDF-82C7-BCF3C3C16EA1}"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439B-7103-42F7-8204-10138E40CC11}"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C456-AEA7-4247-B542-752506C595AD}"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CED3-245A-4702-841F-B681218B9C17}"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57AD-D1EA-4633-8C10-9A75143116F7}"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E815-5A76-483E-AD22-8D694922FE6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C279-D398-4D30-B467-AC68B969544F}"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A1ED-633B-4DE5-9032-762964687B1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F0BB-38C6-4496-BA4D-8298DE8B7236}"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Oval 4"/>
          <p:cNvSpPr/>
          <p:nvPr/>
        </p:nvSpPr>
        <p:spPr>
          <a:xfrm>
            <a:off x="468360" y="404640"/>
            <a:ext cx="2448000" cy="324036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900" spc="-1" strike="noStrike">
              <a:solidFill>
                <a:srgbClr val="000000"/>
              </a:solidFill>
              <a:latin typeface="Arial"/>
            </a:endParaRPr>
          </a:p>
        </p:txBody>
      </p:sp>
      <p:sp>
        <p:nvSpPr>
          <p:cNvPr id="400" name="Text Box 5"/>
          <p:cNvSpPr/>
          <p:nvPr/>
        </p:nvSpPr>
        <p:spPr>
          <a:xfrm>
            <a:off x="250920" y="4076640"/>
            <a:ext cx="57610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2f2f2"/>
                </a:solidFill>
                <a:latin typeface="Times New Roman"/>
              </a:rPr>
              <a:t>Лев Николаевич                                               Толстой</a:t>
            </a:r>
            <a:endParaRPr b="0" lang="en-US" sz="5400" spc="-1" strike="noStrike">
              <a:solidFill>
                <a:srgbClr val="000000"/>
              </a:solidFill>
              <a:latin typeface="Arial"/>
            </a:endParaRPr>
          </a:p>
        </p:txBody>
      </p:sp>
      <p:sp>
        <p:nvSpPr>
          <p:cNvPr id="401" name="Text Box 6"/>
          <p:cNvSpPr/>
          <p:nvPr/>
        </p:nvSpPr>
        <p:spPr>
          <a:xfrm>
            <a:off x="250920" y="6515280"/>
            <a:ext cx="66974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02" name="Text Box 7"/>
          <p:cNvSpPr/>
          <p:nvPr/>
        </p:nvSpPr>
        <p:spPr>
          <a:xfrm>
            <a:off x="1258920" y="3789360"/>
            <a:ext cx="60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6" descr=""/>
          <p:cNvPicPr/>
          <p:nvPr/>
        </p:nvPicPr>
        <p:blipFill>
          <a:blip r:embed="rId1"/>
          <a:stretch/>
        </p:blipFill>
        <p:spPr>
          <a:xfrm>
            <a:off x="4572000" y="4041720"/>
            <a:ext cx="4211640" cy="2631960"/>
          </a:xfrm>
          <a:prstGeom prst="rect">
            <a:avLst/>
          </a:prstGeom>
          <a:ln w="0">
            <a:noFill/>
          </a:ln>
        </p:spPr>
      </p:pic>
      <p:sp>
        <p:nvSpPr>
          <p:cNvPr id="404" name="Text Box 4"/>
          <p:cNvSpPr/>
          <p:nvPr/>
        </p:nvSpPr>
        <p:spPr>
          <a:xfrm>
            <a:off x="4067280" y="189000"/>
            <a:ext cx="507672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Толстой Лев Николаевич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1828 – 1910)</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Родился 9 сентября (по старому стилю 28 августа) в имении Ясная Поляна Тульской губернии. По происхождению принадлежал к древнейшим аристократическим фамилиям России. Получил домашнее образование и воспитание.</a:t>
            </a:r>
            <a:endParaRPr b="0" lang="en-US" sz="2200" spc="-1" strike="noStrike">
              <a:solidFill>
                <a:srgbClr val="000000"/>
              </a:solidFill>
              <a:latin typeface="Arial"/>
            </a:endParaRPr>
          </a:p>
        </p:txBody>
      </p:sp>
      <p:pic>
        <p:nvPicPr>
          <p:cNvPr id="405" name="Picture 7" descr=""/>
          <p:cNvPicPr/>
          <p:nvPr/>
        </p:nvPicPr>
        <p:blipFill>
          <a:blip r:embed="rId2"/>
          <a:stretch/>
        </p:blipFill>
        <p:spPr>
          <a:xfrm>
            <a:off x="250920" y="260280"/>
            <a:ext cx="3743280" cy="496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
          <p:cNvPicPr/>
          <p:nvPr/>
        </p:nvPicPr>
        <p:blipFill>
          <a:blip r:embed="rId1"/>
          <a:stretch/>
        </p:blipFill>
        <p:spPr>
          <a:xfrm>
            <a:off x="684360" y="285840"/>
            <a:ext cx="4744800" cy="3286080"/>
          </a:xfrm>
          <a:prstGeom prst="rect">
            <a:avLst/>
          </a:prstGeom>
          <a:ln w="0">
            <a:noFill/>
          </a:ln>
        </p:spPr>
      </p:pic>
      <p:sp>
        <p:nvSpPr>
          <p:cNvPr id="407" name="Text Box 5"/>
          <p:cNvSpPr/>
          <p:nvPr/>
        </p:nvSpPr>
        <p:spPr>
          <a:xfrm>
            <a:off x="5572080" y="3143160"/>
            <a:ext cx="26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534b38"/>
                </a:solidFill>
                <a:latin typeface="Times New Roman"/>
                <a:ea typeface="Times New Roman"/>
              </a:rPr>
              <a:t>Л.Н. Толстой с братьями.</a:t>
            </a:r>
            <a:endParaRPr b="0" lang="en-US" sz="1600" spc="-1" strike="noStrike">
              <a:solidFill>
                <a:srgbClr val="000000"/>
              </a:solidFill>
              <a:latin typeface="Arial"/>
            </a:endParaRPr>
          </a:p>
        </p:txBody>
      </p:sp>
      <p:sp>
        <p:nvSpPr>
          <p:cNvPr id="408" name="Text Box 6"/>
          <p:cNvSpPr/>
          <p:nvPr/>
        </p:nvSpPr>
        <p:spPr>
          <a:xfrm>
            <a:off x="285840" y="3571920"/>
            <a:ext cx="885816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663300"/>
                </a:solidFill>
                <a:latin typeface="Times New Roman"/>
                <a:ea typeface="Times New Roman"/>
              </a:rPr>
              <a:t>Был четвёртым ребёнком в семье; у него было три старших брата: Николай (1823—1860), Сергей (1826—1904) и Дмитрий (1827—1856). В 1830 году родилась сестра Мария . Его мать умерла с рождением последней дочери, когда ему не было ещё 2-х лет.</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9" name="Прямоугольник 4"/>
          <p:cNvSpPr/>
          <p:nvPr/>
        </p:nvSpPr>
        <p:spPr>
          <a:xfrm flipV="1" rot="10800000">
            <a:off x="285480" y="4844880"/>
            <a:ext cx="8643960" cy="16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663300"/>
                </a:solidFill>
                <a:latin typeface="Times New Roman"/>
                <a:ea typeface="Times New Roman"/>
              </a:rPr>
              <a:t>Первоначальное образование он получил дома, как принято было тогда в дворянских семьях. Затем Лев Николаевич переехал в Казань вместе с братьями и сестрой.  Живя в Казани Толстой 2,5 года готовился к поступлению в университет, в 17 лет он поступает туда</a:t>
            </a:r>
            <a:r>
              <a:rPr b="0" lang="ru-RU" sz="2100" spc="-1" strike="noStrike">
                <a:solidFill>
                  <a:srgbClr val="663300"/>
                </a:solidFill>
                <a:latin typeface="Times New Roman"/>
                <a:ea typeface="Times New Roman"/>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4"/>
          <p:cNvSpPr/>
          <p:nvPr/>
        </p:nvSpPr>
        <p:spPr>
          <a:xfrm>
            <a:off x="285840" y="4210200"/>
            <a:ext cx="86439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В 1851 году поступил на военную службу на Кавказе. В 1854 году Толстой участвовал в обороне Севастополя. Награждается орденом св. Анны с надписью «За храбрость» и медалями «За защиту Севастополя». В «Севастопольских рассказах» нарисует беспощадно достоверную картину войны, что произведет огромное впечатление на русское общество. </a:t>
            </a:r>
            <a:endParaRPr b="0" lang="en-US" sz="2200" spc="-1" strike="noStrike">
              <a:solidFill>
                <a:srgbClr val="000000"/>
              </a:solidFill>
              <a:latin typeface="Arial"/>
            </a:endParaRPr>
          </a:p>
        </p:txBody>
      </p:sp>
      <p:pic>
        <p:nvPicPr>
          <p:cNvPr id="411" name="Picture 5" descr=""/>
          <p:cNvPicPr/>
          <p:nvPr/>
        </p:nvPicPr>
        <p:blipFill>
          <a:blip r:embed="rId1"/>
          <a:stretch/>
        </p:blipFill>
        <p:spPr>
          <a:xfrm>
            <a:off x="611280" y="260280"/>
            <a:ext cx="2828880" cy="3810240"/>
          </a:xfrm>
          <a:prstGeom prst="rect">
            <a:avLst/>
          </a:prstGeom>
          <a:ln w="0">
            <a:noFill/>
          </a:ln>
        </p:spPr>
      </p:pic>
      <p:pic>
        <p:nvPicPr>
          <p:cNvPr id="412" name="Picture 6" descr=""/>
          <p:cNvPicPr/>
          <p:nvPr/>
        </p:nvPicPr>
        <p:blipFill>
          <a:blip r:embed="rId2"/>
          <a:stretch/>
        </p:blipFill>
        <p:spPr>
          <a:xfrm>
            <a:off x="4716360" y="260280"/>
            <a:ext cx="293868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4"/>
          <p:cNvSpPr/>
          <p:nvPr/>
        </p:nvSpPr>
        <p:spPr>
          <a:xfrm>
            <a:off x="428760" y="3286080"/>
            <a:ext cx="835344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663300"/>
                </a:solidFill>
                <a:latin typeface="Times New Roman"/>
                <a:ea typeface="Times New Roman"/>
              </a:rPr>
              <a:t>В это же время всерьез начинает заниматься литературным творчеством, пишет повесть «Детство», которая печатается в журнале «Современник». Позже там будут напечатаны повести «Отрочество» и «Юность».</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663300"/>
                </a:solidFill>
                <a:latin typeface="Times New Roman"/>
                <a:ea typeface="Times New Roman"/>
              </a:rPr>
              <a:t>Осенью 1856 году вышел в отставку и возвращается в Ясную Поляну. Он изучает педагогику и в 1859 г. открывает в Ясной Поляне школу для крестьянских детей, затем помогает открыть ещё более 20 школ в окрестных деревнях. Определённой программы преподавания не было. Единственная задача учителя заключалась в том, чтобы заинтересовать класс. Занятия шли успешно. Их вёл сам Толстой при помощи нескольких постоянных учителей. Он же сам пишет «Азбуку» для обучения детей чтению.</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414" name="Picture 7" descr=""/>
          <p:cNvPicPr/>
          <p:nvPr/>
        </p:nvPicPr>
        <p:blipFill>
          <a:blip r:embed="rId1"/>
          <a:stretch/>
        </p:blipFill>
        <p:spPr>
          <a:xfrm>
            <a:off x="214200" y="214200"/>
            <a:ext cx="2143080" cy="2928960"/>
          </a:xfrm>
          <a:prstGeom prst="rect">
            <a:avLst/>
          </a:prstGeom>
          <a:ln w="0">
            <a:noFill/>
          </a:ln>
        </p:spPr>
      </p:pic>
      <p:pic>
        <p:nvPicPr>
          <p:cNvPr id="415" name="Picture 5" descr=""/>
          <p:cNvPicPr/>
          <p:nvPr/>
        </p:nvPicPr>
        <p:blipFill>
          <a:blip r:embed="rId2"/>
          <a:stretch/>
        </p:blipFill>
        <p:spPr>
          <a:xfrm>
            <a:off x="3214800" y="214200"/>
            <a:ext cx="2071440" cy="2928960"/>
          </a:xfrm>
          <a:prstGeom prst="rect">
            <a:avLst/>
          </a:prstGeom>
          <a:ln w="0">
            <a:noFill/>
          </a:ln>
        </p:spPr>
      </p:pic>
      <p:pic>
        <p:nvPicPr>
          <p:cNvPr id="416" name="Picture 6" descr=""/>
          <p:cNvPicPr/>
          <p:nvPr/>
        </p:nvPicPr>
        <p:blipFill>
          <a:blip r:embed="rId3"/>
          <a:stretch/>
        </p:blipFill>
        <p:spPr>
          <a:xfrm>
            <a:off x="6357960" y="214200"/>
            <a:ext cx="2214720" cy="29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4"/>
          <p:cNvSpPr/>
          <p:nvPr/>
        </p:nvSpPr>
        <p:spPr>
          <a:xfrm>
            <a:off x="3348000" y="3844800"/>
            <a:ext cx="57960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В 1862 году жизнь Толстого, его быт упорядочиваются на долгие годы: он женится на дочери московского врача Софье Андреевне Берс и ведет патриархальную жизнь в своем имении как глава все увеличивающейся семьи. Толстые воспитали девятерых детей.</a:t>
            </a:r>
            <a:endParaRPr b="0" lang="en-US" sz="2200" spc="-1" strike="noStrike">
              <a:solidFill>
                <a:srgbClr val="000000"/>
              </a:solidFill>
              <a:latin typeface="Arial"/>
            </a:endParaRPr>
          </a:p>
        </p:txBody>
      </p:sp>
      <p:pic>
        <p:nvPicPr>
          <p:cNvPr id="418" name="Picture 6" descr=""/>
          <p:cNvPicPr/>
          <p:nvPr/>
        </p:nvPicPr>
        <p:blipFill>
          <a:blip r:embed="rId1"/>
          <a:stretch/>
        </p:blipFill>
        <p:spPr>
          <a:xfrm>
            <a:off x="179280" y="2349360"/>
            <a:ext cx="3114720" cy="4248360"/>
          </a:xfrm>
          <a:prstGeom prst="rect">
            <a:avLst/>
          </a:prstGeom>
          <a:ln w="0">
            <a:noFill/>
          </a:ln>
        </p:spPr>
      </p:pic>
      <p:pic>
        <p:nvPicPr>
          <p:cNvPr id="419" name="Picture 7" descr=""/>
          <p:cNvPicPr/>
          <p:nvPr/>
        </p:nvPicPr>
        <p:blipFill>
          <a:blip r:embed="rId2"/>
          <a:stretch/>
        </p:blipFill>
        <p:spPr>
          <a:xfrm>
            <a:off x="6443640" y="260280"/>
            <a:ext cx="2481120" cy="3454560"/>
          </a:xfrm>
          <a:prstGeom prst="rect">
            <a:avLst/>
          </a:prstGeom>
          <a:ln w="0">
            <a:noFill/>
          </a:ln>
        </p:spPr>
      </p:pic>
      <p:pic>
        <p:nvPicPr>
          <p:cNvPr id="420" name="Picture 5" descr=""/>
          <p:cNvPicPr/>
          <p:nvPr/>
        </p:nvPicPr>
        <p:blipFill>
          <a:blip r:embed="rId3"/>
          <a:stretch/>
        </p:blipFill>
        <p:spPr>
          <a:xfrm>
            <a:off x="1332000" y="189000"/>
            <a:ext cx="4678200" cy="2897280"/>
          </a:xfrm>
          <a:prstGeom prst="rect">
            <a:avLst/>
          </a:prstGeom>
          <a:ln w="0">
            <a:noFill/>
          </a:ln>
        </p:spPr>
      </p:pic>
      <p:sp>
        <p:nvSpPr>
          <p:cNvPr id="421" name="Text Box 8"/>
          <p:cNvSpPr/>
          <p:nvPr/>
        </p:nvSpPr>
        <p:spPr>
          <a:xfrm>
            <a:off x="3780000" y="2708280"/>
            <a:ext cx="22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кругу семьи.</a:t>
            </a:r>
            <a:endParaRPr b="0" lang="en-US" sz="2000" spc="-1" strike="noStrike">
              <a:solidFill>
                <a:srgbClr val="000000"/>
              </a:solidFill>
              <a:latin typeface="Arial"/>
            </a:endParaRPr>
          </a:p>
        </p:txBody>
      </p:sp>
      <p:sp>
        <p:nvSpPr>
          <p:cNvPr id="422" name="Text Box 9"/>
          <p:cNvSpPr/>
          <p:nvPr/>
        </p:nvSpPr>
        <p:spPr>
          <a:xfrm>
            <a:off x="6516720" y="260280"/>
            <a:ext cx="262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внучкой Таней.</a:t>
            </a:r>
            <a:endParaRPr b="0" lang="en-US" sz="2000" spc="-1" strike="noStrike">
              <a:solidFill>
                <a:srgbClr val="000000"/>
              </a:solidFill>
              <a:latin typeface="Arial"/>
            </a:endParaRPr>
          </a:p>
        </p:txBody>
      </p:sp>
      <p:sp>
        <p:nvSpPr>
          <p:cNvPr id="423" name="Text Box 10"/>
          <p:cNvSpPr/>
          <p:nvPr/>
        </p:nvSpPr>
        <p:spPr>
          <a:xfrm>
            <a:off x="179280" y="6165720"/>
            <a:ext cx="33130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Софьей Андреевной</a:t>
            </a:r>
            <a:r>
              <a:rPr b="1" lang="ru-RU" sz="1800" spc="-1" strike="noStrike">
                <a:solidFill>
                  <a:srgbClr val="ffff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4"/>
          <p:cNvSpPr/>
          <p:nvPr/>
        </p:nvSpPr>
        <p:spPr>
          <a:xfrm>
            <a:off x="501480" y="4929120"/>
            <a:ext cx="864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Times New Roman"/>
                <a:ea typeface="Times New Roman"/>
              </a:rPr>
              <a:t>1860 – 70-е годы были отмечены появлением в свет двух произведений Толстого, которые обессмертили его имя: «Война и мир» (1863 – 1869 гг.), «Анна Каренина» (1873 – 1877 гг.).</a:t>
            </a:r>
            <a:endParaRPr b="0" lang="en-US" sz="2400" spc="-1" strike="noStrike">
              <a:solidFill>
                <a:srgbClr val="000000"/>
              </a:solidFill>
              <a:latin typeface="Arial"/>
            </a:endParaRPr>
          </a:p>
        </p:txBody>
      </p:sp>
      <p:pic>
        <p:nvPicPr>
          <p:cNvPr id="425" name="Picture 6" descr=""/>
          <p:cNvPicPr/>
          <p:nvPr/>
        </p:nvPicPr>
        <p:blipFill>
          <a:blip r:embed="rId1"/>
          <a:stretch/>
        </p:blipFill>
        <p:spPr>
          <a:xfrm>
            <a:off x="6516720" y="260280"/>
            <a:ext cx="2228760" cy="3456000"/>
          </a:xfrm>
          <a:prstGeom prst="rect">
            <a:avLst/>
          </a:prstGeom>
          <a:ln w="0">
            <a:noFill/>
          </a:ln>
        </p:spPr>
      </p:pic>
      <p:pic>
        <p:nvPicPr>
          <p:cNvPr id="426" name="Picture 7" descr=""/>
          <p:cNvPicPr/>
          <p:nvPr/>
        </p:nvPicPr>
        <p:blipFill>
          <a:blip r:embed="rId2"/>
          <a:stretch/>
        </p:blipFill>
        <p:spPr>
          <a:xfrm>
            <a:off x="395280" y="260280"/>
            <a:ext cx="2241720" cy="3456000"/>
          </a:xfrm>
          <a:prstGeom prst="rect">
            <a:avLst/>
          </a:prstGeom>
          <a:ln w="0">
            <a:noFill/>
          </a:ln>
        </p:spPr>
      </p:pic>
      <p:pic>
        <p:nvPicPr>
          <p:cNvPr id="427" name="Picture 9" descr=""/>
          <p:cNvPicPr/>
          <p:nvPr/>
        </p:nvPicPr>
        <p:blipFill>
          <a:blip r:embed="rId3"/>
          <a:stretch/>
        </p:blipFill>
        <p:spPr>
          <a:xfrm>
            <a:off x="2916360" y="260280"/>
            <a:ext cx="3346200" cy="46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5" descr=""/>
          <p:cNvPicPr/>
          <p:nvPr/>
        </p:nvPicPr>
        <p:blipFill>
          <a:blip r:embed="rId1"/>
          <a:stretch/>
        </p:blipFill>
        <p:spPr>
          <a:xfrm>
            <a:off x="4572000" y="214200"/>
            <a:ext cx="3929040" cy="3071880"/>
          </a:xfrm>
          <a:prstGeom prst="rect">
            <a:avLst/>
          </a:prstGeom>
          <a:ln w="0">
            <a:noFill/>
          </a:ln>
        </p:spPr>
      </p:pic>
      <p:sp>
        <p:nvSpPr>
          <p:cNvPr id="429" name="Text Box 4"/>
          <p:cNvSpPr/>
          <p:nvPr/>
        </p:nvSpPr>
        <p:spPr>
          <a:xfrm>
            <a:off x="324000" y="5373720"/>
            <a:ext cx="828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0" name="Text Box 10"/>
          <p:cNvSpPr/>
          <p:nvPr/>
        </p:nvSpPr>
        <p:spPr>
          <a:xfrm>
            <a:off x="500040" y="3714840"/>
            <a:ext cx="8358120" cy="329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663300"/>
                </a:solidFill>
                <a:latin typeface="Times New Roman"/>
                <a:ea typeface="Times New Roman"/>
              </a:rPr>
              <a:t>Но вскоре, Лев Николаевич утратил всякий интерес к жизни, ему надоело наслаждаться достигнутым благосостоянием. Он старается быть ближе к народу: занимается физическим трудом, пашет, шьет сапоги, переходит на вегетарианскую пищу. Он  отдаёт семье всё своё состояние, отказывается от прав литературной собственности. 10 ноября 1910 года Толстой тайно покинул Ясную Поляну, но по дороге сильно заболел. 20 ноября 1910 года на станции Астапово Рязано-Уральской железной дороги (ныне станция Лев Толстой) Лев Николаевич умер.</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431" name="Picture 6" descr="C:\Users\Пользователь_03\Desktop\0006-002-Lev-Nikolaevich-Tolstoj.png"/>
          <p:cNvPicPr/>
          <p:nvPr/>
        </p:nvPicPr>
        <p:blipFill>
          <a:blip r:embed="rId2"/>
          <a:stretch/>
        </p:blipFill>
        <p:spPr>
          <a:xfrm>
            <a:off x="928800" y="214200"/>
            <a:ext cx="2800080" cy="33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7:41:15Z</dcterms:created>
  <dc:creator>ALLA</dc:creator>
  <dc:description/>
  <dc:language>en-US</dc:language>
  <cp:lastModifiedBy>Пользователь_03</cp:lastModifiedBy>
  <dcterms:modified xsi:type="dcterms:W3CDTF">2015-09-26T11:22:09Z</dcterms:modified>
  <cp:revision>26</cp:revision>
  <dc:subject/>
  <dc:title>Слайд 1</dc:title>
</cp:coreProperties>
</file>