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D0C-C89B-495C-8DE5-2F148B7A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87B-2878-44DB-B64C-B7E0A5DB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9F3-B5B9-4E65-8AE7-E5A1F36A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EDD-658E-46E1-BC47-92B21689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F572-90D5-4BE5-8A83-22A1BD56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5378-1ABF-454A-9FBE-FA6B45BA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740E-C838-4AA4-A9D3-0B635746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F26A-B089-4E93-A593-5505DE5A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E0E1-5CC3-4555-89E6-57220D59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DE3C-70B4-47F7-B5DE-A416DEEF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0D10-342B-4074-B251-9583F28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070-5476-4E30-941E-20F1F6B3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8078-D45A-4004-B386-629B1CA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3DEF-8170-4B39-A23E-1D08B409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4AFC-77C9-44BA-9365-1B50C0E1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FC48-85CB-46E8-A50B-7BE9E231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6655-347C-4FFD-8C87-C31C186F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8B5-E429-4CD3-AA7E-3C8B6BAC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B71-11D6-4B38-BF7F-7454412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F88-BF5B-4081-857B-19D0277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CE7-604B-45D0-A69D-D3894C03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7FB-90ED-41F8-83EF-6F4B5E7A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ED0-3FDC-4BAA-9E90-499A921F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074-2274-4A5E-B80A-E0E8E24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C7F-CDEC-40F8-A38A-AE1DA629B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0279-AC3F-4E8F-94C0-B155DD0B89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5fb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тивные, включая действия саморегуля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вательные, включая общеучебные, логические и знаково-символ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муникатив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6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Личностные УУД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626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йствие смыслообра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йств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равственно-этического оцен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349360"/>
            <a:ext cx="7958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5f5fb"/>
                </a:solidFill>
                <a:latin typeface="Tahoma"/>
              </a:rPr>
              <a:t>Регулятивные 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141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еполаг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нир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гноз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ре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евая саморегуля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f5fb"/>
                </a:solidFill>
                <a:latin typeface="Tahoma"/>
              </a:rPr>
              <a:t>Познавательные УУД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щеучебные 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стоятельно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де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формулирование познавательной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иск и выде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обходимой информации; применение методов информационного поиска, в том числе с помощью компьютерных сред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уктурирование зн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бор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эффективных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пособов решения зада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зависимости от конкретных услов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пособов  и условий действия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троль и оц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цесса и результатов деятель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856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щеучебные У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мысловое чт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к осмысление цели чтения и выбор вида чтения в зависимости от цел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ни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екватно, осознанно и произволь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роить речевое высказы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устной и письменной реч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тановка и формулирование проб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амостоятельное создание алгоритмов деятельности при решении проблем творческого и поискового характер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огические У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 оснований, критериев для сравнения, оценки и классификации объект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тез как составление целого из частей, в том числе самостоятельно достраивая, восполняя недостающие компонент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едение под понятия, распознавание объект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овление причинно-следственных связей,  построение логической цепи рассуждений, доказательство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родо-видовых и ситуативно существенных призна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вижение гипотез и их доказатель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f5fb"/>
                </a:solidFill>
                <a:latin typeface="Tahoma"/>
              </a:rPr>
              <a:t>Коммуникативные У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885672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ланирование учебного сотрудничества с учителем и сверстниками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становка вопросов – инициативное сотрудничество в поиске и сборе информации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разрешение конфликтов - поиск и оценка альтернативных способов разрешения конфликта, принятие решения и его реализация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управление поведением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его и партнер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 – контроль, коррекция, оценка действий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их и партнер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умение с достаточно полнотой и точностью выражать свои мысли в соответствии с задачами и  условиями коммуникации; владение монологической и диалогической формами речи в соответствии с грамматическими и синтаксическими нормами родного язык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наково-символические УД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ково-символические универсальные действия обеспечивают конкретные способы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еобраз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учебного материала, представляют действия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оделир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выполняющие функции отображения учебного материала, выделения существенного, отрыва от конкретных ситуативных значений, формирования обобщенных зн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02:30Z</dcterms:created>
  <dc:creator>Molchanov</dc:creator>
  <dc:description/>
  <dc:language>en-US</dc:language>
  <cp:lastModifiedBy>Учитель</cp:lastModifiedBy>
  <dcterms:modified xsi:type="dcterms:W3CDTF">2011-06-15T08:43:12Z</dcterms:modified>
  <cp:revision>31</cp:revision>
  <dc:subject/>
  <dc:title>  ПРОГРАММА РАЗВИТИЯ УНИВЕРСАЛЬНЫХ УЧЕБНЫХ ДЕЙСТВИЙ  </dc:title>
</cp:coreProperties>
</file>