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621-491E-4CBA-ADF1-D40460E2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C78-031F-44DE-9B33-B3AC5C2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136-0C93-46F5-A4BE-20709A8A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334-A93D-464D-9A9A-45EC5B99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499E-3321-4274-894E-0337FEF3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F418-25D2-4332-8EC7-AF8C905A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1F40-8E51-41BE-A2B5-3BB59F3B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169-2761-4407-B0C5-0449A454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E889-B88E-4436-BB40-C319F686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F27F-F562-4E38-A089-94FABA4D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04F-932B-498B-95C4-106CEDB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6CF-E0F6-4A5F-ABED-7A8D541F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017-5B04-49AE-A418-E83B3BF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8441-140A-4825-924D-343BEA1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F51A-22CF-463D-8A45-D80B1B88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B47-A716-4252-956A-F4D321DD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80FE-5BE1-42CE-9362-81839858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0DD-7F54-4833-A239-5BEC8CE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50B-A68C-4F5A-9E3F-6E9D542E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303-EF93-4C80-9C32-AAC4E00B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BC4-866F-4248-B7CB-8225FC7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EA4-0946-43FC-A332-4D55D09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2FB-EE01-499A-89F7-EA9019C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912-B389-4969-AB51-15AC7A7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1399-A899-4CF1-BFCA-E20B2B634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F3B-3C4C-4456-B7CD-6FC268875B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5fb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тивные, включая действия саморегуля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вательные, включая общеучебные, логические и знаково-символ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муникатив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6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Личностные УУД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626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йствие смыслообра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йств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равственно-этического оцен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349360"/>
            <a:ext cx="7958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5f5fb"/>
                </a:solidFill>
                <a:latin typeface="Tahoma"/>
              </a:rPr>
              <a:t>Регулятив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141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еполаг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ир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гноз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р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евая саморегуля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f5fb"/>
                </a:solidFill>
                <a:latin typeface="Tahoma"/>
              </a:rPr>
              <a:t>Познавательные УУД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щеучебные 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стоятельно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формулирование познавательн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иск и вы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обходимой информации; применение методов информационного поиска, в том числе с помощью компьютерных сред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уктурирование зн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бор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эффективных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особов решения зада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зависимости от конкретных услов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пособов  и условий действия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троль и оц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цесса и результатов деятель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856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щеучебные У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мысловое чт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к осмысление цели чтения и выбор вида чтения в зависимости от цел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н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екватно, осознанно и произволь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роить речевое высказы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устной и письменной реч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тановка и формулирование проб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амостоятельное создание алгоритмов деятельности при решении проблем творческого и поискового характер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огические У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 оснований, критериев для сравнения, оценки и классификации объект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тез как составление целого из частей, в том числе самостоятельно достраивая, восполняя недостающие компонент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едение под понятия, распознавание объект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ление причинно-следственных связей,  построение логической цепи рассуждений, доказательств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родо-видовых и ситуативно существенных призна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вижение гипотез и их доказатель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f5fb"/>
                </a:solidFill>
                <a:latin typeface="Tahoma"/>
              </a:rPr>
              <a:t>Коммуникативные У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88567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ланирование учебного сотрудничества с учителем и сверстникам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становка вопросов – инициативное сотрудничество в поиске и сборе информаци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разрешение конфликтов - поиск и оценка альтернативных способов разрешения конфликта, принятие решения и его реализация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управление поведением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его и партнер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 – контроль, коррекция, оценка действий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их и партнер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умение с достаточно полнотой и точностью выражать свои мысли в соответствии с задачами и  условиями коммуникации; владение монологической и диалогической формами речи в соответствии с грамматическими и синтаксическими нормами родного язык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наково-символические УД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во-символические универсальные действия обеспечивают конкретные способы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еобраз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учебного материала, представляют действия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оделир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выполняющие функции отображения учебного материала, выделения существенного, отрыва от конкретных ситуативных значений, формирования обобщенных зн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02:30Z</dcterms:created>
  <dc:creator>Molchanov</dc:creator>
  <dc:description/>
  <dc:language>en-US</dc:language>
  <cp:lastModifiedBy>Учитель</cp:lastModifiedBy>
  <dcterms:modified xsi:type="dcterms:W3CDTF">2011-06-15T08:43:12Z</dcterms:modified>
  <cp:revision>31</cp:revision>
  <dc:subject/>
  <dc:title>  ПРОГРАММА РАЗВИТИЯ УНИВЕРСАЛЬНЫХ УЧЕБНЫХ ДЕЙСТВИЙ  </dc:title>
</cp:coreProperties>
</file>