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C4F-5DFD-4C8E-9FD6-481941DA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D73-25C2-46F9-B1F2-E9C8BBE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E22-9EF1-43CF-A1A6-B9B224A7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065-20DD-4CBD-A83C-65FB8786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AF06-9C15-4B0F-B167-4C4EDD8F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0A84-603D-481E-894F-0DF04B8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781F-05F3-4ADB-BAFF-7D23C3D9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6D9F-387D-441B-8F70-14D88CC4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CE93-64CF-4F61-A498-4A0892C7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3888-79B9-4C9E-B527-1472053D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3029-69B9-4BC5-A136-98430AF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71F-89A4-42A1-B471-2F1B5382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29FF-E1AF-4766-8E99-2FD8782D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9FC5-9CF7-4D02-A23B-2849CE4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FEF-5D0B-49A5-88F0-70EA414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BE63-1CAF-4B52-A41A-118BFFB4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BFC-86D9-4BF2-97F4-C7C45828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870-FE6F-4C47-95E9-5B22DD4D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FA6-94F0-48FE-8F1E-F5B2265F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127-6ECC-4161-8518-4F5A65C2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947-DA0C-4F8A-9C4E-F7BE4807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6FC-7BA5-4720-A770-C82C2508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B89-F260-48D4-A0D9-D29D6CA3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BC5-8A18-400C-AC1A-93129F45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059B-E8C6-4CD9-874A-2F25A80202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3322-307C-4F2A-8ABE-105E8A7EBC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5fb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тивные, включая действия саморегуля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вательные, включая общеучебные, логические и знаково-символ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муникатив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6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Личностные УУД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626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йствие смыслообра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йств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равственно-этического оцен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349360"/>
            <a:ext cx="7958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5f5fb"/>
                </a:solidFill>
                <a:latin typeface="Tahoma"/>
              </a:rPr>
              <a:t>Регулятивные 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141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еполаг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нир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гноз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р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евая саморегуля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f5fb"/>
                </a:solidFill>
                <a:latin typeface="Tahoma"/>
              </a:rPr>
              <a:t>Познавательные УУД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щеучебные 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стоятельно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де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формулирование познавательной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иск и выде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обходимой информации; применение методов информационного поиска, в том числе с помощью компьютерных сред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уктурирование зн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бор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эффективных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пособов решения зада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зависимости от конкретных услов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пособов  и условий действия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троль и оц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цесса и результатов деятель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856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щеучебные У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мысловое чт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к осмысление цели чтения и выбор вида чтения в зависимости от цел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ни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екватно, осознанно и произволь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роить речевое высказы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устной и письменной реч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тановка и формулирование проб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амостоятельное создание алгоритмов деятельности при решении проблем творческого и поискового характер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огические У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 оснований, критериев для сравнения, оценки и классификации объект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тез как составление целого из частей, в том числе самостоятельно достраивая, восполняя недостающие компонент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едение под понятия, распознавание объект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овление причинно-следственных связей,  построение логической цепи рассуждений, доказательство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родо-видовых и ситуативно существенных призна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вижение гипотез и их доказатель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f5fb"/>
                </a:solidFill>
                <a:latin typeface="Tahoma"/>
              </a:rPr>
              <a:t>Коммуникативные У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885672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ланирование учебного сотрудничества с учителем и сверстниками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становка вопросов – инициативное сотрудничество в поиске и сборе информации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разрешение конфликтов - поиск и оценка альтернативных способов разрешения конфликта, принятие решения и его реализация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управление поведением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его и партнер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 – контроль, коррекция, оценка действий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их и партнер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умение с достаточно полнотой и точностью выражать свои мысли в соответствии с задачами и  условиями коммуникации; владение монологической и диалогической формами речи в соответствии с грамматическими и синтаксическими нормами родного язык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наково-символические УД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ково-символические универсальные действия обеспечивают конкретные способы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еобраз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учебного материала, представляют действия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оделир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выполняющие функции отображения учебного материала, выделения существенного, отрыва от конкретных ситуативных значений, формирования обобщенных зн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02:30Z</dcterms:created>
  <dc:creator>Molchanov</dc:creator>
  <dc:description/>
  <dc:language>en-US</dc:language>
  <cp:lastModifiedBy>Учитель</cp:lastModifiedBy>
  <dcterms:modified xsi:type="dcterms:W3CDTF">2011-06-15T08:43:12Z</dcterms:modified>
  <cp:revision>31</cp:revision>
  <dc:subject/>
  <dc:title>  ПРОГРАММА РАЗВИТИЯ УНИВЕРСАЛЬНЫХ УЧЕБНЫХ ДЕЙСТВИЙ  </dc:title>
</cp:coreProperties>
</file>