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40.png" ContentType="image/png"/>
  <Override PartName="/ppt/media/image36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32.jpeg" ContentType="image/jpeg"/>
  <Override PartName="/ppt/media/image38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44.png" ContentType="image/pn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0E6-8FFF-4473-A715-B4EF020D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72B-53AA-499D-9557-BF8808A3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B2E17B-51CD-494A-A7F2-FD44C521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7DFEAB-9C5B-4ADB-8136-B4787217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809B35-5B34-4637-A2C1-DB0568D5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572CC4-24C7-4332-93AC-FA6FECF8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ACDEEC-9CA9-437B-8B38-47344379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0807F6-0BCE-4BDC-B7BE-74C1B0CE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71BAC1-768F-49BD-B4ED-2C8A33B3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A3B0A0-7332-4D45-92DA-FF30F0BC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2285D2-5E41-4C5D-9BBE-89021B88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B06156-5682-46B5-8AAD-DE2EF8EE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8A8-8DA6-429D-A2B0-2C56F60F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9A19F1-E06C-4051-91BC-40660E3B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3D6875-67BE-40D0-8A19-78C69865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585C61-336B-4B9D-B273-6DADE888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B9B0B4-367F-429C-8151-B3CEE12A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672CA7-E955-40C2-ACE9-6961C571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16B0F7-5D70-4255-9368-84194BB5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4AA08B-4259-4F83-9B93-FD7429DD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B5A855-26CE-421E-BA04-A3D7D09D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5763E9-21AC-4617-9A0E-46CC9F91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A799B9-B2E3-489F-B8AF-64599B90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D45-4F83-4315-9B31-ED3BD64B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32545E-E16A-4DC8-9F35-36FD23E6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67B9B-4D81-4DB6-B58D-3FE2863DDF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A174A-CA44-433D-A6D3-5ACD2F71A1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30D02-34E7-4355-9D48-C614F27CEE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BF614-CFAB-4BAA-8B51-88EA4B8DE3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2191F-5A9F-463B-8BBC-56699CFC56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3AA20-DFD5-46E8-86B5-185C92CEB7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72A38-3013-4F7C-8DC4-74F72AFA4F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C0B-18CC-43DE-BBD2-379A1C1D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899AE-0D16-444A-8208-9431DC44AF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2D349-8424-416D-8011-808FCEDF04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08368-B03E-45EA-831B-F344AAC694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A29DD-1E7B-48E9-AA2C-0EF618DDBD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CFED8-2AE8-407A-B803-344CD41F86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E5D42-8E7C-4567-AB9C-899CE82A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15ECC-1CF4-4BD2-BE2C-6C69F45F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7A708-3870-4B26-A595-C9F07737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F1B148-B9D4-4C5E-AE41-39D6FA00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3D8B9-40FD-4D5B-9FC3-78CB6A25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CC81-0001-4733-BCB8-2A9039D7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90EDF-86C1-4FEC-99F3-21C853D9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EBE23D-2B9D-4CB7-95C8-B6081CCE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61741-7A81-4FE2-8069-3C76A0A5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8973C7-6661-402A-AC7E-E5A0884C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28918-578A-4500-ADDE-9D035422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AADB5-6EE3-454C-B580-4CACE828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14AF9-DBEF-4653-B4E4-AE3A228E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568A93-1B69-44D4-9C05-4045387E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D42DF-A430-42CC-BEE9-A359F2AD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B692DE-528D-490C-9F07-F169DFC6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9336-CBC3-4C30-81AE-E854CCC9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41A12C-9676-455F-A577-C83D1E15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6C0AE9-1E5A-4AAB-A9FC-C7CDAF7D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F43134-E077-4F37-823D-56FF5FA7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94934C-4681-48FB-865A-29EA9CDC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CCE256-DDE0-418F-A6A2-A4C12C07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F5D42-9CDC-42AA-A146-6B255945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1377FE-54D4-4DE0-A300-247F82D0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96E5FC-BEA0-468C-88AA-16C485B9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B2B11D-8767-47D0-8E62-C54DC014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987015-7196-4F43-8B4C-F9BAE55D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CB8-3D8D-487C-819F-77B88A33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D4CF4C-D306-4274-A02F-380FDB46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7F8B34-338D-48BD-8747-FA652B5F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39FF7-914B-430C-842D-96D8264A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4B1AED-F150-4FAB-A99D-A0E1E7F5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C9828B-2303-49F9-8AFB-CB9E3EC7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4521A7-AB19-4FAE-B760-86C88234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35004A-2730-42ED-BFA4-9E7AAF51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CA1FD5-53FB-4F4C-8268-162F7497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AE0BF4-EECF-470A-9454-CAA34F7A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7D233-4C20-49C4-B277-E147BA25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E7C-4AA2-45D8-A969-84A1E2BE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FE61F-732B-44CB-913D-4F9C68C5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A8B85E-D350-4F38-8006-612B76E5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0C46C0-EE61-49B2-8998-CD5894B6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E03EA9-538C-4831-AAC2-D78120B2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61B83A-9ED5-454B-9793-65241411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A40B6-833B-449E-96F0-8B44C492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B69B0B-AE49-4162-876B-4EC85A46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A3C1D5-1D27-4E89-9C06-E46472E9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6DF96E-28CC-4817-903B-2F8B2D69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8FAD9-6E8B-43C6-85DD-354DE306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ECE-1271-4672-8C94-9E80836F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07B4D2-F9FD-4101-9294-D89D3C23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7A60FD-9D8F-41DB-BDEA-EFF4EEF8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9CACB7-79BD-43FF-A156-C56D720F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7DDE0B-9A51-4B50-ABCD-2BC5ED9E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C59245-2EBD-4A36-807F-300B769D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0B159F-CD89-4670-86CA-8C01B700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FBF3CF-0144-43EC-BF61-47E67430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3242C3-AD87-42C6-8F9A-3A0CFBDE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FF4263-85CE-4539-A6D7-7BB895D0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464B68-5F8B-4FE3-8AAC-B9403DEC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11DF-DAD1-4FF4-B530-BC1908F6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C60DF2-26A3-4203-9E36-A0D68F67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50966C-A33F-4A0A-AE10-55AD1241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D9B973-9E8B-40CA-8A39-2335EEC7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3BCF67-C611-46FE-B792-B986EF71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C37ECF-9C58-448E-B6AD-9CF65C12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76172B-03D2-4E10-B1DC-46AD4725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010E55-D4AE-4322-B480-38ED9778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12CBF1-2071-4440-A608-D2346B31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AAA3F1-0126-44E4-981C-76E1FA04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06E4E8-2EDE-4136-8FF0-F221CB5D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350-CA08-4365-B0BD-AE0A614C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1365D3-CE13-406D-A63D-9E6823E1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7C3D44-A2CD-433D-B628-699F1383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2115E6-26EA-4CBE-A604-90552C99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7819F1-3E71-4968-BFC6-DFC8B364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A8B58E-7FAA-4A43-B94A-4E50531D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948B1C-86ED-4EFE-B1CE-EB44637C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20135A-8720-4577-B2E3-7AA34C9D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C68F22-4262-4481-BB6B-0248793D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8439DC-F3ED-4F68-8240-30B30BA4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C89BD1-04AD-4442-A00A-AC4B83AE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89C3-8567-47DE-BA1E-8ED244D48C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C:\Documents and Settings\Admin\Рабочий стол\для шаблонов\прозр2.gif"/>
          <p:cNvPicPr/>
          <p:nvPr/>
        </p:nvPicPr>
        <p:blipFill>
          <a:blip r:embed="rId5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0FF8-6E70-450F-97DE-EC81B8BC14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Admin\Рабочий стол\для шаблонов\ввсс.gif"/>
          <p:cNvPicPr/>
          <p:nvPr/>
        </p:nvPicPr>
        <p:blipFill>
          <a:blip r:embed="rId5"/>
          <a:stretch/>
        </p:blipFill>
        <p:spPr>
          <a:xfrm>
            <a:off x="857160" y="1357200"/>
            <a:ext cx="7400880" cy="3892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cuments and Settings\Admin\Рабочий стол\угадай\Зелёный.gif"/>
          <p:cNvPicPr/>
          <p:nvPr/>
        </p:nvPicPr>
        <p:blipFill>
          <a:blip r:embed="rId6"/>
          <a:stretch/>
        </p:blipFill>
        <p:spPr>
          <a:xfrm>
            <a:off x="357120" y="6630840"/>
            <a:ext cx="1067040" cy="22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Admin\Рабочий стол\для шаблонов\Копия прозр.gif"/>
          <p:cNvPicPr/>
          <p:nvPr/>
        </p:nvPicPr>
        <p:blipFill>
          <a:blip r:embed="rId9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Admin\Рабочий стол\для шаблонов\прозр2.gif"/>
          <p:cNvPicPr/>
          <p:nvPr/>
        </p:nvPicPr>
        <p:blipFill>
          <a:blip r:embed="rId10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9141-3CB7-4221-ADF2-16BEF42C61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Documents and Settings\Admin\Рабочий стол\для шаблонов\прозр2.gif"/>
          <p:cNvPicPr/>
          <p:nvPr/>
        </p:nvPicPr>
        <p:blipFill>
          <a:blip r:embed="rId7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C556-776D-4621-83A4-12157AD1E2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9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EF54-BBEA-4AE8-A4DB-56E9BC83E6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2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3876-5FF9-4B92-8ECE-EA3FE03CD7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5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7607-7C68-4461-8120-F22BB1E08C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C8EE-B0FC-43D1-BF0E-3A96B251E4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BE33-F34F-4C62-B5F7-F618C4A163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4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9892-06B9-466D-B416-AA94874827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ed=1&amp;rpt=simage&amp;text=&#1082;&#1088;&#1072;&#1089;&#1080;&#1074;&#1099;&#1081;%20&#1083;&#1077;&#1089;&amp;img_url=stat11.privet.ru%2Flr%2F082aede71f8031fae5604dc87f4af2fa&amp;p=11" TargetMode="External"/><Relationship Id="rId2" Type="http://schemas.openxmlformats.org/officeDocument/2006/relationships/hyperlink" Target="http://images.yandex.ru/yandsearch?nl=1&amp;rpt=simage&amp;text=&#1089;&#1084;&#1077;&#1096;&#1072;&#1085;&#1085;&#1099;&#1081;%20&#1083;&#1077;&#1089;%20&#1082;&#1072;&#1088;&#1090;&#1080;&#1085;&#1082;&#1080;&amp;img_url=img" TargetMode="External"/><Relationship Id="rId3" Type="http://schemas.openxmlformats.org/officeDocument/2006/relationships/hyperlink" Target="http://images.yandex.ru/yandsearch?ed=1&amp;rpt=simage&amp;text=&#1103;&#1088;&#1091;&#1089;&#1099;%20&#1083;&#1077;&#1089;&#1072;&amp;img_url=shopedu.ru%2Fuploaded_files%2Fshop_images%2F936.jpg&amp;p=0" TargetMode="External"/><Relationship Id="rId4" Type="http://schemas.openxmlformats.org/officeDocument/2006/relationships/hyperlink" Target="http://www.netschools.ru/sch758/dyn/yrs1.htm" TargetMode="External"/><Relationship Id="rId5" Type="http://schemas.openxmlformats.org/officeDocument/2006/relationships/hyperlink" Target="http://foto.rambler.ru/users/a_volodin/albums/27445264/photo/48e0d63b-da54-4e9d-0fd0-fc85d58561c1/" TargetMode="External"/><Relationship Id="rId6" Type="http://schemas.openxmlformats.org/officeDocument/2006/relationships/hyperlink" Target="http://foto.rambler.ru/users/a_volodin/albums/27445264/photo/48e0d63b-da54-4e9d-0fd0-fc85d58561c1/" TargetMode="External"/><Relationship Id="rId7" Type="http://schemas.openxmlformats.org/officeDocument/2006/relationships/hyperlink" Target="http://img0.liveinternet.ru/images/attach/c/1/56/745/56745148_1269165960_1267044160_hedgehog03.jpg" TargetMode="External"/><Relationship Id="rId8" Type="http://schemas.openxmlformats.org/officeDocument/2006/relationships/hyperlink" Target="http://stat17.privet.ru/lr/0920ed6b1f0e107b8864bb7036d17c17" TargetMode="External"/><Relationship Id="rId9" Type="http://schemas.openxmlformats.org/officeDocument/2006/relationships/hyperlink" Target="http://images.yandex.ru/yandsearch?nl=1&amp;ed=1&amp;rpt=simage&amp;text=&#1083;&#1086;&#1089;&#1100;%20&#1092;&#1086;&#1090;&#1086;&amp;img_url=www.proza.ru%2F" TargetMode="External"/><Relationship Id="rId10" Type="http://schemas.openxmlformats.org/officeDocument/2006/relationships/hyperlink" Target="http://snegiri.tomsk.ru/upload/resume/34/photo543638463.jpg" TargetMode="External"/><Relationship Id="rId11" Type="http://schemas.openxmlformats.org/officeDocument/2006/relationships/hyperlink" Target="http://images.yandex.ru/yandsearch?nl=1&amp;ed=1&amp;rpt=simage&amp;text=&#1089;&#1086;&#1089;&#1085;&#1072;%20&#1089;&#1080;&#1073;&#1080;&#1088;&#1089;&#1082;&#1072;&#1103;&amp;img_url=img-fotki.yandex.ru%2Fget%2F27%2Faqualux-s.0%2F0_12437_723716b1_XL&amp;p=8" TargetMode="External"/><Relationship Id="rId12" Type="http://schemas.openxmlformats.org/officeDocument/2006/relationships/hyperlink" Target="http://images.yandex.ru/yandsearch?ed=1&amp;rpt=simage&amp;img_url=fanparty.ru%2Fimages%2Ffanclubs%2Fvolf%2Fnews%2F19265%2F18997_news_volf.jpg%3F1277333398&amp;text=&#1074;&#1086;&#1083;&#1082;&amp;p=7" TargetMode="External"/><Relationship Id="rId1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nl=1&amp;ed=1&amp;rpt=simage&amp;text=&#1087;&#1072;&#1087;&#1086;&#1088;&#1086;&#1090;&#1085;%D0%25B" TargetMode="External"/><Relationship Id="rId2" Type="http://schemas.openxmlformats.org/officeDocument/2006/relationships/hyperlink" Target="http://images.yandex.ru/yandsearch?ed=1&amp;rpt=simage&amp;text=&#1087;&#1080;&#1078;&#1084;&#1072;&amp;img_url=molbiol.ru%2Fforums%2Fuploads%2Fa001%2Fb009%2Fpost-12150-1171828352.jpg&amp;p=14" TargetMode="External"/><Relationship Id="rId3" Type="http://schemas.openxmlformats.org/officeDocument/2006/relationships/hyperlink" Target="http://www.altaymix.ru/el-obyknovennaya.html" TargetMode="External"/><Relationship Id="rId4" Type="http://schemas.openxmlformats.org/officeDocument/2006/relationships/hyperlink" Target="http://www.quotat.info/wp-content/uploads/2010/08/44-&#1055;&#1088;&#1080;&#1096;&#1074;&#1080;&#1085;.jpg" TargetMode="External"/><Relationship Id="rId5" Type="http://schemas.openxmlformats.org/officeDocument/2006/relationships/hyperlink" Target="http://tbrp79.f5.ru/files/images/compiled/00c/00c8948dd02327efbcae11dcb662eff8.jpg" TargetMode="External"/><Relationship Id="rId6" Type="http://schemas.openxmlformats.org/officeDocument/2006/relationships/hyperlink" Target="http://images.yandex.ru/yandsearch?nl=1&amp;ed=1&amp;rpt=simage&amp;img_url=milaiw.narod.ru%2Fgriby%2Fimage%2Fbel_04.jpg&amp;text=&#1075;&#1088;&#1080;" TargetMode="External"/><Relationship Id="rId7" Type="http://schemas.openxmlformats.org/officeDocument/2006/relationships/hyperlink" Target="http://fotki.yandex.ru/users/tvs-svet/view/88261/?page=1" TargetMode="External"/><Relationship Id="rId8" Type="http://schemas.openxmlformats.org/officeDocument/2006/relationships/hyperlink" Target="http://gamma-aspirin.narod.ru/Grib_Spravka/g163.html" TargetMode="External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Прямоугольник 4"/>
          <p:cNvSpPr/>
          <p:nvPr/>
        </p:nvSpPr>
        <p:spPr>
          <a:xfrm>
            <a:off x="3000240" y="5786280"/>
            <a:ext cx="521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WordArt 6"/>
          <p:cNvSpPr txBox="1"/>
          <p:nvPr/>
        </p:nvSpPr>
        <p:spPr>
          <a:xfrm>
            <a:off x="2481120" y="3006720"/>
            <a:ext cx="41817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изнь лес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1840680" y="408240"/>
            <a:ext cx="242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ла уче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Лицей № 16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онов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D:\картинки\Аня\2677507.jpg"/>
          <p:cNvPicPr/>
          <p:nvPr/>
        </p:nvPicPr>
        <p:blipFill>
          <a:blip r:embed="rId1"/>
          <a:stretch/>
        </p:blipFill>
        <p:spPr>
          <a:xfrm>
            <a:off x="5003640" y="1484280"/>
            <a:ext cx="3919680" cy="2938320"/>
          </a:xfrm>
          <a:prstGeom prst="rect">
            <a:avLst/>
          </a:prstGeom>
          <a:ln w="0">
            <a:noFill/>
          </a:ln>
        </p:spPr>
      </p:pic>
      <p:sp>
        <p:nvSpPr>
          <p:cNvPr id="521" name="WordArt 6"/>
          <p:cNvSpPr txBox="1"/>
          <p:nvPr/>
        </p:nvSpPr>
        <p:spPr>
          <a:xfrm>
            <a:off x="1763640" y="260280"/>
            <a:ext cx="56880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сные почвы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539640" y="1258920"/>
            <a:ext cx="431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зных лесах почвы 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инаковы. Например, в смешанных лесах и тайге – подзолистые почв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8"/>
          <p:cNvSpPr/>
          <p:nvPr/>
        </p:nvSpPr>
        <p:spPr>
          <a:xfrm>
            <a:off x="4859280" y="458136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лиственных ле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остранены серые лес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0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3911760" cy="29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WordArt 6"/>
          <p:cNvSpPr txBox="1"/>
          <p:nvPr/>
        </p:nvSpPr>
        <p:spPr>
          <a:xfrm>
            <a:off x="1332000" y="189000"/>
            <a:ext cx="62643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начение лес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6" name="Line 18"/>
          <p:cNvSpPr/>
          <p:nvPr/>
        </p:nvSpPr>
        <p:spPr>
          <a:xfrm>
            <a:off x="608472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7" descr=""/>
          <p:cNvPicPr/>
          <p:nvPr/>
        </p:nvPicPr>
        <p:blipFill>
          <a:blip r:embed="rId1"/>
          <a:stretch/>
        </p:blipFill>
        <p:spPr>
          <a:xfrm>
            <a:off x="0" y="1125360"/>
            <a:ext cx="2879640" cy="24339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8" descr=""/>
          <p:cNvPicPr/>
          <p:nvPr/>
        </p:nvPicPr>
        <p:blipFill>
          <a:blip r:embed="rId2"/>
          <a:stretch/>
        </p:blipFill>
        <p:spPr>
          <a:xfrm>
            <a:off x="2916360" y="1197000"/>
            <a:ext cx="3047760" cy="23763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9" descr=""/>
          <p:cNvPicPr/>
          <p:nvPr/>
        </p:nvPicPr>
        <p:blipFill>
          <a:blip r:embed="rId3"/>
          <a:stretch/>
        </p:blipFill>
        <p:spPr>
          <a:xfrm>
            <a:off x="6084720" y="1125360"/>
            <a:ext cx="2773440" cy="2519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0" descr=""/>
          <p:cNvPicPr/>
          <p:nvPr/>
        </p:nvPicPr>
        <p:blipFill>
          <a:blip r:embed="rId4"/>
          <a:stretch/>
        </p:blipFill>
        <p:spPr>
          <a:xfrm>
            <a:off x="468360" y="3716280"/>
            <a:ext cx="4319640" cy="29829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3" descr=""/>
          <p:cNvPicPr/>
          <p:nvPr/>
        </p:nvPicPr>
        <p:blipFill>
          <a:blip r:embed="rId5"/>
          <a:stretch/>
        </p:blipFill>
        <p:spPr>
          <a:xfrm>
            <a:off x="5003640" y="3860640"/>
            <a:ext cx="357372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313080" cy="2568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3241440" cy="27907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"/>
          <p:cNvPicPr/>
          <p:nvPr/>
        </p:nvPicPr>
        <p:blipFill>
          <a:blip r:embed="rId3"/>
          <a:stretch/>
        </p:blipFill>
        <p:spPr>
          <a:xfrm>
            <a:off x="3635280" y="1916280"/>
            <a:ext cx="2505240" cy="38098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" descr=""/>
          <p:cNvPicPr/>
          <p:nvPr/>
        </p:nvPicPr>
        <p:blipFill>
          <a:blip r:embed="rId4"/>
          <a:stretch/>
        </p:blipFill>
        <p:spPr>
          <a:xfrm>
            <a:off x="6227640" y="189000"/>
            <a:ext cx="2700360" cy="2933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8" descr=""/>
          <p:cNvPicPr/>
          <p:nvPr/>
        </p:nvPicPr>
        <p:blipFill>
          <a:blip r:embed="rId5"/>
          <a:stretch/>
        </p:blipFill>
        <p:spPr>
          <a:xfrm>
            <a:off x="6227640" y="3429000"/>
            <a:ext cx="273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684360" y="1314360"/>
            <a:ext cx="7848360" cy="5543640"/>
          </a:xfrm>
          <a:prstGeom prst="rect">
            <a:avLst/>
          </a:prstGeom>
          <a:ln w="0">
            <a:noFill/>
          </a:ln>
        </p:spPr>
      </p:pic>
      <p:sp>
        <p:nvSpPr>
          <p:cNvPr id="538" name="WordArt 5"/>
          <p:cNvSpPr txBox="1"/>
          <p:nvPr/>
        </p:nvSpPr>
        <p:spPr>
          <a:xfrm>
            <a:off x="1042920" y="333360"/>
            <a:ext cx="76327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регите лес от пожара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тернет - источ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539640" y="1413000"/>
            <a:ext cx="7775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блон презентации «Берёзка» автор: Федотова Виктория Александровна, учитель начальных классов МОУ СОШ с. Лохово Черемховского р-на Иркутской обл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539640" y="1916280"/>
            <a:ext cx="806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images.yandex.ru/yandsearch?ed=1&amp;rpt=simage&amp;text=%D0%BA%D1%80%D0%B0%D1%81%D0%B8%D0%B2%D1%8B%D0%B9%20%D0%BB%D0%B5%D1%81&amp;img_url=stat11.privet.ru%2Flr%2F082aede71f8031fae5604dc87f4af2fa&amp;p=1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л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611280" y="242100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images.yandex.ru/yandsearch?nl=1&amp;rpt=simage&amp;text=%D1%81%D0%BC%D0%B5%D1%88%D0%B0%D0%BD%D0%BD%D1%8B%D0%B9%20%D0%BB%D0%B5%D1%81%20%D0%BA%D0%B0%D1%80%D1%82%D0%B8%D0%BD%D0%BA%D0%B8&amp;img_url=im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мешанный л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539640" y="3068640"/>
            <a:ext cx="78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images.yandex.ru/yandsearch?ed=1&amp;rpt=simage&amp;text=%D1%8F%D1%80%D1%83%D1%81%D1%8B%20%D0%BB%D0%B5%D1%81%D0%B0&amp;img_url=shopedu.ru%2Fuploaded_files%2Fshop_images%2F936.jpg&amp;p=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русы л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539640" y="3718080"/>
            <a:ext cx="54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netschools.ru/sch758/dyn/yrs1.ht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логические ниши л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1"/>
          <p:cNvSpPr/>
          <p:nvPr/>
        </p:nvSpPr>
        <p:spPr>
          <a:xfrm>
            <a:off x="519480" y="4292640"/>
            <a:ext cx="81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foto.rambler.ru/users/a_volodin/albums/27445264/photo/48e0d63b-da54-4e9d-0fd0-fc85d58561c1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яц-беля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2"/>
          <p:cNvSpPr/>
          <p:nvPr/>
        </p:nvSpPr>
        <p:spPr>
          <a:xfrm>
            <a:off x="504000" y="4653000"/>
            <a:ext cx="76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img0.liveinternet.ru/images/attach/c/1/56/745/56745148_1269165960_1267044160_hedgehog03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ё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3"/>
          <p:cNvSpPr/>
          <p:nvPr/>
        </p:nvSpPr>
        <p:spPr>
          <a:xfrm>
            <a:off x="519480" y="4941720"/>
            <a:ext cx="5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stat17.privet.ru/lr/0920ed6b1f0e107b8864bb7036d17c1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урый медве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4"/>
          <p:cNvSpPr/>
          <p:nvPr/>
        </p:nvSpPr>
        <p:spPr>
          <a:xfrm>
            <a:off x="539640" y="5157720"/>
            <a:ext cx="806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images.yandex.ru/yandsearch?nl=1&amp;ed=1&amp;rpt=simage&amp;text=%D0%BB%D0%BE%D1%81%D1%8C%20%D1%84%D0%BE%D1%82%D0%BE&amp;img_url=www.proza.ru%2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ло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5"/>
          <p:cNvSpPr/>
          <p:nvPr/>
        </p:nvSpPr>
        <p:spPr>
          <a:xfrm>
            <a:off x="524160" y="5662440"/>
            <a:ext cx="50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snegiri.tomsk.ru/upload/resume/34/photo543638463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луб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6"/>
          <p:cNvSpPr/>
          <p:nvPr/>
        </p:nvSpPr>
        <p:spPr>
          <a:xfrm>
            <a:off x="611280" y="5877000"/>
            <a:ext cx="828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images.yandex.ru/yandsearch?nl=1&amp;ed=1&amp;rpt=simage&amp;text=%D1%81%D0%BE%D1%81%D0%BD%D0%B0%20%D1%81%D0%B8%D0%B1%D0%B8%D1%80%D1%81%D0%BA%D0%B0%D1%8F&amp;img_url=img-fotki.yandex.ru%2Fget%2F27%2Faqualux-s.0%2F0_12437_723716b1_XL&amp;p=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ибирская сос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7"/>
          <p:cNvSpPr/>
          <p:nvPr/>
        </p:nvSpPr>
        <p:spPr>
          <a:xfrm>
            <a:off x="611280" y="3933720"/>
            <a:ext cx="806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images.yandex.ru/yandsearch?ed=1&amp;rpt=simage&amp;img_url=fanparty.ru%2Fimages%2Ffanclubs%2Fvolf%2Fnews%2F19265%2F18997_news_volf.jpg%3F1277333398&amp;text=%D0%B2%D0%BE%D0%BB%D0%BA&amp;p=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ол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4"/>
          <p:cNvSpPr/>
          <p:nvPr/>
        </p:nvSpPr>
        <p:spPr>
          <a:xfrm>
            <a:off x="468360" y="1557360"/>
            <a:ext cx="777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images.yandex.ru/yandsearch?nl=1&amp;ed=1&amp;rpt=simage&amp;text=%D0%BF%D0%B0%D0%BF%D0%BE%D1%80%D0%BE%D1%82%D0%BD%D0%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апорот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539640" y="1916280"/>
            <a:ext cx="795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images.yandex.ru/yandsearch?ed=1&amp;rpt=simage&amp;text=%D0%BF%D0%B8%D0%B6%D0%BC%D0%B0&amp;img_url=molbiol.ru%2Fforums%2Fuploads%2Fa001%2Fb009%2Fpost-12150-1171828352.jpg&amp;p=1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иж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468360" y="2276640"/>
            <a:ext cx="47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altaymix.ru/el-obyknovennaya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ель обыкнове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468360" y="2708280"/>
            <a:ext cx="63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quotat.info/wp-content/uploads/2010/08/44-Пришвин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то Пришвина М.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8"/>
          <p:cNvSpPr/>
          <p:nvPr/>
        </p:nvSpPr>
        <p:spPr>
          <a:xfrm>
            <a:off x="443520" y="2492280"/>
            <a:ext cx="652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tbrp79.f5.ru/files/images/compiled/00c/00c8948dd02327efbcae11dcb662eff8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лак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9"/>
          <p:cNvSpPr/>
          <p:nvPr/>
        </p:nvSpPr>
        <p:spPr>
          <a:xfrm>
            <a:off x="539640" y="2924280"/>
            <a:ext cx="820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images.yandex.ru/yandsearch?nl=1&amp;ed=1&amp;rpt=simage&amp;img_url=milaiw.narod.ru%2Fgriby%2Fimage%2Fbel_04.jpg&amp;text=%D0%B3%D1%80%D0%B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елый гри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528840" y="3357720"/>
            <a:ext cx="44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fotki.yandex.ru/users/tvs-svet/view/88261/?page=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пя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529200" y="3573360"/>
            <a:ext cx="45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gamma-aspirin.narod.ru/Grib_Spravka/g163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мор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468360" y="3789360"/>
            <a:ext cx="820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images.yandex.ru/yandsearch?nl=1&amp;ed=1&amp;rpt=simage&amp;text=%D0%BF%D0%BE%D0%B4%D0%BE%D1%81%D0%B8%D0%BD%D0%BE%D0%B2%D0%B подосинов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539640" y="422100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mages.yandex.ru/yandsearch?ed=1&amp;rpt=simage&amp;text=%D0%B7%D0%B0%D0%B3%D0%BE%D1%82%D0%BE%D0%B2%D0%BA%D0%B0%20 заготовка древес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539640" y="465300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mages.yandex.ru/yandsearch?ed=1&amp;rpt=simage&amp;text=%D1%81%D1%82%D1%80%D0%BE%D0%B8%D1%82%D0%B5%D0%B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загородных до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68000" y="1268280"/>
            <a:ext cx="843588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обширная территория, покрытая деревьями и  кустарни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6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4391280" cy="3600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"/>
          <p:cNvPicPr/>
          <p:nvPr/>
        </p:nvPicPr>
        <p:blipFill>
          <a:blip r:embed="rId2"/>
          <a:stretch/>
        </p:blipFill>
        <p:spPr>
          <a:xfrm>
            <a:off x="4788000" y="2997360"/>
            <a:ext cx="3995640" cy="3562200"/>
          </a:xfrm>
          <a:prstGeom prst="rect">
            <a:avLst/>
          </a:prstGeom>
          <a:ln w="0">
            <a:noFill/>
          </a:ln>
        </p:spPr>
      </p:pic>
      <p:sp>
        <p:nvSpPr>
          <p:cNvPr id="472" name="WordArt 8"/>
          <p:cNvSpPr txBox="1"/>
          <p:nvPr/>
        </p:nvSpPr>
        <p:spPr>
          <a:xfrm>
            <a:off x="2340000" y="260280"/>
            <a:ext cx="381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с -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WordArt 4"/>
          <p:cNvSpPr txBox="1"/>
          <p:nvPr/>
        </p:nvSpPr>
        <p:spPr>
          <a:xfrm>
            <a:off x="1258920" y="404640"/>
            <a:ext cx="655308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сные этажи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686040" cy="428616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6"/>
          <p:cNvSpPr/>
          <p:nvPr/>
        </p:nvSpPr>
        <p:spPr>
          <a:xfrm>
            <a:off x="1549080" y="609300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М. Приш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4211640" y="1685880"/>
            <a:ext cx="432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  птиц и  зверьков в  лесу есть свои этажи:  мышки живут в корнях - в самом  низу; разные птички,  вроде соловья,  вьют  свои  гнездышки прямо на земле; дрозды - еще повыше, на кустарниках; дупляные птицы - дятел, синички, совы – еще повыше;   на  разной высоте по  стволу дерева и  на  самом верху селятся хищники: ястреба и орлы. У них, у зверушек и птиц,  с этажами не  как  у  нас  в  небоскребах:  у  нас  всегда можно с  кем-нибудь перемениться, у них каждая порода живет непременно в своем эта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108000" y="1285560"/>
            <a:ext cx="885672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растения, образующие лес, располагаются в лесу ступенями, или, как их называют в науке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русам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которые леса имеют четыре, пять и даже больше ярус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й яру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это главный древесный полог. Его высота доходит до тридцати и даже более мет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ой яру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это подро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т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подлес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тверт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травяной покр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ят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мхи и лишайн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WordArt 4"/>
          <p:cNvSpPr txBox="1"/>
          <p:nvPr/>
        </p:nvSpPr>
        <p:spPr>
          <a:xfrm>
            <a:off x="1908000" y="333360"/>
            <a:ext cx="5472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русы лес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D:\картинки\Аня\936.jpg"/>
          <p:cNvPicPr/>
          <p:nvPr/>
        </p:nvPicPr>
        <p:blipFill>
          <a:blip r:embed="rId1"/>
          <a:stretch/>
        </p:blipFill>
        <p:spPr>
          <a:xfrm>
            <a:off x="250920" y="981000"/>
            <a:ext cx="8618400" cy="5614920"/>
          </a:xfrm>
          <a:prstGeom prst="rect">
            <a:avLst/>
          </a:prstGeom>
          <a:ln w="0">
            <a:noFill/>
          </a:ln>
        </p:spPr>
      </p:pic>
      <p:pic>
        <p:nvPicPr>
          <p:cNvPr id="480" name="Заголовок 4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199720" cy="433440"/>
          </a:xfrm>
          <a:prstGeom prst="rect">
            <a:avLst/>
          </a:prstGeom>
          <a:ln w="0">
            <a:noFill/>
          </a:ln>
        </p:spPr>
      </p:pic>
      <p:sp>
        <p:nvSpPr>
          <p:cNvPr id="481" name="WordArt 4"/>
          <p:cNvSpPr txBox="1"/>
          <p:nvPr/>
        </p:nvSpPr>
        <p:spPr>
          <a:xfrm>
            <a:off x="1908000" y="189000"/>
            <a:ext cx="54007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русы лес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4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671640" cy="4968720"/>
          </a:xfrm>
          <a:prstGeom prst="rect">
            <a:avLst/>
          </a:prstGeom>
          <a:ln w="0">
            <a:noFill/>
          </a:ln>
        </p:spPr>
      </p:pic>
      <p:sp>
        <p:nvSpPr>
          <p:cNvPr id="483" name="WordArt 5"/>
          <p:cNvSpPr txBox="1"/>
          <p:nvPr/>
        </p:nvSpPr>
        <p:spPr>
          <a:xfrm>
            <a:off x="1042920" y="333360"/>
            <a:ext cx="7274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ологические ниши лес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84" name="Picture 6" descr=""/>
          <p:cNvPicPr/>
          <p:nvPr/>
        </p:nvPicPr>
        <p:blipFill>
          <a:blip r:embed="rId2"/>
          <a:stretch/>
        </p:blipFill>
        <p:spPr>
          <a:xfrm>
            <a:off x="4427640" y="2205000"/>
            <a:ext cx="4190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Прямоугольник 5"/>
          <p:cNvSpPr/>
          <p:nvPr/>
        </p:nvSpPr>
        <p:spPr>
          <a:xfrm>
            <a:off x="6536520" y="37162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ж обыкно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7"/>
          <p:cNvSpPr/>
          <p:nvPr/>
        </p:nvSpPr>
        <p:spPr>
          <a:xfrm rot="20829000">
            <a:off x="4015440" y="38602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яц-бел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9"/>
          <p:cNvSpPr/>
          <p:nvPr/>
        </p:nvSpPr>
        <p:spPr>
          <a:xfrm>
            <a:off x="1376280" y="40053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ол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5" descr="D:\картинки\Аня\los.jpg"/>
          <p:cNvPicPr/>
          <p:nvPr/>
        </p:nvPicPr>
        <p:blipFill>
          <a:blip r:embed="rId1"/>
          <a:stretch/>
        </p:blipFill>
        <p:spPr>
          <a:xfrm>
            <a:off x="5651640" y="4365720"/>
            <a:ext cx="3174840" cy="2171520"/>
          </a:xfrm>
          <a:prstGeom prst="rect">
            <a:avLst/>
          </a:prstGeom>
          <a:ln w="0">
            <a:noFill/>
          </a:ln>
        </p:spPr>
      </p:pic>
      <p:sp>
        <p:nvSpPr>
          <p:cNvPr id="489" name="Прямоугольник 11"/>
          <p:cNvSpPr/>
          <p:nvPr/>
        </p:nvSpPr>
        <p:spPr>
          <a:xfrm>
            <a:off x="6858360" y="648828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" descr="D:\картинки\Аня\belka.jpg"/>
          <p:cNvPicPr/>
          <p:nvPr/>
        </p:nvPicPr>
        <p:blipFill>
          <a:blip r:embed="rId2"/>
          <a:stretch/>
        </p:blipFill>
        <p:spPr>
          <a:xfrm rot="20973600">
            <a:off x="3203640" y="4653000"/>
            <a:ext cx="2000160" cy="1415880"/>
          </a:xfrm>
          <a:prstGeom prst="rect">
            <a:avLst/>
          </a:prstGeom>
          <a:ln w="0">
            <a:noFill/>
          </a:ln>
        </p:spPr>
      </p:pic>
      <p:sp>
        <p:nvSpPr>
          <p:cNvPr id="491" name="Прямоугольник 12"/>
          <p:cNvSpPr/>
          <p:nvPr/>
        </p:nvSpPr>
        <p:spPr>
          <a:xfrm rot="21054000">
            <a:off x="4033440" y="62370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е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14"/>
          <p:cNvSpPr/>
          <p:nvPr/>
        </p:nvSpPr>
        <p:spPr>
          <a:xfrm>
            <a:off x="980280" y="648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урый медв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WordArt 16"/>
          <p:cNvSpPr txBox="1"/>
          <p:nvPr/>
        </p:nvSpPr>
        <p:spPr>
          <a:xfrm>
            <a:off x="1187280" y="333360"/>
            <a:ext cx="69138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ивотный мир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94" name="Picture 17" descr=""/>
          <p:cNvPicPr/>
          <p:nvPr/>
        </p:nvPicPr>
        <p:blipFill>
          <a:blip r:embed="rId3"/>
          <a:stretch/>
        </p:blipFill>
        <p:spPr>
          <a:xfrm>
            <a:off x="684360" y="1413000"/>
            <a:ext cx="1871640" cy="26240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8" descr=""/>
          <p:cNvPicPr/>
          <p:nvPr/>
        </p:nvPicPr>
        <p:blipFill>
          <a:blip r:embed="rId4"/>
          <a:stretch/>
        </p:blipFill>
        <p:spPr>
          <a:xfrm rot="20761800">
            <a:off x="3348000" y="1413000"/>
            <a:ext cx="1930320" cy="24526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0" descr=""/>
          <p:cNvPicPr/>
          <p:nvPr/>
        </p:nvPicPr>
        <p:blipFill>
          <a:blip r:embed="rId5"/>
          <a:stretch/>
        </p:blipFill>
        <p:spPr>
          <a:xfrm>
            <a:off x="6286680" y="1413000"/>
            <a:ext cx="2857320" cy="22143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1" descr=""/>
          <p:cNvPicPr/>
          <p:nvPr/>
        </p:nvPicPr>
        <p:blipFill>
          <a:blip r:embed="rId6"/>
          <a:stretch/>
        </p:blipFill>
        <p:spPr>
          <a:xfrm>
            <a:off x="539640" y="4653000"/>
            <a:ext cx="245268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16" descr="047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516720" y="5022720"/>
            <a:ext cx="2448000" cy="18352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30"/>
          <p:cNvSpPr/>
          <p:nvPr/>
        </p:nvSpPr>
        <p:spPr>
          <a:xfrm>
            <a:off x="1118160" y="414972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поро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14"/>
          <p:cNvSpPr/>
          <p:nvPr/>
        </p:nvSpPr>
        <p:spPr>
          <a:xfrm>
            <a:off x="5582520" y="630864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ж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15"/>
          <p:cNvSpPr txBox="1"/>
          <p:nvPr/>
        </p:nvSpPr>
        <p:spPr>
          <a:xfrm>
            <a:off x="971640" y="333360"/>
            <a:ext cx="75531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стительность лес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02" name="Picture 17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2880000" cy="22096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8" descr=""/>
          <p:cNvPicPr/>
          <p:nvPr/>
        </p:nvPicPr>
        <p:blipFill>
          <a:blip r:embed="rId3"/>
          <a:stretch/>
        </p:blipFill>
        <p:spPr>
          <a:xfrm>
            <a:off x="3635280" y="2276640"/>
            <a:ext cx="2570400" cy="366552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19"/>
          <p:cNvSpPr/>
          <p:nvPr/>
        </p:nvSpPr>
        <p:spPr>
          <a:xfrm>
            <a:off x="3636720" y="170028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бирская 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0"/>
          <p:cNvSpPr/>
          <p:nvPr/>
        </p:nvSpPr>
        <p:spPr>
          <a:xfrm>
            <a:off x="1118160" y="36939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1" descr=""/>
          <p:cNvPicPr/>
          <p:nvPr/>
        </p:nvPicPr>
        <p:blipFill>
          <a:blip r:embed="rId4"/>
          <a:stretch/>
        </p:blipFill>
        <p:spPr>
          <a:xfrm>
            <a:off x="539640" y="4581360"/>
            <a:ext cx="2808360" cy="19418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2" descr=""/>
          <p:cNvPicPr/>
          <p:nvPr/>
        </p:nvPicPr>
        <p:blipFill>
          <a:blip r:embed="rId5"/>
          <a:stretch/>
        </p:blipFill>
        <p:spPr>
          <a:xfrm>
            <a:off x="6443640" y="1413000"/>
            <a:ext cx="2158920" cy="307656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23"/>
          <p:cNvSpPr/>
          <p:nvPr/>
        </p:nvSpPr>
        <p:spPr>
          <a:xfrm>
            <a:off x="6443640" y="443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ь обыкнов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17" descr="Безымянный"/>
          <p:cNvPicPr/>
          <p:nvPr/>
        </p:nvPicPr>
        <p:blipFill>
          <a:blip r:embed="rId1"/>
          <a:srcRect l="0" t="0" r="0" b="-527"/>
          <a:stretch/>
        </p:blipFill>
        <p:spPr>
          <a:xfrm>
            <a:off x="6659640" y="2205000"/>
            <a:ext cx="2135160" cy="309564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18"/>
          <p:cNvSpPr/>
          <p:nvPr/>
        </p:nvSpPr>
        <p:spPr>
          <a:xfrm>
            <a:off x="686160" y="3213000"/>
            <a:ext cx="141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ый гри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9"/>
          <p:cNvSpPr/>
          <p:nvPr/>
        </p:nvSpPr>
        <p:spPr>
          <a:xfrm>
            <a:off x="3782880" y="321300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с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3"/>
          <p:cNvSpPr/>
          <p:nvPr/>
        </p:nvSpPr>
        <p:spPr>
          <a:xfrm>
            <a:off x="6950160" y="17002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осинов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21"/>
          <p:cNvSpPr/>
          <p:nvPr/>
        </p:nvSpPr>
        <p:spPr>
          <a:xfrm>
            <a:off x="900000" y="646128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23"/>
          <p:cNvSpPr/>
          <p:nvPr/>
        </p:nvSpPr>
        <p:spPr>
          <a:xfrm>
            <a:off x="3780000" y="623736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мор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WordArt 16"/>
          <p:cNvSpPr txBox="1"/>
          <p:nvPr/>
        </p:nvSpPr>
        <p:spPr>
          <a:xfrm>
            <a:off x="1042920" y="189000"/>
            <a:ext cx="712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начение грибов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16" name="Picture 17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2232000" cy="18748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8" descr=""/>
          <p:cNvPicPr/>
          <p:nvPr/>
        </p:nvPicPr>
        <p:blipFill>
          <a:blip r:embed="rId3"/>
          <a:stretch/>
        </p:blipFill>
        <p:spPr>
          <a:xfrm>
            <a:off x="3419640" y="1557360"/>
            <a:ext cx="2087280" cy="17287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9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1785960" cy="2452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0" descr=""/>
          <p:cNvPicPr/>
          <p:nvPr/>
        </p:nvPicPr>
        <p:blipFill>
          <a:blip r:embed="rId5"/>
          <a:stretch/>
        </p:blipFill>
        <p:spPr>
          <a:xfrm>
            <a:off x="3276720" y="4076640"/>
            <a:ext cx="2449440" cy="206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4:02:27Z</dcterms:created>
  <dc:creator>User</dc:creator>
  <dc:description/>
  <dc:language>en-US</dc:language>
  <cp:lastModifiedBy>viktor</cp:lastModifiedBy>
  <dcterms:modified xsi:type="dcterms:W3CDTF">2019-02-13T11:28:35Z</dcterms:modified>
  <cp:revision>12</cp:revision>
  <dc:subject/>
  <dc:title>Слайд 1</dc:title>
</cp:coreProperties>
</file>