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2.jpeg" ContentType="image/jpeg"/>
  <Override PartName="/ppt/media/image38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4CD-6E9F-476B-BDEC-40F1A036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1D-7216-4F46-93AA-C1C6058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67966-CFF9-48D1-8DFD-9B59574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56222-A6FB-4766-9D99-EC379B1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73CF0-3F32-4DD8-BB72-FE03F2E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360E9-704B-4563-A828-3153B4A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98480-5505-4F8A-B5D8-FA4480A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4A6D5-68D7-4B1F-A53E-39A8679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D3250-8CEB-4FFF-B084-22720FC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2EE0C-3D47-4B7E-B08A-0467E690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3A4F0-FE50-4AFF-978C-C9391270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B67960-10A8-4667-8F60-1B77733B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D45-D4C0-4F32-9C1A-EF47C1BD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4BAA69-E2A2-411D-BA63-640336F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CEDFD-7CFD-4DAB-B8A6-D9939F5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6D0F2-7274-47FF-9C29-9CEBFBF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845A5-C364-40F8-9AA8-2B8A87B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A923C-6F96-4372-9F90-9BD1AB9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BD875-8135-496E-8A21-06EEF3D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50EEB-A7AB-48F7-B4B7-82D6035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239959-787A-4BC2-9125-91D16FA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FF5FF-657B-4BD5-BF6B-8817B5C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10145-28F1-4968-A52C-2B1CC030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AA0-01D6-4F09-89CA-9F0231F5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A1A2A4-33B6-4344-9A5C-FD1ADF6C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13A28-766B-45A6-8FE1-1205D1F78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64585-467E-417F-A7A0-EF3DA02ED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8796-C53E-42C0-894D-60E3E0FB9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3C16F-D56F-4A74-A71A-5606E9E613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9CEC-6712-42BC-A77A-D799E3D86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CD58-28CD-41D9-B8C8-F3DD54C17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082BF-CEA2-46AF-A178-28BB6B194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179-8F3A-48A0-9ADA-9AFA9FDF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EC569-232A-4F31-A0B4-03BCF50F36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2B63A-8D34-4576-A237-C59D2A050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BC96-9F5E-4081-A93C-1CB2999937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BFD9A-2153-4EE9-B897-7FC46101C6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AF41D-0F02-4818-8406-6A99FE011B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3BC3-6449-49A8-A0E9-CED84558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254AA-0D3B-4D4E-A05E-1D8E4D1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DDC4A-14EB-42E0-BE79-0D0D7D3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ACCB8-FC43-49BF-934D-5FF5C5F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5DAD1-7F10-4813-8CD1-99EBB96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F47-EE93-43F0-903E-8D0C516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2FCCB-E14A-443A-A372-B4CB9C4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A01FB-C655-4164-A4AC-5A07037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A4C09-6409-4E47-B8B0-3BB2EDB6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BB8DC-49FA-4B39-831A-879542A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96919-B64F-4878-906F-34157B6C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2A796-6956-409E-9113-63832B54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954F0-7348-498A-B167-F5992A51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59F09-D1F7-4FA4-88BD-DC890102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84FDE-C1A3-4893-B06D-752ABCCC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33F4E-B3B1-4E55-879F-649760B5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697-80C4-415C-A5EA-F667F3D9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C533D-0BA0-4039-8CF6-DA0FE12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A8D86-9C13-4211-B603-8E76FC0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C6474-50B9-41B9-A449-8B07A610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38B47-7CB6-407F-8EC2-624C0CF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4EA97-2664-4C7C-8973-88976FB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1639F-1519-42D3-947A-77426E0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C3035-1683-4081-9A7F-BBF449C5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6D3F5-2215-4FFA-9920-AF8196B4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AAA98-85A1-4210-BE55-7C0A1F09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234D2-8169-4F92-803A-A339E72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C39-11D8-44F3-8F16-C7C2206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F7658-9BE9-45DB-9066-0C6CC520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6150F-2D11-466C-9B65-69C0640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C1BDB-00F2-4866-AA35-0D17549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F3049-FBAB-4175-B99C-FA40C49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81579-632B-46D7-8606-18B05563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0DEB0-183E-472D-9F3A-D4A54EB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7CE81-1461-4FFB-9642-34A6169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A3BE6-CD52-45FD-9BAE-EE7E8A4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C034A-A0FC-4C1F-9950-66D1160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7467D-9668-4A40-AA4B-4C192D5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079-9E77-4BD7-B650-B2A9D24F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C2227-388C-4371-8D95-EA4C9C54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07A3F-F19F-4155-8AC4-6E24472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6F35C-9FF8-423B-8131-4C1EDB47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D337B-50EC-40ED-8BDB-88EF3E2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3ECC-355C-4ED3-AA06-DCEB0BE5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E04C8-F8F1-421B-A181-BEBD50C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95CF2-238C-4E01-BCC4-7EFDAE1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04E80-A8F9-4D9D-A709-23014C8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1C027-E59D-4DED-81D8-E60F9936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16473-5865-4E47-8CBD-1A204EE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444-720A-4394-9775-3A9BB729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FCF9C-7C3B-4B52-8AFE-1C22BC6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0B613-AB88-42EF-A5D9-9B212AAC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811C2-2CA2-4F14-8103-EC9F1CDE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A536F-04AB-43F1-8A56-69EB9C91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5A417-24E5-403B-BFB7-F5AF161A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5DF10-2CE2-4507-A304-6E37A3A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D6F48-A7C4-4538-B8AC-E96C7264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17CCE-F065-4727-BA4A-3C29DD9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138D7-684E-491D-AE49-37E74D4A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D0FC1-8AD4-4F48-A63A-0CB3BF3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5B5-09BD-46DE-B756-6A067B0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7B2FC-B7F7-40D0-9714-0DA4280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CD1B8-E2F6-4815-BCAF-104CF75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0E5B1-3F6D-4890-97F7-EB2B6E0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B97F3-FCD3-4D3D-A03E-4514047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C86B4-9BB2-433A-A5FF-2E71CEFF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5759E-6101-4A1E-9441-71F66B7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93811-3F43-445E-82C5-40712DF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9F2F1-C0B0-4775-8C08-64BB6E68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30250-BE06-4264-8B3E-DE67A82A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5AA3B-A64F-4FA2-8109-E8D49E8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CA4-40B7-47B0-B0C1-E2738C9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BF3FF-BBE8-4409-9DBD-7E3E3C53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38B7D-DB72-4604-B138-797CF59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69A48-F339-43CA-AB0B-8D6C867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85F73-26E8-4C75-B6F0-25AEB02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230977-C054-4572-995E-16E05A1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B0B3A-3B49-49E6-A52E-7B4A2F99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489D4-541E-4B84-915F-AA8A91AE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033388-A4D3-4344-9711-C9D35A74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07E1F-4F72-47F1-8A68-4B577BF6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034C45-B94F-453D-9314-0BE280C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ED9D-7B5B-4C3B-96AB-1DE362EF6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CCCF-9AFD-4DC7-A866-9465AF82F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4AF-9F50-4964-943E-6C1E726A4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DE46-8C9E-44D5-B2E9-6027EEADA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6D7-8E1D-489A-B628-49FDB9727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C51-FC1D-4C2A-94BC-E27FC4499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A629-8341-4511-9DC6-D651F1B04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4C8A-E094-4C85-8A26-3F553684A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7DCE-9EBB-4491-81A7-9131A9CA8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64D-0DD7-4245-8DE2-5395992AA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82;&#1088;&#1072;&#1089;&#1080;&#1074;&#1099;&#1081;%20&#1083;&#1077;&#1089;&amp;img_url=stat11.privet.ru%2Flr%2F082aede71f8031fae5604dc87f4af2fa&amp;p=11" TargetMode="External"/><Relationship Id="rId2" Type="http://schemas.openxmlformats.org/officeDocument/2006/relationships/hyperlink" Target="http://images.yandex.ru/yandsearch?nl=1&amp;rpt=simage&amp;text=&#1089;&#1084;&#1077;&#1096;&#1072;&#1085;&#1085;&#1099;&#1081;%20&#1083;&#1077;&#1089;%20&#1082;&#1072;&#1088;&#1090;&#1080;&#1085;&#1082;&#1080;&amp;img_url=img" TargetMode="External"/><Relationship Id="rId3" Type="http://schemas.openxmlformats.org/officeDocument/2006/relationships/hyperlink" Target="http://images.yandex.ru/yandsearch?ed=1&amp;rpt=simage&amp;text=&#1103;&#1088;&#1091;&#1089;&#1099;%20&#1083;&#1077;&#1089;&#1072;&amp;img_url=shopedu.ru%2Fuploaded_files%2Fshop_images%2F936.jpg&amp;p=0" TargetMode="External"/><Relationship Id="rId4" Type="http://schemas.openxmlformats.org/officeDocument/2006/relationships/hyperlink" Target="http://www.netschools.ru/sch758/dyn/yrs1.htm" TargetMode="External"/><Relationship Id="rId5" Type="http://schemas.openxmlformats.org/officeDocument/2006/relationships/hyperlink" Target="http://foto.rambler.ru/users/a_volodin/albums/27445264/photo/48e0d63b-da54-4e9d-0fd0-fc85d58561c1/" TargetMode="External"/><Relationship Id="rId6" Type="http://schemas.openxmlformats.org/officeDocument/2006/relationships/hyperlink" Target="http://foto.rambler.ru/users/a_volodin/albums/27445264/photo/48e0d63b-da54-4e9d-0fd0-fc85d58561c1/" TargetMode="External"/><Relationship Id="rId7" Type="http://schemas.openxmlformats.org/officeDocument/2006/relationships/hyperlink" Target="http://img0.liveinternet.ru/images/attach/c/1/56/745/56745148_1269165960_1267044160_hedgehog03.jpg" TargetMode="External"/><Relationship Id="rId8" Type="http://schemas.openxmlformats.org/officeDocument/2006/relationships/hyperlink" Target="http://stat17.privet.ru/lr/0920ed6b1f0e107b8864bb7036d17c17" TargetMode="External"/><Relationship Id="rId9" Type="http://schemas.openxmlformats.org/officeDocument/2006/relationships/hyperlink" Target="http://images.yandex.ru/yandsearch?nl=1&amp;ed=1&amp;rpt=simage&amp;text=&#1083;&#1086;&#1089;&#1100;%20&#1092;&#1086;&#1090;&#1086;&amp;img_url=www.proza.ru%2F" TargetMode="External"/><Relationship Id="rId10" Type="http://schemas.openxmlformats.org/officeDocument/2006/relationships/hyperlink" Target="http://snegiri.tomsk.ru/upload/resume/34/photo543638463.jpg" TargetMode="External"/><Relationship Id="rId11" Type="http://schemas.openxmlformats.org/officeDocument/2006/relationships/hyperlink" Target="http://images.yandex.ru/yandsearch?nl=1&amp;ed=1&amp;rpt=simage&amp;text=&#1089;&#1086;&#1089;&#1085;&#1072;%20&#1089;&#1080;&#1073;&#1080;&#1088;&#1089;&#1082;&#1072;&#1103;&amp;img_url=img-fotki.yandex.ru%2Fget%2F27%2Faqualux-s.0%2F0_12437_723716b1_XL&amp;p=8" TargetMode="External"/><Relationship Id="rId12" Type="http://schemas.openxmlformats.org/officeDocument/2006/relationships/hyperlink" Target="http://images.yandex.ru/yandsearch?ed=1&amp;rpt=simage&amp;img_url=fanparty.ru%2Fimages%2Ffanclubs%2Fvolf%2Fnews%2F19265%2F18997_news_volf.jpg%3F1277333398&amp;text=&#1074;&#1086;&#1083;&#1082;&amp;p=7" TargetMode="External"/><Relationship Id="rId1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87;&#1072;&#1087;&#1086;&#1088;&#1086;&#1090;&#1085;%D0%25B" TargetMode="External"/><Relationship Id="rId2" Type="http://schemas.openxmlformats.org/officeDocument/2006/relationships/hyperlink" Target="http://images.yandex.ru/yandsearch?ed=1&amp;rpt=simage&amp;text=&#1087;&#1080;&#1078;&#1084;&#1072;&amp;img_url=molbiol.ru%2Fforums%2Fuploads%2Fa001%2Fb009%2Fpost-12150-1171828352.jpg&amp;p=14" TargetMode="External"/><Relationship Id="rId3" Type="http://schemas.openxmlformats.org/officeDocument/2006/relationships/hyperlink" Target="http://www.altaymix.ru/el-obyknovennaya.html" TargetMode="External"/><Relationship Id="rId4" Type="http://schemas.openxmlformats.org/officeDocument/2006/relationships/hyperlink" Target="http://www.quotat.info/wp-content/uploads/2010/08/44-&#1055;&#1088;&#1080;&#1096;&#1074;&#1080;&#1085;.jpg" TargetMode="External"/><Relationship Id="rId5" Type="http://schemas.openxmlformats.org/officeDocument/2006/relationships/hyperlink" Target="http://tbrp79.f5.ru/files/images/compiled/00c/00c8948dd02327efbcae11dcb662eff8.jpg" TargetMode="External"/><Relationship Id="rId6" Type="http://schemas.openxmlformats.org/officeDocument/2006/relationships/hyperlink" Target="http://images.yandex.ru/yandsearch?nl=1&amp;ed=1&amp;rpt=simage&amp;img_url=milaiw.narod.ru%2Fgriby%2Fimage%2Fbel_04.jpg&amp;text=&#1075;&#1088;&#1080;" TargetMode="External"/><Relationship Id="rId7" Type="http://schemas.openxmlformats.org/officeDocument/2006/relationships/hyperlink" Target="http://fotki.yandex.ru/users/tvs-svet/view/88261/?page=1" TargetMode="External"/><Relationship Id="rId8" Type="http://schemas.openxmlformats.org/officeDocument/2006/relationships/hyperlink" Target="http://gamma-aspirin.narod.ru/Grib_Spravka/g163.html" TargetMode="External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4"/>
          <p:cNvSpPr/>
          <p:nvPr/>
        </p:nvSpPr>
        <p:spPr>
          <a:xfrm>
            <a:off x="3000240" y="578628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2481120" y="3006720"/>
            <a:ext cx="4181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зн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1840680" y="40824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Лицей № 16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он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D:\картинки\Аня\2677507.jpg"/>
          <p:cNvPicPr/>
          <p:nvPr/>
        </p:nvPicPr>
        <p:blipFill>
          <a:blip r:embed="rId1"/>
          <a:stretch/>
        </p:blipFill>
        <p:spPr>
          <a:xfrm>
            <a:off x="5003640" y="1484280"/>
            <a:ext cx="3919680" cy="2938320"/>
          </a:xfrm>
          <a:prstGeom prst="rect">
            <a:avLst/>
          </a:prstGeom>
          <a:ln w="0">
            <a:noFill/>
          </a:ln>
        </p:spPr>
      </p:pic>
      <p:sp>
        <p:nvSpPr>
          <p:cNvPr id="521" name="WordArt 6"/>
          <p:cNvSpPr txBox="1"/>
          <p:nvPr/>
        </p:nvSpPr>
        <p:spPr>
          <a:xfrm>
            <a:off x="1763640" y="260280"/>
            <a:ext cx="5688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почв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539640" y="125892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ных лесах почвы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аковы. Например, в смешанных лесах и тайге – подзолистые поч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4859280" y="4581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ственных ле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ы серые лес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3911760" cy="29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6"/>
          <p:cNvSpPr txBox="1"/>
          <p:nvPr/>
        </p:nvSpPr>
        <p:spPr>
          <a:xfrm>
            <a:off x="1332000" y="189000"/>
            <a:ext cx="6264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6" name="Line 18"/>
          <p:cNvSpPr/>
          <p:nvPr/>
        </p:nvSpPr>
        <p:spPr>
          <a:xfrm>
            <a:off x="60847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7" descr=""/>
          <p:cNvPicPr/>
          <p:nvPr/>
        </p:nvPicPr>
        <p:blipFill>
          <a:blip r:embed="rId1"/>
          <a:stretch/>
        </p:blipFill>
        <p:spPr>
          <a:xfrm>
            <a:off x="0" y="1125360"/>
            <a:ext cx="2879640" cy="2433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3047760" cy="23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9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773440" cy="2519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0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4319640" cy="2982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"/>
          <p:cNvPicPr/>
          <p:nvPr/>
        </p:nvPicPr>
        <p:blipFill>
          <a:blip r:embed="rId5"/>
          <a:stretch/>
        </p:blipFill>
        <p:spPr>
          <a:xfrm>
            <a:off x="5003640" y="3860640"/>
            <a:ext cx="357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256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241440" cy="2790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3635280" y="191628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6227640" y="189000"/>
            <a:ext cx="2700360" cy="2933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"/>
          <p:cNvPicPr/>
          <p:nvPr/>
        </p:nvPicPr>
        <p:blipFill>
          <a:blip r:embed="rId5"/>
          <a:stretch/>
        </p:blipFill>
        <p:spPr>
          <a:xfrm>
            <a:off x="6227640" y="342900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84360" y="131436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>
            <a:off x="1042920" y="333360"/>
            <a:ext cx="7632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гите лес от пожара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нет -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1413000"/>
            <a:ext cx="7775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«Берёзка» автор: Федотова Виктория Александровна, учитель начальных классов МОУ СОШ с. Лохово Черемховского р-на Иркут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39640" y="191628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ed=1&amp;rpt=simage&amp;text=%D0%BA%D1%80%D0%B0%D1%81%D0%B8%D0%B2%D1%8B%D0%B9%20%D0%BB%D0%B5%D1%81&amp;img_url=stat11.privet.ru%2Flr%2F082aede71f8031fae5604dc87f4af2fa&amp;p=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1280" y="242100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nl=1&amp;rpt=simage&amp;text=%D1%81%D0%BC%D0%B5%D1%88%D0%B0%D0%BD%D0%BD%D1%8B%D0%B9%20%D0%BB%D0%B5%D1%81%20%D0%BA%D0%B0%D1%80%D1%82%D0%B8%D0%BD%D0%BA%D0%B8&amp;img_url=im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ешанный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39640" y="306864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ages.yandex.ru/yandsearch?ed=1&amp;rpt=simage&amp;text=%D1%8F%D1%80%D1%83%D1%81%D1%8B%20%D0%BB%D0%B5%D1%81%D0%B0&amp;img_url=shopedu.ru%2Fuploaded_files%2Fshop_images%2F936.jpg&amp;p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русы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539640" y="3718080"/>
            <a:ext cx="54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etschools.ru/sch758/dyn/yrs1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ие ниши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519480" y="429264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foto.rambler.ru/users/a_volodin/albums/27445264/photo/48e0d63b-da54-4e9d-0fd0-fc85d58561c1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-бел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2"/>
          <p:cNvSpPr/>
          <p:nvPr/>
        </p:nvSpPr>
        <p:spPr>
          <a:xfrm>
            <a:off x="504000" y="4653000"/>
            <a:ext cx="76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img0.liveinternet.ru/images/attach/c/1/56/745/56745148_1269165960_1267044160_hedgehog0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519480" y="4941720"/>
            <a:ext cx="5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tat17.privet.ru/lr/0920ed6b1f0e107b8864bb7036d17c1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рый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539640" y="515772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mages.yandex.ru/yandsearch?nl=1&amp;ed=1&amp;rpt=simage&amp;text=%D0%BB%D0%BE%D1%81%D1%8C%20%D1%84%D0%BE%D1%82%D0%BE&amp;img_url=www.proza.ru%2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524160" y="5662440"/>
            <a:ext cx="50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snegiri.tomsk.ru/upload/resume/34/photo54363846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у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611280" y="5877000"/>
            <a:ext cx="82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images.yandex.ru/yandsearch?nl=1&amp;ed=1&amp;rpt=simage&amp;text=%D1%81%D0%BE%D1%81%D0%BD%D0%B0%20%D1%81%D0%B8%D0%B1%D0%B8%D1%80%D1%81%D0%BA%D0%B0%D1%8F&amp;img_url=img-fotki.yandex.ru%2Fget%2F27%2Faqualux-s.0%2F0_12437_723716b1_XL&amp;p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ибирская со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611280" y="3933720"/>
            <a:ext cx="80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images.yandex.ru/yandsearch?ed=1&amp;rpt=simage&amp;img_url=fanparty.ru%2Fimages%2Ffanclubs%2Fvolf%2Fnews%2F19265%2F18997_news_volf.jpg%3F1277333398&amp;text=%D0%B2%D0%BE%D0%BB%D0%BA&amp;p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468360" y="1557360"/>
            <a:ext cx="777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nl=1&amp;ed=1&amp;rpt=simage&amp;text=%D0%BF%D0%B0%D0%BF%D0%BE%D1%80%D0%BE%D1%82%D0%BD%D0%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апор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539640" y="1916280"/>
            <a:ext cx="79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ed=1&amp;rpt=simage&amp;text=%D0%BF%D0%B8%D0%B6%D0%BC%D0%B0&amp;img_url=molbiol.ru%2Fforums%2Fuploads%2Fa001%2Fb009%2Fpost-12150-1171828352.jpg&amp;p=1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иж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68360" y="2276640"/>
            <a:ext cx="47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ltaymix.ru/el-obyknovennaya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ль обыкно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68360" y="2708280"/>
            <a:ext cx="63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quotat.info/wp-content/uploads/2010/08/44-Пришвин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то Пришвина М.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43520" y="2492280"/>
            <a:ext cx="65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tbrp79.f5.ru/files/images/compiled/00c/00c8948dd02327efbcae11dcb662eff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к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539640" y="292428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mages.yandex.ru/yandsearch?nl=1&amp;ed=1&amp;rpt=simage&amp;img_url=milaiw.narod.ru%2Fgriby%2Fimage%2Fbel_04.jpg&amp;text=%D0%B3%D1%80%D0%B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елый 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528840" y="3357720"/>
            <a:ext cx="44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fotki.yandex.ru/users/tvs-svet/view/88261/?page=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п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29200" y="3573360"/>
            <a:ext cx="45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gamma-aspirin.narod.ru/Grib_Spravka/g16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ор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468360" y="378936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images.yandex.ru/yandsearch?nl=1&amp;ed=1&amp;rpt=simage&amp;text=%D0%BF%D0%BE%D0%B4%D0%BE%D1%81%D0%B8%D0%BD%D0%BE%D0%B2%D0%B подосино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539640" y="4221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0%B7%D0%B0%D0%B3%D0%BE%D1%82%D0%BE%D0%B2%D0%BA%D0%B0%20 заготовка древес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539640" y="4653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1%81%D1%82%D1%80%D0%BE%D0%B8%D1%82%D0%B5%D0%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городных д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68000" y="1268280"/>
            <a:ext cx="84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обширная территория, покрытая деревьями и  кустар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391280" cy="360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3995640" cy="3562200"/>
          </a:xfrm>
          <a:prstGeom prst="rect">
            <a:avLst/>
          </a:prstGeom>
          <a:ln w="0">
            <a:noFill/>
          </a:ln>
        </p:spPr>
      </p:pic>
      <p:sp>
        <p:nvSpPr>
          <p:cNvPr id="472" name="WordArt 8"/>
          <p:cNvSpPr txBox="1"/>
          <p:nvPr/>
        </p:nvSpPr>
        <p:spPr>
          <a:xfrm>
            <a:off x="234000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 -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WordArt 4"/>
          <p:cNvSpPr txBox="1"/>
          <p:nvPr/>
        </p:nvSpPr>
        <p:spPr>
          <a:xfrm>
            <a:off x="1258920" y="404640"/>
            <a:ext cx="6553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этаж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686040" cy="42861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1549080" y="6093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211640" y="1685880"/>
            <a:ext cx="432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 птиц и  зверьков в  лесу есть свои этажи:  мышки живут в корнях - в самом  низу; разные птички,  вроде соловья,  вьют  свои  гнездышки прямо на земле; дрозды - еще повыше, на кустарниках; дупляные птицы - дятел, синички, совы – еще повыше;   на  разной высоте по  стволу дерева и  на  самом верху селятся хищники: ястреба и орлы. У них, у зверушек и птиц,  с этажами не  как  у  нас  в  небоскребах:  у  нас  всегда можно с  кем-нибудь перемениться, у них каждая порода живет непременно в своем эт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08000" y="1285560"/>
            <a:ext cx="88567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растения, образующие лес, располагаются в лесу ступенями, или, как их называют в наук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уса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леса имеют четыре, пять и даже больше яру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главный древесный полог. Его высота доходит до тридцати и даже более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подро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подлес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травяной покр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я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хи и лишай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WordArt 4"/>
          <p:cNvSpPr txBox="1"/>
          <p:nvPr/>
        </p:nvSpPr>
        <p:spPr>
          <a:xfrm>
            <a:off x="1908000" y="333360"/>
            <a:ext cx="54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D:\картинки\Аня\936.jpg"/>
          <p:cNvPicPr/>
          <p:nvPr/>
        </p:nvPicPr>
        <p:blipFill>
          <a:blip r:embed="rId1"/>
          <a:stretch/>
        </p:blipFill>
        <p:spPr>
          <a:xfrm>
            <a:off x="250920" y="981000"/>
            <a:ext cx="8618400" cy="561492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199720" cy="433440"/>
          </a:xfrm>
          <a:prstGeom prst="rect">
            <a:avLst/>
          </a:prstGeom>
          <a:ln w="0">
            <a:noFill/>
          </a:ln>
        </p:spPr>
      </p:pic>
      <p:sp>
        <p:nvSpPr>
          <p:cNvPr id="481" name="WordArt 4"/>
          <p:cNvSpPr txBox="1"/>
          <p:nvPr/>
        </p:nvSpPr>
        <p:spPr>
          <a:xfrm>
            <a:off x="1908000" y="189000"/>
            <a:ext cx="5400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671640" cy="4968720"/>
          </a:xfrm>
          <a:prstGeom prst="rect">
            <a:avLst/>
          </a:prstGeom>
          <a:ln w="0">
            <a:noFill/>
          </a:ln>
        </p:spPr>
      </p:pic>
      <p:sp>
        <p:nvSpPr>
          <p:cNvPr id="483" name="WordArt 5"/>
          <p:cNvSpPr txBox="1"/>
          <p:nvPr/>
        </p:nvSpPr>
        <p:spPr>
          <a:xfrm>
            <a:off x="1042920" y="333360"/>
            <a:ext cx="727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ниши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5"/>
          <p:cNvSpPr/>
          <p:nvPr/>
        </p:nvSpPr>
        <p:spPr>
          <a:xfrm>
            <a:off x="6536520" y="3716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ж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7"/>
          <p:cNvSpPr/>
          <p:nvPr/>
        </p:nvSpPr>
        <p:spPr>
          <a:xfrm rot="20829000">
            <a:off x="4015440" y="3860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яц-бел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9"/>
          <p:cNvSpPr/>
          <p:nvPr/>
        </p:nvSpPr>
        <p:spPr>
          <a:xfrm>
            <a:off x="137628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D:\картинки\Аня\los.jpg"/>
          <p:cNvPicPr/>
          <p:nvPr/>
        </p:nvPicPr>
        <p:blipFill>
          <a:blip r:embed="rId1"/>
          <a:stretch/>
        </p:blipFill>
        <p:spPr>
          <a:xfrm>
            <a:off x="5651640" y="4365720"/>
            <a:ext cx="3174840" cy="2171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11"/>
          <p:cNvSpPr/>
          <p:nvPr/>
        </p:nvSpPr>
        <p:spPr>
          <a:xfrm>
            <a:off x="6858360" y="6488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D:\картинки\Аня\belka.jpg"/>
          <p:cNvPicPr/>
          <p:nvPr/>
        </p:nvPicPr>
        <p:blipFill>
          <a:blip r:embed="rId2"/>
          <a:stretch/>
        </p:blipFill>
        <p:spPr>
          <a:xfrm rot="20973600">
            <a:off x="3203640" y="4653000"/>
            <a:ext cx="2000160" cy="141588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12"/>
          <p:cNvSpPr/>
          <p:nvPr/>
        </p:nvSpPr>
        <p:spPr>
          <a:xfrm rot="21054000">
            <a:off x="4033440" y="6237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4"/>
          <p:cNvSpPr/>
          <p:nvPr/>
        </p:nvSpPr>
        <p:spPr>
          <a:xfrm>
            <a:off x="980280" y="648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р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16"/>
          <p:cNvSpPr txBox="1"/>
          <p:nvPr/>
        </p:nvSpPr>
        <p:spPr>
          <a:xfrm>
            <a:off x="1187280" y="333360"/>
            <a:ext cx="69138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й мир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94" name="Picture 17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1871640" cy="2624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"/>
          <p:cNvPicPr/>
          <p:nvPr/>
        </p:nvPicPr>
        <p:blipFill>
          <a:blip r:embed="rId4"/>
          <a:stretch/>
        </p:blipFill>
        <p:spPr>
          <a:xfrm rot="20761800">
            <a:off x="3348000" y="1413000"/>
            <a:ext cx="1930320" cy="245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0" descr=""/>
          <p:cNvPicPr/>
          <p:nvPr/>
        </p:nvPicPr>
        <p:blipFill>
          <a:blip r:embed="rId5"/>
          <a:stretch/>
        </p:blipFill>
        <p:spPr>
          <a:xfrm>
            <a:off x="6286680" y="1413000"/>
            <a:ext cx="2857320" cy="2214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1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245268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6" descr="04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16720" y="502272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0"/>
          <p:cNvSpPr/>
          <p:nvPr/>
        </p:nvSpPr>
        <p:spPr>
          <a:xfrm>
            <a:off x="1118160" y="41497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4"/>
          <p:cNvSpPr/>
          <p:nvPr/>
        </p:nvSpPr>
        <p:spPr>
          <a:xfrm>
            <a:off x="5582520" y="63086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ж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5"/>
          <p:cNvSpPr txBox="1"/>
          <p:nvPr/>
        </p:nvSpPr>
        <p:spPr>
          <a:xfrm>
            <a:off x="971640" y="333360"/>
            <a:ext cx="75531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ительност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02" name="Picture 17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880000" cy="220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"/>
          <p:cNvPicPr/>
          <p:nvPr/>
        </p:nvPicPr>
        <p:blipFill>
          <a:blip r:embed="rId3"/>
          <a:stretch/>
        </p:blipFill>
        <p:spPr>
          <a:xfrm>
            <a:off x="3635280" y="2276640"/>
            <a:ext cx="2570400" cy="36655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9"/>
          <p:cNvSpPr/>
          <p:nvPr/>
        </p:nvSpPr>
        <p:spPr>
          <a:xfrm>
            <a:off x="3636720" y="1700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18160" y="36939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1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2808360" cy="194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"/>
          <p:cNvPicPr/>
          <p:nvPr/>
        </p:nvPicPr>
        <p:blipFill>
          <a:blip r:embed="rId5"/>
          <a:stretch/>
        </p:blipFill>
        <p:spPr>
          <a:xfrm>
            <a:off x="6443640" y="1413000"/>
            <a:ext cx="2158920" cy="307656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23"/>
          <p:cNvSpPr/>
          <p:nvPr/>
        </p:nvSpPr>
        <p:spPr>
          <a:xfrm>
            <a:off x="644364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7" descr="Безымянный"/>
          <p:cNvPicPr/>
          <p:nvPr/>
        </p:nvPicPr>
        <p:blipFill>
          <a:blip r:embed="rId1"/>
          <a:srcRect l="0" t="0" r="0" b="-527"/>
          <a:stretch/>
        </p:blipFill>
        <p:spPr>
          <a:xfrm>
            <a:off x="6659640" y="2205000"/>
            <a:ext cx="2135160" cy="30956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8"/>
          <p:cNvSpPr/>
          <p:nvPr/>
        </p:nvSpPr>
        <p:spPr>
          <a:xfrm>
            <a:off x="686160" y="321300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ый гри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782880" y="321300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950160" y="1700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син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1"/>
          <p:cNvSpPr/>
          <p:nvPr/>
        </p:nvSpPr>
        <p:spPr>
          <a:xfrm>
            <a:off x="900000" y="6461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3"/>
          <p:cNvSpPr/>
          <p:nvPr/>
        </p:nvSpPr>
        <p:spPr>
          <a:xfrm>
            <a:off x="3780000" y="623736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р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6"/>
          <p:cNvSpPr txBox="1"/>
          <p:nvPr/>
        </p:nvSpPr>
        <p:spPr>
          <a:xfrm>
            <a:off x="1042920" y="18900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грибов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6" name="Picture 17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2232000" cy="1874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" descr=""/>
          <p:cNvPicPr/>
          <p:nvPr/>
        </p:nvPicPr>
        <p:blipFill>
          <a:blip r:embed="rId3"/>
          <a:stretch/>
        </p:blipFill>
        <p:spPr>
          <a:xfrm>
            <a:off x="3419640" y="1557360"/>
            <a:ext cx="2087280" cy="1728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9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1785960" cy="24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"/>
          <p:cNvPicPr/>
          <p:nvPr/>
        </p:nvPicPr>
        <p:blipFill>
          <a:blip r:embed="rId5"/>
          <a:stretch/>
        </p:blipFill>
        <p:spPr>
          <a:xfrm>
            <a:off x="3276720" y="4076640"/>
            <a:ext cx="2449440" cy="206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4:02:27Z</dcterms:created>
  <dc:creator>User</dc:creator>
  <dc:description/>
  <dc:language>en-US</dc:language>
  <cp:lastModifiedBy>viktor</cp:lastModifiedBy>
  <dcterms:modified xsi:type="dcterms:W3CDTF">2019-02-13T11:28:35Z</dcterms:modified>
  <cp:revision>12</cp:revision>
  <dc:subject/>
  <dc:title>Слайд 1</dc:title>
</cp:coreProperties>
</file>