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40.png" ContentType="image/png"/>
  <Override PartName="/ppt/media/image36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32.jpeg" ContentType="image/jpeg"/>
  <Override PartName="/ppt/media/image38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F91-75C6-465E-B25D-D8CCF374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022-B1D9-4606-BFBC-D868F5E2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92B560-C5D2-462D-B8B6-2AA8239C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9B4B21-E7DA-47EE-A99D-2FB3731E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7E5D24-3444-463D-822F-38F483E5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6D284F-186F-47F8-9FFE-90DAE2F0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55668F-6418-454F-8D57-F7983E26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DBEB87-F93C-44F0-B482-F0EE9B23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F01E2C-B61F-42E6-9250-16470346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A627E0-3155-456B-A7B7-4EB69AFF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373273-B21A-4CA0-8866-28E57BA9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7012F1-4F3B-45ED-AF8D-DE14A2E8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5B7-6082-4FC8-B5C9-C0800D98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6362A6-AF8F-4745-B70A-91276C37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BE0A43-7207-40D4-9B91-7DCDDE0C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C54004-99CF-4747-A247-9530AD78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FD2E26-09EE-44E7-B8D5-380C3D6D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F7A17B-FE7C-439F-BCA5-93E067FF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8D050B-82C6-4E0B-8026-B1A27263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7DE1ED-863F-4348-9862-229E4A8A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60B831-DE8A-4389-8C74-DCA71852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0D0498-3831-49FE-A36D-B48A1B4F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F1BDA1-ACD1-4FF5-BD1C-5CBB3B5C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E3E-CE5F-4DFE-88BB-DC4B035B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7F8E52-AD3D-415F-ACA4-4CCF4D98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5888C-6020-43E5-A963-6A38F62711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AED49-633E-478D-8C98-78ECF60265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EE160-21CF-46D2-94F0-E17E070949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6B290-9BB0-40F6-B516-7B28D953ED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B8FC4-9D2E-4AA7-883C-B177730813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38A03-1543-4AF1-90A2-9FAD39ADA2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5BD32-66B2-42E3-ACF7-4BD149E573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E35-D209-4917-BFE4-059B601D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A7770-00C7-4EFB-8ACC-DA46777934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BCD59-B48C-4A1B-ABAD-92EEFCEED9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E0E8D-1C8D-46FE-AD16-A36ABE84E4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0F06F-7127-41A5-A254-9142A96CD7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70A64-7201-4F33-84B8-5B0F78D8C8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D9117A-7F4E-4D55-BBBD-FB446AA8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DAB6B-7125-4E33-A81E-0E65A538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D77D5-6608-425D-A7E5-48D1FC45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FF095-0565-450B-8065-38F107D9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AD7E9-6DF4-46B7-A696-110EC315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8EC-C0B3-49C0-9E7C-3FEEF147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82F55-40BC-4C38-9D3C-AEAB66FB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64DF5-B2B6-4097-A006-DD6E274B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5CF84-5439-4884-96E6-7BF134DC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939B1-DADE-451A-A9C1-EA654F6A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36AD7-0AB3-425C-9133-7B955DBB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95B57-B00C-4560-B96D-079FC9D5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3B39F-4099-43D9-AF88-44A2B22C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90D20F-21C1-4C0C-948C-B5832DE7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9B68F-3E4D-4AB1-BAFD-EB696CE1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09041-5979-4F59-BCCC-63F16885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9AB-CE4C-48C6-8AD8-A2BB95D4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3F396-A5EC-4B87-904A-05172B92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3CAF0-015F-4131-85C7-72D741EF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6B66EF-4843-4631-B0A2-4540F923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974117-451A-4CFF-9659-DC87E827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D8C6D9-DD61-4CD0-B5DA-B1C7B208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438FA-21D8-42A5-8814-5C2FD03D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E5BC7-4A11-42A6-A029-9E06D9C0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A1A956-A85C-4DFC-8102-FE8C0BB9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F5C09F-7216-4CB5-85F8-D383585F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0C238-6C27-4931-9129-43AEC915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952-3E80-49C0-9504-0511DA82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80C7E-A5D9-4409-9674-C4795783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F3FD5-616A-4E71-92D3-F3EEF40C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95D67-45D9-474F-85DD-B74B4018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7A4989-5B99-4779-979D-180D31C5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7E706-C08D-4E11-A32F-9FF8201B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29925-C0E5-4E4C-8121-28D7832D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AFBDBF-7670-47B2-8A20-ABBE3828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57005-3B39-4273-9731-8BCFE967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A3721-E57A-49FB-B537-7FF78E44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957AA-5D9F-4021-82B4-80211B2A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C9B-1E2D-4927-81A0-7410A251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22C23-0362-4ECD-800A-75B0A9C1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87DD2-4439-433A-9159-A1717BC3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30F97A-C55B-4189-AAEE-B9790C7B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A56EB-C883-4B1E-9310-69393EAE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680875-A70B-42DD-838A-70801381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DF222-F0E8-47CA-8012-5B769BFD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4BFAC9-F760-4390-8B6C-FBFB277E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BA7FB-0032-46A3-A973-95C4AC83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E3961A-D67B-4F03-A91C-A65791EB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CFE3C-D215-4A7C-99E7-8170ED33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5A4-A9E1-47A2-815B-34C27C23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48AE4-6700-473E-9CB9-1D5F269B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F42364-56A3-447B-93F5-909D6F16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502E27-73B3-4587-9195-C6B77092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20B5E-221D-49AE-9E9C-42C321F9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78B81-ED62-4BDC-8C29-A5738FB3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6C4F3B-C567-4181-9DF9-B57B7738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123BDD-EE17-4C60-B406-63E51C73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58B6C-0F05-4414-AF3D-5905A9E3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838B8-40A7-4840-952C-FD7EDCE6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796F24-0FD0-4A56-9B47-9C1944D3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B1D-F25B-46E2-A51C-EB40FA4C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6E868A-F2CE-426F-96C3-B88EC536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AD19B4-6ECF-41B5-A349-8015BA5D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FB0E3A-2DC6-49F3-A190-E6EAB4B2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EC53A-86AD-4A58-874E-565E0277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45E53-6F07-4EC9-8195-FC5ACC8A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52FEF2-8A19-44E6-8383-992EF302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DA758D-DA2A-42AC-BBDB-685979DD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6F71BB-9DB2-4A45-A9FC-36BC21FF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30F459-53C2-42E2-8EB7-BE857FC9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576AE1-D461-400B-8301-B0F62768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AFE-57E2-429C-9F39-A60DCE46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C1A346-07B2-4949-A1B9-C1DEF382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0D76AF-2A86-4153-98CD-CED97413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1C3649-6FBE-4576-A940-69CC94D3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D158D9-6110-420B-BD83-B63E4A1F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761E4D-909D-4AB0-A55F-EAF20470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ED1495-B96E-436B-B374-446A1E10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234092-585D-44B4-9AE0-0C7A8A5A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E47D60-2EA2-442C-88BF-5AE28FBB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B977BE-043E-4E16-872A-5419CBD0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D29BFF-78DE-451E-A08F-520B6CB2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54D5-1150-4223-9473-6A839B2AC1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C:\Documents and Settings\Admin\Рабочий стол\для шаблонов\прозр2.gif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C448-6DDC-40AC-9280-F0C0394EA6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Admin\Рабочий стол\для шаблонов\ввсс.gif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Admin\Рабочий стол\угадай\Зелёный.gif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\Рабочий стол\для шаблонов\Копия прозр.gif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Рабочий стол\для шаблонов\прозр2.gif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A1F0-972D-4D44-98DE-B1CA7947C4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\Рабочий стол\для шаблонов\прозр2.gif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70BD-3720-4F76-B5C6-F5A043E207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A3A9-2101-4D2E-8513-4801FA583C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ADED-BDED-4B87-AD18-71EB0CC327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665E-9FDA-4298-8629-BD7F8228B8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6C29-300F-46B6-B844-E2B7636BB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4D31-8087-45EF-83FD-272E9096C4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66B9-D03E-4E33-8371-BD6A278FE4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rpt=simage&amp;text=&#1082;&#1088;&#1072;&#1089;&#1080;&#1074;&#1099;&#1081;%20&#1083;&#1077;&#1089;&amp;img_url=stat11.privet.ru%2Flr%2F082aede71f8031fae5604dc87f4af2fa&amp;p=11" TargetMode="External"/><Relationship Id="rId2" Type="http://schemas.openxmlformats.org/officeDocument/2006/relationships/hyperlink" Target="http://images.yandex.ru/yandsearch?nl=1&amp;rpt=simage&amp;text=&#1089;&#1084;&#1077;&#1096;&#1072;&#1085;&#1085;&#1099;&#1081;%20&#1083;&#1077;&#1089;%20&#1082;&#1072;&#1088;&#1090;&#1080;&#1085;&#1082;&#1080;&amp;img_url=img" TargetMode="External"/><Relationship Id="rId3" Type="http://schemas.openxmlformats.org/officeDocument/2006/relationships/hyperlink" Target="http://images.yandex.ru/yandsearch?ed=1&amp;rpt=simage&amp;text=&#1103;&#1088;&#1091;&#1089;&#1099;%20&#1083;&#1077;&#1089;&#1072;&amp;img_url=shopedu.ru%2Fuploaded_files%2Fshop_images%2F936.jpg&amp;p=0" TargetMode="External"/><Relationship Id="rId4" Type="http://schemas.openxmlformats.org/officeDocument/2006/relationships/hyperlink" Target="http://www.netschools.ru/sch758/dyn/yrs1.htm" TargetMode="External"/><Relationship Id="rId5" Type="http://schemas.openxmlformats.org/officeDocument/2006/relationships/hyperlink" Target="http://foto.rambler.ru/users/a_volodin/albums/27445264/photo/48e0d63b-da54-4e9d-0fd0-fc85d58561c1/" TargetMode="External"/><Relationship Id="rId6" Type="http://schemas.openxmlformats.org/officeDocument/2006/relationships/hyperlink" Target="http://foto.rambler.ru/users/a_volodin/albums/27445264/photo/48e0d63b-da54-4e9d-0fd0-fc85d58561c1/" TargetMode="External"/><Relationship Id="rId7" Type="http://schemas.openxmlformats.org/officeDocument/2006/relationships/hyperlink" Target="http://img0.liveinternet.ru/images/attach/c/1/56/745/56745148_1269165960_1267044160_hedgehog03.jpg" TargetMode="External"/><Relationship Id="rId8" Type="http://schemas.openxmlformats.org/officeDocument/2006/relationships/hyperlink" Target="http://stat17.privet.ru/lr/0920ed6b1f0e107b8864bb7036d17c17" TargetMode="External"/><Relationship Id="rId9" Type="http://schemas.openxmlformats.org/officeDocument/2006/relationships/hyperlink" Target="http://images.yandex.ru/yandsearch?nl=1&amp;ed=1&amp;rpt=simage&amp;text=&#1083;&#1086;&#1089;&#1100;%20&#1092;&#1086;&#1090;&#1086;&amp;img_url=www.proza.ru%2F" TargetMode="External"/><Relationship Id="rId10" Type="http://schemas.openxmlformats.org/officeDocument/2006/relationships/hyperlink" Target="http://snegiri.tomsk.ru/upload/resume/34/photo543638463.jpg" TargetMode="External"/><Relationship Id="rId11" Type="http://schemas.openxmlformats.org/officeDocument/2006/relationships/hyperlink" Target="http://images.yandex.ru/yandsearch?nl=1&amp;ed=1&amp;rpt=simage&amp;text=&#1089;&#1086;&#1089;&#1085;&#1072;%20&#1089;&#1080;&#1073;&#1080;&#1088;&#1089;&#1082;&#1072;&#1103;&amp;img_url=img-fotki.yandex.ru%2Fget%2F27%2Faqualux-s.0%2F0_12437_723716b1_XL&amp;p=8" TargetMode="External"/><Relationship Id="rId12" Type="http://schemas.openxmlformats.org/officeDocument/2006/relationships/hyperlink" Target="http://images.yandex.ru/yandsearch?ed=1&amp;rpt=simage&amp;img_url=fanparty.ru%2Fimages%2Ffanclubs%2Fvolf%2Fnews%2F19265%2F18997_news_volf.jpg%3F1277333398&amp;text=&#1074;&#1086;&#1083;&#1082;&amp;p=7" TargetMode="External"/><Relationship Id="rId1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l=1&amp;ed=1&amp;rpt=simage&amp;text=&#1087;&#1072;&#1087;&#1086;&#1088;&#1086;&#1090;&#1085;%D0%25B" TargetMode="External"/><Relationship Id="rId2" Type="http://schemas.openxmlformats.org/officeDocument/2006/relationships/hyperlink" Target="http://images.yandex.ru/yandsearch?ed=1&amp;rpt=simage&amp;text=&#1087;&#1080;&#1078;&#1084;&#1072;&amp;img_url=molbiol.ru%2Fforums%2Fuploads%2Fa001%2Fb009%2Fpost-12150-1171828352.jpg&amp;p=14" TargetMode="External"/><Relationship Id="rId3" Type="http://schemas.openxmlformats.org/officeDocument/2006/relationships/hyperlink" Target="http://www.altaymix.ru/el-obyknovennaya.html" TargetMode="External"/><Relationship Id="rId4" Type="http://schemas.openxmlformats.org/officeDocument/2006/relationships/hyperlink" Target="http://www.quotat.info/wp-content/uploads/2010/08/44-&#1055;&#1088;&#1080;&#1096;&#1074;&#1080;&#1085;.jpg" TargetMode="External"/><Relationship Id="rId5" Type="http://schemas.openxmlformats.org/officeDocument/2006/relationships/hyperlink" Target="http://tbrp79.f5.ru/files/images/compiled/00c/00c8948dd02327efbcae11dcb662eff8.jpg" TargetMode="External"/><Relationship Id="rId6" Type="http://schemas.openxmlformats.org/officeDocument/2006/relationships/hyperlink" Target="http://images.yandex.ru/yandsearch?nl=1&amp;ed=1&amp;rpt=simage&amp;img_url=milaiw.narod.ru%2Fgriby%2Fimage%2Fbel_04.jpg&amp;text=&#1075;&#1088;&#1080;" TargetMode="External"/><Relationship Id="rId7" Type="http://schemas.openxmlformats.org/officeDocument/2006/relationships/hyperlink" Target="http://fotki.yandex.ru/users/tvs-svet/view/88261/?page=1" TargetMode="External"/><Relationship Id="rId8" Type="http://schemas.openxmlformats.org/officeDocument/2006/relationships/hyperlink" Target="http://gamma-aspirin.narod.ru/Grib_Spravka/g163.html" TargetMode="External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рямоугольник 4"/>
          <p:cNvSpPr/>
          <p:nvPr/>
        </p:nvSpPr>
        <p:spPr>
          <a:xfrm>
            <a:off x="3000240" y="5786280"/>
            <a:ext cx="521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WordArt 6"/>
          <p:cNvSpPr txBox="1"/>
          <p:nvPr/>
        </p:nvSpPr>
        <p:spPr>
          <a:xfrm>
            <a:off x="2481120" y="3006720"/>
            <a:ext cx="41817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знь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1840680" y="408240"/>
            <a:ext cx="24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а уч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Лицей № 16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оно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D:\картинки\Аня\2677507.jpg"/>
          <p:cNvPicPr/>
          <p:nvPr/>
        </p:nvPicPr>
        <p:blipFill>
          <a:blip r:embed="rId1"/>
          <a:stretch/>
        </p:blipFill>
        <p:spPr>
          <a:xfrm>
            <a:off x="5003640" y="1484280"/>
            <a:ext cx="3919680" cy="2938320"/>
          </a:xfrm>
          <a:prstGeom prst="rect">
            <a:avLst/>
          </a:prstGeom>
          <a:ln w="0">
            <a:noFill/>
          </a:ln>
        </p:spPr>
      </p:pic>
      <p:sp>
        <p:nvSpPr>
          <p:cNvPr id="521" name="WordArt 6"/>
          <p:cNvSpPr txBox="1"/>
          <p:nvPr/>
        </p:nvSpPr>
        <p:spPr>
          <a:xfrm>
            <a:off x="1763640" y="260280"/>
            <a:ext cx="56880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сные почвы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539640" y="1258920"/>
            <a:ext cx="431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зных лесах почвы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инаковы. Например, в смешанных лесах и тайге – подзолистые почв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4859280" y="458136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иственных ле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остранены серые лес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0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3911760" cy="29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6"/>
          <p:cNvSpPr txBox="1"/>
          <p:nvPr/>
        </p:nvSpPr>
        <p:spPr>
          <a:xfrm>
            <a:off x="1332000" y="189000"/>
            <a:ext cx="62643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чение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6" name="Line 18"/>
          <p:cNvSpPr/>
          <p:nvPr/>
        </p:nvSpPr>
        <p:spPr>
          <a:xfrm>
            <a:off x="608472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7" descr=""/>
          <p:cNvPicPr/>
          <p:nvPr/>
        </p:nvPicPr>
        <p:blipFill>
          <a:blip r:embed="rId1"/>
          <a:stretch/>
        </p:blipFill>
        <p:spPr>
          <a:xfrm>
            <a:off x="0" y="1125360"/>
            <a:ext cx="2879640" cy="24339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8" descr=""/>
          <p:cNvPicPr/>
          <p:nvPr/>
        </p:nvPicPr>
        <p:blipFill>
          <a:blip r:embed="rId2"/>
          <a:stretch/>
        </p:blipFill>
        <p:spPr>
          <a:xfrm>
            <a:off x="2916360" y="1197000"/>
            <a:ext cx="3047760" cy="2376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9" descr=""/>
          <p:cNvPicPr/>
          <p:nvPr/>
        </p:nvPicPr>
        <p:blipFill>
          <a:blip r:embed="rId3"/>
          <a:stretch/>
        </p:blipFill>
        <p:spPr>
          <a:xfrm>
            <a:off x="6084720" y="1125360"/>
            <a:ext cx="2773440" cy="2519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0" descr=""/>
          <p:cNvPicPr/>
          <p:nvPr/>
        </p:nvPicPr>
        <p:blipFill>
          <a:blip r:embed="rId4"/>
          <a:stretch/>
        </p:blipFill>
        <p:spPr>
          <a:xfrm>
            <a:off x="468360" y="3716280"/>
            <a:ext cx="4319640" cy="29829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3" descr=""/>
          <p:cNvPicPr/>
          <p:nvPr/>
        </p:nvPicPr>
        <p:blipFill>
          <a:blip r:embed="rId5"/>
          <a:stretch/>
        </p:blipFill>
        <p:spPr>
          <a:xfrm>
            <a:off x="5003640" y="3860640"/>
            <a:ext cx="35737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313080" cy="2568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3241440" cy="27907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"/>
          <p:cNvPicPr/>
          <p:nvPr/>
        </p:nvPicPr>
        <p:blipFill>
          <a:blip r:embed="rId3"/>
          <a:stretch/>
        </p:blipFill>
        <p:spPr>
          <a:xfrm>
            <a:off x="3635280" y="1916280"/>
            <a:ext cx="2505240" cy="38098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"/>
          <p:cNvPicPr/>
          <p:nvPr/>
        </p:nvPicPr>
        <p:blipFill>
          <a:blip r:embed="rId4"/>
          <a:stretch/>
        </p:blipFill>
        <p:spPr>
          <a:xfrm>
            <a:off x="6227640" y="189000"/>
            <a:ext cx="2700360" cy="2933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" descr=""/>
          <p:cNvPicPr/>
          <p:nvPr/>
        </p:nvPicPr>
        <p:blipFill>
          <a:blip r:embed="rId5"/>
          <a:stretch/>
        </p:blipFill>
        <p:spPr>
          <a:xfrm>
            <a:off x="6227640" y="342900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684360" y="1314360"/>
            <a:ext cx="7848360" cy="5543640"/>
          </a:xfrm>
          <a:prstGeom prst="rect">
            <a:avLst/>
          </a:prstGeom>
          <a:ln w="0">
            <a:noFill/>
          </a:ln>
        </p:spPr>
      </p:pic>
      <p:sp>
        <p:nvSpPr>
          <p:cNvPr id="538" name="WordArt 5"/>
          <p:cNvSpPr txBox="1"/>
          <p:nvPr/>
        </p:nvSpPr>
        <p:spPr>
          <a:xfrm>
            <a:off x="1042920" y="333360"/>
            <a:ext cx="76327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регите лес от пожара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рнет - 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539640" y="1413000"/>
            <a:ext cx="7775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блон презентации «Берёзка» автор: Федотова Виктория Александровна, учитель начальных классов МОУ СОШ с. Лохово Черемховского р-на Иркутской об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539640" y="1916280"/>
            <a:ext cx="806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mages.yandex.ru/yandsearch?ed=1&amp;rpt=simage&amp;text=%D0%BA%D1%80%D0%B0%D1%81%D0%B8%D0%B2%D1%8B%D0%B9%20%D0%BB%D0%B5%D1%81&amp;img_url=stat11.privet.ru%2Flr%2F082aede71f8031fae5604dc87f4af2fa&amp;p=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л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611280" y="242100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mages.yandex.ru/yandsearch?nl=1&amp;rpt=simage&amp;text=%D1%81%D0%BC%D0%B5%D1%88%D0%B0%D0%BD%D0%BD%D1%8B%D0%B9%20%D0%BB%D0%B5%D1%81%20%D0%BA%D0%B0%D1%80%D1%82%D0%B8%D0%BD%D0%BA%D0%B8&amp;img_url=im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мешанный л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539640" y="3068640"/>
            <a:ext cx="78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mages.yandex.ru/yandsearch?ed=1&amp;rpt=simage&amp;text=%D1%8F%D1%80%D1%83%D1%81%D1%8B%20%D0%BB%D0%B5%D1%81%D0%B0&amp;img_url=shopedu.ru%2Fuploaded_files%2Fshop_images%2F936.jpg&amp;p=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русы л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539640" y="3718080"/>
            <a:ext cx="54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netschools.ru/sch758/dyn/yrs1.ht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логические ниши л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519480" y="429264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foto.rambler.ru/users/a_volodin/albums/27445264/photo/48e0d63b-da54-4e9d-0fd0-fc85d58561c1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яц-беля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2"/>
          <p:cNvSpPr/>
          <p:nvPr/>
        </p:nvSpPr>
        <p:spPr>
          <a:xfrm>
            <a:off x="504000" y="4653000"/>
            <a:ext cx="76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img0.liveinternet.ru/images/attach/c/1/56/745/56745148_1269165960_1267044160_hedgehog0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ё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3"/>
          <p:cNvSpPr/>
          <p:nvPr/>
        </p:nvSpPr>
        <p:spPr>
          <a:xfrm>
            <a:off x="519480" y="4941720"/>
            <a:ext cx="5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stat17.privet.ru/lr/0920ed6b1f0e107b8864bb7036d17c1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урый медве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539640" y="5157720"/>
            <a:ext cx="806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images.yandex.ru/yandsearch?nl=1&amp;ed=1&amp;rpt=simage&amp;text=%D0%BB%D0%BE%D1%81%D1%8C%20%D1%84%D0%BE%D1%82%D0%BE&amp;img_url=www.proza.ru%2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ло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5"/>
          <p:cNvSpPr/>
          <p:nvPr/>
        </p:nvSpPr>
        <p:spPr>
          <a:xfrm>
            <a:off x="524160" y="5662440"/>
            <a:ext cx="50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snegiri.tomsk.ru/upload/resume/34/photo54363846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луб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6"/>
          <p:cNvSpPr/>
          <p:nvPr/>
        </p:nvSpPr>
        <p:spPr>
          <a:xfrm>
            <a:off x="611280" y="5877000"/>
            <a:ext cx="828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images.yandex.ru/yandsearch?nl=1&amp;ed=1&amp;rpt=simage&amp;text=%D1%81%D0%BE%D1%81%D0%BD%D0%B0%20%D1%81%D0%B8%D0%B1%D0%B8%D1%80%D1%81%D0%BA%D0%B0%D1%8F&amp;img_url=img-fotki.yandex.ru%2Fget%2F27%2Faqualux-s.0%2F0_12437_723716b1_XL&amp;p=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ибирская сос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7"/>
          <p:cNvSpPr/>
          <p:nvPr/>
        </p:nvSpPr>
        <p:spPr>
          <a:xfrm>
            <a:off x="611280" y="3933720"/>
            <a:ext cx="806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images.yandex.ru/yandsearch?ed=1&amp;rpt=simage&amp;img_url=fanparty.ru%2Fimages%2Ffanclubs%2Fvolf%2Fnews%2F19265%2F18997_news_volf.jpg%3F1277333398&amp;text=%D0%B2%D0%BE%D0%BB%D0%BA&amp;p=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л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4"/>
          <p:cNvSpPr/>
          <p:nvPr/>
        </p:nvSpPr>
        <p:spPr>
          <a:xfrm>
            <a:off x="468360" y="1557360"/>
            <a:ext cx="777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mages.yandex.ru/yandsearch?nl=1&amp;ed=1&amp;rpt=simage&amp;text=%D0%BF%D0%B0%D0%BF%D0%BE%D1%80%D0%BE%D1%82%D0%BD%D0%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апорот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539640" y="1916280"/>
            <a:ext cx="795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mages.yandex.ru/yandsearch?ed=1&amp;rpt=simage&amp;text=%D0%BF%D0%B8%D0%B6%D0%BC%D0%B0&amp;img_url=molbiol.ru%2Fforums%2Fuploads%2Fa001%2Fb009%2Fpost-12150-1171828352.jpg&amp;p=1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иж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468360" y="2276640"/>
            <a:ext cx="47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altaymix.ru/el-obyknovennaya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ель обыкнов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468360" y="2708280"/>
            <a:ext cx="63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quotat.info/wp-content/uploads/2010/08/44-Пришвин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то Пришвина М.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8"/>
          <p:cNvSpPr/>
          <p:nvPr/>
        </p:nvSpPr>
        <p:spPr>
          <a:xfrm>
            <a:off x="443520" y="2492280"/>
            <a:ext cx="652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tbrp79.f5.ru/files/images/compiled/00c/00c8948dd02327efbcae11dcb662eff8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лак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539640" y="2924280"/>
            <a:ext cx="820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images.yandex.ru/yandsearch?nl=1&amp;ed=1&amp;rpt=simage&amp;img_url=milaiw.narod.ru%2Fgriby%2Fimage%2Fbel_04.jpg&amp;text=%D0%B3%D1%80%D0%B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елый гри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528840" y="3357720"/>
            <a:ext cx="44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fotki.yandex.ru/users/tvs-svet/view/88261/?page=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пя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529200" y="3573360"/>
            <a:ext cx="45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gamma-aspirin.narod.ru/Grib_Spravka/g163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мор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468360" y="3789360"/>
            <a:ext cx="820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images.yandex.ru/yandsearch?nl=1&amp;ed=1&amp;rpt=simage&amp;text=%D0%BF%D0%BE%D0%B4%D0%BE%D1%81%D0%B8%D0%BD%D0%BE%D0%B2%D0%B подосинов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539640" y="422100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mages.yandex.ru/yandsearch?ed=1&amp;rpt=simage&amp;text=%D0%B7%D0%B0%D0%B3%D0%BE%D1%82%D0%BE%D0%B2%D0%BA%D0%B0%20 заготовка древес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539640" y="465300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mages.yandex.ru/yandsearch?ed=1&amp;rpt=simage&amp;text=%D1%81%D1%82%D1%80%D0%BE%D0%B8%D1%82%D0%B5%D0%B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городных до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68000" y="1268280"/>
            <a:ext cx="843588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обширная территория, покрытая деревьями и  кустарни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6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4391280" cy="3600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3995640" cy="3562200"/>
          </a:xfrm>
          <a:prstGeom prst="rect">
            <a:avLst/>
          </a:prstGeom>
          <a:ln w="0">
            <a:noFill/>
          </a:ln>
        </p:spPr>
      </p:pic>
      <p:sp>
        <p:nvSpPr>
          <p:cNvPr id="472" name="WordArt 8"/>
          <p:cNvSpPr txBox="1"/>
          <p:nvPr/>
        </p:nvSpPr>
        <p:spPr>
          <a:xfrm>
            <a:off x="2340000" y="260280"/>
            <a:ext cx="381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с -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WordArt 4"/>
          <p:cNvSpPr txBox="1"/>
          <p:nvPr/>
        </p:nvSpPr>
        <p:spPr>
          <a:xfrm>
            <a:off x="1258920" y="404640"/>
            <a:ext cx="65530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сные этажи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686040" cy="428616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6"/>
          <p:cNvSpPr/>
          <p:nvPr/>
        </p:nvSpPr>
        <p:spPr>
          <a:xfrm>
            <a:off x="1549080" y="609300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М. Приш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4211640" y="1685880"/>
            <a:ext cx="432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  птиц и  зверьков в  лесу есть свои этажи:  мышки живут в корнях - в самом  низу; разные птички,  вроде соловья,  вьют  свои  гнездышки прямо на земле; дрозды - еще повыше, на кустарниках; дупляные птицы - дятел, синички, совы – еще повыше;   на  разной высоте по  стволу дерева и  на  самом верху селятся хищники: ястреба и орлы. У них, у зверушек и птиц,  с этажами не  как  у  нас  в  небоскребах:  у  нас  всегда можно с  кем-нибудь перемениться, у них каждая порода живет непременно в своем эта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108000" y="1285560"/>
            <a:ext cx="885672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растения, образующие лес, располагаются в лесу ступенями, или, как их называют в науке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русам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которые леса имеют четыре, пять и даже больше ярус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яру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это главный древесный полог. Его высота доходит до тридцати и даже более мет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ой яру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это подро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подлес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ерт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травяной покр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ят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хи и лишайн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WordArt 4"/>
          <p:cNvSpPr txBox="1"/>
          <p:nvPr/>
        </p:nvSpPr>
        <p:spPr>
          <a:xfrm>
            <a:off x="1908000" y="333360"/>
            <a:ext cx="547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русы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D:\картинки\Аня\936.jpg"/>
          <p:cNvPicPr/>
          <p:nvPr/>
        </p:nvPicPr>
        <p:blipFill>
          <a:blip r:embed="rId1"/>
          <a:stretch/>
        </p:blipFill>
        <p:spPr>
          <a:xfrm>
            <a:off x="250920" y="981000"/>
            <a:ext cx="8618400" cy="5614920"/>
          </a:xfrm>
          <a:prstGeom prst="rect">
            <a:avLst/>
          </a:prstGeom>
          <a:ln w="0">
            <a:noFill/>
          </a:ln>
        </p:spPr>
      </p:pic>
      <p:pic>
        <p:nvPicPr>
          <p:cNvPr id="480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199720" cy="433440"/>
          </a:xfrm>
          <a:prstGeom prst="rect">
            <a:avLst/>
          </a:prstGeom>
          <a:ln w="0">
            <a:noFill/>
          </a:ln>
        </p:spPr>
      </p:pic>
      <p:sp>
        <p:nvSpPr>
          <p:cNvPr id="481" name="WordArt 4"/>
          <p:cNvSpPr txBox="1"/>
          <p:nvPr/>
        </p:nvSpPr>
        <p:spPr>
          <a:xfrm>
            <a:off x="1908000" y="189000"/>
            <a:ext cx="54007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русы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671640" cy="4968720"/>
          </a:xfrm>
          <a:prstGeom prst="rect">
            <a:avLst/>
          </a:prstGeom>
          <a:ln w="0">
            <a:noFill/>
          </a:ln>
        </p:spPr>
      </p:pic>
      <p:sp>
        <p:nvSpPr>
          <p:cNvPr id="483" name="WordArt 5"/>
          <p:cNvSpPr txBox="1"/>
          <p:nvPr/>
        </p:nvSpPr>
        <p:spPr>
          <a:xfrm>
            <a:off x="1042920" y="333360"/>
            <a:ext cx="7274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ие ниши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4190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Прямоугольник 5"/>
          <p:cNvSpPr/>
          <p:nvPr/>
        </p:nvSpPr>
        <p:spPr>
          <a:xfrm>
            <a:off x="6536520" y="37162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ж обыкно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7"/>
          <p:cNvSpPr/>
          <p:nvPr/>
        </p:nvSpPr>
        <p:spPr>
          <a:xfrm rot="20829000">
            <a:off x="4015440" y="38602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яц-бел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9"/>
          <p:cNvSpPr/>
          <p:nvPr/>
        </p:nvSpPr>
        <p:spPr>
          <a:xfrm>
            <a:off x="1376280" y="40053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5" descr="D:\картинки\Аня\los.jpg"/>
          <p:cNvPicPr/>
          <p:nvPr/>
        </p:nvPicPr>
        <p:blipFill>
          <a:blip r:embed="rId1"/>
          <a:stretch/>
        </p:blipFill>
        <p:spPr>
          <a:xfrm>
            <a:off x="5651640" y="4365720"/>
            <a:ext cx="3174840" cy="217152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оугольник 11"/>
          <p:cNvSpPr/>
          <p:nvPr/>
        </p:nvSpPr>
        <p:spPr>
          <a:xfrm>
            <a:off x="6858360" y="64882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D:\картинки\Аня\belka.jpg"/>
          <p:cNvPicPr/>
          <p:nvPr/>
        </p:nvPicPr>
        <p:blipFill>
          <a:blip r:embed="rId2"/>
          <a:stretch/>
        </p:blipFill>
        <p:spPr>
          <a:xfrm rot="20973600">
            <a:off x="3203640" y="4653000"/>
            <a:ext cx="2000160" cy="1415880"/>
          </a:xfrm>
          <a:prstGeom prst="rect">
            <a:avLst/>
          </a:prstGeom>
          <a:ln w="0">
            <a:noFill/>
          </a:ln>
        </p:spPr>
      </p:pic>
      <p:sp>
        <p:nvSpPr>
          <p:cNvPr id="491" name="Прямоугольник 12"/>
          <p:cNvSpPr/>
          <p:nvPr/>
        </p:nvSpPr>
        <p:spPr>
          <a:xfrm rot="21054000">
            <a:off x="4033440" y="62370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14"/>
          <p:cNvSpPr/>
          <p:nvPr/>
        </p:nvSpPr>
        <p:spPr>
          <a:xfrm>
            <a:off x="980280" y="648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урый 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WordArt 16"/>
          <p:cNvSpPr txBox="1"/>
          <p:nvPr/>
        </p:nvSpPr>
        <p:spPr>
          <a:xfrm>
            <a:off x="1187280" y="333360"/>
            <a:ext cx="69138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вотный мир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94" name="Picture 17" descr=""/>
          <p:cNvPicPr/>
          <p:nvPr/>
        </p:nvPicPr>
        <p:blipFill>
          <a:blip r:embed="rId3"/>
          <a:stretch/>
        </p:blipFill>
        <p:spPr>
          <a:xfrm>
            <a:off x="684360" y="1413000"/>
            <a:ext cx="1871640" cy="2624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8" descr=""/>
          <p:cNvPicPr/>
          <p:nvPr/>
        </p:nvPicPr>
        <p:blipFill>
          <a:blip r:embed="rId4"/>
          <a:stretch/>
        </p:blipFill>
        <p:spPr>
          <a:xfrm rot="20761800">
            <a:off x="3348000" y="1413000"/>
            <a:ext cx="1930320" cy="24526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0" descr=""/>
          <p:cNvPicPr/>
          <p:nvPr/>
        </p:nvPicPr>
        <p:blipFill>
          <a:blip r:embed="rId5"/>
          <a:stretch/>
        </p:blipFill>
        <p:spPr>
          <a:xfrm>
            <a:off x="6286680" y="1413000"/>
            <a:ext cx="2857320" cy="22143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1" descr=""/>
          <p:cNvPicPr/>
          <p:nvPr/>
        </p:nvPicPr>
        <p:blipFill>
          <a:blip r:embed="rId6"/>
          <a:stretch/>
        </p:blipFill>
        <p:spPr>
          <a:xfrm>
            <a:off x="539640" y="4653000"/>
            <a:ext cx="245268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16" descr="04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516720" y="5022720"/>
            <a:ext cx="2448000" cy="18352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30"/>
          <p:cNvSpPr/>
          <p:nvPr/>
        </p:nvSpPr>
        <p:spPr>
          <a:xfrm>
            <a:off x="1118160" y="414972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поро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4"/>
          <p:cNvSpPr/>
          <p:nvPr/>
        </p:nvSpPr>
        <p:spPr>
          <a:xfrm>
            <a:off x="5582520" y="630864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ж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15"/>
          <p:cNvSpPr txBox="1"/>
          <p:nvPr/>
        </p:nvSpPr>
        <p:spPr>
          <a:xfrm>
            <a:off x="971640" y="333360"/>
            <a:ext cx="75531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тительность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02" name="Picture 17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2880000" cy="22096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8" descr=""/>
          <p:cNvPicPr/>
          <p:nvPr/>
        </p:nvPicPr>
        <p:blipFill>
          <a:blip r:embed="rId3"/>
          <a:stretch/>
        </p:blipFill>
        <p:spPr>
          <a:xfrm>
            <a:off x="3635280" y="2276640"/>
            <a:ext cx="2570400" cy="366552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19"/>
          <p:cNvSpPr/>
          <p:nvPr/>
        </p:nvSpPr>
        <p:spPr>
          <a:xfrm>
            <a:off x="3636720" y="170028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 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0"/>
          <p:cNvSpPr/>
          <p:nvPr/>
        </p:nvSpPr>
        <p:spPr>
          <a:xfrm>
            <a:off x="1118160" y="36939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1" descr=""/>
          <p:cNvPicPr/>
          <p:nvPr/>
        </p:nvPicPr>
        <p:blipFill>
          <a:blip r:embed="rId4"/>
          <a:stretch/>
        </p:blipFill>
        <p:spPr>
          <a:xfrm>
            <a:off x="539640" y="4581360"/>
            <a:ext cx="2808360" cy="19418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2" descr=""/>
          <p:cNvPicPr/>
          <p:nvPr/>
        </p:nvPicPr>
        <p:blipFill>
          <a:blip r:embed="rId5"/>
          <a:stretch/>
        </p:blipFill>
        <p:spPr>
          <a:xfrm>
            <a:off x="6443640" y="1413000"/>
            <a:ext cx="2158920" cy="307656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23"/>
          <p:cNvSpPr/>
          <p:nvPr/>
        </p:nvSpPr>
        <p:spPr>
          <a:xfrm>
            <a:off x="6443640" y="443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ь обыкно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7" descr="Безымянный"/>
          <p:cNvPicPr/>
          <p:nvPr/>
        </p:nvPicPr>
        <p:blipFill>
          <a:blip r:embed="rId1"/>
          <a:srcRect l="0" t="0" r="0" b="-527"/>
          <a:stretch/>
        </p:blipFill>
        <p:spPr>
          <a:xfrm>
            <a:off x="6659640" y="2205000"/>
            <a:ext cx="2135160" cy="309564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18"/>
          <p:cNvSpPr/>
          <p:nvPr/>
        </p:nvSpPr>
        <p:spPr>
          <a:xfrm>
            <a:off x="686160" y="3213000"/>
            <a:ext cx="14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ый гри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9"/>
          <p:cNvSpPr/>
          <p:nvPr/>
        </p:nvSpPr>
        <p:spPr>
          <a:xfrm>
            <a:off x="3782880" y="321300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с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3"/>
          <p:cNvSpPr/>
          <p:nvPr/>
        </p:nvSpPr>
        <p:spPr>
          <a:xfrm>
            <a:off x="6950160" y="1700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осинов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21"/>
          <p:cNvSpPr/>
          <p:nvPr/>
        </p:nvSpPr>
        <p:spPr>
          <a:xfrm>
            <a:off x="900000" y="64612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23"/>
          <p:cNvSpPr/>
          <p:nvPr/>
        </p:nvSpPr>
        <p:spPr>
          <a:xfrm>
            <a:off x="3780000" y="623736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ор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16"/>
          <p:cNvSpPr txBox="1"/>
          <p:nvPr/>
        </p:nvSpPr>
        <p:spPr>
          <a:xfrm>
            <a:off x="1042920" y="189000"/>
            <a:ext cx="712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чение грибов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16" name="Picture 17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2232000" cy="18748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8" descr=""/>
          <p:cNvPicPr/>
          <p:nvPr/>
        </p:nvPicPr>
        <p:blipFill>
          <a:blip r:embed="rId3"/>
          <a:stretch/>
        </p:blipFill>
        <p:spPr>
          <a:xfrm>
            <a:off x="3419640" y="1557360"/>
            <a:ext cx="2087280" cy="1728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9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1785960" cy="2452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0" descr=""/>
          <p:cNvPicPr/>
          <p:nvPr/>
        </p:nvPicPr>
        <p:blipFill>
          <a:blip r:embed="rId5"/>
          <a:stretch/>
        </p:blipFill>
        <p:spPr>
          <a:xfrm>
            <a:off x="3276720" y="4076640"/>
            <a:ext cx="2449440" cy="206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4:02:27Z</dcterms:created>
  <dc:creator>User</dc:creator>
  <dc:description/>
  <dc:language>en-US</dc:language>
  <cp:lastModifiedBy>viktor</cp:lastModifiedBy>
  <dcterms:modified xsi:type="dcterms:W3CDTF">2019-02-13T11:28:35Z</dcterms:modified>
  <cp:revision>12</cp:revision>
  <dc:subject/>
  <dc:title>Слайд 1</dc:title>
</cp:coreProperties>
</file>