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956-1FDC-4EA4-998E-A9AE271E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4DB-183E-43C6-9D04-13BE06A0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850-4A0F-4CD1-BCA8-61518873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301-8ABF-4035-93FA-0F654441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138-4E0C-4A8A-921C-4C952A41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9D0-5C26-4D9E-8CCA-40A82545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AF8-F3CB-429F-B210-26F99BD6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0DA-08F3-46E7-A0BB-5A25B86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AAD-9321-4F4E-A109-1AB73AB5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BE8-410F-4358-97A9-29F402FB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78A-C39E-4D9A-B096-4748379E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049-188B-4716-9F34-477AB632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23D5-8410-497B-9715-224AF5D84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92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ыступление на пед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«Структура авторской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Этапы подготовки авторской программы к лицензир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252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ля написания авторской программы 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разовательная область, предмет, возраст детей, срок реа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ди которой вводится нов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реализовать поставленную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содерж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бходимые для нов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уровн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л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овать выбор современ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й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писок необходим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труктурные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вторск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о-тематический пл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тельная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8928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яснительная запи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разработки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ы введен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программ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и место программы в образовате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требований ГОС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уровню подготовленности обучаю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вая у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орган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организации учебного сотрудни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ющие материалы: входные , итог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и реализации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272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чебно-тематический план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197000"/>
          <a:ext cx="8424720" cy="4618080"/>
        </p:xfrm>
        <a:graphic>
          <a:graphicData uri="http://schemas.openxmlformats.org/drawingml/2006/table">
            <a:tbl>
              <a:tblPr/>
              <a:tblGrid>
                <a:gridCol w="2172960"/>
                <a:gridCol w="998640"/>
                <a:gridCol w="1011240"/>
                <a:gridCol w="1123920"/>
                <a:gridCol w="1208160"/>
                <a:gridCol w="1909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проду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1. 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 Резервн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 раздел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2. 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по раздел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чебно-тематически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1614600"/>
                <a:gridCol w="887400"/>
                <a:gridCol w="904680"/>
                <a:gridCol w="1204920"/>
                <a:gridCol w="1106640"/>
                <a:gridCol w="1204920"/>
                <a:gridCol w="1512720"/>
              </a:tblGrid>
              <a:tr h="108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держание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держание определяется задачами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держание структурируется (выделяются разделы, темы, подте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кст содержания программы строго соответствует учебно-тематическому пл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звания разделов, тем, подтем начинаются с абза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е допускается использование сложных синтаксических конструкций и фраз, имеющих многозначное толк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одятся два списка литературы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Используемый педагогом при составлении    программы и организации учеб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ля обучающихся (учебники, учебные пособия, справочники, энциклопедии и другие источники информации по предмет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15640" y="475920"/>
            <a:ext cx="7643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ы занятий (урок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ы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диагностических мето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тические справки по результатам работы (результатив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формление авторск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чатном и электронном ви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ис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-RW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Размер шрифта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междустрочный интервал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Все поля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661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цедура подгот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вторской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 лицензированию: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копление и рефлексия собствен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резентация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консультация с администрацией лицея и специали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привлечение специалистов разного уровня к научному руководст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оформление авторск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апробация авторск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) привлечение экспертов к оценке результатов апробации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) рецензирование программы двумя специалистами (высшая школа, орган управления образова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) заявка на лицензирование авторской 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856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рограмма –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ющий основное содержание матери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вающий цели и задачи образ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ующий формы организации за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дидактически обоснованная система основных элементов содержания соответствующей отрасли науки или искус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проектно-программного подхода, программа – это ориентированное на будущее инструментально-управленческое зн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гнатьева Г.А., Волкова В.О., Шишкина О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дактика развивающе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.Новгород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акет доку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а лицензир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в печатном и электронном вариа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е рецензии (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авка о реализации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 (два экземпля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азличают програм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ые (авторские, тип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е (авторские, тип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Авторская програм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образовательной программы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ност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зданной педагогом или коллективом педагогов, отличающей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виз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уа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дназначенной для решения определённой проблемы в дополнительном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Цель создания авторской программ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определённой проблемы в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жение разнообразия образования и организации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ервое обязательное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слов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е программы требования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а РФ «Об образова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ндартам второго поко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мерным требованиям к программам дополнительного образования детей (письмо Министерства образования Российской Федерации от 11.12. 2006 г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№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06-18-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вторск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 flipH="1">
            <a:off x="2268000" y="1341360"/>
            <a:ext cx="86220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156360" y="1341360"/>
            <a:ext cx="8636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2565360"/>
            <a:ext cx="8785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пособу разработки        по степени новиз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- адаптивная                           - пед. иннов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комбинаторная                    - пед. изобре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адикальная                         - пед. откр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Авторск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 flipH="1">
            <a:off x="1835280" y="1341360"/>
            <a:ext cx="79200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6300720" y="1341360"/>
            <a:ext cx="792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256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ая                          Учеб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572000" y="1341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76360" y="378936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сно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ачестве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бразовательных програм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гност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цион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алистич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тролируем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рректиру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8:59:00Z</dcterms:created>
  <dc:creator>rigina</dc:creator>
  <dc:description/>
  <dc:language>en-US</dc:language>
  <cp:lastModifiedBy>teacher</cp:lastModifiedBy>
  <dcterms:modified xsi:type="dcterms:W3CDTF">2016-06-14T07:50:23Z</dcterms:modified>
  <cp:revision>96</cp:revision>
  <dc:subject/>
  <dc:title>Муниципальное образовательное учреждение Лицей №165 имени 65-летия «ГАЗ» </dc:title>
</cp:coreProperties>
</file>