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782-1FC5-4B91-9601-FCAAFA6E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8C71-1D09-446D-8CFC-5288B805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8840-8C69-4D14-9E93-8C9B2FCB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B1E-8019-4E73-A04F-8CCD0420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6C1-618E-49F8-BEFC-2E7717E7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D569-6BAC-4FA1-B3FF-9F8CD36F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A42E-B692-472C-A488-63043019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59B3-86DD-4A7F-9943-EE8799F4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6792-E362-4F4A-9491-9F201946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5AA4-E599-4A29-B60B-B8D9F06B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250-4530-4F51-818C-4F97BF2C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D8E-5BBA-4863-B190-92A88826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5F17-D2AC-4115-BC9A-406D9B1C4A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9236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ыступление на педсо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«Структура авторской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Этапы подготовки авторской программы к лицензирова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252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Для написания авторской программы 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разовательная область, предмет, возраст детей, срок реал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о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ди которой вводится нов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яющие реализовать поставленную 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содерж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обходимые для нов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бования к уровн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ле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овать выбор современны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й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список необходим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труктурные элемен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вторско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о-тематический пла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тельная ча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онное обеспе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8000" y="333000"/>
            <a:ext cx="8928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ояснительная запис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уальность разработки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ины введения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программного матери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ь и место программы в образовательн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т требований ГОС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ования к уровню подготовленности обучаю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евая устан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а програм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организации учеб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организации учебного сотрудни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ирующие материалы: входные , итог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ки реализации програм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899640" y="333000"/>
            <a:ext cx="72723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чебно-тематический план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24000" y="1197000"/>
          <a:ext cx="8424720" cy="4618080"/>
        </p:xfrm>
        <a:graphic>
          <a:graphicData uri="http://schemas.openxmlformats.org/drawingml/2006/table">
            <a:tbl>
              <a:tblPr/>
              <a:tblGrid>
                <a:gridCol w="2172960"/>
                <a:gridCol w="998640"/>
                <a:gridCol w="1011240"/>
                <a:gridCol w="1123920"/>
                <a:gridCol w="1208160"/>
                <a:gridCol w="190980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зделов и 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й проду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1. 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зервное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по разделу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2. 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по разделу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чебно-тематический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435880" cy="4525920"/>
        </p:xfrm>
        <a:graphic>
          <a:graphicData uri="http://schemas.openxmlformats.org/drawingml/2006/table">
            <a:tbl>
              <a:tblPr/>
              <a:tblGrid>
                <a:gridCol w="1614600"/>
                <a:gridCol w="887400"/>
                <a:gridCol w="904680"/>
                <a:gridCol w="1204920"/>
                <a:gridCol w="1106640"/>
                <a:gridCol w="1204920"/>
                <a:gridCol w="1512720"/>
              </a:tblGrid>
              <a:tr h="1082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зделов и 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ьн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421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одержание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Содержание определяется задачами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одержание структурируется (выделяются разделы, темы, подтем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Текст содержания программы строго соответствует учебно-тематическому пл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Названия разделов, тем, подтем начинаются с абза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Не допускается использование сложных синтаксических конструкций и фраз, имеющих многозначное толк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нформационное обеспечение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водятся два списка литературы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Используемый педагогом при составлении    программы и организации учеб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Для обучающихся (учебники, учебные пособия, справочники, энциклопедии и другие источники информации по предмет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115640" y="475920"/>
            <a:ext cx="76438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и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дактически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ы занятий (урок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ы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диагностических метод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тические справки по результатам работы (результатив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Оформление авторско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чатном и электронном ви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ис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-RW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  Размер шрифта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междустрочный интервал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,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  Все поля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6612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роцедура подгот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авторской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к лицензированию: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накопление и рефлексия собственного оп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презентация оп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консультация с администрацией лицея и специалис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привлечение специалистов разного уровня к научному руководст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оформление авторско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) апробация авторско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) привлечение экспертов к оценке результатов апробации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) рецензирование программы двумя специалистами (высшая школа, орган управления образовани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) заявка на лицензирование авторской 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856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Программа –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ющий основное содержание матери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вающий цели и задачи образов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ующий формы организации зан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дидактически обоснованная система основных элементов содержания соответствующей отрасли науки или искус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точки зрения проектно-программного подхода, программа – это ориентированное на будущее инструментально-управленческое зн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гнатьева Г.А., Волкова В.О., Шишкина О.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идактика развивающего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.Новгород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акет доку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на лицензир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в печатном и электронном вариан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шние рецензии (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авка о реализации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говор (два экземпля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Различают програм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тельные (авторские, типов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ые (авторские, типов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олн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убл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Авторская програм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 образовательной программы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лност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зданной педагогом или коллективом педагогов, отличающей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овиз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ктуаль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едназначенной для решения определённой проблемы в дополнительном образов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Цель создания авторской программы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определённой проблемы в образов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ижение разнообразия образования и организации 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ервое обязательное</a:t>
            </a: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услови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ветствие программы требованиям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она РФ «Об образован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андартам второго поко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мерным требованиям к программам дополнительного образования детей (письмо Министерства образования Российской Федерации от 11.12. 2006 г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№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06-18-4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вторская 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 flipH="1">
            <a:off x="2268000" y="1341360"/>
            <a:ext cx="86220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6156360" y="1341360"/>
            <a:ext cx="86364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79280" y="2565360"/>
            <a:ext cx="8785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пособу разработки        по степени новиз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- адаптивная                           - пед. иннов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комбинаторная                    - пед. изобре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радикальная                         - пед. откры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вторская 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 flipH="1">
            <a:off x="1835280" y="1341360"/>
            <a:ext cx="79200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6300720" y="1341360"/>
            <a:ext cx="792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0" y="256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тельная                          Учеб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4572000" y="134136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476360" y="378936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лнительно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Основ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ачественные характерис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образовательных програм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гностич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цион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алистичнос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нтролируемос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рректируе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8:59:00Z</dcterms:created>
  <dc:creator>rigina</dc:creator>
  <dc:description/>
  <dc:language>en-US</dc:language>
  <cp:lastModifiedBy>teacher</cp:lastModifiedBy>
  <dcterms:modified xsi:type="dcterms:W3CDTF">2016-06-14T07:50:23Z</dcterms:modified>
  <cp:revision>96</cp:revision>
  <dc:subject/>
  <dc:title>Муниципальное образовательное учреждение Лицей №165 имени 65-летия «ГАЗ» </dc:title>
</cp:coreProperties>
</file>