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46D-93F6-447A-8AB1-60409437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DF7-18D4-4128-B0B9-C386F0DB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C5B-6B8C-439E-88B3-261CFFF3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22C-39A5-4A41-84F9-BC0300D5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70B-49D0-4177-A2D0-852A1F86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044-0C62-42BC-8E82-1556CEDF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D9A-01A1-447B-A8B1-F541556A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DB7-9FE6-48C4-8F03-2B0B3393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F3E-FD56-416C-B304-0EBDE347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210-C60F-49D1-A445-2D19BC4B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1B8-1ECD-49DC-B4F4-78DD1ED1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706-B14D-475C-92AF-3F7C506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8559-7D56-40BA-87DF-580407B7D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9236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ыступление на пед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«Структура авторской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Этапы подготовки авторской программы к лицензир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252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ля написания авторской программы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разовательная область, предмет, возраст детей, срок реа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ди которой вводится нов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е реализовать поставленную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содерж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бходимые для нов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уровн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л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овать выбор современн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й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список необходим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труктурные эле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вторск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о-тематический пл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тельная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8928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разработки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ы введени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программ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и место программы в образовате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требований ГОС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уровню подготовленности обуча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вая у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организации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организации учебного сотрудни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ющие материалы: входные , итог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и реализации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99640" y="333000"/>
            <a:ext cx="7272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чебно-тематический план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1197000"/>
          <a:ext cx="8424720" cy="4618080"/>
        </p:xfrm>
        <a:graphic>
          <a:graphicData uri="http://schemas.openxmlformats.org/drawingml/2006/table">
            <a:tbl>
              <a:tblPr/>
              <a:tblGrid>
                <a:gridCol w="2172960"/>
                <a:gridCol w="998640"/>
                <a:gridCol w="1011240"/>
                <a:gridCol w="1123920"/>
                <a:gridCol w="1208160"/>
                <a:gridCol w="1909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проду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1. 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зервн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по раздел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2. 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по раздел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чебно-тематически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1614600"/>
                <a:gridCol w="887400"/>
                <a:gridCol w="904680"/>
                <a:gridCol w="1204920"/>
                <a:gridCol w="1106640"/>
                <a:gridCol w="1204920"/>
                <a:gridCol w="1512720"/>
              </a:tblGrid>
              <a:tr h="1082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держание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держание определяется задачами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держание структурируется (выделяются разделы, темы, подте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кст содержания программы строго соответствует учебно-тематическому пл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звания разделов, тем, подтем начинаются с абза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е допускается использование сложных синтаксических конструкций и фраз, имеющих многозначное толк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одятся два списка литературы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Используемый педагогом при составлении    программы и организации учеб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ля обучающихся (учебники, учебные пособия, справочники, энциклопедии и другие источники информации по предмет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15640" y="475920"/>
            <a:ext cx="7643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ы занятий (урок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ы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диагностических мето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тические справки по результатам работы (результатив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формление авторск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чатном и электронном ви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ис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-RW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Размер шрифта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междустрочный интервал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Все поля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661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оцедура подгот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вторской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 лицензированию: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копление и рефлексия собствен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резентация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консультация с администрацией лицея и специали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привлечение специалистов разного уровня к научному руководст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оформление авторск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апробация авторск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) привлечение экспертов к оценке результатов апробации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) рецензирование программы двумя специалистами (высшая школа, орган управления образова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) заявка на лицензирование авторской 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856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рограмма –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ющий основное содержание матери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вающий цели и задачи образ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ующий формы организации за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дидактически обоснованная система основных элементов содержания соответствующей отрасли науки или искус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проектно-программного подхода, программа – это ориентированное на будущее инструментально-управленческое зн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гнатьева Г.А., Волкова В.О., Шишкина О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дактика развивающе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.Новгород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акет доку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а лицензир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в печатном и электронном вариа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ие рецензии (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авка о реализации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 (два экземпля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азличают програм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ые (авторские, типов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е (авторские, типов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Авторская програм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образовательной программы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ност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зданной педагогом или коллективом педагогов, отличающей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виз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ктуа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едназначенной для решения определённой проблемы в дополнительном обра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Цель создания авторской программ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определённой проблемы в обра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жение разнообразия образования и организации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ервое обязательное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слов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ие программы требования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а РФ «Об образова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ндартам второго поко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мерным требованиям к программам дополнительного образования детей (письмо Министерства образования Российской Федерации от 11.12. 2006 г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№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06-18-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вторск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 flipH="1">
            <a:off x="2268000" y="1341360"/>
            <a:ext cx="86220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156360" y="1341360"/>
            <a:ext cx="863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2565360"/>
            <a:ext cx="8785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пособу разработки        по степени новиз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- адаптивная                           - пед. иннов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комбинаторная                    - пед. изобре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радикальная                         - пед. откр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вторск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 flipH="1">
            <a:off x="1835280" y="1341360"/>
            <a:ext cx="79200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6300720" y="1341360"/>
            <a:ext cx="792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256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ая                          Учеб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572000" y="1341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76360" y="378936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сно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ачественны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бразовательных програм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гност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цион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алистич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тролируем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рректиру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8:59:00Z</dcterms:created>
  <dc:creator>rigina</dc:creator>
  <dc:description/>
  <dc:language>en-US</dc:language>
  <cp:lastModifiedBy>teacher</cp:lastModifiedBy>
  <dcterms:modified xsi:type="dcterms:W3CDTF">2016-06-14T07:50:23Z</dcterms:modified>
  <cp:revision>96</cp:revision>
  <dc:subject/>
  <dc:title>Муниципальное образовательное учреждение Лицей №165 имени 65-летия «ГАЗ» </dc:title>
</cp:coreProperties>
</file>