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8.jpeg" ContentType="image/jpeg"/>
  <Override PartName="/ppt/media/image7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18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12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E646-3A88-4BFE-8782-278B88EDE7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742C-59ED-4D48-B77C-A3019C23BE2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B0F8-754D-4511-99F7-7A66FD2D69F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2A2-C41F-4D4F-843A-5E2CA04B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BAA-9450-46D9-AF08-C58BD003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DAA-E1BB-4B85-B451-94989D5B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E29-8F29-42F5-8F63-FB49586F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387-F89D-45ED-9F29-E1398F9C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FA6-0816-4434-AF94-14F241A2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6F97-A0B3-4E0F-A120-C715BF64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FE7-F5F3-4231-BE7D-0A0BC384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16C-3CAF-49DA-A912-CFF2525B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20F-FB88-4726-9CE4-858B5BD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14F-F2A0-469F-B89D-4039F71A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447-9BA5-4FBD-861B-75B5241B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DBD2-2BE5-495B-B691-E335757578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1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32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" Target="slide26.xml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1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0" descr=""/>
          <p:cNvPicPr/>
          <p:nvPr/>
        </p:nvPicPr>
        <p:blipFill>
          <a:blip r:embed="rId3"/>
          <a:stretch/>
        </p:blipFill>
        <p:spPr>
          <a:xfrm>
            <a:off x="2401920" y="36360"/>
            <a:ext cx="6486480" cy="2865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HALIL\Desktop\к уроку\инт.JPG"/>
          <p:cNvPicPr/>
          <p:nvPr/>
        </p:nvPicPr>
        <p:blipFill>
          <a:blip r:embed="rId4"/>
          <a:srcRect l="1921" t="2436" r="3851" b="0"/>
          <a:stretch/>
        </p:blipFill>
        <p:spPr>
          <a:xfrm>
            <a:off x="3071880" y="3357720"/>
            <a:ext cx="350028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3500280" y="4071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4071960" y="4143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5643720" y="33577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500280" y="5072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6215040" y="55008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18"/>
          <p:cNvSpPr/>
          <p:nvPr/>
        </p:nvSpPr>
        <p:spPr>
          <a:xfrm flipH="1">
            <a:off x="4785480" y="335772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5643720" y="57150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38599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6000840" y="3867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3286080" y="5715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24"/>
          <p:cNvSpPr/>
          <p:nvPr/>
        </p:nvSpPr>
        <p:spPr>
          <a:xfrm>
            <a:off x="5072040" y="4214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25"/>
          <p:cNvSpPr/>
          <p:nvPr/>
        </p:nvSpPr>
        <p:spPr>
          <a:xfrm>
            <a:off x="6072120" y="421488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3929040" y="3500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4500720" y="5929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3357720" y="3429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30"/>
          <p:cNvSpPr/>
          <p:nvPr/>
        </p:nvSpPr>
        <p:spPr>
          <a:xfrm>
            <a:off x="3214800" y="4643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214200" y="232560"/>
            <a:ext cx="8715600" cy="39333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На уроке окружающего мира Васе задали найти изображения динозавров. Он захотел скачать картинку в Интернете, нажал кнопку «скачать», на экране появилось сообщение отправить SMS на указанный номер в Интернете. Как поступить Васе?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Kozuka Mincho Pr6N 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Отправить  SMS на указанный номер в Интерне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Проверить этот номер в Интерне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 скачивать больше картинки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2500200" y="4857840"/>
            <a:ext cx="3643560" cy="114300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Отправь 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MS на номер: 890990966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2" descr=""/>
          <p:cNvPicPr/>
          <p:nvPr/>
        </p:nvPicPr>
        <p:blipFill>
          <a:blip r:embed="rId2"/>
          <a:stretch/>
        </p:blipFill>
        <p:spPr>
          <a:xfrm>
            <a:off x="0" y="281160"/>
            <a:ext cx="9144000" cy="253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C:\Users\HALIL\Desktop\к уроку\паутина.JPG"/>
          <p:cNvPicPr/>
          <p:nvPr/>
        </p:nvPicPr>
        <p:blipFill>
          <a:blip r:embed="rId3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" descr=""/>
          <p:cNvPicPr/>
          <p:nvPr/>
        </p:nvPicPr>
        <p:blipFill>
          <a:blip r:embed="rId4"/>
          <a:srcRect l="2377" t="2205" r="2377" b="0"/>
          <a:stretch/>
        </p:blipFill>
        <p:spPr>
          <a:xfrm>
            <a:off x="1285920" y="28576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5"/>
          <a:stretch/>
        </p:blipFill>
        <p:spPr>
          <a:xfrm>
            <a:off x="4857840" y="4286160"/>
            <a:ext cx="2557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214200" y="232560"/>
            <a:ext cx="8715600" cy="39333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Паутинкин познакомился в Интернете  с учеником 3 класса  Иваном Неизвестным. Иван не учится с Васей в одной школе, и вообще Вася его ни разу не вид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Однажды Иван пригласил Васю встретится с ним  в парке. Что делать Вас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Пойти на встреч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Пойти на встречу вместе с мамой или пап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 ходить на встреч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214800" y="4357800"/>
            <a:ext cx="28573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2" descr=""/>
          <p:cNvPicPr/>
          <p:nvPr/>
        </p:nvPicPr>
        <p:blipFill>
          <a:blip r:embed="rId2"/>
          <a:stretch/>
        </p:blipFill>
        <p:spPr>
          <a:xfrm>
            <a:off x="573120" y="420840"/>
            <a:ext cx="8570880" cy="1804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rcRect l="0" t="0" r="1409" b="0"/>
          <a:stretch/>
        </p:blipFill>
        <p:spPr>
          <a:xfrm>
            <a:off x="285840" y="2857680"/>
            <a:ext cx="5000400" cy="2847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4"/>
          <a:srcRect l="3582" t="0" r="3582" b="0"/>
          <a:stretch/>
        </p:blipFill>
        <p:spPr>
          <a:xfrm>
            <a:off x="5572080" y="2500200"/>
            <a:ext cx="2571840" cy="3576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" descr="C:\Users\HALIL\Desktop\к уроку\паутина.JPG"/>
          <p:cNvPicPr/>
          <p:nvPr/>
        </p:nvPicPr>
        <p:blipFill>
          <a:blip r:embed="rId5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9" descr=""/>
          <p:cNvPicPr/>
          <p:nvPr/>
        </p:nvPicPr>
        <p:blipFill>
          <a:blip r:embed="rId2"/>
          <a:stretch/>
        </p:blipFill>
        <p:spPr>
          <a:xfrm>
            <a:off x="639720" y="633240"/>
            <a:ext cx="7718400" cy="187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ALIL\Desktop\к уроку\салют.gif"/>
          <p:cNvPicPr/>
          <p:nvPr/>
        </p:nvPicPr>
        <p:blipFill>
          <a:blip r:embed="rId3"/>
          <a:stretch/>
        </p:blipFill>
        <p:spPr>
          <a:xfrm>
            <a:off x="2214720" y="2571840"/>
            <a:ext cx="4805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" descr="C:\Users\HALIL\Desktop\к уроку\телефон.JPG"/>
          <p:cNvPicPr/>
          <p:nvPr/>
        </p:nvPicPr>
        <p:blipFill>
          <a:blip r:embed="rId2"/>
          <a:stretch/>
        </p:blipFill>
        <p:spPr>
          <a:xfrm>
            <a:off x="4143240" y="1571760"/>
            <a:ext cx="1016280" cy="1807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newspapers"/>
          <p:cNvPicPr/>
          <p:nvPr/>
        </p:nvPicPr>
        <p:blipFill>
          <a:blip r:embed="rId3"/>
          <a:stretch/>
        </p:blipFill>
        <p:spPr>
          <a:xfrm>
            <a:off x="6072120" y="1500120"/>
            <a:ext cx="231948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Users\HALIL\Desktop\к уроку\телевизор.JPG"/>
          <p:cNvPicPr/>
          <p:nvPr/>
        </p:nvPicPr>
        <p:blipFill>
          <a:blip r:embed="rId4"/>
          <a:stretch/>
        </p:blipFill>
        <p:spPr>
          <a:xfrm>
            <a:off x="428760" y="1571760"/>
            <a:ext cx="2714400" cy="1714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Users\HALIL\Desktop\к уроку\компьютер.JPG"/>
          <p:cNvPicPr/>
          <p:nvPr/>
        </p:nvPicPr>
        <p:blipFill>
          <a:blip r:embed="rId5"/>
          <a:srcRect l="0" t="0" r="11765" b="18435"/>
          <a:stretch/>
        </p:blipFill>
        <p:spPr>
          <a:xfrm>
            <a:off x="500040" y="4214880"/>
            <a:ext cx="3286080" cy="221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C:\Users\HALIL\Desktop\к уроку\интернет.JPG"/>
          <p:cNvPicPr/>
          <p:nvPr/>
        </p:nvPicPr>
        <p:blipFill>
          <a:blip r:embed="rId6"/>
          <a:stretch/>
        </p:blipFill>
        <p:spPr>
          <a:xfrm>
            <a:off x="5072040" y="4143240"/>
            <a:ext cx="335772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9" descr=""/>
          <p:cNvPicPr/>
          <p:nvPr/>
        </p:nvPicPr>
        <p:blipFill>
          <a:blip r:embed="rId7"/>
          <a:stretch/>
        </p:blipFill>
        <p:spPr>
          <a:xfrm>
            <a:off x="1663560" y="212760"/>
            <a:ext cx="6390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Users\HALIL\Desktop\к уроку\инт.JPG"/>
          <p:cNvPicPr/>
          <p:nvPr/>
        </p:nvPicPr>
        <p:blipFill>
          <a:blip r:embed="rId2"/>
          <a:srcRect l="0" t="2436" r="0" b="0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785880" y="571680"/>
            <a:ext cx="71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hlinkClick r:id="rId3" action="ppaction://hlinksldjump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6572160" y="1071720"/>
            <a:ext cx="78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4" action="ppaction://hlinksldjump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 flipH="1">
            <a:off x="2285280" y="85716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5" action="ppaction://hlinksldjump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428760" y="5214960"/>
            <a:ext cx="150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6" action="ppaction://hlinksldjump"/>
              </a:rPr>
              <a:t>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5286240" y="214200"/>
            <a:ext cx="10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7" action="ppaction://hlinksldjump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4429080" y="535788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8" action="ppaction://hlinksldjump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6786720" y="5286240"/>
            <a:ext cx="92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9" action="ppaction://hlinksldjump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7143840" y="142920"/>
            <a:ext cx="107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0" action="ppaction://hlinksldjump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7643880" y="1214280"/>
            <a:ext cx="128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1" action="ppaction://hlinksldjump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3500280" y="0"/>
            <a:ext cx="7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2" action="ppaction://hlinksldjump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714240" y="371484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3" action="ppaction://hlinksldjump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4572000" y="1928880"/>
            <a:ext cx="13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4" action="ppaction://hlinksldjump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 flipH="1">
            <a:off x="2428920" y="4643280"/>
            <a:ext cx="128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5" action="ppaction://hlinksldjump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7929720" y="4357800"/>
            <a:ext cx="121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  <a:ea typeface="Arial"/>
              </a:rPr>
              <a:t>1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214200" y="1857240"/>
            <a:ext cx="171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  <a:ea typeface="Arial"/>
              </a:rPr>
              <a:t>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" descr="C:\Users\HALIL\Desktop\к уроку\паутина.JPG"/>
          <p:cNvPicPr/>
          <p:nvPr/>
        </p:nvPicPr>
        <p:blipFill>
          <a:blip r:embed="rId16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214200" y="228240"/>
            <a:ext cx="8715600" cy="30801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Ученик 3 класса  Вася Паутинкин зашел на незнакомый ему сайт. Вдруг на экране  компьютера появились непонятные Васе сообщения. Что Васе предприня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Закрыть сай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Обратиться к родителям за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Самому устранить неисправ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3857760" y="4214880"/>
            <a:ext cx="5000400" cy="164304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Анти-бот проверка - введите номер телефона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12"/>
          <p:cNvSpPr/>
          <p:nvPr/>
        </p:nvSpPr>
        <p:spPr>
          <a:xfrm>
            <a:off x="5214960" y="5357880"/>
            <a:ext cx="2643120" cy="3571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8358120" y="4214880"/>
            <a:ext cx="50004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C:\Users\HALIL\Desktop\к уроку\ва.JPG"/>
          <p:cNvPicPr/>
          <p:nvPr/>
        </p:nvPicPr>
        <p:blipFill>
          <a:blip r:embed="rId3"/>
          <a:srcRect l="2252" t="3004" r="0" b="0"/>
          <a:stretch/>
        </p:blipFill>
        <p:spPr>
          <a:xfrm>
            <a:off x="357120" y="3643200"/>
            <a:ext cx="33577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C:\Users\HALIL\Desktop\к уроку\родители.JPG"/>
          <p:cNvPicPr/>
          <p:nvPr/>
        </p:nvPicPr>
        <p:blipFill>
          <a:blip r:embed="rId2"/>
          <a:stretch/>
        </p:blipFill>
        <p:spPr>
          <a:xfrm>
            <a:off x="1928880" y="2786040"/>
            <a:ext cx="4857840" cy="307188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3" descr=""/>
          <p:cNvPicPr/>
          <p:nvPr/>
        </p:nvPicPr>
        <p:blipFill>
          <a:blip r:embed="rId3"/>
          <a:stretch/>
        </p:blipFill>
        <p:spPr>
          <a:xfrm>
            <a:off x="360360" y="706320"/>
            <a:ext cx="835668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14200" y="234360"/>
            <a:ext cx="8715600" cy="43599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Паутинкин,  бывая в Интернете, часто сталкивается с неприятной информацией, которая «лезет со всех сторон», она мешает ему работать в Интернете. Как Васе избавиться от ненужной информации, чтобы пользоваться только интересными ему страничка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Установить антивирусную програм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Установить на свой браузер фильт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Установить новый брауз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C:\Users\HALIL\Desktop\к уроку\васи.JPG"/>
          <p:cNvPicPr/>
          <p:nvPr/>
        </p:nvPicPr>
        <p:blipFill>
          <a:blip r:embed="rId2"/>
          <a:stretch/>
        </p:blipFill>
        <p:spPr>
          <a:xfrm>
            <a:off x="3143160" y="4786200"/>
            <a:ext cx="2428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Users\HALIL\Desktop\к уроку\фильтр.JPG"/>
          <p:cNvPicPr/>
          <p:nvPr/>
        </p:nvPicPr>
        <p:blipFill>
          <a:blip r:embed="rId2"/>
          <a:srcRect l="0" t="3095" r="0" b="0"/>
          <a:stretch/>
        </p:blipFill>
        <p:spPr>
          <a:xfrm>
            <a:off x="843120" y="3071880"/>
            <a:ext cx="35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3" descr=""/>
          <p:cNvPicPr/>
          <p:nvPr/>
        </p:nvPicPr>
        <p:blipFill>
          <a:blip r:embed="rId3"/>
          <a:stretch/>
        </p:blipFill>
        <p:spPr>
          <a:xfrm>
            <a:off x="639720" y="281160"/>
            <a:ext cx="8364600" cy="253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5"/>
          <a:srcRect l="3060" t="1348" r="0" b="0"/>
          <a:stretch/>
        </p:blipFill>
        <p:spPr>
          <a:xfrm>
            <a:off x="5000760" y="3071880"/>
            <a:ext cx="3500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14200" y="234360"/>
            <a:ext cx="8715600" cy="43599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Паутинкин на уроке информатики создал себе электронный ящик. Теперь он может обмениваться сообщениями со своими друзьями. Сегодня  на адрес его электронной почты пришло сообщение: файл с игрой от неизвестного пользователя. Как поступить Вас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Скачать  файл и  начать игр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 открывать фай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Отправить файл своим друзья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C:\Users\HALIL\Desktop\к уроку\игра.JPG"/>
          <p:cNvPicPr/>
          <p:nvPr/>
        </p:nvPicPr>
        <p:blipFill>
          <a:blip r:embed="rId2"/>
          <a:srcRect l="1974" t="0" r="0" b="0"/>
          <a:stretch/>
        </p:blipFill>
        <p:spPr>
          <a:xfrm>
            <a:off x="2357280" y="4686480"/>
            <a:ext cx="35388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HALIL\Desktop\к уроку\антивирусы.JPG"/>
          <p:cNvPicPr/>
          <p:nvPr/>
        </p:nvPicPr>
        <p:blipFill>
          <a:blip r:embed="rId2"/>
          <a:srcRect l="5378" t="0" r="0" b="0"/>
          <a:stretch/>
        </p:blipFill>
        <p:spPr>
          <a:xfrm>
            <a:off x="2143080" y="3571920"/>
            <a:ext cx="4643640" cy="314316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3" descr=""/>
          <p:cNvPicPr/>
          <p:nvPr/>
        </p:nvPicPr>
        <p:blipFill>
          <a:blip r:embed="rId3"/>
          <a:stretch/>
        </p:blipFill>
        <p:spPr>
          <a:xfrm>
            <a:off x="96840" y="208080"/>
            <a:ext cx="8950320" cy="349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3:02:39Z</dcterms:created>
  <dc:creator>HALIL</dc:creator>
  <dc:description/>
  <dc:language>en-US</dc:language>
  <cp:lastModifiedBy>Краюхина</cp:lastModifiedBy>
  <dcterms:modified xsi:type="dcterms:W3CDTF">2017-12-10T13:25:44Z</dcterms:modified>
  <cp:revision>87</cp:revision>
  <dc:subject/>
  <dc:title>Слайд 1</dc:title>
</cp:coreProperties>
</file>