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7B1-8CA1-411B-A721-2AB5BEE9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482-BF4A-42CA-9A38-9FB188DD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149-03F4-41A5-88C2-E4FA6CD9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691-D68F-44D4-8200-05D4517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A9F-ED31-4ABA-B774-2A9D6E8F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191-BDFE-4EC0-990E-68E12148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896-798E-4838-B320-60040E2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504-8AD7-45E8-B299-1ABFC42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18B-C9D9-45CA-9ADA-F730134F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630-E962-4741-B9F9-8A43CFE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A4B-92AA-4DA6-AE71-08AC656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D3B-9F9A-4571-9AFE-566199D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FAD-3899-497A-BEFC-5BA92B9454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овый друг Васи Паутинкина, с которым Вася познакомился вчера в Интернете,  Иван Неизвестный, попросил Васю срочно сообщить ему такую информацию: номер  телефона, домашний  адрес, кем работают родители Васи. Вася долже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Сообщить Ивану нужные с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ообщать в Интернете, а сообщить при встре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советоваться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4999" t="1550" r="0" b="0"/>
          <a:stretch/>
        </p:blipFill>
        <p:spPr>
          <a:xfrm>
            <a:off x="3214800" y="435780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85680" y="858960"/>
            <a:ext cx="4790880" cy="46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rcRect l="0" t="1495" r="0" b="0"/>
          <a:stretch/>
        </p:blipFill>
        <p:spPr>
          <a:xfrm>
            <a:off x="4429080" y="1071720"/>
            <a:ext cx="4500720" cy="47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8783640" cy="180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rcRect l="3639" t="1798" r="0" b="0"/>
          <a:stretch/>
        </p:blipFill>
        <p:spPr>
          <a:xfrm>
            <a:off x="1214280" y="2500200"/>
            <a:ext cx="6681960" cy="363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решил опубликовать в Интернете свою фотографию и  фотографии своих одноклассников. Можно ли ему это 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т, нельз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 согласия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огласие одноклассников не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3857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420840"/>
            <a:ext cx="7431120" cy="10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367164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428616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rcRect l="0" t="1857" r="659" b="0"/>
          <a:stretch/>
        </p:blipFill>
        <p:spPr>
          <a:xfrm>
            <a:off x="4643280" y="1643040"/>
            <a:ext cx="40006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C:\Users\HALIL\Desktop\к уроку\паутина.JPG"/>
          <p:cNvPicPr/>
          <p:nvPr/>
        </p:nvPicPr>
        <p:blipFill>
          <a:blip r:embed="rId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е купили компьютер. Вася теперь  целый день проводит за компьютером. Через несколько дней у него стали слезиться глаза, появились боли в руках. Что делать Васе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должать проводить время за компьют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блюдать правила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Больше никогда не работать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3000240" y="3857760"/>
            <a:ext cx="2786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285920" y="401760"/>
            <a:ext cx="664524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785880" y="15001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Расстояние от глаз до экрана компьютера должно быть не менее 5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Одновременно за компьютером должен заниматься один ребен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сть одного занятия – не более 60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осле 10–15 минут непрерывных занятий за ПК необходимо сделать перерыв для проведения физкультминутки и гимнастики для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С целью профилактики зрительного утомления детей после работы на персональных компьютерах рекомендуется проводить комплекс упражнений для глаз, которые выполняются сидя или стоя, отвернувшись от экрана, при ритмичном дыхании, с максимальной амплитудой движений гл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е сидение за компьютером может привести к перенапряжению нервной системы, нарушению сна, ухудшению самочувствия, утомлению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 много друзей в Интернете, он каждый день добавляет новых друзей в свой контакт-лист в ICQ . Вдруг Васе стали приходить сообщения с неприятным и грубым содержанием. Что Вася должен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скорбить обидч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вечать обидчику тем же, а продолжить с ним 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общить взрослым об э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rcRect l="12029" t="0" r="1176" b="8581"/>
          <a:stretch/>
        </p:blipFill>
        <p:spPr>
          <a:xfrm>
            <a:off x="3000240" y="4714920"/>
            <a:ext cx="29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01760"/>
            <a:ext cx="8210520" cy="12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rcRect l="21570" t="0" r="0" b="0"/>
          <a:stretch/>
        </p:blipFill>
        <p:spPr>
          <a:xfrm>
            <a:off x="3071880" y="2000160"/>
            <a:ext cx="3000240" cy="37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возникли вопросы при работе в онлайн-среде. Родители Васи уехали в командировку,  бабушка Васи не может ему помочь. К кому Вася может обрати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Ему следует подождать приезда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обратиться на линию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«Дети Онлай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спросить у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rcRect l="3642" t="1974" r="907" b="0"/>
          <a:stretch/>
        </p:blipFill>
        <p:spPr>
          <a:xfrm>
            <a:off x="3143160" y="4286160"/>
            <a:ext cx="207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8:57Z</dcterms:modified>
  <cp:revision>87</cp:revision>
  <dc:subject/>
  <dc:title>Слайд 1</dc:title>
</cp:coreProperties>
</file>