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11F-B86B-4D04-A4FC-0ADC6594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7EE-DF94-45EF-83A4-5840C692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48A-78F4-494F-AF98-7D92192E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631-A653-4F56-A12C-3D44848D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139-E6DC-4C5B-80B1-0CA736FA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68C-DCE2-46B0-B195-156403DA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341-A490-4204-97F3-2B2B6835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3DA-1A37-4FB7-B8DE-9AD1862B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A6C-B580-4B98-BD2E-F0261DDE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9B1-C0BB-4279-9E5F-B35181C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E5B-361E-43DD-81A7-71A29FB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742-DD1E-40C1-A7EF-052EDE30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4FB6-B806-4C29-8839-197D009E7C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Новый друг Васи Паутинкина, с которым Вася познакомился вчера в Интернете,  Иван Неизвестный, попросил Васю срочно сообщить ему такую информацию: номер  телефона, домашний  адрес, кем работают родители Васи. Вася долже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Kozuka Mincho Pr6N B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Сообщить Ивану нужные с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сообщать в Интернете, а сообщить при встреч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осоветоваться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rcRect l="4999" t="1550" r="0" b="0"/>
          <a:stretch/>
        </p:blipFill>
        <p:spPr>
          <a:xfrm>
            <a:off x="3214800" y="4357800"/>
            <a:ext cx="228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-85680" y="858960"/>
            <a:ext cx="4790880" cy="46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rcRect l="0" t="1495" r="0" b="0"/>
          <a:stretch/>
        </p:blipFill>
        <p:spPr>
          <a:xfrm>
            <a:off x="4429080" y="1071720"/>
            <a:ext cx="4500720" cy="470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9" descr=""/>
          <p:cNvPicPr/>
          <p:nvPr/>
        </p:nvPicPr>
        <p:blipFill>
          <a:blip r:embed="rId2"/>
          <a:stretch/>
        </p:blipFill>
        <p:spPr>
          <a:xfrm>
            <a:off x="639720" y="633240"/>
            <a:ext cx="7718400" cy="1878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HALIL\Desktop\к уроку\салют.gif"/>
          <p:cNvPicPr/>
          <p:nvPr/>
        </p:nvPicPr>
        <p:blipFill>
          <a:blip r:embed="rId3"/>
          <a:stretch/>
        </p:blipFill>
        <p:spPr>
          <a:xfrm>
            <a:off x="2214720" y="2571840"/>
            <a:ext cx="4805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420840"/>
            <a:ext cx="8783640" cy="180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rcRect l="3639" t="1798" r="0" b="0"/>
          <a:stretch/>
        </p:blipFill>
        <p:spPr>
          <a:xfrm>
            <a:off x="1214280" y="2500200"/>
            <a:ext cx="6681960" cy="3638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я решил опубликовать в Интернете свою фотографию и  фотографии своих одноклассников. Можно ли ему это  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т, нельз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Можно, с согласия однокласс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Можно, согласие одноклассников не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2286000" y="4071960"/>
            <a:ext cx="3857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927000" y="420840"/>
            <a:ext cx="7431120" cy="10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367164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2071800" y="4286160"/>
            <a:ext cx="428616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5"/>
          <a:srcRect l="0" t="1857" r="659" b="0"/>
          <a:stretch/>
        </p:blipFill>
        <p:spPr>
          <a:xfrm>
            <a:off x="4643280" y="1643040"/>
            <a:ext cx="400068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C:\Users\HALIL\Desktop\к уроку\паутина.JPG"/>
          <p:cNvPicPr/>
          <p:nvPr/>
        </p:nvPicPr>
        <p:blipFill>
          <a:blip r:embed="rId6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14200" y="230760"/>
            <a:ext cx="8715600" cy="35067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асе купили компьютер. Вася теперь  целый день проводит за компьютером. Через несколько дней у него стали слезиться глаза, появились боли в руках. Что делать Васе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Продолжать проводить время за компьюте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облюдать правила работы за компью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Больше никогда не работать на компьют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3000240" y="3857760"/>
            <a:ext cx="2786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285920" y="401760"/>
            <a:ext cx="6645240" cy="1251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785880" y="150012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Расстояние от глаз до экрана компьютера должно быть не менее 50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Одновременно за компьютером должен заниматься один ребен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родолжительность одного занятия – не более 60 мину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осле 10–15 минут непрерывных занятий за ПК необходимо сделать перерыв для проведения физкультминутки и гимнастики для гл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С целью профилактики зрительного утомления детей после работы на персональных компьютерах рекомендуется проводить комплекс упражнений для глаз, которые выполняются сидя или стоя, отвернувшись от экрана, при ритмичном дыхании, с максимальной амплитудой движений гл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родолжительное сидение за компьютером может привести к перенапряжению нервной системы, нарушению сна, ухудшению самочувствия, утомлению гл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" descr="C:\Users\HALIL\Desktop\к уроку\паутина.JPG"/>
          <p:cNvPicPr/>
          <p:nvPr/>
        </p:nvPicPr>
        <p:blipFill>
          <a:blip r:embed="rId3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14200" y="234360"/>
            <a:ext cx="8715600" cy="43599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У Васи Паутинкина  много друзей в Интернете, он каждый день добавляет новых друзей в свой контакт-лист в ICQ . Вдруг Васе стали приходить сообщения с неприятным и грубым содержанием. Что Вася должен с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скорбить обидч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Не отвечать обидчику тем же, а продолжить с ним 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Сообщить взрослым об э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rcRect l="12029" t="0" r="1176" b="8581"/>
          <a:stretch/>
        </p:blipFill>
        <p:spPr>
          <a:xfrm>
            <a:off x="3000240" y="4714920"/>
            <a:ext cx="2928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401760"/>
            <a:ext cx="8210520" cy="125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rcRect l="21570" t="0" r="0" b="0"/>
          <a:stretch/>
        </p:blipFill>
        <p:spPr>
          <a:xfrm>
            <a:off x="3071880" y="2000160"/>
            <a:ext cx="3000240" cy="375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C:\Users\HALIL\Desktop\к уроку\паутина.JPG"/>
          <p:cNvPicPr/>
          <p:nvPr/>
        </p:nvPicPr>
        <p:blipFill>
          <a:blip r:embed="rId4"/>
          <a:stretch/>
        </p:blipFill>
        <p:spPr>
          <a:xfrm>
            <a:off x="8238960" y="5945040"/>
            <a:ext cx="9050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14200" y="232560"/>
            <a:ext cx="8715600" cy="3933360"/>
          </a:xfrm>
          <a:prstGeom prst="rect">
            <a:avLst/>
          </a:prstGeom>
          <a:noFill/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У Васи Паутинкина возникли вопросы при работе в онлайн-среде. Родители Васи уехали в командировку,  бабушка Васи не может ему помочь. К кому Вася может обрати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Ему следует подождать приезда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н может обратиться на линию помощ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«Дети Онлайн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Kozuka Mincho Pr6N B"/>
              </a:rPr>
              <a:t>  Он может спросить у однокласс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2"/>
          <a:srcRect l="3642" t="1974" r="907" b="0"/>
          <a:stretch/>
        </p:blipFill>
        <p:spPr>
          <a:xfrm>
            <a:off x="3143160" y="4286160"/>
            <a:ext cx="207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02:39Z</dcterms:created>
  <dc:creator>HALIL</dc:creator>
  <dc:description/>
  <dc:language>en-US</dc:language>
  <cp:lastModifiedBy>Краюхина</cp:lastModifiedBy>
  <dcterms:modified xsi:type="dcterms:W3CDTF">2017-12-10T13:28:57Z</dcterms:modified>
  <cp:revision>87</cp:revision>
  <dc:subject/>
  <dc:title>Слайд 1</dc:title>
</cp:coreProperties>
</file>