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620-BE73-4778-9FCA-741B88DE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728-3972-47AA-B08D-7706D4EE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2CC-6B1F-4EE5-B2AF-EF8564D5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8F6-415E-41DF-BD09-2D0168F0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38D-7583-401A-B6CF-E7EE37A3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418-1410-4D8D-A521-D3B89CB3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6BF-2DF4-457B-B4E9-3DA01CE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487-7884-4D8B-82C7-DB63AE6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2A7-D826-4370-AFE6-D8E18E8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C8D-69F8-4513-80D3-AF37EEDD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5D7-1CD6-4E9C-AC09-AD28898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F4E-7CEA-41CC-9EE5-9F100C3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3E98-943C-461C-9F76-19D877C48A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просил  Васю Паутинкина порекомендовать ему детские поисковые системы. Вася поторопился и в письме  допустил ошибки: указал лишние системы. Какие из них являются детскими поисковыми систем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yande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ambl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quintu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ga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А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214720" y="4357800"/>
            <a:ext cx="4429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420840"/>
            <a:ext cx="7577280" cy="70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ALIL\Desktop\к уроку\Спам.JPG"/>
          <p:cNvPicPr/>
          <p:nvPr/>
        </p:nvPicPr>
        <p:blipFill>
          <a:blip r:embed="rId3"/>
          <a:srcRect l="0" t="0" r="0" b="1517"/>
          <a:stretch/>
        </p:blipFill>
        <p:spPr>
          <a:xfrm>
            <a:off x="2928960" y="1643040"/>
            <a:ext cx="322884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04920" y="476280"/>
            <a:ext cx="86500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42920" y="221472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rcRect l="1640" t="0" r="0" b="0"/>
          <a:stretch/>
        </p:blipFill>
        <p:spPr>
          <a:xfrm>
            <a:off x="4714920" y="221472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советовал Васе Паутинкину для просмотра веб-страниц детский браузер. Как вы думаете ка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огу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Op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 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714840" y="4786200"/>
            <a:ext cx="271440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2500200" y="4786200"/>
            <a:ext cx="1214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281160"/>
            <a:ext cx="7216920" cy="143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142920" y="35712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rcRect l="1788" t="2089" r="0" b="0"/>
          <a:stretch/>
        </p:blipFill>
        <p:spPr>
          <a:xfrm>
            <a:off x="1857240" y="2071800"/>
            <a:ext cx="5238720" cy="37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научился заходить в Интернет. С помощью чего он может попасть в Интер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ипер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веб-стра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брау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C:\Users\HALIL\Desktop\к уроку\браузер.JPG"/>
          <p:cNvPicPr/>
          <p:nvPr/>
        </p:nvPicPr>
        <p:blipFill>
          <a:blip r:embed="rId2"/>
          <a:srcRect l="5255" t="3696" r="0" b="2095"/>
          <a:stretch/>
        </p:blipFill>
        <p:spPr>
          <a:xfrm>
            <a:off x="2928960" y="4000680"/>
            <a:ext cx="278604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281160"/>
            <a:ext cx="7437600" cy="706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ALIL\Desktop\к уроку\браузер.JPG"/>
          <p:cNvPicPr/>
          <p:nvPr/>
        </p:nvPicPr>
        <p:blipFill>
          <a:blip r:embed="rId3"/>
          <a:stretch/>
        </p:blipFill>
        <p:spPr>
          <a:xfrm>
            <a:off x="2000160" y="1571760"/>
            <a:ext cx="5214960" cy="492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14200" y="226440"/>
            <a:ext cx="8715600" cy="26535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услышал новое слово «нетикет». Что оно обознач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работы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сетевого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" descr="C:\Users\HALIL\Desktop\к уроку\этикет.JPG"/>
          <p:cNvPicPr/>
          <p:nvPr/>
        </p:nvPicPr>
        <p:blipFill>
          <a:blip r:embed="rId2"/>
          <a:srcRect l="1825" t="3226" r="1217" b="1988"/>
          <a:stretch/>
        </p:blipFill>
        <p:spPr>
          <a:xfrm>
            <a:off x="1714680" y="3357720"/>
            <a:ext cx="55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208080"/>
            <a:ext cx="9144000" cy="1803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1285920" y="1500120"/>
            <a:ext cx="7072200" cy="47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жаловался Васе Паутинкину, что на адрес его электронной почты стали часто приходить письма, многие из которых  называются  «спам». Что это за письм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бычные письма, их можно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в которых находится важ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которые нельзя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C:\Users\HALIL\Desktop\к уроку\спм.JPG"/>
          <p:cNvPicPr/>
          <p:nvPr/>
        </p:nvPicPr>
        <p:blipFill>
          <a:blip r:embed="rId2"/>
          <a:srcRect l="7926" t="2173" r="6448" b="0"/>
          <a:stretch/>
        </p:blipFill>
        <p:spPr>
          <a:xfrm>
            <a:off x="2714760" y="3929040"/>
            <a:ext cx="3857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31:06Z</dcterms:modified>
  <cp:revision>87</cp:revision>
  <dc:subject/>
  <dc:title>Слайд 1</dc:title>
</cp:coreProperties>
</file>