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4.gif" ContentType="image/gif"/>
  <Override PartName="/ppt/media/image16.png" ContentType="image/png"/>
  <Override PartName="/ppt/media/image23.gif" ContentType="image/gif"/>
  <Override PartName="/ppt/media/image19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FD4-6088-4D8A-B79A-7BE83BF03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D70-1669-4ECF-A718-ACB0A6B1EE2C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9F1-2B16-4BED-9BE0-15ACCE64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DCB-D119-4F7F-81AD-6339B0D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C3A-B97B-4D8D-8F8B-0078B9F5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72A-2766-44A5-B7BF-9D189437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D82-C52C-46E8-8DD8-AB40278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3A6-6206-48D7-89DE-471ED3BC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F67-7303-4607-A2B3-634C509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953-7BB1-4760-B99F-845B39D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230-1DB9-45E7-9AFE-93EB1CDF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53C-3276-4EE8-905B-9C18991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8E8-57B8-4AB3-9CF1-FAD50A1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6B2-D4AE-4E6E-912A-8ADD2B9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BC5-5C1C-43E1-AE82-18F3FAE313B6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D2B-0DE7-4060-B880-1EF9179C17D8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851280" y="609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28000" y="5229360"/>
            <a:ext cx="961920" cy="126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1116000" y="5695920"/>
            <a:ext cx="1152360" cy="104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108000" y="5589720"/>
            <a:ext cx="928800" cy="118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75360" cy="158436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400"/>
            </a:b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236000" y="6165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3059280" y="616572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3789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ОРКСЭ. Модуль «Основы мировых религиозных культур» Урок №28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Составила Голубева З.Б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ПРАВОСЛАВ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7" name="Picture 4" descr="C:\Users\владелец\Desktop\ОРКиСЭ\православная семья.jpeg"/>
          <p:cNvPicPr/>
          <p:nvPr/>
        </p:nvPicPr>
        <p:blipFill>
          <a:blip r:embed="rId2"/>
          <a:stretch/>
        </p:blipFill>
        <p:spPr>
          <a:xfrm>
            <a:off x="4284720" y="1484280"/>
            <a:ext cx="4228920" cy="492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13056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ИУДЕ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57360" cy="5059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тора1.JPG"/>
          <p:cNvPicPr/>
          <p:nvPr/>
        </p:nvPicPr>
        <p:blipFill>
          <a:blip r:embed="rId3"/>
          <a:stretch/>
        </p:blipFill>
        <p:spPr>
          <a:xfrm>
            <a:off x="684360" y="184464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ИСЛАМ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2" descr="C:\Users\владелец\Desktop\ОРКиСЭ\коран.jpg"/>
          <p:cNvPicPr/>
          <p:nvPr/>
        </p:nvPicPr>
        <p:blipFill>
          <a:blip r:embed="rId2"/>
          <a:stretch/>
        </p:blipFill>
        <p:spPr>
          <a:xfrm>
            <a:off x="395280" y="191628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40360" y="2133720"/>
            <a:ext cx="44892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comic"/>
              </a:rPr>
              <a:t>БУДДИЙ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259360" cy="347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4873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Работа с источникам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Ответьте на вопросы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совпадают ли представления о семейных ценностях в разных религиозных культурах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     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как вы считаете, почему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- есть ли расхождения по этому вопросу в разных религиозных культурах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40720" y="43434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637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3240000" cy="406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653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comic"/>
              </a:rPr>
              <a:t>15 мая -  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comic"/>
              </a:rPr>
              <a:t>Пословицы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Вся семья вместе – так и душа на месте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Семейное согласие всего дороже.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	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Семья в куче – не страшны и тучи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Где мир да лад, там и божья благода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Корми деда на печи: и сам будешь та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Любовь братская - союз христианский.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Русский человек без родни не живет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"/>
              </a:rPr>
              <a:t>Запиши понравившуюся пословицу в тетрад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i="1" lang="kk-KZ" sz="4000" spc="-1" strike="noStrike">
                <a:solidFill>
                  <a:srgbClr val="800000"/>
                </a:solidFill>
                <a:latin typeface="comic"/>
              </a:rPr>
              <a:t>Как появилась дружная семья</a:t>
            </a:r>
            <a:r>
              <a:rPr b="0" lang="kk-KZ" sz="4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kk-KZ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Давным-давно жила семья, в которой было 100 человек, но не было между ними согласия. Устали они от ссор и раздоров. И вот  решили члены семьи обратиться к мудрецу, чтобы он научил их жить дружно. Мудрец внимательно выслушал просителей и сказал: 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«Никто не научит вас жить счастливо, вы должны сами понять, что вам нужно для счастья. Напишите, какой вы  хотите видеть свою семью».  Собралась эта огромная семья на семейный совет, и решили они: чтобы  семья была дружной, надо относиться друг к другу, придерживаясь этих качеств…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comic"/>
              </a:rPr>
              <a:t>Каких?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5122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Понимание         Любо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Уважение          Доверие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Доброта             Забота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"/>
              </a:rPr>
              <a:t>Помощь              Дружб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22100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5229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  <a:ea typeface="Arial"/>
              </a:rPr>
              <a:t>Дайте определение слову – семья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6" name="Текст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78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Цель: создать условия для формирования понятий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«семья» и «семейные ценности».</a:t>
            </a: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Задачи: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Конкретизировать с  учащимися  понятия «семья» и «семейные  ценности», показать, как  традиционные религии России относятся к семье; подвести  учащихся  к  выводу, что  семейные ценности различных  религиозных  культур совпадают.      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Развивать умения сравнивать, анализировать текст, выделять существенное, обобщать;  способствовать развитию коммуникативных качеств, умению  работать в группе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Воспитывать чувство гордости за свою семью, уважение  к  семейным  ценностям  и  традициям  представителей разных культур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емья –группа живущих вместе родственник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емья – единство, объединение людей, сплочённых общими интересам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.И.Ожегов «Словарь русского языка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ейные заповед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важайте мнение всех членов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Старайтесь понять каждого и ,если надо, простить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икогда не смейтесь над кем-т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важайте родственников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Почитайте родителе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астоящий сын и дочь берегут своих родителей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астоящий сын и дочь заботятся о благе своей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бездельничать, когда родители трудятся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вступайте в пререкания с взрослым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выражайте недовольство тем, что у вас нет той или иной вещ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допускайте, чтобы мать давала вам то, что она не может позволить себе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 делайте того, что осуждают старшие, - ни на глазах, нигде – либо еще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садиться обедать, не пригласив старших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Нельзя оставлять старшего родного человека в одиночестве, особенно маму, если у нее никого нет, кроме тебя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Составьте 2-3 семейные заповед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Картинка 104 из 64000"/>
          <p:cNvPicPr/>
          <p:nvPr/>
        </p:nvPicPr>
        <p:blipFill>
          <a:blip r:embed="rId2"/>
          <a:stretch/>
        </p:blipFill>
        <p:spPr>
          <a:xfrm>
            <a:off x="4859280" y="3784680"/>
            <a:ext cx="3997440" cy="2733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6778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Мама и папа для меня самые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Я доверяю свои тайны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Я люблю  бабушку за то…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Свою семью я считаю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"/>
              </a:rPr>
              <a:t>Родным я хочу пожелать…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Домашнее 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7" name="Picture 12" descr="023413200912113"/>
          <p:cNvPicPr/>
          <p:nvPr/>
        </p:nvPicPr>
        <p:blipFill>
          <a:blip r:embed="rId2"/>
          <a:stretch/>
        </p:blipFill>
        <p:spPr>
          <a:xfrm>
            <a:off x="4572000" y="3355920"/>
            <a:ext cx="4362480" cy="3270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1970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Поговорить с родителями о ценностях своей семьи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Подобрать пословицы о семье (можно разных   народов)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Вопросы на странице 75 учебника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Написать сочинение или презентацию о своей семье (по желанию)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лора\Desktop\ольге\анимация\ca50dbacfda71b6727d9ab5e16abc778.gif"/>
          <p:cNvPicPr/>
          <p:nvPr/>
        </p:nvPicPr>
        <p:blipFill>
          <a:blip r:embed="rId2"/>
          <a:stretch/>
        </p:blipFill>
        <p:spPr>
          <a:xfrm>
            <a:off x="395280" y="2060640"/>
            <a:ext cx="8415360" cy="4468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 rot="21243000">
            <a:off x="1332000" y="90792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Мира и счастья вашей семье!</a:t>
            </a:r>
            <a:endParaRPr b="1" lang="en-US" sz="1800" spc="1" strike="noStrike">
              <a:ln w="28440">
                <a:solidFill>
                  <a:srgbClr val="b2b2b2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21" name="Picture 7" descr="49"/>
          <p:cNvPicPr/>
          <p:nvPr/>
        </p:nvPicPr>
        <p:blipFill>
          <a:blip r:embed="rId3"/>
          <a:stretch/>
        </p:blipFill>
        <p:spPr>
          <a:xfrm>
            <a:off x="133200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49"/>
          <p:cNvPicPr/>
          <p:nvPr/>
        </p:nvPicPr>
        <p:blipFill>
          <a:blip r:embed="rId4"/>
          <a:stretch/>
        </p:blipFill>
        <p:spPr>
          <a:xfrm>
            <a:off x="2700360" y="4724280"/>
            <a:ext cx="123840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49"/>
          <p:cNvPicPr/>
          <p:nvPr/>
        </p:nvPicPr>
        <p:blipFill>
          <a:blip r:embed="rId5"/>
          <a:stretch/>
        </p:blipFill>
        <p:spPr>
          <a:xfrm>
            <a:off x="4140360" y="4724280"/>
            <a:ext cx="123804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49"/>
          <p:cNvPicPr/>
          <p:nvPr/>
        </p:nvPicPr>
        <p:blipFill>
          <a:blip r:embed="rId6"/>
          <a:stretch/>
        </p:blipFill>
        <p:spPr>
          <a:xfrm>
            <a:off x="5508720" y="4653000"/>
            <a:ext cx="12380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49"/>
          <p:cNvPicPr/>
          <p:nvPr/>
        </p:nvPicPr>
        <p:blipFill>
          <a:blip r:embed="rId7"/>
          <a:stretch/>
        </p:blipFill>
        <p:spPr>
          <a:xfrm>
            <a:off x="6877080" y="46530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5184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Из глубокого колодца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 солнце медленно встаёт.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     Свет его на нас прольётся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луч его нам улыбнётся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"/>
              </a:rPr>
              <a:t> новый день оно начнёт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643-52E2-4204-91BF-15CB9A42FC3C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Picture 8" descr="48464139_789_thumb"/>
          <p:cNvPicPr/>
          <p:nvPr/>
        </p:nvPicPr>
        <p:blipFill>
          <a:blip r:embed="rId2"/>
          <a:stretch/>
        </p:blipFill>
        <p:spPr>
          <a:xfrm>
            <a:off x="6012000" y="115920"/>
            <a:ext cx="2800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ое определение вы дали слову «милосердие»? А ваши родители как считают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ой мир – милосердный или враждебный – помогает устанавливать принцип «Как ты к нам, так и мы к тебе»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Как научиться милосердию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Хорошо жить, если тебя окружают милосердные люди?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А если каждый будет считать, что милосердно должен вести себя не он, а другие, что будет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Выберите качества, которые характеризуют милосердного человека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700280"/>
          <a:ext cx="8229600" cy="3792600"/>
        </p:xfrm>
        <a:graphic>
          <a:graphicData uri="http://schemas.openxmlformats.org/drawingml/2006/table">
            <a:tbl>
              <a:tblPr/>
              <a:tblGrid>
                <a:gridCol w="2744640"/>
                <a:gridCol w="2478240"/>
                <a:gridCol w="3006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. доброта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2. жадн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3. сопереживан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4. лен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5. лицемер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6. вежлив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7. лжив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8. хвастовство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9. дружелюб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0. сочувствие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1. зазнайство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comic"/>
                        </a:rPr>
                        <a:t>12. грубость</a:t>
                      </a:r>
                      <a:endParaRPr b="0" lang="en-US" sz="2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2411280" y="5435640"/>
            <a:ext cx="640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  2 3 4 5  6 7  8 910111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"/>
              </a:rPr>
              <a:t>СПЕЛРМОХЬЯ ОЙ – найди ключевое слово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comic"/>
              </a:rPr>
              <a:t>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мам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пап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дедушк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У меня есть бабушка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А у них есть я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   </a:t>
            </a:r>
            <a:r>
              <a:rPr b="0" lang="kk-KZ" sz="2800" spc="-1" strike="noStrike">
                <a:solidFill>
                  <a:srgbClr val="800000"/>
                </a:solidFill>
                <a:latin typeface="comic"/>
              </a:rPr>
              <a:t>Что это?        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ья.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Семейные ценност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916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Работа в группах: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Игра ассоциативный ряд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mic"/>
              </a:rPr>
              <a:t>Чтение и обсуждение притчи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800000"/>
                </a:solidFill>
                <a:latin typeface="comic"/>
              </a:rPr>
              <a:t>Китайская притча «Ладная семья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В давние времена жил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– была на свете  семья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Большая была семья, а царили в ней любовь и согласие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мир и лад. Молва об этом долетела до правителя тех мест. И решил он проверить, правду ли говорят люди. Прибыл он в село, и душа его порадовалась: чистота и порядок, красота и мир. Хорошо детям, спокойно старикам.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Удивился правитель и решил узнать, как добилась всего этого семья. Пришел он к старейшине и спросил у главы семьи «Расскажи, как вам удаётся жить, никогда не ссорясь, не обижая друг друга?» - Старец взял бумагу, долго писал что-то на бумаге, а когда написал, протянул правителю. Правитель посмотрел и удивился: на листе было написано сто раз одно и то же. Всего 3 слова были написаны на бумаге: </a:t>
            </a:r>
            <a:r>
              <a:rPr b="0" lang="en-US" sz="2000" spc="-1" strike="noStrike">
                <a:solidFill>
                  <a:srgbClr val="006600"/>
                </a:solidFill>
                <a:latin typeface="comic"/>
              </a:rPr>
              <a:t>«...............,  .............,  ..............»   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- И все?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- Да, - отвечал старик, - это и есть основа жизни всякой хорошей семьи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И подумав, добавил: "И мира тоже".</a:t>
            </a: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mic"/>
              </a:rPr>
              <a:t>Какие это были слова?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mic"/>
              </a:rPr>
              <a:t>                                        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9228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«  ЛЮБОВЬ,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ПРОЩЕНИЕ,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comic"/>
              </a:rPr>
              <a:t>ТЕРПЕНИЕ  »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33:12Z</dcterms:created>
  <dc:creator>User</dc:creator>
  <dc:description>http://aida.ucoz.ru</dc:description>
  <dc:language>en-US</dc:language>
  <cp:lastModifiedBy>Голубев</cp:lastModifiedBy>
  <dcterms:modified xsi:type="dcterms:W3CDTF">2005-12-31T20:17:23Z</dcterms:modified>
  <cp:revision>21</cp:revision>
  <dc:subject/>
  <dc:title>Семья.  Семейные ценности</dc:title>
</cp:coreProperties>
</file>