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8AE-7129-440F-8D46-C71547FF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840-7C0F-4426-B0BF-8071AFA7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957-0A7F-4BA7-A215-AFA89687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E19-17D9-414B-8D10-0F29F0F6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7CC-6B1C-4F21-94FD-7419BAF0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C75-BAAD-4EE1-B990-78D69AA0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7B70-37C4-4596-AD87-9444AF6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6BD1-E013-4E1A-95CC-41444BE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C44-2EAF-4B84-9B3E-FE60A6A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8ECB-74C8-4CA6-9F96-74DD6C40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2DE6-736A-46B9-95D9-24BC0CB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43A-AB3B-4C9A-B998-7B106201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64D9-D049-49E8-BBB5-38DC56F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2B22-079E-4286-B772-84A74A0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E698-065C-4722-962E-2E5B98E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C0B0-EFD1-478C-BA60-E3A582BC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EC18-5FE8-4BA6-8F92-BD355CEF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AE4-D1E8-4974-A888-81DCA24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45A-5355-4D46-877F-FCF81FC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7BE-9CB0-4362-8832-0B36D84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027-D87D-40D6-9639-9B3D8F9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6D0-70AA-46FD-869C-F640120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BF9-3560-4C72-914A-A2B4D8F4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7EA-5DC3-43E0-902C-93C5946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C5E8-4820-445C-B003-49EE6001E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05F7-9E97-4523-8CC0-AE73217A3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2/smprokhorov2008.14/0_2ab18_7adbd8fb_XL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ledie-rus.ru/img/820000/82050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ror01.lensart.ru/picturecontent-pid-250a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0/v-dmitriev59.15/0_21b6e_5d3f0db6_X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04920" y="620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560" y="47628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ТЕМА РОДИНЫ И ПРИРОДЫ В ЛИРИК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С. А. Есен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5560"/>
          <a:ext cx="9144000" cy="517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800" y="17121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-main-pic" descr="Картинка 118 из 652"/>
          <p:cNvPicPr/>
          <p:nvPr/>
        </p:nvPicPr>
        <p:blipFill>
          <a:blip r:embed="rId2"/>
          <a:stretch/>
        </p:blipFill>
        <p:spPr>
          <a:xfrm>
            <a:off x="1332000" y="260280"/>
            <a:ext cx="6697440" cy="510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23880" y="5589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узей-заповед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ге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Есени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240" y="152388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-main-pic" descr="Картинка 7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60280"/>
            <a:ext cx="734544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900000" y="5300640"/>
          <a:ext cx="8526600" cy="973080"/>
        </p:xfrm>
        <a:graphic>
          <a:graphicData uri="http://schemas.openxmlformats.org/drawingml/2006/table">
            <a:tbl>
              <a:tblPr/>
              <a:tblGrid>
                <a:gridCol w="852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ульптор И.Г. Онищенко. Памятник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.А.Есен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18920" y="6021360"/>
            <a:ext cx="676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04920" y="512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i-main-pic" descr="Картинка 41 из 11084"/>
          <p:cNvPicPr/>
          <p:nvPr/>
        </p:nvPicPr>
        <p:blipFill>
          <a:blip r:embed="rId3"/>
          <a:stretch/>
        </p:blipFill>
        <p:spPr>
          <a:xfrm>
            <a:off x="2195640" y="333360"/>
            <a:ext cx="4680000" cy="561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on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439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5800" y="573408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нстантиново - родина великого русского поэ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642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1080752_640" descr="дом где родился и жил великий русский поэт Сергей Александрович Есенин  (1895-1925)"/>
          <p:cNvPicPr/>
          <p:nvPr/>
        </p:nvPicPr>
        <p:blipFill>
          <a:blip r:embed="rId2"/>
          <a:stretch/>
        </p:blipFill>
        <p:spPr>
          <a:xfrm>
            <a:off x="1042920" y="404640"/>
            <a:ext cx="7274160" cy="515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5950080"/>
          <a:ext cx="7416720" cy="2728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 где родился и жил великий русский поэт Сергей Александрович Есенин (1895-192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0800000">
            <a:off x="611280" y="-175536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1080754_640" descr="домик во дворе дома Есениных"/>
          <p:cNvPicPr/>
          <p:nvPr/>
        </p:nvPicPr>
        <p:blipFill>
          <a:blip r:embed="rId2"/>
          <a:stretch/>
        </p:blipFill>
        <p:spPr>
          <a:xfrm>
            <a:off x="755640" y="260280"/>
            <a:ext cx="763272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24000" y="5661000"/>
          <a:ext cx="5543640" cy="72072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ик во дворе  Есени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760" y="15598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840" y="1523880"/>
            <a:ext cx="887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-main-pic" descr="Картинка 1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476280"/>
            <a:ext cx="5977080" cy="48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771640" y="5157720"/>
          <a:ext cx="6867360" cy="1395000"/>
        </p:xfrm>
        <a:graphic>
          <a:graphicData uri="http://schemas.openxmlformats.org/drawingml/2006/table">
            <a:tbl>
              <a:tblPr/>
              <a:tblGrid>
                <a:gridCol w="6651360"/>
                <a:gridCol w="21600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родине Сергея Есенина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240" y="165744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-main-pic" descr="Картинка 13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7991640" cy="48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908000" y="5373720"/>
          <a:ext cx="6943680" cy="1004760"/>
        </p:xfrm>
        <a:graphic>
          <a:graphicData uri="http://schemas.openxmlformats.org/drawingml/2006/table">
            <a:tbl>
              <a:tblPr/>
              <a:tblGrid>
                <a:gridCol w="6943680"/>
              </a:tblGrid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иново, родина Сергея Есе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22 из 1481"/>
          <p:cNvPicPr/>
          <p:nvPr/>
        </p:nvPicPr>
        <p:blipFill>
          <a:blip r:embed="rId2"/>
          <a:stretch/>
        </p:blipFill>
        <p:spPr>
          <a:xfrm>
            <a:off x="826920" y="620640"/>
            <a:ext cx="770436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116000" y="6021360"/>
          <a:ext cx="9269280" cy="517680"/>
        </p:xfrm>
        <a:graphic>
          <a:graphicData uri="http://schemas.openxmlformats.org/drawingml/2006/table">
            <a:tbl>
              <a:tblPr/>
              <a:tblGrid>
                <a:gridCol w="905328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енью 1909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тправили учитьс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-60120" y="3550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20600" y="1523880"/>
            <a:ext cx="902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_21b6e_5d3f0db6_X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775280" cy="561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5519880"/>
          <a:ext cx="6537240" cy="1035000"/>
        </p:xfrm>
        <a:graphic>
          <a:graphicData uri="http://schemas.openxmlformats.org/drawingml/2006/table">
            <a:tbl>
              <a:tblPr/>
              <a:tblGrid>
                <a:gridCol w="610524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йт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о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914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19160" y="26038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12:37Z</dcterms:created>
  <dc:creator>Admin</dc:creator>
  <dc:description/>
  <dc:language>en-US</dc:language>
  <cp:lastModifiedBy>Admin</cp:lastModifiedBy>
  <dcterms:modified xsi:type="dcterms:W3CDTF">2001-12-31T21:31:18Z</dcterms:modified>
  <cp:revision>6</cp:revision>
  <dc:subject/>
  <dc:title>Слайд 1</dc:title>
</cp:coreProperties>
</file>