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336-86D0-4DA9-B31E-639B41ED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5D5-0408-4BCA-B3BA-4D478E68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B8C-FD32-4B2C-95FB-62B3DDEB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62D-7D30-4958-A006-D1AE76EB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903C-A99C-4676-9531-C56BBC54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D2C3-4C37-4AF7-A08F-EEA29B7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BD41-1B69-474D-A110-3906AEEF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94C1-DE09-4098-9329-046CF73E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93B0-265A-4A5C-A3FB-5E991621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B8A1-8EB7-4D48-9C91-A93CC724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65D4-2B35-4D67-8F55-0C07B930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268-D2E1-4609-917C-2A8A61D2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3403-697F-4B0C-AF30-12AB783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C551-A4EC-4232-A29B-E9C3DFF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C1A8-48D6-471F-8822-C766F1FD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48E-71D9-4719-B77B-2F28C246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3234-00CC-4FFF-92CF-DC0967F3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003-9C4B-40F7-AB48-FA0F0F72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FB2-E908-4AC5-A775-7A1CAC8C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A07-47AC-41AA-A013-36564066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696-CE70-4390-A170-5A339BB8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9AB-4FC5-414B-8408-C7FCA00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2A2-5EAD-4EB2-AE16-D2E027A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14A-0C81-48FC-967F-FD9B137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CA57-3CA5-4AC4-8AE5-3C48D82E5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D081-2EAD-4C5A-B944-A1440B0DD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2/smprokhorov2008.14/0_2ab18_7adbd8fb_XL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sledie-rus.ru/img/820000/82050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ror01.lensart.ru/picturecontent-pid-250a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0/v-dmitriev59.15/0_21b6e_5d3f0db6_X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04920" y="620640"/>
          <a:ext cx="70390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273760"/>
                <a:gridCol w="2274840"/>
                <a:gridCol w="22744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560" y="476280"/>
            <a:ext cx="67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Gloucester MT Extra Condensed"/>
              </a:rPr>
              <a:t>ТЕМА РОДИНЫ И ПРИРОДЫ В ЛИРИК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Gloucester MT Extra Condensed"/>
              </a:rPr>
              <a:t>С. А. Есени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195560"/>
          <a:ext cx="9144000" cy="517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800" y="17121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-main-pic" descr="Картинка 118 из 652"/>
          <p:cNvPicPr/>
          <p:nvPr/>
        </p:nvPicPr>
        <p:blipFill>
          <a:blip r:embed="rId2"/>
          <a:stretch/>
        </p:blipFill>
        <p:spPr>
          <a:xfrm>
            <a:off x="1332000" y="260280"/>
            <a:ext cx="6697440" cy="510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23880" y="558972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узей-заповед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ерге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Есени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7240" y="1523880"/>
            <a:ext cx="903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-main-pic" descr="Картинка 76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60280"/>
            <a:ext cx="734544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900000" y="5300640"/>
          <a:ext cx="8526600" cy="973080"/>
        </p:xfrm>
        <a:graphic>
          <a:graphicData uri="http://schemas.openxmlformats.org/drawingml/2006/table">
            <a:tbl>
              <a:tblPr/>
              <a:tblGrid>
                <a:gridCol w="852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ульптор И.Г. Онищенко. Памятник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.А.Есени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18920" y="6021360"/>
            <a:ext cx="676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04920" y="512640"/>
          <a:ext cx="70390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273760"/>
                <a:gridCol w="2274840"/>
                <a:gridCol w="227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i-main-pic" descr="Картинка 41 из 11084"/>
          <p:cNvPicPr/>
          <p:nvPr/>
        </p:nvPicPr>
        <p:blipFill>
          <a:blip r:embed="rId3"/>
          <a:stretch/>
        </p:blipFill>
        <p:spPr>
          <a:xfrm>
            <a:off x="2195640" y="333360"/>
            <a:ext cx="4680000" cy="561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on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439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05800" y="573408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нстантиново - родина великого русского поэ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642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1080752_640" descr="дом где родился и жил великий русский поэт Сергей Александрович Есенин  (1895-1925)"/>
          <p:cNvPicPr/>
          <p:nvPr/>
        </p:nvPicPr>
        <p:blipFill>
          <a:blip r:embed="rId2"/>
          <a:stretch/>
        </p:blipFill>
        <p:spPr>
          <a:xfrm>
            <a:off x="1042920" y="404640"/>
            <a:ext cx="7274160" cy="515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5950080"/>
          <a:ext cx="7416720" cy="2728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м где родился и жил великий русский поэт Сергей Александрович Есенин (1895-192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10800000">
            <a:off x="611280" y="-175536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1080754_640" descr="домик во дворе дома Есениных"/>
          <p:cNvPicPr/>
          <p:nvPr/>
        </p:nvPicPr>
        <p:blipFill>
          <a:blip r:embed="rId2"/>
          <a:stretch/>
        </p:blipFill>
        <p:spPr>
          <a:xfrm>
            <a:off x="755640" y="260280"/>
            <a:ext cx="7632720" cy="51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24000" y="5661000"/>
          <a:ext cx="5543640" cy="72072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мик во дворе  Есени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760" y="155988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840" y="1523880"/>
            <a:ext cx="887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-main-pic" descr="Картинка 16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476280"/>
            <a:ext cx="5977080" cy="48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771640" y="5157720"/>
          <a:ext cx="6867360" cy="1395000"/>
        </p:xfrm>
        <a:graphic>
          <a:graphicData uri="http://schemas.openxmlformats.org/drawingml/2006/table">
            <a:tbl>
              <a:tblPr/>
              <a:tblGrid>
                <a:gridCol w="6651360"/>
                <a:gridCol w="21600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родине Сергея Есенина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240" y="1657440"/>
            <a:ext cx="903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i-main-pic" descr="Картинка 13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7991640" cy="48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908000" y="5373720"/>
          <a:ext cx="6943680" cy="1004760"/>
        </p:xfrm>
        <a:graphic>
          <a:graphicData uri="http://schemas.openxmlformats.org/drawingml/2006/table">
            <a:tbl>
              <a:tblPr/>
              <a:tblGrid>
                <a:gridCol w="6943680"/>
              </a:tblGrid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тантиново, родина Сергея Есе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22 из 1481"/>
          <p:cNvPicPr/>
          <p:nvPr/>
        </p:nvPicPr>
        <p:blipFill>
          <a:blip r:embed="rId2"/>
          <a:stretch/>
        </p:blipFill>
        <p:spPr>
          <a:xfrm>
            <a:off x="826920" y="620640"/>
            <a:ext cx="770436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116000" y="6021360"/>
          <a:ext cx="9269280" cy="517680"/>
        </p:xfrm>
        <a:graphic>
          <a:graphicData uri="http://schemas.openxmlformats.org/drawingml/2006/table">
            <a:tbl>
              <a:tblPr/>
              <a:tblGrid>
                <a:gridCol w="905328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енью 1909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тправили учитьс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-60120" y="3550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20600" y="1523880"/>
            <a:ext cx="902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0_21b6e_5d3f0db6_X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775280" cy="561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5519880"/>
          <a:ext cx="6537240" cy="1035000"/>
        </p:xfrm>
        <a:graphic>
          <a:graphicData uri="http://schemas.openxmlformats.org/drawingml/2006/table">
            <a:tbl>
              <a:tblPr/>
              <a:tblGrid>
                <a:gridCol w="610524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йте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ин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о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914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19160" y="26038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4:12:37Z</dcterms:created>
  <dc:creator>Admin</dc:creator>
  <dc:description/>
  <dc:language>en-US</dc:language>
  <cp:lastModifiedBy>Admin</cp:lastModifiedBy>
  <dcterms:modified xsi:type="dcterms:W3CDTF">2001-12-31T21:31:18Z</dcterms:modified>
  <cp:revision>6</cp:revision>
  <dc:subject/>
  <dc:title>Слайд 1</dc:title>
</cp:coreProperties>
</file>